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D23-481D-415C-9616-226EEAA6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17B-615A-4851-B9E1-7CC5B5F5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395-D44E-4432-ABC6-90F96EE2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6E0-7126-4842-8FF8-405CBA0E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58C4-6398-4C38-A7F7-721D4E19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7A6E-0C66-477E-9F04-03F7533D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D185-57B7-496C-8101-1BA2E80F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B707-9E3C-48A0-BAC4-34927179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468C-2621-4EEF-8710-75ED8BAB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7EFA-EDE7-486F-A871-BF7670CC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62FE-0B71-4EC0-8142-C14A496C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A3D-A180-4E92-9EB5-C824F7E3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B803-1C23-4763-A171-441EE65D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D2FB-8003-411F-B9DC-AFB208EE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E9FB-1987-4E55-B3E4-AA42D12A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8234-A8BE-43B2-85BE-5ED8C03C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11CC-E65E-4A86-88EC-71FB0ECB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84D-EFE8-4E2A-8F34-CFD2D36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9F04-2A9E-446F-BFFD-149411FD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6DDA-B857-4AEE-890A-EACB0B4E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CFD1-9055-4BC0-B658-42C366E0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3BC-4564-4253-A5AC-8742E160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863F-8D7D-4145-AED3-54E65498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45C5-8C1C-47D1-B7BB-A29CD4C8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037E-62FB-4A21-943E-A29DE658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692C-9271-4E26-809C-947692F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19F6-48A1-497F-9543-04C6E47B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663B-77BD-47FB-B82C-1A9A81D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1655-4B3F-49B8-BC56-4706F984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D949-BE46-40FF-8E40-0E3C8320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EF2A7-C66B-4165-AE72-3AFAAD84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0783-D642-4EC9-BA2A-E4D29C1C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52A-C4FF-4E00-BB3D-60D551D6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203D-BE34-4FE6-8DB7-798D3D19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9ADF-57E2-4250-B185-C4026971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BC97C-9342-41F9-9D52-ACBB049B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E821-020E-45B2-B3D5-FBA3DE3E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40D3-7186-47FA-923A-318547B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D26D-2322-4FD5-B060-A2BDA33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8AB7A-4C75-4628-B018-35A0FE53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3192-B024-455B-8303-AF9B9CB7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E4D2-7771-405C-B0F4-B6C6BB89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87208-ABD6-408A-B6DF-3126BC29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FFE-9023-4024-BDC3-4D2E74C9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EE01-E97D-4A78-86C4-D320123A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291D-24DE-43AD-AEB3-CC305D13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9F48-CEE0-4E47-A98E-A3186789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A347A-0F10-40D0-B05A-0AE90E24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725CF-C6DF-45C2-A746-5AC5F192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2E859-565E-4E58-822E-46FAD860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3AAF4-8361-4AB7-AC03-11B44043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39674-FB4E-42F2-B079-5754C53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F82D-7686-4973-8484-99F0713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CC221-E1AF-4C05-93EE-270D5F2B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4E9-106E-40DA-BD18-32887243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9BA8-B28B-4CFB-9251-81AB4BF0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0347-1999-4B42-8A0D-34CA4643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7A821-B48A-4497-8CAD-A7A82C3B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B4F-8E26-4646-B740-7DB95B5C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942-1529-4A95-B902-2484E212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1DD-7AA4-4EE4-B30F-8CD1DEC7D5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E011-3EB1-46C8-A55B-DEDB45280E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5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12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5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18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21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D857-C86B-40B3-8247-55E4761B7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3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7C33-BEB6-4077-A62A-7AA88EA67B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4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E1DF-377D-45E8-9E7C-10A163231A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3840" cy="2023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d1df"/>
                </a:solidFill>
                <a:latin typeface="Tahoma"/>
              </a:rPr>
              <a:t>Саратовская  губерния в Отечественной  войне 1812 года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307" name="Picture 10" descr="G:\материалы к семинару\фото 1812 год\7.bmp"/>
          <p:cNvPicPr/>
          <p:nvPr/>
        </p:nvPicPr>
        <p:blipFill>
          <a:blip r:embed="rId1"/>
          <a:stretch/>
        </p:blipFill>
        <p:spPr>
          <a:xfrm>
            <a:off x="1714680" y="2428920"/>
            <a:ext cx="5429160" cy="421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и 238 пленных офицеров разных национальностей самым известным стал скромный сапер, а в будущем генерал, член Парижской и Петербургской академий Жан Виктор Понселе. В саратовском плену Понселе подготовил черновик труда, положившего начало проективной геометр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1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амятники  русской славы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Еще до начала 1930-х годов в Саратове существовал Александро - Невский  (Новый)   собор сооруженный в 1815—1836 годах по проекту из местного  русского  архитектора   В.П.Стасова  в   честь   победы Русского оружия над Наполеоном.  Собор находился на месте  стадиона «Динамо» и был разрушен в ходе антирелигиозной кампан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Picture 5" descr="ччааачача"/>
          <p:cNvPicPr/>
          <p:nvPr/>
        </p:nvPicPr>
        <p:blipFill>
          <a:blip r:embed="rId1"/>
          <a:stretch/>
        </p:blipFill>
        <p:spPr>
          <a:xfrm>
            <a:off x="1979640" y="2637000"/>
            <a:ext cx="482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селе Лисичкине Аткарского уезда в 1830 году отставной ротмистр Подъяпольский отстроил каменный храм во имя Рождестип Христова с отдельно стоящей каменной колоколь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г. Вольске памятником 1812 году стал Предтеченский (Новый, или Городской) собор, открытый в 1844 году на Торговой площа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динственным дошедшим до наших дней своеобразным памятником Отечественной войны 1812 года является  дубовая роща,  посаженная пленными французами на даче губернатора А. Д. Панчулидзева (ныне Парк культуры имени А. М. Горького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Ресурс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лычев М.Л. «История Саратовкого края С древнейших времен до нач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259920"/>
            <a:ext cx="8507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вторжении Наполеона в городе узнали в начале июля, а 28 июля «...читан был манифест о собрании ратников. Стечение народа было преогромное.», записал в своем дневнике саратовский житель Н. Г. Скопин. Поскольку самостоятельного Саратовского ополчения не создавалось, ополченцы поступали в Казанское, Костромское, Вятское, Нижегородское, Пензенское и Симбирское ополчение, которые входили в 3-й (Поволжский) ополченский окр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4" descr="пст"/>
          <p:cNvPicPr/>
          <p:nvPr/>
        </p:nvPicPr>
        <p:blipFill>
          <a:blip r:embed="rId1"/>
          <a:stretch/>
        </p:blipFill>
        <p:spPr>
          <a:xfrm>
            <a:off x="611280" y="2997360"/>
            <a:ext cx="216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пст"/>
          <p:cNvPicPr/>
          <p:nvPr/>
        </p:nvPicPr>
        <p:blipFill>
          <a:blip r:embed="rId2"/>
          <a:stretch/>
        </p:blipFill>
        <p:spPr>
          <a:xfrm>
            <a:off x="6732720" y="2924280"/>
            <a:ext cx="201600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021"/>
          <p:cNvPicPr/>
          <p:nvPr/>
        </p:nvPicPr>
        <p:blipFill>
          <a:blip r:embed="rId3"/>
          <a:stretch/>
        </p:blipFill>
        <p:spPr>
          <a:xfrm>
            <a:off x="3276720" y="2924280"/>
            <a:ext cx="2950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сенародная помощь арм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еление Саратовского края горячо откликнулось на  военный призыв правительства. Саратовская губерния послала в армию в 1812 году — свыше  9 тысяч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мощь армии остальной части населения выражалась в натуральных и денежных повинностях и пожертвованиях. Поскольку в 1806—1807 годах Саратовская губерния была освобождена от набора в ополчение, манифест объявил «на содержание назначенных милиций денежную и хлебную кладку».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чале июня 1812 года саратовцы собрали деньги на закупку 3 тысяч волов  и 1 тысячи фур для армии, обмундировали за свой счет 2-й (позднее он стал 4-м) егерский Воронежский пол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го Саратовский край дал 13 266 ратников (примерно 3 процента трудового населения края), которые образовали 8 полков пехоты и 2 полка кавал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ужды ополчения жители губернии собрали 401 550 рублей серебром и передали различное вооружение: чугунных пушек — 12, ружей — 351, пистолетов — 51, пик — 2829. Для передвижного магазина, формировавшегося в Пензенской губернии, саратовцы сдали 600 четвертей сухарей, 600 четвертей овса, 56 четвертей крупы и множество других продукт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кабре 1812 года  саратовцы собрали до 50 тысяч рублей на покупку 375 строевых лошадей для армии. Весной 1814 года в Саратове прошла подписка в помощь «инвалидам, защищавшим  Отече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u_382m"/>
          <p:cNvPicPr/>
          <p:nvPr/>
        </p:nvPicPr>
        <p:blipFill>
          <a:blip r:embed="rId1"/>
          <a:stretch/>
        </p:blipFill>
        <p:spPr>
          <a:xfrm>
            <a:off x="6659640" y="5805360"/>
            <a:ext cx="2162160" cy="86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 Narrow"/>
              </a:rPr>
              <a:t>Саратовцы в войне 12-го года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9930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ногие саратовцы проявили мужество и героизм на полях сражений. Невозможно перечислить все их подвиги и назвать все имена. Среди них — командир кавалерийского полка генерал-адъютант В. В. Орлов-Денисов (1775—1843) — уроженец Вольского уезда. Именно он первым встретил наполеоновские полчища на берегу Немана и первым сообщил командованию о вторжении Наполеона. Полк Орлова-Денисова входил в состав 1-го кавалерийского корпуса под командованием другого нашего земляка, генерал-лейтенанта Ф. П. Уварова (1770—1824), который вместе с казачьими полками Платова осуществил знаменитый обходной маневр при Бородине. Уваров был также участником знаменитого совета в Филях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19875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 Narrow"/>
              </a:rPr>
              <a:t>Саратовцы в войне 12-го года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храбрость, проявленную в Бородинском сражении, награждены многие офицеры. Среди них ротмистр П. С. Подъяпольский — уроженец Аткарского уезда, в эскадроне которого всю кампанию прослужила знаменитая «кавалерист-девица» Н. А. Дурова, и артиллерист поручик А. А. Столыпин — родной брат бабушки М. Ю. Лермонтова. Выйдя в отставку, Столыпин поселился в Саратове. Здесь на его свадьбе в 1830 году побывал знаменитый поэт, участник Отечественной войны 1812 года Д. В. Давыдов. В эти дни он окончательно отработал текст элегии «Бородинское поле» и прочитал ее в кругу боевых друзей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1908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 Narrow"/>
              </a:rPr>
              <a:t>Саратовцы в войне 12-го года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енной типографией Главного штаба заведовал уроженец Аткарского уезда профессор Дерптского (ныне Тартуского) университета А. С. Кайсаров., Он погиб в сражении под городом Гайнау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21398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аратовцы в войне 12-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овый героизм в сражениях проявили саратовские крестьяне, ставшие солдатами и ратниками ополчения. Один из них, сын солдата Я. П. Балмашев, за большое мужество и храбрость в боях был произведен в офицеры и награжден семью орденами русскими, одним прусским, медалями и золотым именным оруж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естьянин из села Багаевка Г.С.Котлов прошел славный боевой путь до Парижа и встретил в 1912 году 100-летний юбилей войны в возрасте 12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3564000" y="3357720"/>
            <a:ext cx="20178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392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ДЬ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аратовской земле жили и другие герои войны. Так, с 1813 по 1822 год сначала петровским, а затем царицынским городничим был П.И.Быков, который прославился тем, что в октябре 1812 года уничтожил в городе Мапоярославце переправы через реку Лужа и задержал неприя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атовским  инспектором учебных заведений был будущий знаменитый русский писатель И. И. Лажечников. На последнем этапе Отечественной войны, в заграничных походах русской армии он был адъютантом прославленного генерала А. И. Остермана-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весны 1836 до весны 1842 года в   Саратове   жил   генерал-лейтенант И.К. Арнольди. Герой Березины, он потерял левую ногу под Лейпцигом, но военной службы не оставил. В 30-е годы генерал командовал конно-артиллерийским резервом, стоявшим в Саратов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8040" y="303120"/>
            <a:ext cx="795816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ранцузы в Сара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812—1814 годах Саратовская губерния была местом пребывания военнопленных   «Великой армии». В наш край они прибывали через Тамбовскую губернию. Напоминанием о пути их следования служат так называемые «французские могилы». Под Аткарском была поляна, которая называлась Француз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карск как бы своеобразный «фильтр»:  в Саратов направлялись одни только офицеры. Солдат же партиями по 100 человек размещали в городах Вольске, Камышине, Царицыне, в колонии Сареп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е правительство было заинтересовано, чтобы какая-то часть военнопленных осталась в России на постоянное жительство. Многие из них после заключения мира отказались вернуться на родину. Около 200 человек поселились в немецких колониях, в Саратове местом их проживания стала Немецкая слобода (ныне проспект Кирова, или Немецкая улица). Большинство из них были заняты в ремесленно-промышленном производстве или в торгов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льянец из Милана Петр Иванович Кайро попал в историю Саратова, открыв в 1815году первую в городе лавку курительного и нюхательного табака. Военный лекарь Иван фон Теин был известен как врач. Но самым знаменитым стал, благодаря своему долголетию, бывший гусарский лейтенант Жан Батист Николя Савен. Он прожил в Саратове безвыездно 82 года, зарабатывая на жизнь  уроками  фехтования, математики и  французского языка. Ветеран-долгожитель закончил жизненный путь в возрасте 126 лет 7 месяцев и 12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38:21Z</dcterms:created>
  <dc:creator>1</dc:creator>
  <dc:description/>
  <dc:language>en-US</dc:language>
  <cp:lastModifiedBy>Speed_XP</cp:lastModifiedBy>
  <dcterms:modified xsi:type="dcterms:W3CDTF">2011-10-24T20:10:57Z</dcterms:modified>
  <cp:revision>14</cp:revision>
  <dc:subject/>
  <dc:title>Участие Саратовской  губернии в Отечественной  войне 1812 года</dc:title>
</cp:coreProperties>
</file>