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012-DD6B-4EB6-A90E-9217DCE3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754-308F-4D36-A550-02FDB1A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0F2-E0E3-4EC4-9342-AAB30D2B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3E1-C1B8-42BF-90B0-73D2A21A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C9C6-BDF6-493F-A68A-4D7CBF7D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1C5D-F9F3-42D4-9FA1-8A5F3821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91C1-21A9-45CB-B14E-3E99D63C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3922-58BF-43B7-9540-66ED335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8FCE-DDA2-4E2E-B528-C0CCDE5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EB4B-FE15-4E23-92F0-E7F8BB43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AED4-ABA7-427C-8344-D22E471B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25C-2087-418A-8BA1-DA5E0B2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62A3-5648-448F-8A91-B8C9431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D8E5-E28B-44F9-A468-FBF04B9C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D850-3F01-4A85-8F26-6227B7F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85FA-F07E-47EB-86AF-D23BEA7C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5B14-6838-41D1-986C-5474878B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998-76C2-4AC0-811A-B633FBD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F8D4-C62E-40B2-9914-D54E4F7A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81C4-FF98-4406-A7E3-E06F1C61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FAF35-04AE-4B48-BAD9-9A14C1B3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F4B-3664-493B-A7A7-0A1B62EA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6209-D16C-420A-9D5D-A3FAAEF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E97B-CA3D-4D4A-BA8E-E113B93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8058-8728-4473-8416-F4AE4E3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865AC-79AD-402E-B0D8-B7F28FC5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19472-3AB9-43C3-972C-9F0E41D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E002-068B-48F0-882C-EAB9C4E3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EEDA-85D4-46F0-BB91-B734DCB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D5A6-0CFE-4906-B8E7-2371C509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E24D-DBEB-436C-8FD4-166A0AFF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C322-BAA5-4AC3-90AF-55E0DA0A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844-27FB-4972-8BB3-3660CCEB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F218-E4A7-417A-A311-27CF517B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BE1CB-8214-4DFE-9DD9-949DD944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7F3D-70BE-48A0-9EFE-8003E4CF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B39A-DB95-41EA-BEA7-588C72E2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611C-BF64-4C9C-B4DD-37A648C0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CF58-1EF7-4D63-B518-D998397F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B6F4A-7C71-4B5D-A0B7-7A8B38A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F487-1F94-41E1-BA0E-F89DFEA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427F-12F4-4C27-A33F-2F0527D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3287-42EE-4BBB-A716-A15D617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EE6-F3F6-4A6D-82A0-8EDF23C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A0BC-822E-43C3-B527-F3117104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7340-7DF2-4519-8608-48D09D9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8EA5C-0E38-428B-85E3-911D2AA8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96D3-74E0-4152-A06E-023D0D1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78F8-4A09-4D68-88C9-E3FDA14F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C0D6-2B78-4DA9-8ED3-0967210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E859-F574-4CDA-BA46-DB303BF6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3F77-787A-4907-B032-44E621E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17C2-E367-4976-B325-1AD14ADC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E2B9-D243-4818-92F1-43143705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2F5-BE37-4C62-B35C-0A6880B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E08A9-B47D-4A08-A703-A8CDFD9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8440-FAEB-4883-A439-6EE5373E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66C33-D85E-41F1-A7BD-8095BBB6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BEF-371C-4071-9032-64254413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43E-AB61-4D47-8602-73877EA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94B-4439-47ED-A8E5-84A4530C67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75F6-99E8-4D60-BF73-D380C3DF07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5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112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5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18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21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356-7A20-405A-9294-20B2BE98B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3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F8B-1531-4189-ACBC-33F9EA21CD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4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915-32B8-4686-85F5-A35DDF7E38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3840" cy="2023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Саратовская  губерния в Отечественной  войне 1812 года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307" name="Picture 10" descr="G:\материалы к семинару\фото 1812 год\7.bmp"/>
          <p:cNvPicPr/>
          <p:nvPr/>
        </p:nvPicPr>
        <p:blipFill>
          <a:blip r:embed="rId1"/>
          <a:stretch/>
        </p:blipFill>
        <p:spPr>
          <a:xfrm>
            <a:off x="1714680" y="2428920"/>
            <a:ext cx="5429160" cy="421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и 238 пленных офицеров разных национальностей самым известным стал скромный сапер, а в будущем генерал, член Парижской и Петербургской академий Жан Виктор Понселе. В саратовском плену Понселе подготовил черновик труда, положившего начало проективной геометр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амятники  русской славы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ще до начала 1930-х годов в Саратове существовал Александро - Невский  (Новый)   собор сооруженный в 1815—1836 годах по проекту из местного  русского  архитектора   В.П.Стасова  в   честь   победы Русского оружия над Наполеоном.  Собор находился на месте  стадиона «Динамо» и был разрушен в ходе антирелигиозной кампа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Picture 5" descr="ччааачача"/>
          <p:cNvPicPr/>
          <p:nvPr/>
        </p:nvPicPr>
        <p:blipFill>
          <a:blip r:embed="rId1"/>
          <a:stretch/>
        </p:blipFill>
        <p:spPr>
          <a:xfrm>
            <a:off x="1979640" y="2637000"/>
            <a:ext cx="48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селе Лисичкине Аткарского уезда в 1830 году отставной ротмистр Подъяпольский отстроил каменный храм во имя Рождестип Христова с отдельно стоящей каменной колоколь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г. Вольске памятником 1812 году стал Предтеченский (Новый, или Городской) собор, открытый в 1844 году на Торговой площа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ственным дошедшим до наших дней своеобразным памятником Отечественной войны 1812 года является  дубовая роща,  посаженная пленными французами на даче губернатора А. Д. Панчулидзева (ныне Парк культуры имени А. М. Горького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Ресурс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лычев М.Л. «История Саратовкого края С древнейших времен до нач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 вторжении Наполеона в городе узнали в начале июля, а 28 июля «...читан был манифест о собрании ратников. Стечение народа было преогромное.», записал в своем дневнике саратовский житель Н. Г. Скопин. Поскольку самостоятельного Саратовского ополчения не создавалось, ополченцы поступали в Казанское, Костромское, Вятское, Нижегородское, Пензенское и Симбирское ополчение, которые входили в 3-й (Поволжский) ополченский окр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4" descr="пст"/>
          <p:cNvPicPr/>
          <p:nvPr/>
        </p:nvPicPr>
        <p:blipFill>
          <a:blip r:embed="rId1"/>
          <a:stretch/>
        </p:blipFill>
        <p:spPr>
          <a:xfrm>
            <a:off x="611280" y="2997360"/>
            <a:ext cx="216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пст"/>
          <p:cNvPicPr/>
          <p:nvPr/>
        </p:nvPicPr>
        <p:blipFill>
          <a:blip r:embed="rId2"/>
          <a:stretch/>
        </p:blipFill>
        <p:spPr>
          <a:xfrm>
            <a:off x="6732720" y="292428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021"/>
          <p:cNvPicPr/>
          <p:nvPr/>
        </p:nvPicPr>
        <p:blipFill>
          <a:blip r:embed="rId3"/>
          <a:stretch/>
        </p:blipFill>
        <p:spPr>
          <a:xfrm>
            <a:off x="3276720" y="2924280"/>
            <a:ext cx="2950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сенародная помощь арм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ление Саратовского края горячо откликнулось на  военный призыв правительства. Саратовская губерния послала в армию в 1812 году — свыше  9 тысяч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мощь армии остальной части населения выражалась в натуральных и денежных повинностях и пожертвованиях. Поскольку в 1806—1807 годах Саратовская губерния была освобождена от набора в ополчение, манифест объявил «на содержание назначенных милиций денежную и хлебную кладку».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чале июня 1812 года саратовцы собрали деньги на закупку 3 тысяч волов  и 1 тысячи фур для армии, обмундировали за свой счет 2-й (позднее он стал 4-м) егерский Воронежский пол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его Саратовский край дал 13 266 ратников (примерно 3 процента трудового населения края), которые образовали 8 полков пехоты и 2 полка кавал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ужды ополчения жители губернии собрали 401 550 рублей серебром и передали различное вооружение: чугунных пушек — 12, ружей — 351, пистолетов — 51, пик — 2829. Для передвижного магазина, формировавшегося в Пензенской губернии, саратовцы сдали 600 четвертей сухарей, 600 четвертей овса, 56 четвертей крупы и множество других продук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кабре 1812 года  саратовцы собрали до 50 тысяч рублей на покупку 375 строевых лошадей для армии. Весной 1814 года в Саратове прошла подписка в помощь «инвалидам, защищавшим  Отеч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u_382m"/>
          <p:cNvPicPr/>
          <p:nvPr/>
        </p:nvPicPr>
        <p:blipFill>
          <a:blip r:embed="rId1"/>
          <a:stretch/>
        </p:blipFill>
        <p:spPr>
          <a:xfrm>
            <a:off x="6659640" y="5805360"/>
            <a:ext cx="2162160" cy="86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ие саратовцы проявили мужество и героизм на полях сражений. Невозможно перечислить все их подвиги и назвать все имена. Среди них — командир кавалерийского полка генерал-адъютант В. В. Орлов-Денисов (1775—1843) — уроженец Вольского уезда. Именно он первым встретил наполеоновские полчища на берегу Немана и первым сообщил командованию о вторжении Наполеона. Полк Орлова-Денисова входил в состав 1-го кавалерийского корпуса под командованием другого нашего земляка, генерал-лейтенанта Ф. П. Уварова (1770—1824), который вместе с казачьими полками Платова осуществил знаменитый обходной маневр при Бородине. Уваров был также участником знаменитого совета в Филях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19875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1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храбрость, проявленную в Бородинском сражении, награждены многие офицеры. Среди них ротмистр П. С. Подъяпольский — уроженец Аткарского уезда, в эскадроне которого всю кампанию прослужила знаменитая «кавалерист-девица» Н. А. Дурова, и артиллерист поручик А. А. Столыпин — родной брат бабушки М. Ю. Лермонтова. Выйдя в отставку, Столыпин поселился в Саратове. Здесь на его свадьбе в 1830 году побывал знаменитый поэт, участник Отечественной войны 1812 года Д. В. Давыдов. В эти дни он окончательно отработал текст элегии «Бородинское поле» и прочитал ее в кругу боевых друзе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1908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00"/>
                </a:solidFill>
                <a:uFillTx/>
                <a:latin typeface="Arial Narrow"/>
              </a:rPr>
              <a:t>Саратовцы в войне 12-го года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енной типографией Главного штаба заведовал уроженец Аткарского уезда профессор Дерптского (ныне Тартуского) университета А. С. Кайсаров., Он погиб в сражении под городом Гайнау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139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ратовцы в войне 12-го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овый героизм в сражениях проявили саратовские крестьяне, ставшие солдатами и ратниками ополчения. Один из них, сын солдата Я. П. Балмашев, за большое мужество и храбрость в боях был произведен в офицеры и награжден семью орденами русскими, одним прусским, медалями и золотым именным оруж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естьянин из села Багаевка Г.С.Котлов прошел славный боевой путь до Парижа и встретил в 1912 году 100-летний юбилей войны в возрасте 12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20178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392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УДЬ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аратовской земле жили и другие герои войны. Так, с 1813 по 1822 год сначала петровским, а затем царицынским городничим был П.И.Быков, который прославился тем, что в октябре 1812 года уничтожил в городе Мапоярославце переправы через реку Лужа и задержал неприя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атовским  инспектором учебных заведений был будущий знаменитый русский писатель И. И. Лажечников. На последнем этапе Отечественной войны, в заграничных походах русской армии он был адъютантом прославленного генерала А. И. Остермана-Тол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весны 1836 до весны 1842 года в   Саратове   жил   генерал-лейтенант И.К. Арнольди. Герой Березины, он потерял левую ногу под Лейпцигом, но военной службы не оставил. В 30-е годы генерал командовал конно-артиллерийским резервом, стоявшим в Саратов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8040" y="303120"/>
            <a:ext cx="795816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ранцузы в Саратов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812—1814 годах Саратовская губерния была местом пребывания военнопленных   «Великой армии». В наш край они прибывали через Тамбовскую губернию. Напоминанием о пути их следования служат так называемые «французские могилы». Под Аткарском была поляна, которая называлась Француз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карск как бы своеобразный «фильтр»:  в Саратов направлялись одни только офицеры. Солдат же партиями по 100 человек размещали в городах Вольске, Камышине, Царицыне, в колонии Сареп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 правительство было заинтересовано, чтобы какая-то часть военнопленных осталась в России на постоянное жительство. Многие из них после заключения мира отказались вернуться на родину. Около 200 человек поселились в немецких колониях, в Саратове местом их проживания стала Немецкая слобода (ныне проспект Кирова, или Немецкая улица). Большинство из них были заняты в ремесленно-промышленном производстве или в торгов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льянец из Милана Петр Иванович Кайро попал в историю Саратова, открыв в 1815году первую в городе лавку курительного и нюхательного табака. Военный лекарь Иван фон Теин был известен как врач. Но самым знаменитым стал, благодаря своему долголетию, бывший гусарский лейтенант Жан Батист Николя Савен. Он прожил в Саратове безвыездно 82 года, зарабатывая на жизнь  уроками  фехтования, математики и  французского языка. Ветеран-долгожитель закончил жизненный путь в возрасте 126 лет 7 месяцев и 12 д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38:21Z</dcterms:created>
  <dc:creator>1</dc:creator>
  <dc:description/>
  <dc:language>en-US</dc:language>
  <cp:lastModifiedBy>Speed_XP</cp:lastModifiedBy>
  <dcterms:modified xsi:type="dcterms:W3CDTF">2011-10-24T20:10:57Z</dcterms:modified>
  <cp:revision>14</cp:revision>
  <dc:subject/>
  <dc:title>Участие Саратовской  губернии в Отечественной  войне 1812 года</dc:title>
</cp:coreProperties>
</file>