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06A7-70A6-4EEB-B52E-D23E05B1C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7D58-589E-492D-8B86-B0D26603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B30A-3729-46CE-BD05-F73BFD2D3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AC14-2DA0-4EC2-ACE6-1F23A841B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9ABA-C8D1-4ADD-90DF-F24F2882C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DD74-2388-417C-AF7B-07F19D4B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F6E3-5D64-4D7E-A31D-CF877E1C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5C9F-08AC-4188-A6BE-474B655A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FA81-BF36-432B-A138-23DCD758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BAFD-5EEC-4D49-BC4C-15AA9E41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D150-6EF2-4C2C-AA19-054723C8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161C-A2DD-4305-AF7F-2A74B5E5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D490-2BB0-430C-B7DE-FF1D695B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BB13-9637-45FC-8063-26587F20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98CF-C4B4-4584-BA57-AFD9D5A5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792D-B66B-45E7-AD25-457900B6F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0FFE-80B5-4E02-9086-A3F88F12C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53C0-29EB-4ACE-8013-1706AE61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BCC79-0330-4978-BE28-88A6BC8F5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ECEA3-356C-4E61-88AA-588DBDF6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BFDD1-95E9-4E1D-9048-76A0106B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7645-4A16-47C2-9DF8-67BE03CD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59F36-6B18-4FDB-945B-B189D2DC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711B2-4B54-4137-8C10-63CD69AA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78379-1118-4172-9810-7B6574E4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13571-D674-4EC3-B584-B4B1572E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FBCAE-F0AD-4700-A433-99F1FC0E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555A3-CA5A-46A8-9DD7-4A1D92A1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3414D-D9ED-42C2-91D1-3DB0E5E1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2F8BC-6F63-4DA6-971C-9CCF4B32F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8D3DC-0CCE-458C-AB8F-A3B1202E6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4A917-5E60-462C-A2E1-7D5192D08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BC0C-0DA5-4340-B0F0-04CDE452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D266B-20BF-4A75-8ABB-6ED7DC1F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DCDF7-44A6-47C5-8E64-C9296762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6874C-BAD9-4165-812E-03124B74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561C7-EE0E-4A09-8772-883476BB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553FE-C10D-406E-83F7-757639A4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4D943-0505-4D90-BB3E-D7ED3DF0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F68CC-CB54-48E9-8C7E-28C3E16E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BB886-776F-4147-896E-95556F6B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7DCD7-0800-4CDB-991D-9C0A4332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22D2A-4636-4B40-B13D-008D36004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1A07-EB32-41BB-8E9E-2B8F8E92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29887-0102-433B-80DE-D5395273C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3F0CF-E549-41D5-8A86-BB001DF94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D623E-823E-430B-8719-00C5D15B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607F8-EE3B-416F-8D94-205B3897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34F94-93F9-431B-BA76-A08C0A82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665A0-F0BC-4CDC-98A3-770C962D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E9B37-521F-4A45-93CB-B3D6F13A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EBD15-CE86-462A-BCA6-0BE34378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6F3D9-A432-4CD0-9E6A-4094A128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42914-82D6-424A-9D2F-EC5EA5A5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2242-18C8-46B9-9BDD-96577A02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E87FF-B886-4704-BF39-75463207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ACD97-E0C7-49B3-8494-A5EF09AD9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69E4F-7C5D-4889-B2AA-41BBEFCCF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F91C-271A-4930-A70E-6AF86FF9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9BD5-A9AE-4564-A202-1781EB3F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585886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474a2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80AA-5184-4502-822A-2C575AD5E5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5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DA40-BDAE-4952-86B5-9EC47DA92D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5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1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112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4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5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7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18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20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21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98C2-46AD-4AF6-9A4E-080B2907CF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03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7474a2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05E3-7D13-49B7-8E24-EB3DF52686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47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8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2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3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8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9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0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4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5EC6-905D-4D93-9F36-02A2FD8AF7F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3840" cy="2023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1d1df"/>
                </a:solidFill>
                <a:latin typeface="Tahoma"/>
              </a:rPr>
              <a:t>Саратовская  губерния в Отечественной  войне 1812 года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307" name="Picture 10" descr="G:\материалы к семинару\фото 1812 год\7.bmp"/>
          <p:cNvPicPr/>
          <p:nvPr/>
        </p:nvPicPr>
        <p:blipFill>
          <a:blip r:embed="rId1"/>
          <a:stretch/>
        </p:blipFill>
        <p:spPr>
          <a:xfrm>
            <a:off x="1714680" y="2428920"/>
            <a:ext cx="5429160" cy="4214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3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реди 238 пленных офицеров разных национальностей самым известным стал скромный сапер, а в будущем генерал, член Парижской и Петербургской академий Жан Виктор Понселе. В саратовском плену Понселе подготовил черновик труда, положившего начало проективной геометрии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332" name="Picture 4" descr=""/>
          <p:cNvPicPr/>
          <p:nvPr/>
        </p:nvPicPr>
        <p:blipFill>
          <a:blip r:embed="rId1"/>
          <a:stretch/>
        </p:blipFill>
        <p:spPr>
          <a:xfrm>
            <a:off x="2987640" y="1989000"/>
            <a:ext cx="3168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Памятники  русской славы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Еще до начала 1930-х годов в Саратове существовал Александро - Невский  (Новый)   собор сооруженный в 1815—1836 годах по проекту из местного  русского  архитектора   В.П.Стасова  в   честь   победы Русского оружия над Наполеоном.  Собор находился на месте  стадиона «Динамо» и был разрушен в ходе антирелигиозной кампан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Picture 5" descr="ччааачача"/>
          <p:cNvPicPr/>
          <p:nvPr/>
        </p:nvPicPr>
        <p:blipFill>
          <a:blip r:embed="rId1"/>
          <a:stretch/>
        </p:blipFill>
        <p:spPr>
          <a:xfrm>
            <a:off x="1979640" y="2637000"/>
            <a:ext cx="4824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селе Лисичкине Аткарского уезда в 1830 году отставной ротмистр Подъяпольский отстроил каменный храм во имя Рождестип Христова с отдельно стоящей каменной колокольн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г. Вольске памятником 1812 году стал Предтеченский (Новый, или Городской) собор, открытый в 1844 году на Торговой площад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Единственным дошедшим до наших дней своеобразным памятником Отечественной войны 1812 года является  дубовая роща,  посаженная пленными французами на даче губернатора А. Д. Панчулидзева (ныне Парк культуры имени А. М. Горького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"/>
              </a:rPr>
              <a:t>Ресурсы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лычев М.Л. «История Саратовкого края С древнейших времен до нач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IX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е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457200" y="259920"/>
            <a:ext cx="850752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 вторжении Наполеона в городе узнали в начале июля, а 28 июля «...читан был манифест о собрании ратников. Стечение народа было преогромное.», записал в своем дневнике саратовский житель Н. Г. Скопин. Поскольку самостоятельного Саратовского ополчения не создавалось, ополченцы поступали в Казанское, Костромское, Вятское, Нижегородское, Пензенское и Симбирское ополчение, которые входили в 3-й (Поволжский) ополченский окру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9" name="Picture 4" descr="пст"/>
          <p:cNvPicPr/>
          <p:nvPr/>
        </p:nvPicPr>
        <p:blipFill>
          <a:blip r:embed="rId1"/>
          <a:stretch/>
        </p:blipFill>
        <p:spPr>
          <a:xfrm>
            <a:off x="611280" y="2997360"/>
            <a:ext cx="2160360" cy="36003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пст"/>
          <p:cNvPicPr/>
          <p:nvPr/>
        </p:nvPicPr>
        <p:blipFill>
          <a:blip r:embed="rId2"/>
          <a:stretch/>
        </p:blipFill>
        <p:spPr>
          <a:xfrm>
            <a:off x="6732720" y="2924280"/>
            <a:ext cx="2016000" cy="3600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021"/>
          <p:cNvPicPr/>
          <p:nvPr/>
        </p:nvPicPr>
        <p:blipFill>
          <a:blip r:embed="rId3"/>
          <a:stretch/>
        </p:blipFill>
        <p:spPr>
          <a:xfrm>
            <a:off x="3276720" y="2924280"/>
            <a:ext cx="29509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5050"/>
                </a:solidFill>
                <a:uFillTx/>
                <a:latin typeface="Arial"/>
              </a:rPr>
              <a:t>Всенародная помощь арм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селение Саратовского края горячо откликнулось на  военный призыв правительства. Саратовская губерния послала в армию в 1812 году — свыше  9 тысяч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мощь армии остальной части населения выражалась в натуральных и денежных повинностях и пожертвованиях. Поскольку в 1806—1807 годах Саратовская губерния была освобождена от набора в ополчение, манифест объявил «на содержание назначенных милиций денежную и хлебную кладку».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начале июня 1812 года саратовцы собрали деньги на закупку 3 тысяч волов  и 1 тысячи фур для армии, обмундировали за свой счет 2-й (позднее он стал 4-м) егерский Воронежский пол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сего Саратовский край дал 13 266 ратников (примерно 3 процента трудового населения края), которые образовали 8 полков пехоты и 2 полка кавале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нужды ополчения жители губернии собрали 401 550 рублей серебром и передали различное вооружение: чугунных пушек — 12, ружей — 351, пистолетов — 51, пик — 2829. Для передвижного магазина, формировавшегося в Пензенской губернии, саратовцы сдали 600 четвертей сухарей, 600 четвертей овса, 56 четвертей крупы и множество других продуктов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декабре 1812 года  саратовцы собрали до 50 тысяч рублей на покупку 375 строевых лошадей для армии. Весной 1814 года в Саратове прошла подписка в помощь «инвалидам, защищавшим  Отечеств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4" descr="u_382m"/>
          <p:cNvPicPr/>
          <p:nvPr/>
        </p:nvPicPr>
        <p:blipFill>
          <a:blip r:embed="rId1"/>
          <a:stretch/>
        </p:blipFill>
        <p:spPr>
          <a:xfrm>
            <a:off x="6659640" y="5805360"/>
            <a:ext cx="2162160" cy="863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68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68" fill="hold"/>
                                        <p:tgtEl>
                                          <p:spTgt spid="3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68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68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00"/>
                </a:solidFill>
                <a:uFillTx/>
                <a:latin typeface="Arial Narrow"/>
              </a:rPr>
              <a:t>Саратовцы в войне 12-го года</a:t>
            </a:r>
            <a:endParaRPr b="0" lang="en-US" sz="2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799308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ногие саратовцы проявили мужество и героизм на полях сражений. Невозможно перечислить все их подвиги и назвать все имена. Среди них — командир кавалерийского полка генерал-адъютант В. В. Орлов-Денисов (1775—1843) — уроженец Вольского уезда. Именно он первым встретил наполеоновские полчища на берегу Немана и первым сообщил командованию о вторжении Наполеона. Полк Орлова-Денисова входил в состав 1-го кавалерийского корпуса под командованием другого нашего земляка, генерал-лейтенанта Ф. П. Уварова (1770—1824), который вместе с казачьими полками Платова осуществил знаменитый обходной маневр при Бородине. Уваров был также участником знаменитого совета в Филях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317" name="Picture 4" descr=""/>
          <p:cNvPicPr/>
          <p:nvPr/>
        </p:nvPicPr>
        <p:blipFill>
          <a:blip r:embed="rId1"/>
          <a:stretch/>
        </p:blipFill>
        <p:spPr>
          <a:xfrm>
            <a:off x="3276720" y="1125360"/>
            <a:ext cx="198756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00"/>
                </a:solidFill>
                <a:uFillTx/>
                <a:latin typeface="Arial Narrow"/>
              </a:rPr>
              <a:t>Саратовцы в войне 12-го года</a:t>
            </a:r>
            <a:endParaRPr b="0" lang="en-US" sz="2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7848360" cy="518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 храбрость, проявленную в Бородинском сражении, награждены многие офицеры. Среди них ротмистр П. С. Подъяпольский — уроженец Аткарского уезда, в эскадроне которого всю кампанию прослужила знаменитая «кавалерист-девица» Н. А. Дурова, и артиллерист поручик А. А. Столыпин — родной брат бабушки М. Ю. Лермонтова. Выйдя в отставку, Столыпин поселился в Саратове. Здесь на его свадьбе в 1830 году побывал знаменитый поэт, участник Отечественной войны 1812 года Д. В. Давыдов. В эти дни он окончательно отработал текст элегии «Бородинское поле» и прочитал ее в кругу боевых друзей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320" name="Picture 4" descr=""/>
          <p:cNvPicPr/>
          <p:nvPr/>
        </p:nvPicPr>
        <p:blipFill>
          <a:blip r:embed="rId1"/>
          <a:stretch/>
        </p:blipFill>
        <p:spPr>
          <a:xfrm>
            <a:off x="3708360" y="3789360"/>
            <a:ext cx="1908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00"/>
                </a:solidFill>
                <a:uFillTx/>
                <a:latin typeface="Arial Narrow"/>
              </a:rPr>
              <a:t>Саратовцы в войне 12-го года</a:t>
            </a:r>
            <a:endParaRPr b="0" lang="en-US" sz="2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енной типографией Главного штаба заведовал уроженец Аткарского уезда профессор Дерптского (ныне Тартуского) университета А. С. Кайсаров., Он погиб в сражении под городом Гайнау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1"/>
          <a:stretch/>
        </p:blipFill>
        <p:spPr>
          <a:xfrm>
            <a:off x="3419640" y="2565360"/>
            <a:ext cx="213984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аратовцы в войне 12-го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ссовый героизм в сражениях проявили саратовские крестьяне, ставшие солдатами и ратниками ополчения. Один из них, сын солдата Я. П. Балмашев, за большое мужество и храбрость в боях был произведен в офицеры и награжден семью орденами русскими, одним прусским, медалями и золотым именным оруж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рестьянин из села Багаевка Г.С.Котлов прошел славный боевой путь до Парижа и встретил в 1912 году 100-летний юбилей войны в возрасте 121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" descr=""/>
          <p:cNvPicPr/>
          <p:nvPr/>
        </p:nvPicPr>
        <p:blipFill>
          <a:blip r:embed="rId1"/>
          <a:stretch/>
        </p:blipFill>
        <p:spPr>
          <a:xfrm>
            <a:off x="3564000" y="3357720"/>
            <a:ext cx="2017800" cy="32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3929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УДЬБ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саратовской земле жили и другие герои войны. Так, с 1813 по 1822 год сначала петровским, а затем царицынским городничим был П.И.Быков, который прославился тем, что в октябре 1812 года уничтожил в городе Мапоярославце переправы через реку Лужа и задержал неприя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ратовским  инспектором учебных заведений был будущий знаменитый русский писатель И. И. Лажечников. На последнем этапе Отечественной войны, в заграничных походах русской армии он был адъютантом прославленного генерала А. И. Остермана-Толст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весны 1836 до весны 1842 года в   Саратове   жил   генерал-лейтенант И.К. Арнольди. Герой Березины, он потерял левую ногу под Лейпцигом, но военной службы не оставил. В 30-е годы генерал командовал конно-артиллерийским резервом, стоявшим в Саратовской губер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8040" y="303120"/>
            <a:ext cx="7958160" cy="2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Французы в Саратов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785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1812—1814 годах Саратовская губерния была местом пребывания военнопленных   «Великой армии». В наш край они прибывали через Тамбовскую губернию. Напоминанием о пути их следования служат так называемые «французские могилы». Под Аткарском была поляна, которая называлась Француз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ткарск как бы своеобразный «фильтр»:  в Саратов направлялись одни только офицеры. Солдат же партиями по 100 человек размещали в городах Вольске, Камышине, Царицыне, в колонии Сареп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ше правительство было заинтересовано, чтобы какая-то часть военнопленных осталась в России на постоянное жительство. Многие из них после заключения мира отказались вернуться на родину. Около 200 человек поселились в немецких колониях, в Саратове местом их проживания стала Немецкая слобода (ныне проспект Кирова, или Немецкая улица). Большинство из них были заняты в ремесленно-промышленном производстве или в торгов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тальянец из Милана Петр Иванович Кайро попал в историю Саратова, открыв в 1815году первую в городе лавку курительного и нюхательного табака. Военный лекарь Иван фон Теин был известен как врач. Но самым знаменитым стал, благодаря своему долголетию, бывший гусарский лейтенант Жан Батист Николя Савен. Он прожил в Саратове безвыездно 82 года, зарабатывая на жизнь  уроками  фехтования, математики и  французского языка. Ветеран-долгожитель закончил жизненный путь в возрасте 126 лет 7 месяцев и 12 д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3:38:21Z</dcterms:created>
  <dc:creator>1</dc:creator>
  <dc:description/>
  <dc:language>en-US</dc:language>
  <cp:lastModifiedBy>Speed_XP</cp:lastModifiedBy>
  <dcterms:modified xsi:type="dcterms:W3CDTF">2011-10-24T20:10:57Z</dcterms:modified>
  <cp:revision>14</cp:revision>
  <dc:subject/>
  <dc:title>Участие Саратовской  губернии в Отечественной  войне 1812 года</dc:title>
</cp:coreProperties>
</file>