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0428-546C-47AF-B423-5AF5D79F6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05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880" y="3882600"/>
            <a:ext cx="8305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D44E-1AAC-4ECD-BCDA-449AECF3F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37160" y="129492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380880" y="388260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37160" y="388260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8AE5-E03F-4D9A-9654-8B6799AA5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7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189600" y="1294920"/>
            <a:ext cx="267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97960" y="1294920"/>
            <a:ext cx="267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80880" y="3882600"/>
            <a:ext cx="267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189600" y="3882600"/>
            <a:ext cx="267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97960" y="3882600"/>
            <a:ext cx="267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DB5B-F664-4CE4-B6B0-93111A02F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195C4-E55D-4109-B87C-9014E3F57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9709A-7E67-4660-B668-233794F00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DA163-F730-4D43-953A-92FBFA5F4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53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7160" y="1294920"/>
            <a:ext cx="4053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1AC63-0305-400E-9EAB-9499D7EA2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FFB56-3FCC-4A8D-B15C-E16CC96B5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AC80D-F002-4F20-9B7B-7CF7ACA28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37160" y="1294920"/>
            <a:ext cx="4053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880" y="388260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22735-CFEA-48F7-A3A0-89E3A9657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AC82-9EC0-4228-89C1-9BA380413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53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37160" y="129492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37160" y="388260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AAF5A-8ABD-4A63-A2ED-3A0BCEC64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37160" y="129492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80880" y="3882600"/>
            <a:ext cx="8305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23CC4-13E6-45F0-9921-1B486C230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05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0880" y="3882600"/>
            <a:ext cx="8305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1FAD9-553A-41FD-A383-48CFC901B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37160" y="129492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380880" y="388260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37160" y="388260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541A1-655E-490D-AEB6-F4671B1D6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7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189600" y="1294920"/>
            <a:ext cx="267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97960" y="1294920"/>
            <a:ext cx="267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380880" y="3882600"/>
            <a:ext cx="267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189600" y="3882600"/>
            <a:ext cx="267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97960" y="3882600"/>
            <a:ext cx="267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749C1-5F35-4B95-8F73-1BC10FCEE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8C7D-A677-495D-A18C-6E2289F8B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53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37160" y="1294920"/>
            <a:ext cx="4053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C516-08B0-4AA1-B6D9-40DDF4E0F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7082-4A68-4DF9-BEB1-75F15632A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39A8-483E-46DC-8007-D69944121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160" y="1294920"/>
            <a:ext cx="4053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88260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E58C-D9F7-4453-988B-29C17C2B7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53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7160" y="129492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37160" y="388260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701A-9BA9-4E26-97E6-F4A4A2EA0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37160" y="129492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882600"/>
            <a:ext cx="8305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C585-84D2-4D64-864D-8900AE751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0" y="0"/>
          <a:ext cx="9144000" cy="1066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5760" h="4320">
                <a:moveTo>
                  <a:pt x="1488" y="0"/>
                </a:moveTo>
                <a:cubicBezTo>
                  <a:pt x="1093" y="94"/>
                  <a:pt x="670" y="476"/>
                  <a:pt x="564" y="617"/>
                </a:cubicBezTo>
                <a:cubicBezTo>
                  <a:pt x="458" y="758"/>
                  <a:pt x="94" y="1117"/>
                  <a:pt x="0" y="1734"/>
                </a:cubicBezTo>
                <a:lnTo>
                  <a:pt x="0" y="4320"/>
                </a:lnTo>
                <a:lnTo>
                  <a:pt x="5760" y="4320"/>
                </a:lnTo>
                <a:lnTo>
                  <a:pt x="5760" y="0"/>
                </a:lnTo>
                <a:lnTo>
                  <a:pt x="1488" y="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699de9">
                  <a:alpha val="39215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0" y="914400"/>
            <a:ext cx="9144000" cy="351000"/>
            <a:chOff x="0" y="914400"/>
            <a:chExt cx="9144000" cy="351000"/>
          </a:xfrm>
        </p:grpSpPr>
        <p:sp>
          <p:nvSpPr>
            <p:cNvPr id="4" name=""/>
            <p:cNvSpPr/>
            <p:nvPr/>
          </p:nvSpPr>
          <p:spPr>
            <a:xfrm>
              <a:off x="0" y="917640"/>
              <a:ext cx="2290680" cy="347760"/>
            </a:xfrm>
            <a:prstGeom prst="parallelogram">
              <a:avLst>
                <a:gd name="adj" fmla="val 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276640" y="917640"/>
              <a:ext cx="2295360" cy="347760"/>
            </a:xfrm>
            <a:prstGeom prst="parallelogram">
              <a:avLst>
                <a:gd name="adj" fmla="val 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4565520" y="917640"/>
              <a:ext cx="2300400" cy="347760"/>
            </a:xfrm>
            <a:prstGeom prst="parallelogram">
              <a:avLst>
                <a:gd name="adj" fmla="val 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861240" y="914400"/>
              <a:ext cx="2282760" cy="347760"/>
            </a:xfrm>
            <a:prstGeom prst="parallelogram">
              <a:avLst>
                <a:gd name="adj" fmla="val 0"/>
              </a:avLst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99de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dt" idx="1"/>
          </p:nvPr>
        </p:nvSpPr>
        <p:spPr>
          <a:xfrm>
            <a:off x="3805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sldNum" idx="3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5EF05-CF99-438B-8A0F-46028E7831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7399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3481560"/>
            <a:ext cx="9155160" cy="3376440"/>
          </a:xfrm>
          <a:custGeom>
            <a:avLst/>
            <a:gdLst/>
            <a:ahLst/>
            <a:rect l="l" t="t" r="r" b="b"/>
            <a:pathLst>
              <a:path w="5767" h="2127">
                <a:moveTo>
                  <a:pt x="0" y="1760"/>
                </a:moveTo>
                <a:lnTo>
                  <a:pt x="5767" y="0"/>
                </a:lnTo>
                <a:lnTo>
                  <a:pt x="5760" y="2127"/>
                </a:lnTo>
                <a:lnTo>
                  <a:pt x="0" y="2127"/>
                </a:lnTo>
                <a:lnTo>
                  <a:pt x="0" y="1760"/>
                </a:lnTo>
                <a:close/>
              </a:path>
            </a:pathLst>
          </a:custGeom>
          <a:solidFill>
            <a:srgbClr val="699d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rot="20584200">
            <a:off x="-141120" y="5310000"/>
            <a:ext cx="2541600" cy="572760"/>
          </a:xfrm>
          <a:prstGeom prst="parallelogram">
            <a:avLst>
              <a:gd name="adj" fmla="val 30076"/>
            </a:avLst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rot="20584200">
            <a:off x="2153880" y="4609800"/>
            <a:ext cx="2546280" cy="573120"/>
          </a:xfrm>
          <a:prstGeom prst="parallelogram">
            <a:avLst>
              <a:gd name="adj" fmla="val 30113"/>
            </a:avLst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rot="20584200">
            <a:off x="4448160" y="3908520"/>
            <a:ext cx="2552760" cy="573120"/>
          </a:xfrm>
          <a:prstGeom prst="parallelogram">
            <a:avLst>
              <a:gd name="adj" fmla="val 30189"/>
            </a:avLst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20584200">
            <a:off x="6751800" y="3206520"/>
            <a:ext cx="2533320" cy="573120"/>
          </a:xfrm>
          <a:prstGeom prst="parallelogram">
            <a:avLst>
              <a:gd name="adj" fmla="val 29959"/>
            </a:avLst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F6594-BE2B-4072-8F02-0965CD0381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4114800" y="5838840"/>
            <a:ext cx="1079640" cy="635760"/>
            <a:chOff x="4114800" y="5838840"/>
            <a:chExt cx="1079640" cy="635760"/>
          </a:xfrm>
        </p:grpSpPr>
        <p:sp>
          <p:nvSpPr>
            <p:cNvPr id="58" name=""/>
            <p:cNvSpPr/>
            <p:nvPr/>
          </p:nvSpPr>
          <p:spPr>
            <a:xfrm>
              <a:off x="4114800" y="6014880"/>
              <a:ext cx="10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OG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rot="5400000">
              <a:off x="4508640" y="5545080"/>
              <a:ext cx="272880" cy="860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091" y="822"/>
                    <a:pt x="4581" y="5080"/>
                    <a:pt x="4581" y="10800"/>
                  </a:cubicBezTo>
                  <a:cubicBezTo>
                    <a:pt x="4581" y="16520"/>
                    <a:pt x="13091" y="207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3739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PlaceHolder 4"/>
          <p:cNvSpPr>
            <a:spLocks noGrp="1"/>
          </p:cNvSpPr>
          <p:nvPr>
            <p:ph type="title"/>
          </p:nvPr>
        </p:nvSpPr>
        <p:spPr>
          <a:xfrm>
            <a:off x="456840" y="1371600"/>
            <a:ext cx="80773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99de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699de9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1557000"/>
            <a:ext cx="80773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99de9"/>
                </a:solidFill>
                <a:latin typeface="Arial"/>
              </a:rPr>
              <a:t>ПАРАЛЛЕЛОГРАММ.</a:t>
            </a:r>
            <a:endParaRPr b="1" lang="en-US" sz="4400" spc="-1" strike="noStrike">
              <a:solidFill>
                <a:srgbClr val="699de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56840" y="2924280"/>
            <a:ext cx="54752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Урок №7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7308720" y="4724280"/>
            <a:ext cx="984240" cy="14479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7236000" y="189000"/>
            <a:ext cx="144756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7399b"/>
                </a:solidFill>
                <a:latin typeface="Arial"/>
              </a:rPr>
              <a:t>ЗАДАЧА № 3.</a:t>
            </a:r>
            <a:endParaRPr b="1" lang="en-US" sz="28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каждой из двух концентрических окружностях проведен диаметр АС и 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соответственно. Докажите, что четырехугольник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BCD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параллелограм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11280" y="3933720"/>
            <a:ext cx="2737080" cy="2590920"/>
          </a:xfrm>
          <a:prstGeom prst="donut">
            <a:avLst>
              <a:gd name="adj" fmla="val 25000"/>
            </a:avLst>
          </a:prstGeom>
          <a:solidFill>
            <a:srgbClr val="ddf7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2771640" y="4365720"/>
            <a:ext cx="2016360" cy="172728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132000" y="5084640"/>
            <a:ext cx="129564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842000" y="4024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536920" y="60404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689280" y="53211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481640" y="5248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897280" y="47451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7399b"/>
                </a:solidFill>
                <a:latin typeface="Arial"/>
              </a:rPr>
              <a:t>ЗАДАНИЕ НА ДОМ.</a:t>
            </a:r>
            <a:endParaRPr b="1" lang="en-US" sz="28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.43, № 379, 38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7399b"/>
                </a:solidFill>
                <a:latin typeface="Arial"/>
              </a:rPr>
              <a:t>УСТНАЯ РАБОТА</a:t>
            </a: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79280" y="1294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7399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айте определение параллелограм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7399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ечислите свойства параллелограм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7399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параллелограмме АВСД проведена биссектриса угла А, которая пересекает сторону ВС в точке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.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Докажите, что треугольник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F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равнобедренны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403280" y="494172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124000" y="595008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4941720"/>
            <a:ext cx="720720" cy="100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643280" y="4941720"/>
            <a:ext cx="720720" cy="100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2124000" y="4652640"/>
            <a:ext cx="1224000" cy="129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097280" y="46004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626360" y="46735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744920" y="58975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418360" y="58975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402000" y="44560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000" y="228600"/>
            <a:ext cx="8218440" cy="5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7399b"/>
                </a:solidFill>
                <a:latin typeface="Arial"/>
              </a:rPr>
              <a:t>УСТНАЯ РАБОТА</a:t>
            </a:r>
            <a:endParaRPr b="1" lang="en-US" sz="28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268280"/>
            <a:ext cx="83059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Стороны АВ и ВС параллелограмм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C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равны 9 см и 6 см. Чему равен периметр параллелограмм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BC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Периметр параллелограмма равен 30 см, одна из сторон параллелограмма 8 см. Определите все стороны параллелограм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. В параллелограмме сумма противоположных углов равна 13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Найдите градусную меру каждого угла параллелограм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. В параллелограмме сумма углов равна 120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Могут ли эти углы прилежать к одной сторон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8. В параллелограмм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C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диагонал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равна 12  см, точка О – точка пересечения диагоналей. Чему равен отрезо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O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98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98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898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898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7399b"/>
                </a:solidFill>
                <a:latin typeface="Arial"/>
              </a:rPr>
              <a:t>ПИЗНАКИ ПАРАЛЛЕЛОГРАММА</a:t>
            </a:r>
            <a:endParaRPr b="1" lang="en-US" sz="28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Признак 1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 (по двум равным и параллельным сторонам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ли в четырехугольнике две стороны равны и параллельны, то этот четырехугольник является параллелограмм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ано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CD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 четырехуголь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C=AB, D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║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казать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CD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параллелограм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24000" y="3141360"/>
            <a:ext cx="8362800" cy="37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казательств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7399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ведем диагональ АС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7399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смотрим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∆АВС и ∆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C=AB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условию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C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накрест лежащие углы при параллельных прямых АВ 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) 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общая сторона. Значит,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∆АВС = ∆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7399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ледовательно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По признаку параллельности, ВС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║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7399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о определению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BCD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– параллелограм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03280" y="1773360"/>
            <a:ext cx="2376720" cy="1008000"/>
          </a:xfrm>
          <a:prstGeom prst="parallelogram">
            <a:avLst>
              <a:gd name="adj" fmla="val 58946"/>
            </a:avLst>
          </a:prstGeom>
          <a:solidFill>
            <a:srgbClr val="699d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025640" y="25844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602000" y="12891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905640" y="12891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57640" y="2584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403280" y="1773360"/>
            <a:ext cx="237672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7399b"/>
                </a:solidFill>
                <a:latin typeface="Arial"/>
              </a:rPr>
              <a:t>ЗАДАЧА № 1.</a:t>
            </a:r>
            <a:endParaRPr b="1" lang="en-US" sz="28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сторонах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раллелограмма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CD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ложены равные отрезк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C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Докажите, что четырехугольник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CE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параллелограм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32000" y="4005360"/>
            <a:ext cx="3744720" cy="1224000"/>
          </a:xfrm>
          <a:prstGeom prst="parallelogram">
            <a:avLst>
              <a:gd name="adj" fmla="val 76485"/>
            </a:avLst>
          </a:prstGeom>
          <a:solidFill>
            <a:srgbClr val="ec6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097280" y="5392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835280" y="3645000"/>
            <a:ext cx="43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129640" y="3736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194360" y="5248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2340000" y="4005360"/>
            <a:ext cx="273672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332000" y="4005360"/>
            <a:ext cx="273528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1979640" y="5157720"/>
            <a:ext cx="7128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356000" y="38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249640" y="5392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049640" y="352116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7399b"/>
                </a:solidFill>
                <a:latin typeface="Arial"/>
              </a:rPr>
              <a:t>ПРИЗНАК 2 (ПО РАВНЫМ СТОРОНАМ)</a:t>
            </a:r>
            <a:endParaRPr b="1" lang="en-US" sz="28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ли в четырехугольнике противоположные стороны попарно равны, то этот четырехугольник – параллелограм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ано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CD -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тырехугольник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=CD, BC=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казать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CD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параллелограм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7399b"/>
                </a:solidFill>
                <a:latin typeface="Arial"/>
              </a:rPr>
              <a:t>ПРИЗНАК 3 (ПО ДИАГОНАЛЯМ)</a:t>
            </a:r>
            <a:endParaRPr b="1" lang="en-US" sz="28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9144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ли в четырехугольнике диагонали пересекаются и точкой пересечения делятся пополам, то этот четырехугольник – параллелограм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ано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CD -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тырехугольник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, BD -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диагонали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∩BD=O, AO=OC, BO=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Доказать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CD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параллелограм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7399b"/>
                </a:solidFill>
                <a:latin typeface="Arial"/>
              </a:rPr>
              <a:t>ЗАДАЧА № 2</a:t>
            </a:r>
            <a:endParaRPr b="1" lang="en-US" sz="28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ва равных равнобедренных треугольник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BD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 основание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D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DC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 основание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меют общую боковую сторону. Докажите, что четырехугольник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CD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параллелограм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3T12:11:55Z</dcterms:created>
  <dc:creator>Мама</dc:creator>
  <dc:description/>
  <dc:language>en-US</dc:language>
  <cp:lastModifiedBy>Мама</cp:lastModifiedBy>
  <dcterms:modified xsi:type="dcterms:W3CDTF">2006-09-22T15:16:34Z</dcterms:modified>
  <cp:revision>3</cp:revision>
  <dc:subject/>
  <dc:title>ВВОДНОЕ  ПОВТОРЕНИЕ.</dc:title>
</cp:coreProperties>
</file>