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DE8F-7029-49FF-B2F0-A5FE30D5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8D8-A543-41B8-B3AA-52D122D8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1C52-F7C0-4974-AEC8-38F3ACA9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CFA-CC3B-4884-BB3E-2A27B1ED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774E-66F0-4057-82C8-0D269B0C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64F0-61D1-47E3-9A72-02210A76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34BA-6F7D-4811-90F5-E90052A5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3391-3879-48D7-8AD7-7F12BF7C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896C-B276-4177-8BEB-39E6B63D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3B8E-0BF2-4746-981A-6372ACBC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C878-1D7E-4BF1-8DE1-88B7DDF1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0D2-6725-4BCA-8700-2DB1ED73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32FB-EC6C-4F91-8926-861706B0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100B-0150-4DF3-A03E-47E298B4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FEF9-1ECE-47D0-91FF-7B5A9307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CA86-0DB1-45FB-8D6C-E07BBE0F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63DD-6E50-490B-98D9-D6FAB459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87B0-1DF1-443D-A169-506FED33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670-5CD7-46FE-831A-EF14E6EF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2A1-C804-4D45-A07C-14867FF6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DCD-70DD-462F-B8B8-400B95DE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C1C-A761-4286-B057-0E459AC9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27D8-B631-4C64-A845-0AB1FB37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EC50-9DA0-4D04-9C73-6A0ED96F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99de9">
                  <a:alpha val="3921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914400"/>
            <a:ext cx="9144000" cy="351000"/>
            <a:chOff x="0" y="914400"/>
            <a:chExt cx="9144000" cy="351000"/>
          </a:xfrm>
        </p:grpSpPr>
        <p:sp>
          <p:nvSpPr>
            <p:cNvPr id="4" name=""/>
            <p:cNvSpPr/>
            <p:nvPr/>
          </p:nvSpPr>
          <p:spPr>
            <a:xfrm>
              <a:off x="0" y="917640"/>
              <a:ext cx="229068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276640" y="917640"/>
              <a:ext cx="22953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65520" y="917640"/>
              <a:ext cx="230040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861240" y="914400"/>
              <a:ext cx="22827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82EC-77D5-46E3-8856-4B64469A7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81560"/>
            <a:ext cx="9155160" cy="3376440"/>
          </a:xfrm>
          <a:custGeom>
            <a:avLst/>
            <a:gdLst/>
            <a:ahLst/>
            <a:rect l="l" t="t" r="r" b="b"/>
            <a:pathLst>
              <a:path w="5767" h="2127">
                <a:moveTo>
                  <a:pt x="0" y="1760"/>
                </a:moveTo>
                <a:lnTo>
                  <a:pt x="5767" y="0"/>
                </a:lnTo>
                <a:lnTo>
                  <a:pt x="5760" y="2127"/>
                </a:lnTo>
                <a:lnTo>
                  <a:pt x="0" y="2127"/>
                </a:lnTo>
                <a:lnTo>
                  <a:pt x="0" y="176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584200">
            <a:off x="-141120" y="5310000"/>
            <a:ext cx="2541600" cy="572760"/>
          </a:xfrm>
          <a:prstGeom prst="parallelogram">
            <a:avLst>
              <a:gd name="adj" fmla="val 30076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0584200">
            <a:off x="2153880" y="4609800"/>
            <a:ext cx="2546280" cy="573120"/>
          </a:xfrm>
          <a:prstGeom prst="parallelogram">
            <a:avLst>
              <a:gd name="adj" fmla="val 30113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584200">
            <a:off x="4448160" y="3908520"/>
            <a:ext cx="2552760" cy="573120"/>
          </a:xfrm>
          <a:prstGeom prst="parallelogram">
            <a:avLst>
              <a:gd name="adj" fmla="val 30189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584200">
            <a:off x="6751800" y="3206520"/>
            <a:ext cx="2533320" cy="573120"/>
          </a:xfrm>
          <a:prstGeom prst="parallelogram">
            <a:avLst>
              <a:gd name="adj" fmla="val 29959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A267-E4F0-4CB1-BA7E-F0BC378F2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8" name="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9de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557000"/>
            <a:ext cx="80773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9de9"/>
                </a:solidFill>
                <a:latin typeface="Arial"/>
              </a:rPr>
              <a:t>ПАРАЛЛЕЛОГРАММ.</a:t>
            </a: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2924280"/>
            <a:ext cx="547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рок №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308720" y="4724280"/>
            <a:ext cx="98424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236000" y="189000"/>
            <a:ext cx="14475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ЗАДАЧА № 3.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ждой из двух концентрических окружностях проведен диаметр АС и 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соответственно. Докажите, что четырехугольни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C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араллел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11280" y="3933720"/>
            <a:ext cx="2737080" cy="2590920"/>
          </a:xfrm>
          <a:prstGeom prst="donut">
            <a:avLst>
              <a:gd name="adj" fmla="val 25000"/>
            </a:avLst>
          </a:prstGeom>
          <a:solidFill>
            <a:srgbClr val="ddf7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771640" y="4365720"/>
            <a:ext cx="2016360" cy="17272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5084640"/>
            <a:ext cx="1295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42000" y="402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36920" y="604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89280" y="5321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81640" y="524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97280" y="474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ЗАДАНИЕ НА ДОМ.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.43, № 379, 38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УСТНАЯ РАБОТА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94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73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йте определение параллелограм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73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числите свойства параллелограм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73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араллелограмме АВСД проведена биссектриса угла А, которая пересекает сторону ВС в точ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кажите, что треугольни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внобедре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49417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59500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4941720"/>
            <a:ext cx="72072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4941720"/>
            <a:ext cx="72072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124000" y="4652640"/>
            <a:ext cx="12240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97280" y="46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26360" y="467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4920" y="5897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8360" y="5897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02000" y="4456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2184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УСТНАЯ РАБОТА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305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тороны АВ и ВС параллелограм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ы 9 см и 6 см. Чему равен периметр параллелограм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ериметр параллелограмма равен 30 см, одна из сторон параллелограмма 8 см. Определите все стороны параллелограм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В параллелограмме сумма противоположных углов равна 13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дите градусную меру каждого угла параллелограм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В параллелограмме сумма углов равна 12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Могут ли эти углы прилежать к одной сторо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В параллелограм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агона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а 12  см, точка О – точка пересечения диагоналей. Чему равен отрез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ПИЗНАКИ ПАРАЛЛЕЛОГРАММА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знак 1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(по двум равным и параллельным сторон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 четырехугольнике две стороны равны и параллельны, то этот четырехугольник является параллелограмм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четырех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=AB, D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араллел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3141360"/>
            <a:ext cx="836280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73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м диагональ А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73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∆АВС и 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C=A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лов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C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крест лежащие углы при параллельных прямых АВ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) 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щая сторона. Значит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∆АВС = 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73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ледовательно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 признаку параллельности, В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73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определени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C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параллел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3280" y="1773360"/>
            <a:ext cx="2376720" cy="1008000"/>
          </a:xfrm>
          <a:prstGeom prst="parallelogram">
            <a:avLst>
              <a:gd name="adj" fmla="val 58946"/>
            </a:avLst>
          </a:prstGeom>
          <a:solidFill>
            <a:srgbClr val="699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25640" y="2584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200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05640" y="128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57640" y="258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403280" y="1773360"/>
            <a:ext cx="2376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ЗАДАЧА № 1.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торона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ллелограмм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ожены равные отрезк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Докажите, что четырехугольни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C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араллел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4005360"/>
            <a:ext cx="3744720" cy="1224000"/>
          </a:xfrm>
          <a:prstGeom prst="parallelogram">
            <a:avLst>
              <a:gd name="adj" fmla="val 76485"/>
            </a:avLst>
          </a:prstGeom>
          <a:solidFill>
            <a:srgbClr val="ec6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97280" y="5392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364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29640" y="373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4360" y="524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340000" y="4005360"/>
            <a:ext cx="2736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332000" y="4005360"/>
            <a:ext cx="27352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979640" y="5157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49640" y="5392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49640" y="3521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ПРИЗНАК 2 (ПО РАВНЫМ СТОРОНАМ)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 четырехугольнике противоположные стороны попарно равны, то этот четырехугольник – параллел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хугольник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=CD, BC=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араллел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ПРИЗНАК 3 (ПО ДИАГОНАЛЯМ)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 четырехугольнике диагонали пересекаются и точкой пересечения делятся пополам, то этот четырехугольник – параллел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хугольник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, BD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иагонали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∩BD=O, AO=OC, BO=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казать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араллел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ЗАДАЧА № 2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равных равнобедренных треугольн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основание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основание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ют общую боковую сторону. Докажите, что четырехугольни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араллел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2:11:55Z</dcterms:created>
  <dc:creator>Мама</dc:creator>
  <dc:description/>
  <dc:language>en-US</dc:language>
  <cp:lastModifiedBy>Мама</cp:lastModifiedBy>
  <dcterms:modified xsi:type="dcterms:W3CDTF">2006-09-22T15:16:34Z</dcterms:modified>
  <cp:revision>3</cp:revision>
  <dc:subject/>
  <dc:title>ВВОДНОЕ  ПОВТОРЕНИЕ.</dc:title>
</cp:coreProperties>
</file>