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3816-1392-4FE0-9782-62B71A9522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23C6-CD51-4701-B99F-60D9D64BEF4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4435-EE5A-4CCE-9296-72B05165B04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D7FA-E71B-42FA-BE50-C610E589BBD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76F7-7CEC-497F-849C-A0E78EDB9A2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82B2-2E1A-45F8-835D-146FE51E814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0505-A673-467C-ABE1-1440168282E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C72B-278F-479D-929D-7140DD43481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3CF-7E41-4048-A3AA-87B82F5E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86A-6708-401C-BB34-24EC6545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FD6D-322F-417B-AF6C-97B3F826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8B1-9958-4C1D-A6C3-0A399519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DFC3-03B3-4A93-B7F6-A049DB46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346D-D1BA-4717-AE1E-26F604E1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8478-E46D-4B79-9780-009E6A00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0552-C8BE-4484-961B-57162AFE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0776-B96A-4BBD-A076-5FED3EB1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3FBA-4A0C-416C-AD19-B87B2A11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C21F-E02B-40D1-8636-25048B0A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76B-B3E1-431B-8CA3-2B41BD18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D1D6-AAC4-4E68-8886-F54B01AA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B8DA-03A2-4109-8BF9-FB103DB8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BDEE-2430-4F06-AE0A-5EF7193B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FE1B-769B-4894-B65D-830CB660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2063-0EBC-4231-8508-E10E164B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699-385F-4872-9BDA-3022204D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363-A187-49F0-B3D8-A1C5F7F7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FB5-7AE2-40F0-908A-B4A29853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071-A1BE-4DC1-A5BA-161046D9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CA2-204A-4C49-9291-F7DEB493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494-3418-490E-84BC-4CDD8E01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7A9-6B67-48D9-ADAB-E98676AA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A419-B0BD-410E-8E1E-180D16934E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E307-43AB-4FB8-B38B-7016282722B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5268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АПК России в цифрах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623760"/>
            <a:ext cx="64008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анные 2006 год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shapka"/>
          <p:cNvPicPr/>
          <p:nvPr/>
        </p:nvPicPr>
        <p:blipFill>
          <a:blip r:embed="rId1"/>
          <a:stretch/>
        </p:blipFill>
        <p:spPr>
          <a:xfrm>
            <a:off x="1258920" y="4237200"/>
            <a:ext cx="6640560" cy="22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лощадь России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17,1 млн. км. к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russia-geo-2n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оссия занимает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7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место в мире по обеспеченности водными ресурсам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5" descr="river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лощадь сельхозугодий =222 млн. г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1" name="Object 12"/>
          <p:cNvGraphicFramePr/>
          <p:nvPr/>
        </p:nvGraphicFramePr>
        <p:xfrm>
          <a:off x="4649760" y="251928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251928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1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5" name="Object 27"/>
          <p:cNvGraphicFramePr/>
          <p:nvPr/>
        </p:nvGraphicFramePr>
        <p:xfrm>
          <a:off x="0" y="1413000"/>
          <a:ext cx="8532720" cy="506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13000"/>
                    <a:ext cx="853272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руктура занятости населения Росс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395280" y="1413000"/>
          <a:ext cx="8137440" cy="53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3744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руктура сельского хозяй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астениеводств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зерновое хоз-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кормопроиз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технические культур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овощ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бахч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картофел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садоводство и виноградар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Животноводств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скот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свин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овц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коз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кон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птиц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звер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пчел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оанализируйте эти данные и скажите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Есть ли в России природно-ресурсный потенциал для успешного развития сельского хозяйств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0:16:53Z</dcterms:created>
  <dc:creator>User</dc:creator>
  <dc:description/>
  <dc:language>en-US</dc:language>
  <cp:lastModifiedBy>Коля</cp:lastModifiedBy>
  <dcterms:modified xsi:type="dcterms:W3CDTF">2013-06-26T14:38:45Z</dcterms:modified>
  <cp:revision>6</cp:revision>
  <dc:subject/>
  <dc:title>АПК России в цифрах</dc:title>
</cp:coreProperties>
</file>