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B271-CEFC-4B43-AC71-1DA5A0AAF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13AA-5957-438D-AC99-4D16E9E9F92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B65-0D69-4E48-AC82-369685F40D0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A13-6007-45EB-96DF-E4676C2D247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B832-EF8E-4BA4-B223-9DC3FFF0E07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52DC-7BB6-49A2-8C76-99D876F68E7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7FCD-4898-4658-BBE4-30490A0885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E5B-B4A8-4086-9D08-4D8751CF8D2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0ED-7326-41B6-96B8-362AE1DD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31C-C581-406E-B6B3-906C5B0A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C48-1434-4DE0-A583-D1A3A4D0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3D1-0E68-4677-AB93-9B572400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E3CA-A1D7-4629-AF6C-8CA03A3E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FF10-8CF8-413C-8F7E-7B224FFB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81BD-5DFE-44B6-AB83-FC1E250F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3E3E-4DC1-4013-B902-D335AD36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6884-D474-4CD0-A0F1-CFA28440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FB6D-E670-4036-BEF5-EFE390F9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B2C4-BBC8-4836-8C3C-07BED6B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A3D-9C4B-44BB-9ADD-E942573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9457-460F-4A0D-9C49-6921A9A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CFD2-F43D-44AD-8973-D9F8B370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792B-3A9C-49AB-8CC5-694F459A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05B9-3507-4F27-915E-0DF0D2C3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F46D-5169-44BE-8C6D-D22E6135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BE9-B619-46BB-AAB4-8410B47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B51-24F4-47F8-B41A-3477CB2B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9F4-09B5-44D0-AECD-4701D108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971-9F91-4650-A110-8E239CF7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D1C-9D64-4EA6-8BBB-D5C5698F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B1F-0213-4E6B-9F8B-FA74A95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485-D2C1-4C67-8785-12557D1C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B253-9664-45D7-898B-FBF5BA0DDF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2DF-C41E-4A11-A3D4-8C431A68A49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526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АПК России в цифрах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623760"/>
            <a:ext cx="64008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анные 2006 год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shapka"/>
          <p:cNvPicPr/>
          <p:nvPr/>
        </p:nvPicPr>
        <p:blipFill>
          <a:blip r:embed="rId1"/>
          <a:stretch/>
        </p:blipFill>
        <p:spPr>
          <a:xfrm>
            <a:off x="1258920" y="4237200"/>
            <a:ext cx="6640560" cy="22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лощадь России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7,1 млн. км. к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russia-geo-2n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оссия занимает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место в мире по обеспеченности водными ресурсам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5" descr="river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лощадь сельхозугодий =222 млн. г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1" name="Object 12"/>
          <p:cNvGraphicFramePr/>
          <p:nvPr/>
        </p:nvGraphicFramePr>
        <p:xfrm>
          <a:off x="4649760" y="251928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251928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Rectangle 19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5" name="Object 27"/>
          <p:cNvGraphicFramePr/>
          <p:nvPr/>
        </p:nvGraphicFramePr>
        <p:xfrm>
          <a:off x="0" y="1413000"/>
          <a:ext cx="8532720" cy="506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13000"/>
                    <a:ext cx="853272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руктура занятости населения Росс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395280" y="1413000"/>
          <a:ext cx="8137440" cy="539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руктура сельского хозяйст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астениеводств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зерновое хоз-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рмопроиз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технические культур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вощ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бахч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артофел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адоводство и виноградар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Животноводств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кот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свин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овц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з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кон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птице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звер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пчеловодств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оанализируйте эти данные и скажите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Verdana"/>
              </a:rPr>
              <a:t>Есть ли в России природно-ресурсный потенциал для успешного развития сельского хозяйств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16:53Z</dcterms:created>
  <dc:creator>User</dc:creator>
  <dc:description/>
  <dc:language>en-US</dc:language>
  <cp:lastModifiedBy>Коля</cp:lastModifiedBy>
  <dcterms:modified xsi:type="dcterms:W3CDTF">2013-06-26T14:38:45Z</dcterms:modified>
  <cp:revision>6</cp:revision>
  <dc:subject/>
  <dc:title>АПК России в цифрах</dc:title>
</cp:coreProperties>
</file>