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E806-E4C7-4E49-8776-54C78D422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2618-65CF-4A3D-8B02-DFB38875139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C22-0241-4A33-BB24-4F11EC04D4F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411-BB47-4B70-84B0-5B6E33E3307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49C1-7D6E-4311-AA85-A1A1E81585C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7BE8-C829-4C94-ABC0-EADF63B9FA6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842-A9FB-463D-89F7-E5A388B1C58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D47-AB34-4DB4-9669-3155329E66B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535-3970-430B-BD79-42727F70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648-E458-4C70-B1FF-6D3C6620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97F-8428-4A49-A89C-5A25618D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42B-A7A8-454B-AA78-93C0776E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3093-E2D8-40D4-8670-8440DA42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1EF4-4D24-455C-9F1B-B4480F1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2318-0729-4E96-9DDF-0E2C826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1C86-0EA8-44ED-AA21-0155BA87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0D4-1A6C-4549-9137-32272F6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89A8-7E31-4DE0-9D5A-765477C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B4C7-34CE-437A-8ECE-3204788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7F5-B7C6-4A38-9003-BBDDFC7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BEF0-AFBB-4F4F-8F08-42F1B4E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0E52-2651-4F20-A0B3-6532979A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7402-2FB6-439B-8AB7-23B3B133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29F7-E715-4E1D-96DD-CE7DC3C4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993D-D65D-42D2-B9D2-AD7DE747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DC0-9F0A-4E88-880C-46DCA9A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A6C-6C04-4CEC-8C24-5E698ED6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3B6-F5DD-49E4-9AB4-E5569BCC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9B4-EFBB-44EC-ABCD-8D9075AE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087-951A-47D3-972B-6290605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CE1-AB74-42BC-B00C-DF057D3E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B46-E47E-4333-B236-9E34F28F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0898-7DF1-49EE-8856-24CA4A1BC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0BDA-6317-405C-A2F1-C76B19D9851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526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АПК России в цифрах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6237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анные 2006 год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shapka"/>
          <p:cNvPicPr/>
          <p:nvPr/>
        </p:nvPicPr>
        <p:blipFill>
          <a:blip r:embed="rId1"/>
          <a:stretch/>
        </p:blipFill>
        <p:spPr>
          <a:xfrm>
            <a:off x="1258920" y="4237200"/>
            <a:ext cx="6640560" cy="22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лощадь России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7,1 млн. км. к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russia-geo-2n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оссия занимает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место в мире по обеспеченности водными ресурса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river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лощадь сельхозугодий =222 млн. г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Object 12"/>
          <p:cNvGraphicFramePr/>
          <p:nvPr/>
        </p:nvGraphicFramePr>
        <p:xfrm>
          <a:off x="4649760" y="251928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251928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1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5" name="Object 27"/>
          <p:cNvGraphicFramePr/>
          <p:nvPr/>
        </p:nvGraphicFramePr>
        <p:xfrm>
          <a:off x="0" y="1413000"/>
          <a:ext cx="8532720" cy="50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13000"/>
                    <a:ext cx="853272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уктура занятости населения Росс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395280" y="1413000"/>
          <a:ext cx="813744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уктура сельского хозяй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астениеводств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зерновое хоз-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рмопроиз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технические культу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вощ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бахч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артофел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адоводство и виноградар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Животноводств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кот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вин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вц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з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н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птиц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звер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пчел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анализируйте эти данные и скажите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Есть ли в России природно-ресурсный потенциал для успешного развития сельского хозяйст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6:53Z</dcterms:created>
  <dc:creator>User</dc:creator>
  <dc:description/>
  <dc:language>en-US</dc:language>
  <cp:lastModifiedBy>Коля</cp:lastModifiedBy>
  <dcterms:modified xsi:type="dcterms:W3CDTF">2013-06-26T14:38:45Z</dcterms:modified>
  <cp:revision>6</cp:revision>
  <dc:subject/>
  <dc:title>АПК России в цифрах</dc:title>
</cp:coreProperties>
</file>