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618-D947-49E7-B149-7BA5A729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063B-CD79-4735-8734-2F7D91DF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B97-6CBE-4E94-9EDA-F135090C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9C5-18EF-416C-BF23-883AF18B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991-F7E7-4975-A4C3-CDA493CD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59DE-80CD-41B4-9045-1EC5E270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3E1-1A05-4414-BFF3-200AF9BB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9F3-2308-4B98-AD56-81F1EE1D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B5A-C252-415E-8522-FFD4E5F6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03B-FB23-4970-8917-951F3DF5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A42-EA2C-4710-BF9A-65C78460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4C3-10FB-49B0-BFF8-EAFDF69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04F5-F1DA-4E9B-8C57-5E81C7CF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лександр Бл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35280" y="5516280"/>
            <a:ext cx="55432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Жизнь и 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7 из 278299"/>
          <p:cNvPicPr/>
          <p:nvPr/>
        </p:nvPicPr>
        <p:blipFill>
          <a:blip r:embed="rId2"/>
          <a:stretch/>
        </p:blipFill>
        <p:spPr>
          <a:xfrm>
            <a:off x="2916360" y="1341360"/>
            <a:ext cx="3200400" cy="41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0" y="333000"/>
            <a:ext cx="4392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эт был похоронен на Смоленском кладбище. Отпевание было совершено в церкви Воскресения Христова. Прах Блока был перезахоронен на Волковском кладб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Картинка 1 из 1945"/>
          <p:cNvPicPr/>
          <p:nvPr/>
        </p:nvPicPr>
        <p:blipFill>
          <a:blip r:embed="rId2"/>
          <a:stretch/>
        </p:blipFill>
        <p:spPr>
          <a:xfrm>
            <a:off x="179280" y="549360"/>
            <a:ext cx="428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759600"/>
            <a:ext cx="302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ма «12» вызвала сп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Горький: злая сат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пиус: предательство идеалов своб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милев: неестественный финал. Волошин: эпохальное произведение, которое вознеслось над всем злободне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 из 2670"/>
          <p:cNvPicPr/>
          <p:nvPr/>
        </p:nvPicPr>
        <p:blipFill>
          <a:blip r:embed="rId2"/>
          <a:stretch/>
        </p:blipFill>
        <p:spPr>
          <a:xfrm>
            <a:off x="4500720" y="1413000"/>
            <a:ext cx="3600360" cy="476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4259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ександру Блоку шел девятнадцатый год, когда, под впечатлением этой картины, он написал стихотворение «Гамаюн, птица вещая»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90 из 8197"/>
          <p:cNvPicPr/>
          <p:nvPr/>
        </p:nvPicPr>
        <p:blipFill>
          <a:blip r:embed="rId2"/>
          <a:stretch/>
        </p:blipFill>
        <p:spPr>
          <a:xfrm>
            <a:off x="4859280" y="907920"/>
            <a:ext cx="3816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амое известное стихотворение Александра Блока было написано 24 апреля 1906 года; вошло в цикл стихов - «Город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50 из 1062"/>
          <p:cNvPicPr/>
          <p:nvPr/>
        </p:nvPicPr>
        <p:blipFill>
          <a:blip r:embed="rId2"/>
          <a:stretch/>
        </p:blipFill>
        <p:spPr>
          <a:xfrm>
            <a:off x="4211640" y="2565360"/>
            <a:ext cx="28814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692280"/>
            <a:ext cx="395928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3 из 186377"/>
          <p:cNvPicPr/>
          <p:nvPr/>
        </p:nvPicPr>
        <p:blipFill>
          <a:blip r:embed="rId2"/>
          <a:stretch/>
        </p:blipFill>
        <p:spPr>
          <a:xfrm>
            <a:off x="755640" y="549360"/>
            <a:ext cx="7201080" cy="575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16280"/>
            <a:ext cx="914400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лександр Александрович Блок род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6 ноября 1880 года в Петербург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Его отец, Александр Львович, был профессором права в Варшавском университете, а мать, Александра Андреевна, писательницей и переводчицей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1 из 11473"/>
          <p:cNvPicPr/>
          <p:nvPr/>
        </p:nvPicPr>
        <p:blipFill>
          <a:blip r:embed="rId2"/>
          <a:stretch/>
        </p:blipFill>
        <p:spPr>
          <a:xfrm>
            <a:off x="755640" y="981000"/>
            <a:ext cx="7257960" cy="5143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тство Александр провёл в основном в доме деда, известного русского ботаника - Андрея Бекетова, на лето выезжая в скромное подмосковное имение матери Шахмат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1894_fam"/>
          <p:cNvPicPr/>
          <p:nvPr/>
        </p:nvPicPr>
        <p:blipFill>
          <a:blip r:embed="rId2"/>
          <a:stretch/>
        </p:blipFill>
        <p:spPr>
          <a:xfrm>
            <a:off x="1476360" y="3141720"/>
            <a:ext cx="5423040" cy="345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04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4546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 1898 году окончил гимназию, поступил на юридический факультет Петербургского университета. Через три года перевелся на славяно-русское отделение историко-филологического факультета, которое окончил в 1906 году. Первые стихи Блок написал в пять лет. В 10 лет Александр Блок написал два номера журнала «Корабль». С 1894 по 1897 год он вместе с братьями писал рукописный журнал «Вестник». В 16 лет Блок увлёкся театром. В Петербурге Александр Блок записался в театральный кружок. Однако после первого успеха ролей в театре ему больше не давал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43 из 278299"/>
          <p:cNvPicPr/>
          <p:nvPr/>
        </p:nvPicPr>
        <p:blipFill>
          <a:blip r:embed="rId2"/>
          <a:stretch/>
        </p:blipFill>
        <p:spPr>
          <a:xfrm>
            <a:off x="5219640" y="620640"/>
            <a:ext cx="3381480" cy="4762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 1903 году Блок женился на Любови Менделеевой, дочери Д. И. Менделеева, героине его первой книги стихов «Стихи о Прекрасной Даме». Известно, что Александр Блок испытывал к жене сильные чувства, но периодически поддерживал связи с различными женщ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48 из 278299"/>
          <p:cNvPicPr/>
          <p:nvPr/>
        </p:nvPicPr>
        <p:blipFill>
          <a:blip r:embed="rId2"/>
          <a:stretch/>
        </p:blipFill>
        <p:spPr>
          <a:xfrm>
            <a:off x="1403280" y="2492280"/>
            <a:ext cx="5977080" cy="396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 1909 году происходит два тяжёлых события в семье Блока: умирает ребёнок Любови Дмитриевны и умирает отец Блока. Чтобы прийти в себя, Блок со своей женой уезжают отдохнуть в Италию. За итальянские стихи Блока приняли в общество, которое называлось «Академией»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том 1911 года Блок снова едет за границу. На этот раз он едет во Францию. Александр Александрович даёт негативную оценку французских нр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июля 1916 года Блока призвали на службу в инженерную часть Всероссийского Земского Союза. Поэт служил в Белару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а 2 из 10209"/>
          <p:cNvPicPr/>
          <p:nvPr/>
        </p:nvPicPr>
        <p:blipFill>
          <a:blip r:embed="rId2"/>
          <a:stretch/>
        </p:blipFill>
        <p:spPr>
          <a:xfrm>
            <a:off x="3059280" y="1557360"/>
            <a:ext cx="3009600" cy="476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авшись в тяжёлом материальном положении, он серьёзно болел и 7 августа 1921 года умер в своей последней петроградской квартире от воспаления сердечных клапанов. Перед смертью, после получения отрицательного ответа на запрос о выезде на лечение за границу поэт сознательно уничтожил свои записи, отказывался от приёма пищи и лек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артинка 25 из 28426"/>
          <p:cNvPicPr/>
          <p:nvPr/>
        </p:nvPicPr>
        <p:blipFill>
          <a:blip r:embed="rId2"/>
          <a:stretch/>
        </p:blipFill>
        <p:spPr>
          <a:xfrm>
            <a:off x="3564000" y="3473280"/>
            <a:ext cx="453708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40:01Z</dcterms:created>
  <dc:creator>dom</dc:creator>
  <dc:description/>
  <dc:language>en-US</dc:language>
  <cp:lastModifiedBy>dom</cp:lastModifiedBy>
  <dcterms:modified xsi:type="dcterms:W3CDTF">2012-01-29T13:04:19Z</dcterms:modified>
  <cp:revision>2</cp:revision>
  <dc:subject/>
  <dc:title>Александр Блок.</dc:title>
</cp:coreProperties>
</file>