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10BA-5B97-45C6-809B-E9CCC946A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404F-C090-43A3-B5FC-75755C600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21BD-8D31-4A2F-95F3-FFF316B9C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1399-0138-49C9-9BBA-CAC9C6C42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D9A5-CDFF-4975-8EDA-42209BAED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A70C-2C08-449D-9CC8-B6448DD68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3F3E-2519-48FA-85B4-CC78EEF88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58C9-0F7A-4BF6-8579-843DF2579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BA92-129D-4643-BAFD-1009BF461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6E00-FAA6-493A-A093-0FF754D24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2B78-B3A4-4F18-8C86-29F83C89F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C38E-D52B-492E-8F04-967C9A933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2EB50-E8F3-4381-AC09-E25B6E5D5E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Александр Блок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835280" y="5516280"/>
            <a:ext cx="55432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Жизнь и творчеств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Картинка 27 из 278299"/>
          <p:cNvPicPr/>
          <p:nvPr/>
        </p:nvPicPr>
        <p:blipFill>
          <a:blip r:embed="rId2"/>
          <a:stretch/>
        </p:blipFill>
        <p:spPr>
          <a:xfrm>
            <a:off x="2916360" y="1341360"/>
            <a:ext cx="3200400" cy="416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0" y="333000"/>
            <a:ext cx="439272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эт был похоронен на Смоленском кладбище. Отпевание было совершено в церкви Воскресения Христова. Прах Блока был перезахоронен на Волковском кладбищ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Картинка 1 из 1945"/>
          <p:cNvPicPr/>
          <p:nvPr/>
        </p:nvPicPr>
        <p:blipFill>
          <a:blip r:embed="rId2"/>
          <a:stretch/>
        </p:blipFill>
        <p:spPr>
          <a:xfrm>
            <a:off x="179280" y="549360"/>
            <a:ext cx="42865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ворчеств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0920" y="759600"/>
            <a:ext cx="302400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эма «12» вызвала спор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Горький: злая сати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иппиус: предательство идеалов свобо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умилев: неестественный финал. Волошин: эпохальное произведение, которое вознеслось над всем злободневны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Картинка 3 из 2670"/>
          <p:cNvPicPr/>
          <p:nvPr/>
        </p:nvPicPr>
        <p:blipFill>
          <a:blip r:embed="rId2"/>
          <a:stretch/>
        </p:blipFill>
        <p:spPr>
          <a:xfrm>
            <a:off x="4500720" y="1413000"/>
            <a:ext cx="3600360" cy="47624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6840" y="404280"/>
            <a:ext cx="425916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лександру Блоку шел девятнадцатый год, когда, под впечатлением этой картины, он написал стихотворение «Гамаюн, птица вещая»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Картинка 90 из 8197"/>
          <p:cNvPicPr/>
          <p:nvPr/>
        </p:nvPicPr>
        <p:blipFill>
          <a:blip r:embed="rId2"/>
          <a:stretch/>
        </p:blipFill>
        <p:spPr>
          <a:xfrm>
            <a:off x="4859280" y="907920"/>
            <a:ext cx="381636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Самое известное стихотворение Александра Блока было написано 24 апреля 1906 года; вошло в цикл стихов - «Город»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Картинка 50 из 1062"/>
          <p:cNvPicPr/>
          <p:nvPr/>
        </p:nvPicPr>
        <p:blipFill>
          <a:blip r:embed="rId2"/>
          <a:stretch/>
        </p:blipFill>
        <p:spPr>
          <a:xfrm>
            <a:off x="4211640" y="2565360"/>
            <a:ext cx="2881440" cy="309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411280" y="692280"/>
            <a:ext cx="3959280" cy="53276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Картинка 3 из 186377"/>
          <p:cNvPicPr/>
          <p:nvPr/>
        </p:nvPicPr>
        <p:blipFill>
          <a:blip r:embed="rId2"/>
          <a:stretch/>
        </p:blipFill>
        <p:spPr>
          <a:xfrm>
            <a:off x="755640" y="549360"/>
            <a:ext cx="7201080" cy="5759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916280"/>
            <a:ext cx="9144000" cy="34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лександр Александрович Блок родил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16 ноября 1880 года в Петербурге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Его отец, Александр Львович, был профессором права в Варшавском университете, а мать, Александра Андреевна, писательницей и переводчицей.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Картинка 1 из 11473"/>
          <p:cNvPicPr/>
          <p:nvPr/>
        </p:nvPicPr>
        <p:blipFill>
          <a:blip r:embed="rId2"/>
          <a:stretch/>
        </p:blipFill>
        <p:spPr>
          <a:xfrm>
            <a:off x="755640" y="981000"/>
            <a:ext cx="7257960" cy="5143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Детство Александр провёл в основном в доме деда, известного русского ботаника - Андрея Бекетова, на лето выезжая в скромное подмосковное имение матери Шахмато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2" descr="1894_fam"/>
          <p:cNvPicPr/>
          <p:nvPr/>
        </p:nvPicPr>
        <p:blipFill>
          <a:blip r:embed="rId2"/>
          <a:stretch/>
        </p:blipFill>
        <p:spPr>
          <a:xfrm>
            <a:off x="1476360" y="3141720"/>
            <a:ext cx="5423040" cy="34542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4046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6840" y="188640"/>
            <a:ext cx="45464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 1898 году окончил гимназию, поступил на юридический факультет Петербургского университета. Через три года перевелся на славяно-русское отделение историко-филологического факультета, которое окончил в 1906 году. Первые стихи Блок написал в пять лет. В 10 лет Александр Блок написал два номера журнала «Корабль». С 1894 по 1897 год он вместе с братьями писал рукописный журнал «Вестник». В 16 лет Блок увлёкся театром. В Петербурге Александр Блок записался в театральный кружок. Однако после первого успеха ролей в театре ему больше не давал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Картинка 43 из 278299"/>
          <p:cNvPicPr/>
          <p:nvPr/>
        </p:nvPicPr>
        <p:blipFill>
          <a:blip r:embed="rId2"/>
          <a:stretch/>
        </p:blipFill>
        <p:spPr>
          <a:xfrm>
            <a:off x="5219640" y="620640"/>
            <a:ext cx="3381480" cy="47624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95280" y="-360"/>
            <a:ext cx="8229600" cy="24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 1903 году Блок женился на Любови Менделеевой, дочери Д. И. Менделеева, героине его первой книги стихов «Стихи о Прекрасной Даме». Известно, что Александр Блок испытывал к жене сильные чувства, но периодически поддерживал связи с различными женщин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Картинка 48 из 278299"/>
          <p:cNvPicPr/>
          <p:nvPr/>
        </p:nvPicPr>
        <p:blipFill>
          <a:blip r:embed="rId2"/>
          <a:stretch/>
        </p:blipFill>
        <p:spPr>
          <a:xfrm>
            <a:off x="1403280" y="2492280"/>
            <a:ext cx="5977080" cy="3961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 1909 году происходит два тяжёлых события в семье Блока: умирает ребёнок Любови Дмитриевны и умирает отец Блока. Чтобы прийти в себя, Блок со своей женой уезжают отдохнуть в Италию. За итальянские стихи Блока приняли в общество, которое называлось «Академией»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том 1911 года Блок снова едет за границу. На этот раз он едет во Францию. Александр Александрович даёт негативную оценку французских нрав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 июля 1916 года Блока призвали на службу в инженерную часть Всероссийского Земского Союза. Поэт служил в Беларус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Картинка 2 из 10209"/>
          <p:cNvPicPr/>
          <p:nvPr/>
        </p:nvPicPr>
        <p:blipFill>
          <a:blip r:embed="rId2"/>
          <a:stretch/>
        </p:blipFill>
        <p:spPr>
          <a:xfrm>
            <a:off x="3059280" y="1557360"/>
            <a:ext cx="3009600" cy="47624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казавшись в тяжёлом материальном положении, он серьёзно болел и 7 августа 1921 года умер в своей последней петроградской квартире от воспаления сердечных клапанов. Перед смертью, после получения отрицательного ответа на запрос о выезде на лечение за границу поэт сознательно уничтожил свои записи, отказывался от приёма пищи и лекар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Картинка 25 из 28426"/>
          <p:cNvPicPr/>
          <p:nvPr/>
        </p:nvPicPr>
        <p:blipFill>
          <a:blip r:embed="rId2"/>
          <a:stretch/>
        </p:blipFill>
        <p:spPr>
          <a:xfrm>
            <a:off x="3564000" y="3473280"/>
            <a:ext cx="4537080" cy="338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9T11:40:01Z</dcterms:created>
  <dc:creator>dom</dc:creator>
  <dc:description/>
  <dc:language>en-US</dc:language>
  <cp:lastModifiedBy>dom</cp:lastModifiedBy>
  <dcterms:modified xsi:type="dcterms:W3CDTF">2012-01-29T13:04:19Z</dcterms:modified>
  <cp:revision>2</cp:revision>
  <dc:subject/>
  <dc:title>Александр Блок.</dc:title>
</cp:coreProperties>
</file>