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C96-3FE4-4F7D-B6E9-6724A6DA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8E7-F068-4AA6-AD34-34DA5C4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91A-FF48-442D-A485-0587DA18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96B-F9DB-4FAA-ADDA-4824200F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7BD-B0F0-44D2-88B9-E7C807DF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531-4169-41A0-96B5-C2212E4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F4F-E9E9-43B3-9DDB-A2E6E248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889-B2E7-4BC6-93B9-84863744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C27-B4CB-43B6-887B-09D7A06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DAA-131D-4548-B660-78FACB6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8CA-73B5-4FD0-90F0-ED9933E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14A-00F3-4FB6-95EC-3108B698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F078-380C-4BF7-A9AC-6F3E70E030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Звучащие картины. Прощание  с Масленицей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Квашню в чашке раствори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ша старшая сестриц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6640" y="1752480"/>
            <a:ext cx="68594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Напекла она поесть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сотен 5, наверно, ест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 тарелку их кладе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911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911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Гости, будьте же здоровы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353960"/>
            <a:ext cx="73152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ьте свой рассказ о том, какие еще Масленичные традиции существуют в Росс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Презентация подготовлена 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учителем музыки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Антоновой Натальей Юрьевной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се блины пекут хозяйки –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Нет их только у лентяйки,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Только в этот день особый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 каждом доме пахнет сдобой.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 каком празднике идет речь в стихотворен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слова указывают на это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берите из предложенных ниже картинку, которая наиболее подходит к текс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7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О каком дне говорится в отрывке из оперы «Снегурочка»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4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Кто из вас видел или знает, как пекут блины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Мы давно блинов не е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2895120"/>
            <a:ext cx="44960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08T21:3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