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B6055-6EAB-43E0-A19F-118F07FE8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70097-4848-4A1F-A0B6-6898D8159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CCAFD-A32C-490C-A32F-810C4D23E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5572E-8A3B-4916-A8F0-63E6C6D33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E49DB-6ABD-4FE5-BB63-756705F24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A346C-CACE-4F5B-8CA7-9A1F60669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4F729-5332-413A-9B66-BD1D7B87D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FCCD9-A9B1-4D12-97EF-37993C308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58E07-28ED-4551-8082-D370F4CAD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F2487-D090-4B73-BEFA-B0F2F740A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D56A6-27A0-4778-8471-54EE3D601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429FB-291C-42CD-AD6B-4868C1799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98372-E558-4917-8865-D53929CC14D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30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fd293"/>
                </a:solidFill>
                <a:latin typeface="Arial"/>
              </a:rPr>
              <a:t>Звучащие картины. Прощание  с Масленицей</a:t>
            </a:r>
            <a:endParaRPr b="0" lang="en-US" sz="48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934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 класс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Квашню в чашке растворили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04920" y="1828800"/>
            <a:ext cx="88390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Наша старшая сестрица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836640" y="1752480"/>
            <a:ext cx="6859440" cy="485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"/>
              </a:rPr>
              <a:t>Напекла она поесть </a:t>
            </a:r>
            <a:br>
              <a:rPr sz="4000"/>
            </a:br>
            <a:r>
              <a:rPr b="0" lang="en-US" sz="4000" spc="-1" strike="noStrike">
                <a:solidFill>
                  <a:srgbClr val="dfd293"/>
                </a:solidFill>
                <a:latin typeface="Arial"/>
              </a:rPr>
              <a:t>сотен 5, наверно, есть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066680" y="1600200"/>
            <a:ext cx="693432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На тарелку их кладет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7391160" cy="52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762120" y="1295280"/>
            <a:ext cx="7391160" cy="556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Гости, будьте же здоровы!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838080" y="1353960"/>
            <a:ext cx="7315200" cy="527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Домашнее задание 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371600" y="1981080"/>
            <a:ext cx="6400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Подготовьте свой рассказ о том, какие еще Масленичные традиции существуют в России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62120" y="571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d293"/>
                </a:solidFill>
                <a:latin typeface="Arial"/>
              </a:rPr>
              <a:t>Презентация подготовлена </a:t>
            </a:r>
            <a:br>
              <a:rPr sz="2400"/>
            </a:br>
            <a:r>
              <a:rPr b="0" lang="en-US" sz="2400" spc="-1" strike="noStrike">
                <a:solidFill>
                  <a:srgbClr val="dfd293"/>
                </a:solidFill>
                <a:latin typeface="Arial"/>
              </a:rPr>
              <a:t>учителем музыки</a:t>
            </a:r>
            <a:br>
              <a:rPr sz="2400"/>
            </a:br>
            <a:r>
              <a:rPr b="0" lang="en-US" sz="2400" spc="-1" strike="noStrike">
                <a:solidFill>
                  <a:srgbClr val="dfd293"/>
                </a:solidFill>
                <a:latin typeface="Arial"/>
              </a:rPr>
              <a:t> Антоновой Натальей Юрьевной</a:t>
            </a:r>
            <a:endParaRPr b="0" lang="en-US" sz="2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533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СПАСИБО ЗА ВНИМАНИЕ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274680"/>
            <a:ext cx="8305920" cy="21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fd293"/>
                </a:solidFill>
                <a:latin typeface="Arial"/>
              </a:rPr>
              <a:t>Все блины пекут хозяйки – </a:t>
            </a:r>
            <a:br>
              <a:rPr sz="3600"/>
            </a:br>
            <a:r>
              <a:rPr b="0" lang="en-US" sz="3600" spc="-1" strike="noStrike">
                <a:solidFill>
                  <a:srgbClr val="dfd293"/>
                </a:solidFill>
                <a:latin typeface="Arial"/>
              </a:rPr>
              <a:t>Нет их только у лентяйки, </a:t>
            </a:r>
            <a:br>
              <a:rPr sz="3600"/>
            </a:br>
            <a:r>
              <a:rPr b="0" lang="en-US" sz="3600" spc="-1" strike="noStrike">
                <a:solidFill>
                  <a:srgbClr val="dfd293"/>
                </a:solidFill>
                <a:latin typeface="Arial"/>
              </a:rPr>
              <a:t>Только в этот день особый </a:t>
            </a:r>
            <a:br>
              <a:rPr sz="3600"/>
            </a:br>
            <a:r>
              <a:rPr b="0" lang="en-US" sz="3600" spc="-1" strike="noStrike">
                <a:solidFill>
                  <a:srgbClr val="dfd293"/>
                </a:solidFill>
                <a:latin typeface="Arial"/>
              </a:rPr>
              <a:t>В каждом доме пахнет сдобой.</a:t>
            </a:r>
            <a:r>
              <a:rPr b="0" lang="en-US" sz="4000" spc="-1" strike="noStrike">
                <a:solidFill>
                  <a:srgbClr val="dfd293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3505320"/>
            <a:ext cx="8229600" cy="26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О каком празднике идет речь в стихотворении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Какие слова указывают на это?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685800" y="1980720"/>
            <a:ext cx="815328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Выберите из предложенных ниже картинку, которая наиболее подходит к текст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28600" y="457200"/>
            <a:ext cx="84582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792468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914400" y="457200"/>
            <a:ext cx="7572240" cy="612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"/>
              </a:rPr>
              <a:t>О каком дне говорится в отрывке из оперы «Снегурочка»?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114800" y="3581280"/>
            <a:ext cx="129528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21044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259056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"/>
              </a:rPr>
              <a:t>Кто из вас видел или знает, как пекут блины?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Мы давно блинов не ели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666520" y="2895120"/>
            <a:ext cx="4496040" cy="29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295280" y="1447920"/>
            <a:ext cx="6324840" cy="52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4-01-08T21:39:51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