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997-451C-47CA-87A1-D469D71B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3E1-ED68-4D56-A356-E90304E1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C87-F467-408B-9FE6-8A8F92BD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E5A-49B7-4F03-BD5F-66748B66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CDA7-62F9-4ECB-B5FC-C2EB7171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D22-C49F-4AA9-9496-A0EA9BB4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53E-8631-41F8-9957-047C28A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053-8C87-4A21-AD8A-1EE6D769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CE2-E75C-45F0-97F3-F8B5DDB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B2F-E86C-4489-93FA-AFBED5D8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7D6-6686-4B9A-8975-C0881CD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272-5915-479A-9870-BAA55CC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AED0-9DD4-4CE7-A69B-51438021B3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Звучащие картины. Прощание  с Масленицей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Квашню в чашке раствори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83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ша старшая сестриц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6640" y="1752480"/>
            <a:ext cx="68594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Напекла она поесть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сотен 5, наверно, есть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На тарелку их кладет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39116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39116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Гости, будьте же здоровы!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353960"/>
            <a:ext cx="731520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ьте свой рассказ о том, какие еще Масленичные традиции существуют в Росс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Презентация подготовлена 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учителем музыки</a:t>
            </a:r>
            <a:br>
              <a:rPr sz="2400"/>
            </a:br>
            <a:r>
              <a:rPr b="0" lang="en-US" sz="2400" spc="-1" strike="noStrike">
                <a:solidFill>
                  <a:srgbClr val="dfd293"/>
                </a:solidFill>
                <a:latin typeface="Arial"/>
              </a:rPr>
              <a:t> Антоновой Натальей Юрьевной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се блины пекут хозяйки –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Нет их только у лентяйки,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Только в этот день особый </a:t>
            </a:r>
            <a:br>
              <a:rPr sz="3600"/>
            </a:b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В каждом доме пахнет сдобой.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 каком празднике идет речь в стихотворени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слова указывают на это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8153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берите из предложенных ниже картинку, которая наиболее подходит к текс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7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О каком дне говорится в отрывке из оперы «Снегурочка»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114800" y="3581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04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Кто из вас видел или знает, как пекут блины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Мы давно блинов не ел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2895120"/>
            <a:ext cx="449604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1-08T21:3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