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C6309-B6DD-40F4-9EAB-4EF3B809B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AB183-2AD6-4DBC-ABFE-73BC1B08B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708E5-D242-4336-A474-5F5887EBC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67C1C-7DDB-4024-9A76-327FC6FF0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84461-D091-42AC-94A7-A97B7DA82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EFCDA-F30B-4555-BBD7-53BB39829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38EBA-929A-4751-96E5-D5683F2E8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62D0F-2063-4FC7-819E-9BFFA5747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13E14-3C0A-4844-A4CD-0ACC36FDB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5C483-C77B-444A-A656-30E6282E8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A5F4C-C378-4A8E-9CC2-44E4EB583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702A2-F541-4F38-8700-3D8062600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02116-F424-4E33-B9C7-11DE06951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EFED2-2334-4B65-B989-FA4B8912C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3B4FD-62B3-4619-B0D3-4C43A80AE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B9863-952C-4AB8-92D9-B1647FFB4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B25F4-BE3B-4633-948A-06423F64F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E4BBB-71A2-4FB0-BC56-0A9685E80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ED0A5-D6FB-422D-9A1B-65DA08647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1541C-3971-4E62-84CF-61038370E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8B602-23D2-4CE8-A97A-3643BBB08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83A54-D5D6-4290-8AE1-856A9329C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97178-0311-49C8-A45D-23BE2F47A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626AA-FF00-4701-85A5-1F7F851E3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A22BD-1D53-49E8-B3E6-E4292E7259D6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DCA58-9301-4EF4-AE46-EFBC06918542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10920" y="1125000"/>
            <a:ext cx="7846920" cy="24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6633"/>
                </a:solidFill>
                <a:latin typeface="Garamond"/>
              </a:rPr>
              <a:t>Иконы </a:t>
            </a:r>
            <a:br>
              <a:rPr sz="4600"/>
            </a:br>
            <a:r>
              <a:rPr b="0" lang="en-US" sz="4600" spc="-1" strike="noStrike">
                <a:solidFill>
                  <a:srgbClr val="006633"/>
                </a:solidFill>
                <a:latin typeface="Garamond"/>
              </a:rPr>
              <a:t>«Воскресение Христово», «Вознесение Господне»,  «Сошествие Святого  Духа».</a:t>
            </a:r>
            <a:endParaRPr b="0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842920" y="3933360"/>
            <a:ext cx="3382920" cy="241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Христос Воскрес! В любви луча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Исчезнет скорби мрачный холод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Пусть радость царствует в сердца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И тех, кто стар, и тех, кто молод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Заветом благостных Небе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Звучит нам песня Воскресенья, 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Христос Воскрес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(Владимир Ладыженский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Сошествие Святого Духа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В основе этого изображения лежит сказание книги 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Деяний святых апостолов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(Деян. 2, 1–13), из которого нам известно, что в 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День Пятидесятницы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апостолы были собраны вкупе в сионской горнице, и в 3-й час дня (по нашему времени в девятом часу утра) произошел шум с неба как бы от несущегося сильного ветра. Он наполнил весь дом, где были апостолы. Явились также огненные языки и почили по одному на каждом из апостолов. И исполнились все 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Святого Духа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, и начали говорить на иных языках. Это привлекло внимание жителей Иерусалима, собрался народ и дивился страшному явлению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Пятидесятница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– пятидесятый день после Воскресения Христова; 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День Святой Троицы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547640" y="260280"/>
            <a:ext cx="495324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468360" y="333360"/>
            <a:ext cx="4402080" cy="582624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4859280" y="260280"/>
            <a:ext cx="4284720" cy="63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о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шествие во ад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Возн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е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сение Господн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я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тидесятниц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День 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С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я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той Тро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и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ц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о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шествие Св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я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того 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Д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ух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Д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ух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о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Д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ен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3300"/>
                </a:solidFill>
                <a:latin typeface="Garamond"/>
              </a:rPr>
              <a:t>СВЕТЛОЕ ХРИСТОВО ВОСКРЕСЕНИЕ (ПАСХА</a:t>
            </a:r>
            <a:r>
              <a:rPr b="1" lang="en-US" sz="3800" spc="-1" strike="noStrike">
                <a:solidFill>
                  <a:srgbClr val="ff3300"/>
                </a:solidFill>
                <a:latin typeface="Garamond"/>
              </a:rPr>
              <a:t>)</a:t>
            </a:r>
            <a:br>
              <a:rPr sz="38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еред самой полуночью торжественный благовест возвещает о наступлении великой минуты светоносного </a:t>
            </a: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Праздника Праздников-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Воскресения Христова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. Пасхальная заутреня начинается с крестного хода вокруг храма с иконами, хоругвями и пением </a:t>
            </a:r>
            <a:r>
              <a:rPr b="1" i="1" lang="ru-RU" sz="1600" spc="-1" strike="noStrike">
                <a:solidFill>
                  <a:srgbClr val="ff3300"/>
                </a:solidFill>
                <a:latin typeface="Arial"/>
              </a:rPr>
              <a:t>"Воскресение Твое Христе Спасе!"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Верующие идут за священнослужителями с зажженными свечами. Центральным песнопением утрени является </a:t>
            </a:r>
            <a:r>
              <a:rPr b="1" i="1" lang="ru-RU" sz="1600" spc="-1" strike="noStrike">
                <a:solidFill>
                  <a:srgbClr val="ff3300"/>
                </a:solidFill>
                <a:latin typeface="Arial"/>
              </a:rPr>
              <a:t>Пасхальный канон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. Священники радостно приветствуют народ : </a:t>
            </a:r>
            <a:r>
              <a:rPr b="1" i="1" lang="ru-RU" sz="1600" spc="-1" strike="noStrike">
                <a:solidFill>
                  <a:srgbClr val="ff3300"/>
                </a:solidFill>
                <a:latin typeface="Arial"/>
              </a:rPr>
              <a:t>"Христос Воскресе!",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и в ответ раздается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i="1" lang="ru-RU" sz="1600" spc="-1" strike="noStrike">
                <a:solidFill>
                  <a:srgbClr val="ff3300"/>
                </a:solidFill>
                <a:latin typeface="Arial"/>
              </a:rPr>
              <a:t>"Воистину Воскресе!"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Перед концом Литургии освящается пасхальный хлеб - </a:t>
            </a:r>
            <a:r>
              <a:rPr b="1" i="1" lang="ru-RU" sz="1600" spc="-1" strike="noStrike">
                <a:solidFill>
                  <a:srgbClr val="ff3300"/>
                </a:solidFill>
                <a:latin typeface="Arial"/>
              </a:rPr>
              <a:t>Артос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, который потом раздается верующим как пасхальное благословение. Коленопреклонения и земные поклоны отменяются до самой </a:t>
            </a:r>
            <a:r>
              <a:rPr b="1" i="1" lang="ru-RU" sz="1600" spc="-1" strike="noStrike">
                <a:solidFill>
                  <a:srgbClr val="ff3300"/>
                </a:solidFill>
                <a:latin typeface="Arial"/>
              </a:rPr>
              <a:t>Троицы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. Всю Светлую седмицу непрерывно звонят колокола: "Ангелы ныне, - говорит святитель Иоанн Златоуст, - ликуют с нами, Архангелы радуются, Херувимы и Серафимы празднуют с нами настоящий праздник". Величественное и многознаменательное пасхальное богослужение являет верующему все, что в христианстве есть таинственного, высокого и спасительного для души, светлого, отрадного и утешительного для сердца. Сила благодати Божией за пасхальным богослужением наполняет душу христианина неизьяснимым умилением, счастьем, пламенной любовью к Богу и братьям о Христе. Христиане "христосуются"- радостно целуют друг друга с возгласами : "Христос воскресе!" - "Воистину воскресе!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547640" y="333360"/>
            <a:ext cx="6169320" cy="65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457200" y="549360"/>
            <a:ext cx="4043520" cy="46432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4716360" y="765000"/>
            <a:ext cx="386568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3827520" cy="45259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4356000" y="404640"/>
            <a:ext cx="4019760" cy="554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ВОЗНЕСЕНИЕ ГОСПОДНЕ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С 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Вознесения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Спасителя на небеса, когда Он воссел 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одесную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(справа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Бога Отца, доселе Господь, воцарившийся над всеми языки, служит спасению рода человеческого, особенно-рода христианского, как Он Сам сказал – 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«и се, Я с вами во все дни до скончания века. Аминь».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Сын Человеческий не для того пришел, чтобы Ему служили, но чтобы послужить и отдать душу Свою для искупления многих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Он доселе очищает, возрождает и обновляет нас в святом 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Крещении,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освящает и утверждает благодатью 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Святого Духа в Миропомазании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, священнодействует в 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Литургии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, как вечный Первосвященник по чину Мелхиседекову, и преподает Пречистое Тело и Кровь Свою под образом хлеба и вина. В покаянии - Он Сам внимает нашему покаянию и разрешает грехи искренне кающимся. В Священестве, иерархии или пастырстве - Он Сам просвещает, пасет, руководствует, судит и наказует духовно словесных овец Своих. В Браке - благословляет супружеский союз мужа и жены к благословенному рождению и воспитанию детей. В Елеосвящении, как Врач душ и телес, врачует немощи духовные и телесные. Каждую службу Он присутствует с нами невидимо, по собственому Его обетованию, "Где двое или трое собраны во имя Мое, там Я посреди них", и принимает наше служение, и Сам чудно, действенно, ощутительно служит нашему спасению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Вознесение Господне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720720" y="1655640"/>
            <a:ext cx="2448000" cy="44704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4356000" y="1773360"/>
            <a:ext cx="361656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4056120" cy="60483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4645080" y="189000"/>
            <a:ext cx="407664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57200" y="476280"/>
            <a:ext cx="4259160" cy="61214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859280" y="549360"/>
            <a:ext cx="3965760" cy="48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4T10:08:16Z</dcterms:created>
  <dc:creator>user11</dc:creator>
  <dc:description/>
  <dc:language>en-US</dc:language>
  <cp:lastModifiedBy>пользователь</cp:lastModifiedBy>
  <dcterms:modified xsi:type="dcterms:W3CDTF">2012-02-19T13:25:14Z</dcterms:modified>
  <cp:revision>5</cp:revision>
  <dc:subject/>
  <dc:title>Иконы  «Воскресение Христово», «Вознесение Господне»,  «Сошествие Святого  Духа».</dc:title>
</cp:coreProperties>
</file>