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58C-78AB-46A3-8CB2-0F32F623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CAB-F241-4E68-8863-55B7A33C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3F0-6308-45B1-9E53-5FB5D805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AC4-50DA-4D42-AA94-956DA276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A645-562E-4A4D-A362-069E066B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C5F4-387A-439F-AA26-FDEE87AA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3931-3E0B-4EF8-B93C-5A761707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D9A2-3487-45BF-8B96-AA5CA750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B3C2-4279-47C8-AC7D-A0BB5B55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EF81-1E04-4056-A11C-9501AFE8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E8A3-EE98-4AE9-BB39-79D85065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04BF-D394-4E12-AC4C-7C8F1165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7F73-7DA8-4D22-8A92-27CA6AA0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10CD-C956-42C0-9B0F-271DD04F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2E10-101F-4B9A-A2FB-F3AA1F0E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BDC2-E978-4A61-AA2A-D1BF70A7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334E-7FDA-4FC5-AA32-2559434D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800-08E2-4B64-A40F-8D2D5E06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2C8-78D4-4352-89F1-AC4FE7D8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868B-D7EA-421E-80E4-2018BD84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1402-F4FE-431D-B5D4-2389A3FE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996-44B6-4E0A-98E8-4E2C82E5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5B89-97C6-4955-8D59-724A9FBB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156-04B1-49A2-A1B9-274ECCFB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82C3-6B4A-4D34-BCBF-C286AB83D7F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B2F4-6131-4AFA-9A5D-E30EC5FC0B4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78469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Иконы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«Воскресение Христово», «Вознесение Господне»,  «Сошествие Святого  Духа»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842920" y="3933360"/>
            <a:ext cx="3382920" cy="24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Христос Воскрес! В любви луч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Исчезнет скорби мрачный холод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Пусть радость царствует в сердц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И тех, кто стар, и тех, кто моло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Заветом благостных Неб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Звучит нам песня Воскресенья,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Христос Воскрес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(Владимир Ладыженск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ошествие Святого Дух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основе этого изображения лежит сказание книги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яний святых апостоло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Деян. 2, 1–13), из которого нам известно, что в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нь Пятидесятниц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апостолы были собраны вкупе в сионской горнице, и в 3-й час дня (по нашему времени в девятом часу утра) произошел шум с неба как бы от несущегося сильного ветра. Он наполнил весь дом, где были апостолы. Явились также огненные языки и почили по одному на каждом из апостолов. И исполнились все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вятого Дух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и начали говорить на иных языках. Это привлекло внимание жителей Иерусалима, собрался народ и дивился страшному явлени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ятидесятница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– пятидесятый день после Воскресения Христова;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нь Святой Троиц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49532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402080" cy="5826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4284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шествие во а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озн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ние Господн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идесятн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нь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ой Тро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шествие Св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ого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х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х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Garamond"/>
              </a:rPr>
              <a:t>СВЕТЛОЕ ХРИСТОВО ВОСКРЕСЕНИЕ (ПАСХА</a:t>
            </a:r>
            <a:r>
              <a:rPr b="1" lang="en-US" sz="3800" spc="-1" strike="noStrike">
                <a:solidFill>
                  <a:srgbClr val="ff3300"/>
                </a:solidFill>
                <a:latin typeface="Garamond"/>
              </a:rPr>
              <a:t>)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 самой полуночью торжественный благовест возвещает о наступлении великой минуты светоносного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раздника Праздников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оскресения Христо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Пасхальная заутреня начинается с крестного хода вокруг храма с иконами, хоругвями и пением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"Воскресение Твое Христе Спасе!"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ерующие идут за священнослужителями с зажженными свечами. Центральным песнопением утрени является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Пасхальный кано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Священники радостно приветствуют народ :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"Христос Воскресе!"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в ответ раздаетс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"Воистину Воскресе!"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еред концом Литургии освящается пасхальный хлеб -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Арто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который потом раздается верующим как пасхальное благословение. Коленопреклонения и земные поклоны отменяются до самой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Троиц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Всю Светлую седмицу непрерывно звонят колокола: "Ангелы ныне, - говорит святитель Иоанн Златоуст, - ликуют с нами, Архангелы радуются, Херувимы и Серафимы празднуют с нами настоящий праздник". Величественное и многознаменательное пасхальное богослужение являет верующему все, что в христианстве есть таинственного, высокого и спасительного для души, светлого, отрадного и утешительного для сердца. Сила благодати Божией за пасхальным богослужением наполняет душу христианина неизьяснимым умилением, счастьем, пламенной любовью к Богу и братьям о Христе. Христиане "христосуются"- радостно целуют друг друга с возгласами : "Христос воскресе!" - "Воистину воскресе!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1693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549360"/>
            <a:ext cx="4043520" cy="4643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16360" y="765000"/>
            <a:ext cx="3865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82752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356000" y="404640"/>
            <a:ext cx="401976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ОЗНЕСЕНИЕ ГОСПОДН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ознесения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пасителя на небеса, когда Он воссе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десную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справ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ога Отца, доселе Господь, воцарившийся над всеми языки, служит спасению рода человеческого, особенно-рода христианского, как Он Сам сказал –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«и се, Я с вами во все дни до скончания века. Аминь»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ын Человеческий не для того пришел, чтобы Ему служили, но чтобы послужить и отдать душу Свою для искупления мног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н доселе очищает, возрождает и обновляет нас в святом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рещении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свящает и утверждает благодатью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вятого Духа в Миропомазани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священнодействует в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итурги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как вечный Первосвященник по чину Мелхиседекову, и преподает Пречистое Тело и Кровь Свою под образом хлеба и вина. В покаянии - Он Сам внимает нашему покаянию и разрешает грехи искренне кающимся. В Священестве, иерархии или пастырстве - Он Сам просвещает, пасет, руководствует, судит и наказует духовно словесных овец Своих. В Браке - благословляет супружеский союз мужа и жены к благословенному рождению и воспитанию детей. В Елеосвящении, как Врач душ и телес, врачует немощи духовные и телесные. Каждую службу Он присутствует с нами невидимо, по собственому Его обетованию, "Где двое или трое собраны во имя Мое, там Я посреди них", и принимает наше служение, и Сам чудно, действенно, ощутительно служит нашему спасению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ознесение Господн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0720" y="1655640"/>
            <a:ext cx="2448000" cy="4470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356000" y="1773360"/>
            <a:ext cx="3616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056120" cy="6048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5080" y="189000"/>
            <a:ext cx="4076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4259160" cy="6121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3965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0:08:16Z</dcterms:created>
  <dc:creator>user11</dc:creator>
  <dc:description/>
  <dc:language>en-US</dc:language>
  <cp:lastModifiedBy>пользователь</cp:lastModifiedBy>
  <dcterms:modified xsi:type="dcterms:W3CDTF">2012-02-19T13:25:14Z</dcterms:modified>
  <cp:revision>5</cp:revision>
  <dc:subject/>
  <dc:title>Иконы  «Воскресение Христово», «Вознесение Господне»,  «Сошествие Святого  Духа».</dc:title>
</cp:coreProperties>
</file>