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D56-D518-4200-8D69-3EABF3F3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04F-4C33-435B-9627-24A2588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EC7-830D-4ABD-BF7F-84F5D674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C30-7FBC-46C7-A15D-1A85AFAF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7310-BC4C-49CA-AA78-7D0C5CB1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446-9353-4539-B534-57C85379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6500-3D0E-4C72-B7A0-5427E36F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6C6E-6C0F-48E6-AB4E-281FC85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12CB-6F38-4E0D-964C-88DFD32B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961E-09D4-4F35-B9EF-5BAEED7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9EC6-F4B2-4ED3-B549-092F5AC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BE1-DF5F-4E8D-9619-688B1C7F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6D78-A6BF-420E-A8EE-3FF7652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FACC-4FF1-4BC1-A917-185DEDB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7417-3C95-47A5-97DE-63962B17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2C37-75D0-4DDF-9A1F-0F3C9DC3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8459-18B4-42BA-81B9-2FE76BB0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F58-1557-4A01-B6C5-9513467F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DD9-9385-4F76-8944-01F7BE7C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B5A-4AF9-41D7-BD11-46A76B89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870-5838-4833-A813-73ED9823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1ED-F707-4770-AA55-68284922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A3D-1413-4CFD-8381-6BB538A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092-8F75-49AC-BBC4-CDBAB91D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CE69-E1D7-48D2-ABE3-2D5B58B580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D30-7769-48E2-BFF4-936A06434BB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Иконы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«Воскресение Христово», «Вознесение Господне»,  «Сошествие Святого  Духа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42920" y="3933360"/>
            <a:ext cx="3382920" cy="24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Христос Воскрес! В любви луч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Исчезнет скорби мрачный холо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Пусть радость царствует в сердц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И тех, кто стар, и тех, кто мол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аветом благостных Неб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Звучит нам песня Воскресенья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Христос Воскре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(Владимир Ладыже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ошествие Святого Дух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основе этого изображения лежит сказание книг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яний святых апостол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Деян. 2, 1–13), из которого нам известно, что в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нь Пятидесятниц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апостолы были собраны вкупе в сионской горнице, и в 3-й час дня (по нашему времени в девятом часу утра) произошел шум с неба как бы от несущегося сильного ветра. Он наполнил весь дом, где были апостолы. Явились также огненные языки и почили по одному на каждом из апостолов. И исполнились вс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вятого Дух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 начали говорить на иных языках. Это привлекло внимание жителей Иерусалима, собрался народ и дивился страшному явлен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ятидесятница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– пятидесятый день после Воскресения Христова;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нь Святой Троиц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49532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402080" cy="582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28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ествие во 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зн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ние Господн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десят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нь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й Тро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ц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шествие Св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ого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х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х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Garamond"/>
              </a:rPr>
              <a:t>СВЕТЛОЕ ХРИСТОВО ВОСКРЕСЕНИЕ (ПАСХА</a:t>
            </a:r>
            <a:r>
              <a:rPr b="1" lang="en-US" sz="3800" spc="-1" strike="noStrike">
                <a:solidFill>
                  <a:srgbClr val="ff3300"/>
                </a:solidFill>
                <a:latin typeface="Garamond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 самой полуночью торжественный благовест возвещает о наступлении великой минуты светоносного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раздника Праздников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оскресения Христо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асхальная заутреня начинается с крестного хода вокруг храма с иконами, хоругвями и пением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Воскресение Твое Христе Спасе!"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ерующие идут за священнослужителями с зажженными свечами. Центральным песнопением утрени является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Пасхальный кано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Священники радостно приветствуют народ :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Христос Воскресе!"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в ответ раздаетс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"Воистину Воскресе!"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концом Литургии освящается пасхальный хлеб -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рто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ый потом раздается верующим как пасхальное благословение. Коленопреклонения и земные поклоны отменяются до самой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Троиц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сю Светлую седмицу непрерывно звонят колокола: "Ангелы ныне, - говорит святитель Иоанн Златоуст, - ликуют с нами, Архангелы радуются, Херувимы и Серафимы празднуют с нами настоящий праздник". Величественное и многознаменательное пасхальное богослужение являет верующему все, что в христианстве есть таинственного, высокого и спасительного для души, светлого, отрадного и утешительного для сердца. Сила благодати Божией за пасхальным богослужением наполняет душу христианина неизьяснимым умилением, счастьем, пламенной любовью к Богу и братьям о Христе. Христиане "христосуются"- радостно целуют друг друга с возгласами : "Христос воскресе!" - "Воистину воскресе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169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4043520" cy="464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3865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82752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0197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ЕСЕНИЕ ГОСПОДН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ознесен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пасителя на небеса, когда Он воссел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десную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справ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ога Отца, доселе Господь, воцарившийся над всеми языки, служит спасению рода человеческого, особенно-рода христианского, как Он Сам сказал –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и се, Я с вами во все дни до скончания века. Аминь»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ын Человеческий не для того пришел, чтобы Ему служили, но чтобы послужить и отдать душу Свою для искупления мног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 доселе очищает, возрождает и обновляет нас в святом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ещении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свящает и утверждает благодать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вятого Духа в Миропомазан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священнодействует в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итурги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как вечный Первосвященник по чину Мелхиседекову, и преподает Пречистое Тело и Кровь Свою под образом хлеба и вина. В покаянии - Он Сам внимает нашему покаянию и разрешает грехи искренне кающимся. В Священестве, иерархии или пастырстве - Он Сам просвещает, пасет, руководствует, судит и наказует духовно словесных овец Своих. В Браке - благословляет супружеский союз мужа и жены к благословенному рождению и воспитанию детей. В Елеосвящении, как Врач душ и телес, врачует немощи духовные и телесные. Каждую службу Он присутствует с нами невидимо, по собственому Его обетованию, "Где двое или трое собраны во имя Мое, там Я посреди них", и принимает наше служение, и Сам чудно, действенно, ощутительно служит нашему спасению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есение Господн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0720" y="1655640"/>
            <a:ext cx="2448000" cy="4470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56000" y="1773360"/>
            <a:ext cx="3616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056120" cy="604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5080" y="189000"/>
            <a:ext cx="4076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4259160" cy="6121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9657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0:08:16Z</dcterms:created>
  <dc:creator>user11</dc:creator>
  <dc:description/>
  <dc:language>en-US</dc:language>
  <cp:lastModifiedBy>пользователь</cp:lastModifiedBy>
  <dcterms:modified xsi:type="dcterms:W3CDTF">2012-02-19T13:25:14Z</dcterms:modified>
  <cp:revision>5</cp:revision>
  <dc:subject/>
  <dc:title>Иконы  «Воскресение Христово», «Вознесение Господне»,  «Сошествие Святого  Духа».</dc:title>
</cp:coreProperties>
</file>