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A31-E814-4BA7-AE8E-9127CA4E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611-C393-4B0A-A704-DA79C2F3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A34-67D9-4C0A-918B-3C838AD5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74D-E0FF-4389-AD44-9C775A8D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B1D-1F87-45E3-8B04-661A10F7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345-D911-49CF-9C56-4B29DC4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C4C-4D95-427C-B43F-98D4FBF2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170-33EC-455E-970A-A1FEFEA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679-3878-4545-BE63-B5080A2B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E70-BA6A-4A65-92DF-5A47FC99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775-9A26-4BA7-A658-7DB3195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E46-60C0-4E4C-85B9-1ABFF194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808F-2DD0-4B63-BC08-CB3ED0E0E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юк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ученица 1 класса МОУ «Суйгинской СОШ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Литвинова Елизавета Юрь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уководитель Кирсанова Татьяна Ивано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D:\Новая папка\Конкурсы\Портфолио\Наше портфолио\О клюкве\275px-Cranberrys_beim_Ernten.jpeg"/>
          <p:cNvPicPr/>
          <p:nvPr/>
        </p:nvPicPr>
        <p:blipFill>
          <a:blip r:embed="rId1"/>
          <a:stretch/>
        </p:blipFill>
        <p:spPr>
          <a:xfrm>
            <a:off x="571680" y="642960"/>
            <a:ext cx="8070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ещё найдём клюкв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428840"/>
            <a:ext cx="4209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964 году в СССР была выпущена почтовая марка с изображением клюкв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ущая клюква и берёза изображены на гербе швейцарской коммуны Безенбюре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D:\Новая папка\Конкурсы\Портфолио\Наше портфолио\О клюкве\100px-Soviet_Union_stamp_1964_CPA_3132.jpg"/>
          <p:cNvPicPr/>
          <p:nvPr/>
        </p:nvPicPr>
        <p:blipFill>
          <a:blip r:embed="rId1"/>
          <a:stretch/>
        </p:blipFill>
        <p:spPr>
          <a:xfrm>
            <a:off x="1143000" y="3143160"/>
            <a:ext cx="2232000" cy="317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Новая папка\Конкурсы\Портфолио\Наше портфолио\О клюкве\110px-Besenbueren-blason.jpg"/>
          <p:cNvPicPr/>
          <p:nvPr/>
        </p:nvPicPr>
        <p:blipFill>
          <a:blip r:embed="rId2"/>
          <a:stretch/>
        </p:blipFill>
        <p:spPr>
          <a:xfrm>
            <a:off x="5429160" y="3143160"/>
            <a:ext cx="26622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а литера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«Травник» Г.В.Крылов, Н.Ф.Коза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Статья Свободной энциклопедии Википедии «Брусни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Иллюстративный материал из Интерн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ольшая энциклопедия Кирилла и Мефодия. Статья «Брусник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"Дикорастущие плоды и ягоды" Шапиро Д.К., Манциводо Н.И., Михайловская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юк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еводе значит «кислая ягод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ква растёт на болотах в Северном полушарии. Это вечнозелёный стелющийся кустарничек. Листья на стебле очерёдные, мелкие , кожистые, с очень короткими черешками. Края их слегка загнуты вни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Новая папка\Конкурсы\Портфолио\Наше портфолио\О клюкве\275px-VacciniumOxycoccos.jpg"/>
          <p:cNvPicPr/>
          <p:nvPr/>
        </p:nvPicPr>
        <p:blipFill>
          <a:blip r:embed="rId1"/>
          <a:stretch/>
        </p:blipFill>
        <p:spPr>
          <a:xfrm>
            <a:off x="785880" y="3929040"/>
            <a:ext cx="3306600" cy="220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D:\Новая папка\Конкурсы\Портфолио\Наше портфолио\О клюкве\Копия 233px-Tranebær_02.jpg"/>
          <p:cNvPicPr/>
          <p:nvPr/>
        </p:nvPicPr>
        <p:blipFill>
          <a:blip r:embed="rId2"/>
          <a:stretch/>
        </p:blipFill>
        <p:spPr>
          <a:xfrm>
            <a:off x="5000760" y="4000680"/>
            <a:ext cx="29588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-июне раскрываются розовые цветки на тонких, как  ниточки, цветоно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Новая папка\Конкурсы\Портфолио\Наше портфолио\О клюкве\275px-Vaccinum_oxycoccos_120604.jpg"/>
          <p:cNvPicPr/>
          <p:nvPr/>
        </p:nvPicPr>
        <p:blipFill>
          <a:blip r:embed="rId1"/>
          <a:stretch/>
        </p:blipFill>
        <p:spPr>
          <a:xfrm>
            <a:off x="1714680" y="1785960"/>
            <a:ext cx="5721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7168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ды – тёмно-красные  ягоды – созревают поздней осенью и сохраняются до весны под слоем снега. Известно много сортов клюквы. Около тридц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Новая папка\Конкурсы\Портфолио\Наше портфолио\О клюкве\217px-Cranberries.jpg"/>
          <p:cNvPicPr/>
          <p:nvPr/>
        </p:nvPicPr>
        <p:blipFill>
          <a:blip r:embed="rId1"/>
          <a:stretch/>
        </p:blipFill>
        <p:spPr>
          <a:xfrm>
            <a:off x="714240" y="3000240"/>
            <a:ext cx="3611520" cy="291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Новая папка\Конкурсы\Портфолио\Наше портфолио\О клюкве\193px-Cranberries_on_palms_.jpg"/>
          <p:cNvPicPr/>
          <p:nvPr/>
        </p:nvPicPr>
        <p:blipFill>
          <a:blip r:embed="rId2"/>
          <a:stretch/>
        </p:blipFill>
        <p:spPr>
          <a:xfrm>
            <a:off x="4929120" y="3000240"/>
            <a:ext cx="3143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орнях клюквы живёт гриб, нити которого плотно соединяются с клетками корня. Нити гриба принимают из почвы питательные растворы и передают их корн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928960" y="2643120"/>
            <a:ext cx="3470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2854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люкве много  витаминов.  Её плоды содержат содержат витамины С, B1, B2, B5, B6, PP. Клюква является ценным источником витамина K1 не уступая капусте и землян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с"/>
          <p:cNvPicPr/>
          <p:nvPr/>
        </p:nvPicPr>
        <p:blipFill>
          <a:blip r:embed="rId1"/>
          <a:stretch/>
        </p:blipFill>
        <p:spPr>
          <a:xfrm>
            <a:off x="1000080" y="2357280"/>
            <a:ext cx="128592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в"/>
          <p:cNvPicPr/>
          <p:nvPr/>
        </p:nvPicPr>
        <p:blipFill>
          <a:blip r:embed="rId2"/>
          <a:stretch/>
        </p:blipFill>
        <p:spPr>
          <a:xfrm>
            <a:off x="7572240" y="2928960"/>
            <a:ext cx="108612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arg-b-25-trans-y[1]"/>
          <p:cNvPicPr/>
          <p:nvPr/>
        </p:nvPicPr>
        <p:blipFill>
          <a:blip r:embed="rId3"/>
          <a:stretch/>
        </p:blipFill>
        <p:spPr>
          <a:xfrm>
            <a:off x="1000080" y="4572000"/>
            <a:ext cx="160200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rg-c-25-trans-y[1]"/>
          <p:cNvPicPr/>
          <p:nvPr/>
        </p:nvPicPr>
        <p:blipFill>
          <a:blip r:embed="rId4"/>
          <a:stretch/>
        </p:blipFill>
        <p:spPr>
          <a:xfrm>
            <a:off x="6286680" y="4857840"/>
            <a:ext cx="1776240" cy="166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3857760" y="4714920"/>
            <a:ext cx="1093680" cy="140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6429240" y="2500200"/>
            <a:ext cx="968400" cy="149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7"/>
          <a:stretch/>
        </p:blipFill>
        <p:spPr>
          <a:xfrm>
            <a:off x="2643120" y="2428920"/>
            <a:ext cx="33051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клюквы готовят морсы, соки, варят кисель, варенье. Делают начинку для пирогов.  А ещё есть конфеты «Клюква в сахар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D:\Новая папка\Конкурсы\Портфолио\Наше портфолио\О клюкве\3333.jpeg"/>
          <p:cNvPicPr/>
          <p:nvPr/>
        </p:nvPicPr>
        <p:blipFill>
          <a:blip r:embed="rId1"/>
          <a:stretch/>
        </p:blipFill>
        <p:spPr>
          <a:xfrm>
            <a:off x="214200" y="2286000"/>
            <a:ext cx="30304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Новая папка\Конкурсы\Портфолио\Наше портфолио\О клюкве\ктсель.jpeg"/>
          <p:cNvPicPr/>
          <p:nvPr/>
        </p:nvPicPr>
        <p:blipFill>
          <a:blip r:embed="rId2"/>
          <a:stretch/>
        </p:blipFill>
        <p:spPr>
          <a:xfrm>
            <a:off x="3214800" y="3643200"/>
            <a:ext cx="2214360" cy="277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D:\Новая папка\Конкурсы\Портфолио\Наше портфолио\О клюкве\default.jpeg"/>
          <p:cNvPicPr/>
          <p:nvPr/>
        </p:nvPicPr>
        <p:blipFill>
          <a:blip r:embed="rId3"/>
          <a:stretch/>
        </p:blipFill>
        <p:spPr>
          <a:xfrm>
            <a:off x="5429160" y="2286000"/>
            <a:ext cx="3502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71388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х странах научились выращивать клюкву на специальных болотных «огорода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1" descr="D:\Новая папка\Конкурсы\Портфолио\Наше портфолио\О клюкве\275px-Cranberrys_beim_Ernten.jpeg"/>
          <p:cNvPicPr/>
          <p:nvPr/>
        </p:nvPicPr>
        <p:blipFill>
          <a:blip r:embed="rId1"/>
          <a:stretch/>
        </p:blipFill>
        <p:spPr>
          <a:xfrm>
            <a:off x="1714680" y="2357280"/>
            <a:ext cx="5206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6429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обенность клюквы крупноплодной, выращиваемой в огромных количествах в США и Канаде, состоит в том, что в её плодах имеются воздушные камеры, поэтому это одна из немногих ягод, плавающих на поверхности воды. Это делает сбор ягоды существенно менее трудоёмким по сравнению с обычным ручным сбором: в конце сезона чеки с созревшей ягодой заполняют водой и пускают специальные комбайны, которые взбивают эту воду, при этом зрелые ягоды отрываются. После этого сгоняют все ягоды к одному краю чека, где её — чистую и промытую — вычёрпывают для дальнейшей переработ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1-28T15:19:32Z</dcterms:modified>
  <cp:revision>35</cp:revision>
  <dc:subject/>
  <dc:title>Слайд 1</dc:title>
</cp:coreProperties>
</file>