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gif" ContentType="image/gif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9BB-95A9-4B99-A6A2-97EDC39B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CBF-40EE-4935-9D45-600A64B4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9CE-11CE-41BA-AFD4-84BAC778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933-9A22-4697-8138-F8AAB61C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A6E-E4D5-4E9B-A7FB-75F129A2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837-CBE2-472F-9B3B-8D9053B8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19B-BA09-4424-90B9-FB9F877B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5E0-C948-4943-8443-1478735B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AE2-C9EF-4814-B0A3-CA798506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E02-9AF9-48D8-9DAB-0D28BE0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8A7-D4A0-4CB4-BE79-7C2A73C5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DBC-8CCF-4CDB-B33D-0A713153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66F7-F43F-4469-BF45-9CF4FE1B7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юк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аботу выполнил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ученица 1 класса МОУ «Суйгинской СОШ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Литвинова Елизавета Юрь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898989"/>
                </a:solidFill>
                <a:latin typeface="Calibri"/>
              </a:rPr>
              <a:t>руководитель Кирсанова Татьяна Ивано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1" descr="D:\Новая папка\Конкурсы\Портфолио\Наше портфолио\О клюкве\275px-Cranberrys_beim_Ernten.jpeg"/>
          <p:cNvPicPr/>
          <p:nvPr/>
        </p:nvPicPr>
        <p:blipFill>
          <a:blip r:embed="rId1"/>
          <a:stretch/>
        </p:blipFill>
        <p:spPr>
          <a:xfrm>
            <a:off x="571680" y="642960"/>
            <a:ext cx="8070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ещё найдём клюкв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1428840"/>
            <a:ext cx="4209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964 году в СССР была выпущена почтовая марка с изображением клюкв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ветущая клюква и берёза изображены на гербе швейцарской коммуны Безенбюре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D:\Новая папка\Конкурсы\Портфолио\Наше портфолио\О клюкве\100px-Soviet_Union_stamp_1964_CPA_3132.jpg"/>
          <p:cNvPicPr/>
          <p:nvPr/>
        </p:nvPicPr>
        <p:blipFill>
          <a:blip r:embed="rId1"/>
          <a:stretch/>
        </p:blipFill>
        <p:spPr>
          <a:xfrm>
            <a:off x="1143000" y="3143160"/>
            <a:ext cx="2232000" cy="317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:\Новая папка\Конкурсы\Портфолио\Наше портфолио\О клюкве\110px-Besenbueren-blason.jpg"/>
          <p:cNvPicPr/>
          <p:nvPr/>
        </p:nvPicPr>
        <p:blipFill>
          <a:blip r:embed="rId2"/>
          <a:stretch/>
        </p:blipFill>
        <p:spPr>
          <a:xfrm>
            <a:off x="5429160" y="3143160"/>
            <a:ext cx="26622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а литера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«Травник» Г.В.Крылов, Н.Ф.Коза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Статья Свободной энциклопедии Википедии «Брусни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Иллюстративный материал из Интерн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Большая энциклопедия Кирилла и Мефодия. Статья «Брусник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"Дикорастущие плоды и ягоды" Шапиро Д.К., Манциводо Н.И., Михайловская В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юк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еводе значит «кислая ягод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ква растёт на болотах в Северном полушарии. Это вечнозелёный стелющийся кустарничек. Листья на стебле очерёдные, мелкие , кожистые, с очень короткими черешками. Края их слегка загнуты вни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D:\Новая папка\Конкурсы\Портфолио\Наше портфолио\О клюкве\275px-VacciniumOxycoccos.jpg"/>
          <p:cNvPicPr/>
          <p:nvPr/>
        </p:nvPicPr>
        <p:blipFill>
          <a:blip r:embed="rId1"/>
          <a:stretch/>
        </p:blipFill>
        <p:spPr>
          <a:xfrm>
            <a:off x="785880" y="3929040"/>
            <a:ext cx="3306600" cy="2200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D:\Новая папка\Конкурсы\Портфолио\Наше портфолио\О клюкве\Копия 233px-Tranebær_02.jpg"/>
          <p:cNvPicPr/>
          <p:nvPr/>
        </p:nvPicPr>
        <p:blipFill>
          <a:blip r:embed="rId2"/>
          <a:stretch/>
        </p:blipFill>
        <p:spPr>
          <a:xfrm>
            <a:off x="5000760" y="4000680"/>
            <a:ext cx="29588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-июне раскрываются розовые цветки на тонких, как  ниточки, цветонос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Новая папка\Конкурсы\Портфолио\Наше портфолио\О клюкве\275px-Vaccinum_oxycoccos_120604.jpg"/>
          <p:cNvPicPr/>
          <p:nvPr/>
        </p:nvPicPr>
        <p:blipFill>
          <a:blip r:embed="rId1"/>
          <a:stretch/>
        </p:blipFill>
        <p:spPr>
          <a:xfrm>
            <a:off x="1714680" y="1785960"/>
            <a:ext cx="5721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71680" y="21420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ды – тёмно-красные  ягоды – созревают поздней осенью и сохраняются до весны под слоем снега. Известно много сортов клюквы. Около тридца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Новая папка\Конкурсы\Портфолио\Наше портфолио\О клюкве\217px-Cranberries.jpg"/>
          <p:cNvPicPr/>
          <p:nvPr/>
        </p:nvPicPr>
        <p:blipFill>
          <a:blip r:embed="rId1"/>
          <a:stretch/>
        </p:blipFill>
        <p:spPr>
          <a:xfrm>
            <a:off x="714240" y="3000240"/>
            <a:ext cx="3611520" cy="291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Новая папка\Конкурсы\Портфолио\Наше портфолио\О клюкве\193px-Cranberries_on_palms_.jpg"/>
          <p:cNvPicPr/>
          <p:nvPr/>
        </p:nvPicPr>
        <p:blipFill>
          <a:blip r:embed="rId2"/>
          <a:stretch/>
        </p:blipFill>
        <p:spPr>
          <a:xfrm>
            <a:off x="4929120" y="3000240"/>
            <a:ext cx="3143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корнях клюквы живёт гриб, нити которого плотно соединяются с клетками корня. Нити гриба принимают из почвы питательные растворы и передают их корн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928960" y="2643120"/>
            <a:ext cx="34704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8760" y="2854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люкве много  витаминов.  Её плоды содержат содержат витамины С, B1, B2, B5, B6, PP. Клюква является ценным источником витамина K1 не уступая капусте и землян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с"/>
          <p:cNvPicPr/>
          <p:nvPr/>
        </p:nvPicPr>
        <p:blipFill>
          <a:blip r:embed="rId1"/>
          <a:stretch/>
        </p:blipFill>
        <p:spPr>
          <a:xfrm>
            <a:off x="1000080" y="2357280"/>
            <a:ext cx="128592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в"/>
          <p:cNvPicPr/>
          <p:nvPr/>
        </p:nvPicPr>
        <p:blipFill>
          <a:blip r:embed="rId2"/>
          <a:stretch/>
        </p:blipFill>
        <p:spPr>
          <a:xfrm>
            <a:off x="7572240" y="2928960"/>
            <a:ext cx="1086120" cy="172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arg-b-25-trans-y[1]"/>
          <p:cNvPicPr/>
          <p:nvPr/>
        </p:nvPicPr>
        <p:blipFill>
          <a:blip r:embed="rId3"/>
          <a:stretch/>
        </p:blipFill>
        <p:spPr>
          <a:xfrm>
            <a:off x="1000080" y="4572000"/>
            <a:ext cx="1602000" cy="17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arg-c-25-trans-y[1]"/>
          <p:cNvPicPr/>
          <p:nvPr/>
        </p:nvPicPr>
        <p:blipFill>
          <a:blip r:embed="rId4"/>
          <a:stretch/>
        </p:blipFill>
        <p:spPr>
          <a:xfrm>
            <a:off x="6286680" y="4857840"/>
            <a:ext cx="1776240" cy="166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3857760" y="4714920"/>
            <a:ext cx="1093680" cy="1409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6"/>
          <a:stretch/>
        </p:blipFill>
        <p:spPr>
          <a:xfrm>
            <a:off x="6429240" y="2500200"/>
            <a:ext cx="968400" cy="149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7"/>
          <a:stretch/>
        </p:blipFill>
        <p:spPr>
          <a:xfrm>
            <a:off x="2643120" y="2428920"/>
            <a:ext cx="33051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клюквы готовят морсы, соки, варят кисель, варенье. Делают начинку для пирогов.  А ещё есть конфеты «Клюква в сахар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D:\Новая папка\Конкурсы\Портфолио\Наше портфолио\О клюкве\3333.jpeg"/>
          <p:cNvPicPr/>
          <p:nvPr/>
        </p:nvPicPr>
        <p:blipFill>
          <a:blip r:embed="rId1"/>
          <a:stretch/>
        </p:blipFill>
        <p:spPr>
          <a:xfrm>
            <a:off x="214200" y="2286000"/>
            <a:ext cx="303048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D:\Новая папка\Конкурсы\Портфолио\Наше портфолио\О клюкве\ктсель.jpeg"/>
          <p:cNvPicPr/>
          <p:nvPr/>
        </p:nvPicPr>
        <p:blipFill>
          <a:blip r:embed="rId2"/>
          <a:stretch/>
        </p:blipFill>
        <p:spPr>
          <a:xfrm>
            <a:off x="3214800" y="3643200"/>
            <a:ext cx="2214360" cy="2775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D:\Новая папка\Конкурсы\Портфолио\Наше портфолио\О клюкве\default.jpeg"/>
          <p:cNvPicPr/>
          <p:nvPr/>
        </p:nvPicPr>
        <p:blipFill>
          <a:blip r:embed="rId3"/>
          <a:stretch/>
        </p:blipFill>
        <p:spPr>
          <a:xfrm>
            <a:off x="5429160" y="2286000"/>
            <a:ext cx="3502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4200" y="713880"/>
            <a:ext cx="82296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которых странах научились выращивать клюкву на специальных болотных «огорода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1" descr="D:\Новая папка\Конкурсы\Портфолио\Наше портфолио\О клюкве\275px-Cranberrys_beim_Ernten.jpeg"/>
          <p:cNvPicPr/>
          <p:nvPr/>
        </p:nvPicPr>
        <p:blipFill>
          <a:blip r:embed="rId1"/>
          <a:stretch/>
        </p:blipFill>
        <p:spPr>
          <a:xfrm>
            <a:off x="1714680" y="2357280"/>
            <a:ext cx="5206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8760" y="6429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обенность клюквы крупноплодной, выращиваемой в огромных количествах в США и Канаде, состоит в том, что в её плодах имеются воздушные камеры, поэтому это одна из немногих ягод, плавающих на поверхности воды. Это делает сбор ягоды существенно менее трудоёмким по сравнению с обычным ручным сбором: в конце сезона чеки с созревшей ягодой заполняют водой и пускают специальные комбайны, которые взбивают эту воду, при этом зрелые ягоды отрываются. После этого сгоняют все ягоды к одному краю чека, где её — чистую и промытую — вычёрпывают для дальнейшей переработ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1-28T15:19:32Z</dcterms:modified>
  <cp:revision>35</cp:revision>
  <dc:subject/>
  <dc:title>Слайд 1</dc:title>
</cp:coreProperties>
</file>