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408A-5F7A-4BF2-A24F-41B3FDD9BC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AA9D-05CF-484E-8FFB-DEC741D99C7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FCB-E9BF-4172-8B3D-8BF77E08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8DF-D270-4C08-8277-6EC95C1B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A021A-3284-4B5D-8772-AE26843C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C0CDA-A84F-413B-8EC3-84E9200B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8E0CA-B78E-45C7-9830-81657985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6CC34-C120-4F08-A571-328FB06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DEE6E-AF47-49C8-9BCA-3A46E7C1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88830-838E-4BF7-A5D2-7121768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E78C2-58D2-42B2-857C-95A2343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3738A-91FC-464C-AFBF-9C7F5716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4C45B-E010-4CB2-826F-6D19C392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8E451-BE2D-4000-868B-8684FBA7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FE5-B027-4815-9735-DFB66705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C6BEF-EFC8-4340-804B-EE13E7F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856DA-EA87-4133-BA1F-514ACCC3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E6E5B-2901-4A8F-B94F-607D6F9D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94D7B-F89A-48F9-8DC4-EEF3232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B5B59-CADE-427E-8448-05032591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263A5-2460-457E-A575-F8C607C3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FA09A-86BE-4E03-AC9B-ADC072F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3FDB0-C705-4BFA-B262-9F3BF75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44DF1-F20F-4298-8453-045A32A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0F5A8-110E-4D44-B2DE-8204F8CE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E02-48CF-4A71-AB46-E5600056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BFA60-9BCA-4EAC-904F-0D973F00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A0C59-6160-442E-99FF-6B32C4B8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7EB26-E2A1-4F91-96A7-56F81762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5ADB6-22ED-407F-8758-B062D173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46B45-00F1-4761-82EB-B40B3F25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70077-CFCE-427F-9C6C-F7654A6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DDA8-E8AA-4B8A-8AA8-5E33EA63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74959-D42E-4B1D-9B19-9FFDD36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5A1DD-DB67-43F0-895A-5CF8B49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9377F-64CF-4A99-B870-80F0224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CB23-6D58-4892-A75D-21F02DBA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98CA2-C432-41BB-B1E7-E6C68831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2D02F-EEF9-4A8F-B692-F8E113FE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C9FB5-031B-4421-8CD1-C7CB980B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AC3F7-ABA8-4DA4-8CC5-37C7883E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B9522-F744-467D-B004-7A1E9DD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8F4DB-8CF8-411A-B679-244CFEAA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0FB4E-E772-433A-861D-7D3E0B1D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25996-8E52-4D4D-B3C8-D20C52E3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158DA-CB62-4AA4-A78F-E533982D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B0105-B4BE-412F-8044-A8729B61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50A-0683-4780-A954-926B1B9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2D075-C7F9-4906-BA17-917EFE92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2E98F-3B21-4051-B442-5498F48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BEA4A-BC92-41D7-8F3A-74178765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C626F-15AC-47F4-8576-5060C243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0A0DE-91B3-4320-B3E3-8EB50B27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0ACF0-1BCC-435D-8B57-57321BB3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5CF9C-C9A3-496F-9BA4-28E168E8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845C9-628A-433A-8E02-AF764A97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C1FEA-D4B2-4F79-B7C4-3C153B20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47125-CE17-4A2B-98A4-6E4DB0B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7BE6-48F1-4394-B978-1692D7D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C6A19-22B1-4331-B9F7-B5151C83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BC623-F32F-4D59-8218-72B422C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8D40C-27F4-4DD9-B4E3-6BE8DF1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E6BA6-48EB-4175-93A0-5B5113F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49876-24F6-47B8-B46A-A6EFC5E9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669EA-D926-4265-8890-19DA2FC1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C53B1-E70B-44A3-9837-47D8C323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AEE9F-CF73-4F85-9770-46E9DB1F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8350A-49E5-4EA1-AA50-7A49F2AC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2E445-1A93-4E50-82F4-D9169833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D047-C0AD-4298-8EB0-D9EF735F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52D4E-1EAF-41D2-AA21-C59DAD9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44057-2DC4-4439-BE09-233F2157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7FF8F-AA24-40BD-8CCB-7AB431C4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400A4-23F8-4FB1-96CE-3D44117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BCC25-4B2F-4749-A603-FB3460B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6C91E-69BE-47FE-8339-093486F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9D185-3A80-4F09-85CF-20BA2F76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63CF0-566D-49E4-A570-4533285A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DAD9B-95E8-4E95-AFD3-7327971B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D4DDD-1338-4A64-A3ED-533F25F3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55C0-EF87-4CE5-9D5E-CF04F6B7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8F8AB-B66B-448A-9EDE-DE1B5DD7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A2858-0F40-48EB-B48E-51D349F0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3E8E2-5609-4642-AC10-6FA63382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D71BB-7993-4B0F-BAA9-82129708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D2A03-97B4-4D21-86C0-1132BABD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E223A-8C1F-4D36-B373-F9D0ADA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5EE54-3C2D-4F92-B305-5C1EAA0E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26A5A-0BDD-487D-9872-F74A75A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FA5AC-C4A8-4801-972D-71F7F43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FB801-C44D-4F76-B09B-BEB85519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D5BF-5D81-43D9-96AC-E6CAED52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E1956-D5DA-4706-86A8-50C3EC67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301CC-66CF-4B1D-A561-E4745A74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1BE51-31CA-4863-936E-C950F2D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07A7F-C165-49E2-9BCA-A8DE95CC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2F479-86BA-4506-B868-83B56AD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623F7-FAFC-467A-B863-DA7025FF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826A9-3D8B-4014-9627-E301AD68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68B68-1D14-47E7-A4ED-8D17563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C7484-42D7-43BA-A180-CA2683B2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D2488-35C6-4899-B548-B43BB26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01C-09BA-496E-8B26-10007C17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CED5F-49AA-43CC-9418-489C87E4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29F0D-26F4-4744-8621-7B0E3D6E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BAE41-4D49-405A-8223-ED85ECDF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62ABB-73B1-45D6-80AD-F657200D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C3559-4AE7-48E3-B701-BC943375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453D1-70C6-424B-83E9-86329620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24984-2290-4984-88B2-C59AFE76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31C52-661A-42DC-ADA3-DB0533E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5F4B4-FE7A-4DE2-A90C-A7BD3532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41703-F521-4702-AD87-7A0707C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7DB-C80F-479A-BCD8-E048B3C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8875-3240-4861-A4BD-130DD740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A5879-0770-4307-A107-726EEE7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DDCB6-B482-497F-972B-4080F6B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ACA9A-47AE-49B9-B3DB-DF7C3A90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4E20C-7F42-433B-B349-85CC1C9C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AB9F99-6B9E-4527-8399-8AC379C4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C58D5-CEC2-48DB-A631-53CF826B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CC390-BEC8-4F51-AA01-70F93820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A0F4D-66F3-436D-B843-2F9D72A2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829A2-3A95-4A01-8521-256C7E14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5982D-B7C3-4589-B3A4-10A41D7E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A744-F1E4-4C2B-9D7B-32D93FF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D7F81-3E6E-4656-B9B0-62C278BA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5C685-9582-47DE-BB33-396D5EB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E1BF1-3A53-4969-B38F-2F539E8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F5CFF-6D88-4900-9CC9-15D9DF5A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D4387-0551-4B9D-8BB5-A4F05C28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E9CD6-6CCC-44F4-9EAD-F4990789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B8F9C-B852-449E-82E0-15AE6AD0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31830-9E98-434F-8E35-F4747389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70319-38A6-4E21-A299-9227B546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A4293-89A6-4D92-AE61-3E905B6F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404-BCD0-4900-9416-F5C0EF4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2B395-5E0A-4B69-9FA0-EB1CC9A1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5091B-49D4-4D5E-9A5E-0D1172B6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4870C-15FB-464D-B3D5-95130E8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CC6CF-62E6-4502-84E3-EBB4F72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A80BA-14BB-4CC3-B415-A68EF560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A5CED-8E32-4A19-994D-524AA58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29C4D-695F-481B-A050-4DB2F180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6E834-5B41-4E5E-B069-BAE2424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95FCE-83A9-40CB-99CA-15565082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115F90-DA7A-4A51-BB15-A29483A9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D445-3B20-40EF-AE2A-F065BBB0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49E5988-19F5-4B29-8171-70E230B6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40F34E-8150-43C8-9A7F-9579587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6F587B-B0F8-414F-94E9-1DF8591E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4FBB71-2F25-4A00-B36E-B0DB46F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F895DB0-1D30-496B-8413-DF8177BD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AFFFF9-65F8-40F9-AF7F-CB2D6FD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942D0D-DAF6-446B-B27F-08F9897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B20B2B-E45F-4F99-AEB9-805C5206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A7CA0A-FEFD-4600-991C-A7B4577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D0880B-699F-4F2B-AD6A-E38AE380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368E-7DAD-48EB-8E26-82A49097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D696F8-B97C-4423-88D0-80474138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50CF0-F293-4D59-8F06-E1E8EEE6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E21CD-5634-4B03-B9D8-74D1D87E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934219-EBEC-4614-8630-71A3D09A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A53B2-0F2E-47EA-9007-46F84D85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D4393-8B02-4BB4-9C65-34EA0ED4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5E6A8-32DA-4D5D-B3C4-8DF4FB68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6383E-6B67-41DD-91A1-CB1150A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DF821-67D7-46D6-808F-B6FBAA0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4B00D-D16F-4F09-A764-FEE1A18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425A-E423-43EA-BA45-0E64898D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03155-CB73-48BE-826D-B6298CC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777E8E-CE99-4F5F-ACC3-48C5A544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C6F1E-93FE-42C1-BD12-2CE83540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743CC1-23FE-4A5F-B462-A3F997F2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A4F728-B62C-430A-8364-A5C97198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A546E-DDF5-4E2B-8002-89870156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2649E1-7340-4CC2-B2FF-E3553283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86B070-E258-4C85-978E-76292A74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CA58E-D5A6-4246-8024-44F76046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08B9D9-F6B8-4A63-B283-A6FFC097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00C4-E698-4715-843C-458F98D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770291-29AC-48B2-97F9-00E2EDA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635F72-7A92-4E31-979B-EA1FE07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9D3AB-A15F-4F1B-9B4F-84D01B3E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BA0645-A6A1-429B-9695-D2E69595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A8E5D9-1002-4B47-B42F-CCD069FB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4453F0-9EFB-4A28-9832-5AA7E266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0D8F8-C9B9-4D75-AE3E-EC62041D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ED524A-2530-4DD1-984F-B2EBEED3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0DB69E-0C14-4CD6-84A6-D6566AEB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025317-B2F5-42BB-B652-B2B5657A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717F-C33B-4E25-94C6-4AA8DDF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B84E26-F3A5-4B57-B032-3468533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7B6B2-5534-4049-BF03-3B94FAD5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A1A74D-4CAA-45B1-8404-8EE6A94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0362A2-21DD-456C-8D4B-2D846E77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C3A2B-51D3-429A-A4D5-C298AB7C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0ECE92-D5FD-4C33-93FA-B49F9A01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8E868C-332C-48FD-9AE2-E5B5856D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03FD2B-8787-4840-9E0D-EA86EAD2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29D8B-4E59-42D6-88F4-9BD39781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552AAD-EB2A-4515-9B69-C2F7F9E9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D444-8025-440B-A9CB-36C57D1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31C496-B1C0-4371-BD1C-F618069E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FD927A-2E48-4F8C-86FA-BAE032F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2792A-1D89-40B7-A982-FEA68CA9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AE649A-2403-4B5C-9511-75EEF4D7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7E60E0-0245-4C73-8092-12D4651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ADC7E5-D8EC-4F95-B432-1DDAE02E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06B8C4-9A5E-4896-9497-FC6AE8B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6771F2-5AE6-4F2A-AFCB-305A12BE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5A7AF8-1556-43AF-AEA7-FEC74D51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8361F5-CA39-437D-ACAE-E3074AFD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42A2-237D-4ED7-B5D6-8D9D6540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1AC1A0-90D0-4A1E-B1FA-30EF4600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8B5E71-5313-4E1E-B3B5-93B6528E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30F8CD-2995-4C78-84D9-B5CACDB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BB69CC-4713-4AC8-9200-E1F9F1C6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1E4E2F-0B02-4690-BD4E-357BFF42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E0625A-193C-4F39-9525-B98F50D8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563038-5D5B-41C9-B906-B48989E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CB74C8-C929-4B51-8539-3A8E987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3A0C10-37ED-4117-9F96-13FCB7AC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DF2EA1-0673-462A-A730-0EC7188B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D69-29B9-4D62-AA8B-61397BA9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14BD-732A-4245-85EB-6B4104DA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77D3F6-5BA4-4EFC-B2B5-688864DA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4DF0CC-C649-4538-9FA7-10E2D89C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C45E01-63B2-4ED9-8A25-5FFA39AB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8D7E16-6917-4E2A-A3AB-B86500B2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DA3FA5-2427-487D-9AA0-EDB1BC4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D6B89A-108C-4517-92FC-8E18B103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2C9FDD-6B03-4BE1-8997-023B374D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632678-0C16-4DF8-9C02-37697859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6D425F-CD9D-47A1-B9D9-C183752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61862E-CDF4-40AA-8898-660B7261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5A67-9BCC-4E8C-B0A3-6B49DAD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D90F9D-E731-4DC1-A44F-B3B2DA21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90C06A-37E5-4E8C-A308-73E4532C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6AEED7-2115-402C-9D3B-2FD87F41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80A9CF-3770-40FD-A779-A79F7CD3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AB45CE-D933-4FCC-AF61-7985F876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4DB1C0-965E-4F8E-B1AE-7DD0C671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CBA0CD-F1D7-49FF-BFE3-834013F8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A7471F-91DC-4F98-AD98-7D103E0A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13EB0A-67A7-4131-BC01-0C5D846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C99DC8-6591-4B8E-8B6D-BE9BC7F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4BD4-3509-4BD7-A9BF-8E343F0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8262B1-23E4-40F0-B4E8-AB504E5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215052-A4D9-4787-A44C-E619A9E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12607-C519-4AD8-B065-A057413B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96F4FC-B965-453A-B610-EE29458B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72153B-D6CB-4AF2-A61A-5D3F5369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2F485-BC5E-4BE2-BEA1-56B23D5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7CDD-DE8F-4462-9AD7-B4CA9A18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8AC0-A496-450B-89F3-4B50471D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B8B3-2C94-47AA-AE9B-9998D0FC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5514-6302-4C6A-963D-68F994FA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7580-148B-49B3-8EA0-43AD8945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32B87-286C-40B1-921E-329D0AD9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430-B3BD-426F-BC40-231DC3F1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3F03-1015-4A39-99AB-3C54CB66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A31C-79CE-4AF2-B3B6-AE7EA47C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F0F28-7975-4F10-B2F0-73C234C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CE0F-F4B0-4F6C-AB6E-E947413B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0A77-0530-489A-A352-2179D46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4CE5-C8DD-44A0-96A0-DB38ECEF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8EF48-EB42-49A8-AE59-D14D78F8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3612-A0FE-46D4-A664-18D0A2C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3B78-4594-4C30-BD94-01190E39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F71B-4612-4952-9D88-D5B10E41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779-DD67-404C-89D2-4F9288C5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47C7-62BF-424B-A6C3-756A2865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3931-3F05-412B-9FC9-E83349F3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6080A-0AD9-4AEF-B9A2-769A34FF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6A54-7C6A-4E7B-9EBF-1B8DBF0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D093F-BAAB-4D0D-A5CD-A95F1FA6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11327-DB54-4F91-A221-1DBE97D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3440-9372-4621-BE0C-1FA03F4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DBADC-CF56-42D8-A722-12488D5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45706-5439-417F-A0FC-0A8C9D93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AB61-04B5-4FAF-A9C6-E6FE916F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2D3-B5EC-4129-8909-47986BD4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A4DA-4E41-4592-A5F2-E5C54521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996E6-F0E0-47D5-BE55-2D3714F9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E32E-BEF5-4E43-9F83-86D2F071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E2787-E26A-4EF3-A64A-A6ED1E2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6B55E-3A54-45A8-A694-05E32AE1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8FF2F-4E1B-4A9C-B44F-E6FF17B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50E8A-E149-420E-906F-57C677A2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D956-B35C-47C6-9704-CA581E3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B026-9ED9-47BF-B924-90EDFCC9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1BD3-8185-4F60-8787-BA90DA9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580-B374-4FA9-890D-BB1793AA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1D19-7C3B-416E-AA44-9979AEB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F84A-741B-43D2-BEAA-267603A3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87B35-353E-414C-B104-27FD0400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D5A6B-3E30-49B8-B0BE-83679B66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18E39-4C97-4FB2-B17E-6B5ACFAB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CBF81-144C-46DF-855A-153588D1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EDBC9-3727-4EFD-A67F-C880A59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6621E-7EF3-4B33-9A9F-B5CC1466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D7D9E-4665-4381-BF6B-66BD071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C2448-3469-4A2B-8582-D208587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4DD-A01F-45AE-8455-7959DD1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5FCB4-BED0-4866-8C13-74ADE45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662EC-7AFC-4451-9B84-1327B525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5263F-15D4-43C5-976D-3BA1FB49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DD408-BF15-4ACE-8AF9-637E5792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F1EB6-75A6-4D95-A10D-F32D1620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F3F2C-F79D-4CCD-A3DB-68053E38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27790-928B-4C1E-B706-3E130951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0329-BACD-496C-A03A-508C952A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446F-9EB6-4C71-9D17-947F2E06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11720-963B-43E1-8FC5-9016584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AF4-C7D4-438E-BAFA-47C5871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D92C9-930B-466B-ACE9-AF63DE75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7C263-5171-479D-9CED-5BE4E00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11469-7A73-4B2A-B39D-2C45664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97CF5-A27F-49AE-99A9-66E2E5CF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A11A5-D01D-4614-A87E-D4D12A5D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D170E-8A38-4012-AB52-B227D97F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3A122-914D-4B7A-81F6-E3CAF24B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81FF5-A538-4AC6-8A02-B56F0B05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6CBA6-7420-49D3-B1DD-F26D147C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8FA31-8F17-4C92-AEC2-06BDF77F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AD2B-CEA2-4C19-A610-46947468B0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2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11B-B3B1-4FE0-BE13-57810DA1C0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1E6C-228A-4AC4-8463-1E98124CF9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10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1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5D19-850F-4DEE-A778-D4BC4987F8E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6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8BA-18AB-499C-87D1-61B647B248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7890-F7EA-440B-AF7F-D475E35F50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18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9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E998-6DF1-4908-AB75-B63D6C1F52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1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1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1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2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6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87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7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B015-8494-4788-ACB6-C4A45319E2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6B28-EA09-4A5A-9564-CEA632B794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7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BF8B-71B1-46BF-B038-812B0089A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70F3-4FC0-44EA-B597-E0E106D21B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B75-75B3-4C1D-8F0B-3BFE45C63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7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7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7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7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7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08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08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8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92A-C5EE-4FD3-82D9-064D4BFFB6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3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3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3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6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FD1F-CECF-42CA-85C2-7D8F1F2DE7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18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6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B28-2505-4684-BBA0-6D3BAED0AE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2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3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3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6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6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6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6FC2-BC09-442B-96D3-60DB15A87D4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7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7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7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8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8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7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7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0BE9-1D98-4898-A4F4-54333F3BE4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2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2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32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33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33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F4B2-4BE5-4A88-AFEF-D0B2A2AE6D2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8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D9E-2231-4BA0-8202-54E625311C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7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8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8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C021-0717-421A-89B5-DE69DC549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621E-48C4-49E7-95E6-E11F56CA2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C13-DA99-4DDC-A134-65B95F405D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4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1189-C5A7-4CCC-A496-B0FB5189E8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8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0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22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2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29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6F18-ABD8-4DA1-996F-7FC1E96B2C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7206-2737-4EFB-8CC7-F1E1FAB13E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8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1A92-7E33-42BE-8990-B8E56240D4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7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7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3B6-654F-4F35-995A-0670CC00327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barynya.com/stopsmoking/lung4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barynya.com/stopsmoking/bad_lung.gif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ФОРМУЛА ЗДОРОВЬЯ</a:t>
            </a:r>
            <a:br>
              <a:rPr sz="4100"/>
            </a:b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610920" y="191592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лассный час для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класс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важнейшими жизненными ценностями; убедить в необходимости здорового образа жизни; развивать умение выступать перед аудиторией своих сверстников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еликий врач Древнего Востока Авиценн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3520800"/>
            <a:ext cx="792504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гимнастикой дружи, всегда веселым буд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оживешь 100 лет, а может быть,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стуры, порошки - к здоровью лож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ю лечись - в саду и чистом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Picture 4" descr="avicena1"/>
          <p:cNvPicPr/>
          <p:nvPr/>
        </p:nvPicPr>
        <p:blipFill>
          <a:blip r:embed="rId1"/>
          <a:stretch/>
        </p:blipFill>
        <p:spPr>
          <a:xfrm>
            <a:off x="3780000" y="1484280"/>
            <a:ext cx="1512720" cy="208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асилий Александрович Сухомлинский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/>
          </p:nvPr>
        </p:nvSpPr>
        <p:spPr>
          <a:xfrm>
            <a:off x="2262240" y="2381400"/>
            <a:ext cx="62690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Вы живёте среди людей. Каждый ваш поступок, каждое ваше желание отражается на людях. Знайте, что существует граница между тем, что вам хочется, и тем, что можно. Ваши желания - это радости или горести ваших близких. Проверяйте свои поступки сознанием: не причиняете ли вы зла, неприятностей людям. Делайте так, чтобы людям, которые вас окружают, было хорошо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1" name="Picture 4" descr="CAEHK7C3"/>
          <p:cNvPicPr/>
          <p:nvPr/>
        </p:nvPicPr>
        <p:blipFill>
          <a:blip r:embed="rId1"/>
          <a:stretch/>
        </p:blipFill>
        <p:spPr>
          <a:xfrm>
            <a:off x="404640" y="1916280"/>
            <a:ext cx="1387800" cy="21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Всесильная сигарета?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3" name="Picture 7" descr="Курильщикам нельзя пить кофе"/>
          <p:cNvPicPr/>
          <p:nvPr/>
        </p:nvPicPr>
        <p:blipFill>
          <a:blip r:embed="rId1"/>
          <a:stretch/>
        </p:blipFill>
        <p:spPr>
          <a:xfrm>
            <a:off x="2824200" y="1917720"/>
            <a:ext cx="4019400" cy="40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14400" y="-1976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5" name="Picture 4" descr="Состав табачного ды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5 лет курения                  После 25 лет ку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8" name="Picture 4" descr="nonsmokerslung_sm"/>
          <p:cNvPicPr/>
          <p:nvPr/>
        </p:nvPicPr>
        <p:blipFill>
          <a:blip r:embed="rId1"/>
          <a:stretch/>
        </p:blipFill>
        <p:spPr>
          <a:xfrm>
            <a:off x="755640" y="907920"/>
            <a:ext cx="2736720" cy="201312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5" descr="smokerslung_sm"/>
          <p:cNvPicPr/>
          <p:nvPr/>
        </p:nvPicPr>
        <p:blipFill>
          <a:blip r:embed="rId2"/>
          <a:stretch/>
        </p:blipFill>
        <p:spPr>
          <a:xfrm>
            <a:off x="5364000" y="907920"/>
            <a:ext cx="2519640" cy="194472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6"/>
          <p:cNvSpPr/>
          <p:nvPr/>
        </p:nvSpPr>
        <p:spPr>
          <a:xfrm>
            <a:off x="2535480" y="20808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авни и сделай вывод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1" name="Picture 7" descr="Пейте спиртное, пока не осознаете, что в течение дня ни разу не подумали о сигарет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789360"/>
            <a:ext cx="2016360" cy="208764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8" descr="Перед сном можно почитать интересную книжк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80000" y="3716280"/>
            <a:ext cx="1973160" cy="2160720"/>
          </a:xfrm>
          <a:prstGeom prst="rect">
            <a:avLst/>
          </a:prstGeom>
          <a:ln w="0">
            <a:noFill/>
          </a:ln>
        </p:spPr>
      </p:pic>
      <p:sp>
        <p:nvSpPr>
          <p:cNvPr id="1533" name="Text Box 9"/>
          <p:cNvSpPr/>
          <p:nvPr/>
        </p:nvSpPr>
        <p:spPr>
          <a:xfrm>
            <a:off x="733680" y="306396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некуря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4" name="Text Box 10"/>
          <p:cNvSpPr/>
          <p:nvPr/>
        </p:nvSpPr>
        <p:spPr>
          <a:xfrm>
            <a:off x="5292720" y="29973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куря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1998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98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Picture 2" descr="fatal_mouth_cancer_28years_old"/>
          <p:cNvPicPr/>
          <p:nvPr/>
        </p:nvPicPr>
        <p:blipFill>
          <a:blip r:embed="rId1"/>
          <a:stretch/>
        </p:blipFill>
        <p:spPr>
          <a:xfrm>
            <a:off x="1187280" y="393840"/>
            <a:ext cx="6624720" cy="4979880"/>
          </a:xfrm>
          <a:prstGeom prst="rect">
            <a:avLst/>
          </a:prstGeom>
          <a:ln w="0">
            <a:noFill/>
          </a:ln>
        </p:spPr>
      </p:pic>
      <p:sp>
        <p:nvSpPr>
          <p:cNvPr id="1536" name="Text Box 3"/>
          <p:cNvSpPr/>
          <p:nvPr/>
        </p:nvSpPr>
        <p:spPr>
          <a:xfrm>
            <a:off x="395280" y="57992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к ротовой полости у 28-летнего курильщика с 10-летним стаже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Во Франции подростки однажды устроили состязание: кто выкурит больше сигарет? Победителя ждал приз. Выигравших было двое, но награду они не получили, потому что умерли от острого отравл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АЧЕМ ВАМ УМИР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9" name="Picture 4" descr="CADRJVAJ"/>
          <p:cNvPicPr/>
          <p:nvPr/>
        </p:nvPicPr>
        <p:blipFill>
          <a:blip r:embed="rId1"/>
          <a:stretch/>
        </p:blipFill>
        <p:spPr>
          <a:xfrm>
            <a:off x="3348000" y="223920"/>
            <a:ext cx="2592360" cy="248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942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Так что же  такое  - курение ?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Это дым из носа и рта…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А в легких сажа, грязнота.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Зачем вы себя засоряете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И жизнь свою сокращаете?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Кто курит табак – тот сам себе враг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1" name="Picture 4" descr="054"/>
          <p:cNvPicPr/>
          <p:nvPr/>
        </p:nvPicPr>
        <p:blipFill>
          <a:blip r:embed="rId1"/>
          <a:stretch/>
        </p:blipFill>
        <p:spPr>
          <a:xfrm>
            <a:off x="3564000" y="407664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df711"/>
                </a:solidFill>
                <a:uFillTx/>
                <a:latin typeface="Arial Black"/>
              </a:rPr>
              <a:t>Алкоголизм. Ч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26560" y="407664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Алкоголизм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- хроническое (неизлечимое)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рессирующее, смертельное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болевание, затрагивающее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 разрушающее все сферы человеческ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жизни - тело, психику, душу и социальную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жизнь челове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4" name="Picture 4" descr="i32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1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ьяному море по колено, а лужа по уши.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137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то у трезвого на уме – то у пьяного на язы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7" name="Rectangle 4"/>
          <p:cNvSpPr/>
          <p:nvPr/>
        </p:nvSpPr>
        <p:spPr>
          <a:xfrm>
            <a:off x="395280" y="206028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 хмелем познаться – с честью расстаться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8" name="Rectangle 5"/>
          <p:cNvSpPr/>
          <p:nvPr/>
        </p:nvSpPr>
        <p:spPr>
          <a:xfrm>
            <a:off x="468360" y="515736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ить до дна – не видать добра.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5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98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доровье – правильная, нормальная деятельность организма, его полное физическое и психическое  благополучие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3" name="Picture 4" descr="CAXG1Z6J"/>
          <p:cNvPicPr/>
          <p:nvPr/>
        </p:nvPicPr>
        <p:blipFill>
          <a:blip r:embed="rId1"/>
          <a:stretch/>
        </p:blipFill>
        <p:spPr>
          <a:xfrm>
            <a:off x="468360" y="407664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5" descr="J0149018"/>
          <p:cNvPicPr/>
          <p:nvPr/>
        </p:nvPicPr>
        <p:blipFill>
          <a:blip r:embed="rId2"/>
          <a:stretch/>
        </p:blipFill>
        <p:spPr>
          <a:xfrm>
            <a:off x="5867280" y="414972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чему мой папа такой? Вечно пьяный и вечно злой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икогда за собой не следит, и на всех почему-то серди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крывает пинком он дверь и врывается в дом, как звер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 обзывает плохими словами, все в доме пинает ног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ама шепчет мне тихо: «Беги!», а мне слышится крик: «Помоги!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Я  - мужчина. Но я еще мал, а то папе я твердо б сказал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Мне стыдно, что ты папа мой. Уходи, нам не нужен такой!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1" name="Picture 4" descr="CAGQWGZ6"/>
          <p:cNvPicPr/>
          <p:nvPr/>
        </p:nvPicPr>
        <p:blipFill>
          <a:blip r:embed="rId1"/>
          <a:stretch/>
        </p:blipFill>
        <p:spPr>
          <a:xfrm>
            <a:off x="2987640" y="54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9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4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15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9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75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73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ДОРОВЬЕ =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е питание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е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спортом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ее настро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кажи, что ты ешь, и я скажу кто ты есть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86" name="Picture 5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84072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пределение суточного рациона в течение дн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9" name="Picture 13" descr="питание"/>
          <p:cNvPicPr/>
          <p:nvPr/>
        </p:nvPicPr>
        <p:blipFill>
          <a:blip r:embed="rId1"/>
          <a:stretch/>
        </p:blipFill>
        <p:spPr>
          <a:xfrm>
            <a:off x="324000" y="1628640"/>
            <a:ext cx="309384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0" name="Object 14"/>
          <p:cNvGraphicFramePr/>
          <p:nvPr/>
        </p:nvGraphicFramePr>
        <p:xfrm>
          <a:off x="3419640" y="2643120"/>
          <a:ext cx="5573520" cy="37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1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2643120"/>
                    <a:ext cx="557352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2" name="Rectangle 15"/>
          <p:cNvSpPr/>
          <p:nvPr/>
        </p:nvSpPr>
        <p:spPr>
          <a:xfrm>
            <a:off x="4500720" y="1628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 завтрак – 25%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 завтрак – 15%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ед – 45%,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ужин – 15%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837720" y="3670200"/>
            <a:ext cx="8007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быть полезн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овощей бальзам и фруктов с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целебны ото всех болезн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жизни нашей удлиняют с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4" descr="овощи"/>
          <p:cNvPicPr/>
          <p:nvPr/>
        </p:nvPicPr>
        <p:blipFill>
          <a:blip r:embed="rId1"/>
          <a:stretch/>
        </p:blipFill>
        <p:spPr>
          <a:xfrm>
            <a:off x="2484360" y="333360"/>
            <a:ext cx="4319640" cy="2941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ВИЖЕНИЕ - ЖИЗ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8" name="Picture 4" descr="спорт и дети"/>
          <p:cNvPicPr/>
          <p:nvPr/>
        </p:nvPicPr>
        <p:blipFill>
          <a:blip r:embed="rId1"/>
          <a:stretch/>
        </p:blipFill>
        <p:spPr>
          <a:xfrm>
            <a:off x="468360" y="1628640"/>
            <a:ext cx="2735280" cy="23036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5" descr="CA6HWROZ"/>
          <p:cNvPicPr/>
          <p:nvPr/>
        </p:nvPicPr>
        <p:blipFill>
          <a:blip r:embed="rId2"/>
          <a:stretch/>
        </p:blipFill>
        <p:spPr>
          <a:xfrm>
            <a:off x="3203640" y="285264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6" descr="лыжи"/>
          <p:cNvPicPr/>
          <p:nvPr/>
        </p:nvPicPr>
        <p:blipFill>
          <a:blip r:embed="rId3"/>
          <a:stretch/>
        </p:blipFill>
        <p:spPr>
          <a:xfrm>
            <a:off x="5940360" y="4005360"/>
            <a:ext cx="2735280" cy="212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имнастика, физические упражнения, ходьба должны прочно войти в повседневный быт каждого, кто хочет сохранить работоспособность, здоровье, полноценную и радостную жизнь»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4" name="Picture 5" descr="CACTE7C5"/>
          <p:cNvPicPr/>
          <p:nvPr/>
        </p:nvPicPr>
        <p:blipFill>
          <a:blip r:embed="rId1"/>
          <a:stretch/>
        </p:blipFill>
        <p:spPr>
          <a:xfrm>
            <a:off x="6227640" y="404640"/>
            <a:ext cx="2519640" cy="237492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6" descr="images"/>
          <p:cNvPicPr/>
          <p:nvPr/>
        </p:nvPicPr>
        <p:blipFill>
          <a:blip r:embed="rId2"/>
          <a:stretch/>
        </p:blipFill>
        <p:spPr>
          <a:xfrm>
            <a:off x="468360" y="404640"/>
            <a:ext cx="2630520" cy="216072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2"/>
          <p:cNvSpPr/>
          <p:nvPr/>
        </p:nvSpPr>
        <p:spPr>
          <a:xfrm>
            <a:off x="468360" y="2602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07" name="Object 18"/>
          <p:cNvGraphicFramePr/>
          <p:nvPr/>
        </p:nvGraphicFramePr>
        <p:xfrm>
          <a:off x="3203640" y="382680"/>
          <a:ext cx="2881080" cy="23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82680"/>
                    <a:ext cx="2881080" cy="23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1" name="Picture 4" descr="плакат закал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Главный закон закаливания - постепенность и систематичность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Основных средств закаливания четыре: вода, воздух, солнечные лучи и физические упражнения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амое мощное средство закаливания - вода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4" name="Picture 5" descr="закал"/>
          <p:cNvPicPr/>
          <p:nvPr/>
        </p:nvPicPr>
        <p:blipFill>
          <a:blip r:embed="rId1"/>
          <a:stretch/>
        </p:blipFill>
        <p:spPr>
          <a:xfrm>
            <a:off x="1500120" y="2286000"/>
            <a:ext cx="2519280" cy="273672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6" descr="облив"/>
          <p:cNvPicPr/>
          <p:nvPr/>
        </p:nvPicPr>
        <p:blipFill>
          <a:blip r:embed="rId2"/>
          <a:stretch/>
        </p:blipFill>
        <p:spPr>
          <a:xfrm>
            <a:off x="4929120" y="3286080"/>
            <a:ext cx="237672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1:18:39Z</dcterms:created>
  <dc:creator>Дима</dc:creator>
  <dc:description/>
  <dc:language>en-US</dc:language>
  <cp:lastModifiedBy>Admin</cp:lastModifiedBy>
  <dcterms:modified xsi:type="dcterms:W3CDTF">2010-08-18T08:44:49Z</dcterms:modified>
  <cp:revision>19</cp:revision>
  <dc:subject/>
  <dc:title>ФОРМУЛА ЗДОРОВЬЯ </dc:title>
</cp:coreProperties>
</file>