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6501-CD26-4DE6-8FB9-7E840EBDE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6ED-2635-4529-8A26-7914C4DF57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F2E-F8D0-4F24-8282-B1593D36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ACC-8FAB-4CF3-97D7-CAACFE1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A0E8A-1CCB-4B94-B7D3-504C2435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809C3-3091-47B3-B2A7-3861BEAF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EEB0A-778E-40AE-8956-8BE5E2E8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9CDE5-7E68-4699-9F96-4D959B31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E26BE-796B-4157-95FA-7C210625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643EB-CF61-45DA-B3C3-D4FD4E86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3A680-C199-4174-B1A0-F809963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94E4-B3B2-49FA-8258-897E9753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7EE63-DDDE-4741-A2B1-961A444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B5B14-4408-4B9C-AEFA-0F86DABF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561E-84B8-43F0-8805-6F221EA1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910FD-2107-4602-A51B-628AC074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B6AAD-64CB-4C63-B489-C4E06082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61845-93DF-41B1-903F-0BDB093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73865-486F-431A-9248-817E05CA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56CA-E9CC-4CB7-A928-D0AF892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C46CC2-C1B8-4B26-B8F5-49AD829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B9F47-83E0-4FF7-9E94-E42DF94D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3C083-75FF-4CD3-B3D6-809C09B8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1AEFC-C7F6-409F-AD2E-E50A2A26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7BFE1-F540-4262-AB77-94EED924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9CC-861D-4DD7-B58E-D6E34A3D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FF151-2578-4BB3-AD61-E2860194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85BB6-8B84-4655-A6FD-E7034B99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FEE23-AC42-4BA1-B376-6C9ED03F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8AA9D-37A8-4B28-A1D3-444FFFF4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9653-AB6D-4EE0-B1BF-0BCAA0F0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7F53B-00C9-44EF-A31E-5B27694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53F5-B0AB-42D3-8166-214B703C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F3E34-477C-476A-91BB-D1D8150E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CA987-4EB6-46F5-9178-E6FCC580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722E1-D77B-4B02-8A01-0175C6C5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979-3EFA-4506-A8E1-FDE22B6B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F6758-F3E1-4E4D-9B83-C009EEC3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398F1-87E4-4F92-B99E-A1160B7B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163F-2656-4738-AE1B-26E03059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74497-1B92-41FA-9219-D2B1992A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69763-FB79-426C-BC9A-F85F09C5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44B14-4E06-4311-A23D-04C94C5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ECDB6-E91B-4969-BE1F-B832EDFD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7DF36-F894-45E7-B711-8244474A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B11C6-CB8E-40BB-B328-6FFACD5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51DEA-A85F-4025-8FF0-AF7CBE9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8C4-BA14-487E-B177-CB8D9F78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B0C1C-5A62-407A-9939-F0BF9DD3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8A1B1-B822-4EFC-8C79-9EFA212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19DFF-0B76-4994-8F84-B3D0CA98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EF334-F216-4ADA-A7C3-AC6B0ACC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7898E-299B-442E-9A4E-305E7476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520C7-0FAB-4115-AF84-2CB02894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F2E7A-758E-46BA-920E-9D56576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668C1-5C10-4270-874B-7E1ABD9E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16C18-E63E-42FD-8770-F4C7582F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F9F40-83AC-4AC0-B067-461ADD14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500-3B11-4083-80B8-B380BCB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4B5D5-94EA-4BE0-B472-EFF5B8D0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F7D7F-5535-41D5-A595-6049DFDB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A060C-0932-41FB-93CC-E6204CE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434CF-CA13-4A8C-952A-9F4EF32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64B93-8360-416E-88F0-5CD16723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28E09-743C-40B1-A11A-A8DAB3E4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1C59E-61EB-4B7F-9640-5E2310D5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7DBDE-8414-4D96-93EC-86C78606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6EDCA-60AF-4E40-9B9C-71A7A1AF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DF077-A0C4-4230-8A1C-32706C80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10D-62AF-4432-AE0D-9FEF4DC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D5A33-81D1-409C-8C5A-657B36DC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9892C-4A0F-4238-B851-1291451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2AF08-B5F9-4B4E-9665-72FA0D56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1182D-38E0-4FFA-8BA4-378B68DB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7B143-6050-4251-990C-469525AC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A1698-BCAB-4E34-9012-312132ED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5E057-209D-4714-B654-F0D35DDF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CC728-FA4D-48C1-90B5-63627C45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209A9-3725-439A-9151-46FF869D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55922-EA38-48FA-AAA0-E1C5614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BC68-68F8-4767-A9DC-2B581E63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26987-2659-4C67-82FD-AF60200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73B7D-004C-4753-AED5-E967BE2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7F28C-6DF2-4D17-BDC5-AD2BDB6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3E3E7-ED74-49D1-9F36-93C9469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67CA4-5529-49E3-A5E6-1157427A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C8A76-F289-4AC8-A8D5-351AE14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21C91-5C6D-467B-86C9-09C7FD4F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F0311-0CA9-4B49-AFF1-2C485E6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59E2B-232E-4D96-AC22-6344D1C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FDC8F-3AEF-4EA7-9F8A-301BB1D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246D-56E7-4DF9-AE7A-0CFED71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9C5FB-50A6-48EA-9649-132B521F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A7C6C-4BCB-42BF-9F0E-EF6F116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6B1E5-9985-4E2F-8187-D7CE713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E61CC-3C79-4D03-B379-050B8BDD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821AF-2E4A-4B1B-B986-933EF8D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218F7-47FC-49ED-AB53-F33518D1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82A44-EE85-48CF-9C66-C19FA767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9A14D-8048-4958-9333-09F984E2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646BB-E7FB-476D-8037-123D89FF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2D80C-9876-4F43-B3B8-1F1FAC98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4046-D992-44C7-A4C0-F6CB7990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B37D3-F84A-49FF-8AE2-38CA707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D2489A-6E55-442A-B1C3-328C5925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D6CAE-8AEA-42CA-B159-C9F6CD9F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2226D-ECFE-4F9C-B758-FB0BEB2B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EE3DF-3E07-40E4-BFFD-5B53D0DE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9655D-3846-4ABC-BD26-5914BDC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BEAF5-0867-4E0D-BF57-EBF5FA25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47079-6F8A-4335-9F87-C8BB600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AFD07-B93B-4C22-ABB4-FC7D249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DE75B-7C87-4E65-9687-763382C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B76-85A7-4046-8F36-B3E042D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8759-3AB4-4FF6-9248-2510504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93417-4EFB-4ACE-AC2C-986E8417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621F8-C7B6-48FD-A5C8-5B60A60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E6DC4D-D1DC-4E5B-BBD7-9C03B59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86721E-8557-4C06-82AC-4E6071EC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1DFF2-0022-425A-AE35-E82838EA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E94E8-D4E9-4D3D-A7F0-29A74206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2ACE5-7B7C-49A0-BD30-AD89D055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31FAA-3DC6-43B2-ADA9-C237D4D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578E7D-1C1F-465E-8D39-089790A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3DB3E-F1FC-4793-A733-710DC622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C0FA-7BD2-417C-B697-7A7A9A1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9A2FD-9F59-4078-81E5-2C7B035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98E7B-0D49-4C1B-93C8-7B76971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BCF47-E56B-4813-953D-B9D7E150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F0D02-24B7-45DF-A8FB-441BC64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0A669-14FC-4E1B-B623-D304932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7A1E93-BE3C-47CC-8081-346043E8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B95C2-FA28-474E-AF27-2D9FBA76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C5C44-95DD-4B75-BE1C-F4410ACB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6EC94-FFF9-4C50-A432-BC2E1DE1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E9846-34ED-4A12-8FBD-79BF95A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40DF-5420-478A-B548-34F28BBF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39468-1328-423A-AC3B-F084C705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32AAC-2C62-48E5-81EE-D52E465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E7C83-3EBC-4FE0-ACEC-A7A24BA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639E7-6079-4A98-8B5C-727A3FE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3C437-85EB-4DDD-B694-86C30CF4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95FE0-59ED-4E58-B02D-26D9B094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9FC82-38FC-40DE-ACE6-CF1BC8FF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EED2E-72F3-47BC-91E9-689B05F9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52006-F892-4C89-B579-EB58FCCB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434420-CB2D-4572-9B06-7F7244DF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BF2C-A991-4075-B3E3-8A9B6CA5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5E933F-3D62-46BE-9306-F155B2A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C088416-36D5-4146-AFB7-0ECB863F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8B9359-BA79-419D-8E7E-54C1FD9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2536BC-0824-47E8-B077-9D4EE1EE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27F117-4AC3-4D9A-A9DE-6BC153E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CA12492-19E0-49EB-900C-DEFC754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169185-0167-4619-904B-816142C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EAFB13E-6BFB-447C-A98D-8AD37105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35A8E7-93E8-427E-B800-DC2FCA1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8EDE7B8-ADEC-451E-8C37-3409529F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836-4145-4D5A-8E7B-FE6F8C86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2C5E73-4B02-4298-BF8F-9F17BB6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CF7F1D-7788-4204-AF8A-6B000A7D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3A78C-18FE-4FEE-AA46-A30AA8A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AFD6A-6DB6-4D56-B7F5-7EA953B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13AAA-0987-417B-B66F-2382B07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22DF4-866E-4A5C-A4D0-B3532008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257B5-1E6A-4623-86CA-EF3935E6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30ADEF-4874-437B-A90B-E9DD6BAB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753E5-1F51-4769-BE16-64C6AD6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7455E-5F1B-46D3-B89B-9BF8CC9C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099C-ED17-42F7-A8F1-A840B6E3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12FF9-D242-421A-B3AE-917CD4DA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C4B84-31A1-4579-AE60-4C72D6C8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3184D-E4D5-4ADE-A5E5-012C7944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705845-30F3-4147-8643-BD6D5EEA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69D59D-C8F0-4942-B5E6-7C90CDB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53F4D-E219-41E6-8DB8-8BB8D6DE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50FE81-EE60-4ADF-B0E6-F309D1D0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9D6083-0CE6-436D-AD3F-8422505A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EAB209-F874-4A77-8777-8A78D59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58E64-13A2-4C06-8180-06D6924A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74A0-BF37-4F0E-AD8B-1B0E0551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2328A2-5EC9-41F7-B67D-7636221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48E29-531E-417E-A7DE-DDE31D27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9F8BE-CF9F-44E7-B4E0-66C56CA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AEB3A-7FA4-4BDF-8B39-411EAC10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94FB1D-D286-4B44-859C-5E97EE45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7B16B1-B4F9-49C1-B895-4F50B92D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9ED775-848D-4927-8234-A4296F4E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56C2B-BD31-4458-8A59-DE8F463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D2B0D2-C55A-4AA4-B47B-1CC00F3E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2B8299-F74B-48F3-BD20-D05BBFC2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83D2-AF68-4E22-9B31-E46C1C3D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09C4F-7353-41D5-A1FC-95EDB8D7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3321A-027C-4EA7-80E9-4D0E95AE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53966-4764-4A9C-BCC5-89E4DE4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FD1E9D-3900-4AF7-9147-FE1114B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6A114-EECF-48A0-8213-194470F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3A64F-513A-41AF-8B71-16C5D11A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DB6B8B-6BBA-4481-B335-65F15384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56E25-471B-49E1-8A07-EB1F9A9B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D05D91-4D7D-4E6A-A6CF-9FE9D1E1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E6518D-8807-4EC4-A705-6F763428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F84B-5C16-4455-8F8B-4641156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59977B-10E0-43F2-8A97-ADC6B0CE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4ABF5-1823-49BA-A4AD-AA048FA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FB8E7-C7D9-45ED-8C26-8C5122A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827B81-0C29-4C55-8B59-D341962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ADA641-8471-4667-8653-32A0D89A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75A83-EDB6-4B98-875E-77A1ACB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D24E30-7566-4F2F-9186-FA1B3622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A1BD35-A3AE-405C-891D-5CA71C62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5AF8B-31FC-4AA4-84BC-304919D0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C01591-BF88-4204-9CB2-6ACE66BA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8CE8-B250-44B0-A15F-B49D2245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C8A662-B26F-4A5D-B79E-8D3F82A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246350-7866-4E37-8EBD-45681CF3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ED6D72-F417-4230-B5E5-B50AC224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99ED34-6DCD-4496-9BEB-A284AC06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47410C-1A28-4F90-B8E6-43110D1B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5F500C-97A5-4246-8AF1-5EDF202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350FA9-0DDD-4222-9186-F98414E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F40963-B06E-4E66-8985-B03DAF5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8E5A62-E51B-4A3A-8470-A1CED2E6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7B573-F25B-4572-85C6-FC8CC331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0C1-785F-4641-8F99-819FC9B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5672-17A5-47F3-9F1B-E069905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87EA02-78F8-42A1-9403-B2FD4DD0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307AEA-4277-4CD4-B5A1-3E6646F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27EA8A-DEE7-4101-81AB-55F1A2E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A30236-37F0-4803-9AD0-BDFCD413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893EAC-6B2C-47A1-8623-D2E49E7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22DFF9-BE7B-47A9-A6FE-4DF0071E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A78E07-34B8-474F-A968-46C78DB3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261B74-BD62-4791-8325-1D9EC6C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EC9C5F-1B91-45F9-8B8C-C544B2F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6AE618-BFCB-4049-A48D-D229033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528E-375E-4F33-BCA5-AD3E5EF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F1887-A746-4945-BA39-DFDBA904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41644F-3B07-4372-8EF7-B4BB67B2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C2ECC6-7C65-438A-9F5B-E8C66463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AE4AF2-5277-4562-8021-93B15A34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184E5D-609E-4E3C-A402-5C246462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54A0B5-8C3F-4C51-AE90-8C831F42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ABEFC5-7533-457B-95B9-31C835C1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E394DA-B9A4-47B9-A476-3D39BB6D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E473B-EF17-46C1-B861-6F0E08A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F84C5D-A0BD-4D5B-8D77-54C319C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86C56-A045-47FD-A2E4-B012120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42FEBC-2247-49AC-9C6F-785D236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95E6DB-A22B-4438-AA8B-B9578AE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A6DF97-BF50-4C30-9A90-7D1FACC0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AE0D77-B95B-43E0-A5F9-CDCDA685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4C7B34-580E-4A4B-9792-F22DB5E7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255F5-639E-4114-924C-EAD49D8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E0EB-61BB-40A0-86C0-B7296597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3E11-EBDD-4163-B096-9177FF45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8299-4996-4326-809F-FA2D0290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7475-DF6D-4FA4-8FB4-4BB7CEFD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EE15-A180-4515-A1B1-5871724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02B8-3DA5-4F83-AD75-527D7F7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068-7508-4FA8-BC95-B788D371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CD88-CD60-4FA8-8234-712194D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C963-FF54-466C-B3D4-31D1635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87A3A-C57F-4983-8560-BEEE7B4D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2DE79-D303-4DAA-930B-F6AC95D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256E-7E39-4FFD-B68C-8969B24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6608-E168-45F2-8AA0-24EFCA92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A572C-751F-4C93-8D4D-44950C48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C37BE-496D-4E16-95C1-DF8A700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010B-BCDA-4BF3-BABB-64F54D30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B239-E0B9-47F7-B0EA-BE30335F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80B-9FCF-4F17-9ED4-28DF197B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2551-02F1-434A-BDC9-AC94227C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9D02-5C9B-48F6-B985-311CA20F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0E2A-FEDC-4174-8CC2-1C5C1033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0025-78F0-42A0-A0DD-B603ECEB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2D4AE-7537-409B-B410-DB79F4CA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0572-7EB8-4FBF-AE9A-75B2CC5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41C5-FE91-4C09-A4E9-EB3518E5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2C646-2A43-4481-96B7-8F130F9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B848-79FA-46B6-A1CA-AC9D4B45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C867-AD52-4AA9-80EA-5C65B95A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3D5-A0CA-4A53-B81F-5F03B039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B137-F809-48AE-88D4-FA3A919D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6533-8F35-4CB9-8D11-DA3BAA87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A88F-4DCE-46E4-ACA2-EE07DF89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8B12-8226-42A3-A460-20774D7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DF1C-1184-4366-A588-58699782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F5F7B-AECD-4D63-B52B-2BD1EDB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45A7-C829-4890-AFE5-A9B6FD2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9B50-9FEB-43C3-8FB5-A07272C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D6CE-6599-469A-8654-F85BFBB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74AE-0E2A-4FEC-861C-0389CC1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17D-B028-462C-9CFB-63AEF35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9441A-C19C-47D3-9468-BC78BBA8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6E00-1096-444F-AD96-DF55A7E6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2BB4-301A-492D-ADCF-6ACCCF65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2F2C1-4A9A-454E-B054-F24EF0D8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D09E3-3EAB-4A72-8D36-ED96E74B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3899E-A8D8-4FE8-A1BD-3A7C285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64B82-75AE-41AA-8047-F89DF03B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37DE6-1471-4767-8802-8D9E615E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20607-713A-4C16-AAFA-37F8B5FE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407BF-E895-4F64-8217-8986B35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C6B-C328-43AC-BEB4-6C55AE5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B95DE-617F-43F9-BC4D-8559CBAB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E3CD3-E7B3-484A-8611-C9CAB73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101D4-CFB9-4F92-BEF9-159C497B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FC43D-820B-4840-8793-4AE604B7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4D1DD-02F0-43BD-97FE-17618341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00070-BBD6-42E9-9A3C-84EA307E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EE2C9-EA63-4676-A468-63BFA31E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DC89-1CBF-49E7-90B0-A876A691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77D7-7653-4071-8940-0626198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883F9-A3A4-4C27-8E27-B2D9C4F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AB5-E5DA-477D-901D-8ECFC583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795FE-8D6E-40D1-98B0-8064D50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FAD39-7749-496C-AEAB-48174C8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17120-D0C4-40E7-B5D7-D404DF35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ED8CB-7307-446A-B73F-0C26AE5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B696-5BF4-407F-A170-BE53E5A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4BEEF-EA8B-494F-9FB9-5D2EA7ED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35D2-D80E-4DB2-9784-FA1D5791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2ECA8-B113-4038-84DE-964FD9A3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103A2-6E99-4026-B976-0F52942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84B1B-5777-4661-BA12-5CFB7E2E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360-8B15-4D84-824E-D3B7B03C52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93D-55B7-465A-99FC-8545A29FE6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415-E742-41EA-9D6C-663D528752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1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1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904-D13E-4D1B-8402-603A43A0D61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64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970-8704-4A60-8324-5EDDF8063D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1EA-BDDE-4B26-98CC-D12A1A2782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718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9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752-D696-4548-A86C-C14859B09E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14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1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1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2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2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6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87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7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87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F0F7-E950-4DFD-B2BC-CFB2FB85C8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3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0D26-3BFB-48E3-A7B7-E435CD4C5D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79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CC6-70CD-4FF4-9532-E2030A7673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F18A-8663-4582-9411-59FCFE98E4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04A-3B6B-4C44-97BE-180BC65EF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71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73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7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5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7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7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7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82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08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8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2330-A25C-47DE-9541-E07F16DCAD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13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3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3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6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78B-9C50-4F49-B5DE-7C65B43111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18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4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6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6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E7C-C08C-4647-963E-BACFBDC394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22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2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3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23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6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6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6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329-23D0-46FB-926D-42BAABDB4D2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27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7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27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28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 type="dt" idx="7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 type="ftr" idx="7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 type="sldNum" idx="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778-6161-473E-9C09-CE9A3A7E4F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32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32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32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33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33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7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7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7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18A-727A-4C46-BA0E-264E08F5EA4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B4A8-4634-418C-8054-4BD9F78F38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7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 type="ftr" idx="80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 type="sldNum" idx="81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CFDF-A3A8-44D7-B39A-F0EDE3712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0E0-9A77-4F57-90A8-70386A5A18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4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0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1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77A0-30FD-4FA0-9015-D574ECE6F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4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4C32-0EA2-4C3D-8DAD-1A6E59E8A4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2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2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2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2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98DB-5DF1-498C-9507-FFE1C33BAD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9A86-F903-413A-825C-66AFD6C5EA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8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39AD-14C9-4CB0-896C-F9E01E6680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7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7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7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F27-F5ED-45A0-9ECD-F8940F689DB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hyperlink" Target="http://www.barynya.com/stopsmoking/lung4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barynya.com/stopsmoking/bad_lung.gif" TargetMode="External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ФОРМУЛА ЗДОРОВЬЯ</a:t>
            </a: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Классный час для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класс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учащихся с важнейшими жизненными ценностями; убедить в необходимости здорового образа жизни; развивать умение выступать перед аудиторией своих сверстников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еликий врач Древнего Востока Авиценна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3520800"/>
            <a:ext cx="792504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гимнастикой дружи, всегда веселым 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роживешь 100 лет, а может быть, и бо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стуры, порошки - к здоровью лож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ю лечись - в саду и чистом п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Picture 4" descr="avicena1"/>
          <p:cNvPicPr/>
          <p:nvPr/>
        </p:nvPicPr>
        <p:blipFill>
          <a:blip r:embed="rId1"/>
          <a:stretch/>
        </p:blipFill>
        <p:spPr>
          <a:xfrm>
            <a:off x="3780000" y="1484280"/>
            <a:ext cx="1512720" cy="208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асилий Александрович Сухомлинский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2262240" y="2381400"/>
            <a:ext cx="626904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Вы живёте среди людей. Каждый ваш поступок, каждое ваше желание отражается на людях. Знайте, что существует граница между тем, что вам хочется, и тем, что можно. Ваши желания - это радости или горести ваших близких. Проверяйте свои поступки сознанием: не причиняете ли вы зла, неприятностей людям. Делайте так, чтобы людям, которые вас окружают, было хорошо»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1" name="Picture 4" descr="CAEHK7C3"/>
          <p:cNvPicPr/>
          <p:nvPr/>
        </p:nvPicPr>
        <p:blipFill>
          <a:blip r:embed="rId1"/>
          <a:stretch/>
        </p:blipFill>
        <p:spPr>
          <a:xfrm>
            <a:off x="404640" y="1916280"/>
            <a:ext cx="1387800" cy="21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«Всесильная сигарета?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3" name="Picture 7" descr="Курильщикам нельзя пить кофе"/>
          <p:cNvPicPr/>
          <p:nvPr/>
        </p:nvPicPr>
        <p:blipFill>
          <a:blip r:embed="rId1"/>
          <a:stretch/>
        </p:blipFill>
        <p:spPr>
          <a:xfrm>
            <a:off x="2824200" y="1917720"/>
            <a:ext cx="4019400" cy="40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-1976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5" name="Picture 4" descr="Состав табачного дым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5 лет курения                  После 25 лет ку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8" name="Picture 4" descr="nonsmokerslung_sm"/>
          <p:cNvPicPr/>
          <p:nvPr/>
        </p:nvPicPr>
        <p:blipFill>
          <a:blip r:embed="rId1"/>
          <a:stretch/>
        </p:blipFill>
        <p:spPr>
          <a:xfrm>
            <a:off x="755640" y="907920"/>
            <a:ext cx="2736720" cy="201312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5" descr="smokerslung_sm"/>
          <p:cNvPicPr/>
          <p:nvPr/>
        </p:nvPicPr>
        <p:blipFill>
          <a:blip r:embed="rId2"/>
          <a:stretch/>
        </p:blipFill>
        <p:spPr>
          <a:xfrm>
            <a:off x="5364000" y="907920"/>
            <a:ext cx="2519640" cy="194472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6"/>
          <p:cNvSpPr/>
          <p:nvPr/>
        </p:nvSpPr>
        <p:spPr>
          <a:xfrm>
            <a:off x="2535480" y="2080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авни и сделай выво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1" name="Picture 7" descr="Пейте спиртное, пока не осознаете, что в течение дня ни разу не подумали о сигарет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378936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8" descr="Перед сном можно почитать интересную книжку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3716280"/>
            <a:ext cx="1973160" cy="2160720"/>
          </a:xfrm>
          <a:prstGeom prst="rect">
            <a:avLst/>
          </a:prstGeom>
          <a:ln w="0">
            <a:noFill/>
          </a:ln>
        </p:spPr>
      </p:pic>
      <p:sp>
        <p:nvSpPr>
          <p:cNvPr id="1533" name="Text Box 9"/>
          <p:cNvSpPr/>
          <p:nvPr/>
        </p:nvSpPr>
        <p:spPr>
          <a:xfrm>
            <a:off x="733680" y="306396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не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4" name="Text Box 10"/>
          <p:cNvSpPr/>
          <p:nvPr/>
        </p:nvSpPr>
        <p:spPr>
          <a:xfrm>
            <a:off x="5292720" y="299736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егкие куря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1998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98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2" descr="fatal_mouth_cancer_28years_old"/>
          <p:cNvPicPr/>
          <p:nvPr/>
        </p:nvPicPr>
        <p:blipFill>
          <a:blip r:embed="rId1"/>
          <a:stretch/>
        </p:blipFill>
        <p:spPr>
          <a:xfrm>
            <a:off x="1187280" y="393840"/>
            <a:ext cx="6624720" cy="497988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3"/>
          <p:cNvSpPr/>
          <p:nvPr/>
        </p:nvSpPr>
        <p:spPr>
          <a:xfrm>
            <a:off x="395280" y="57992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к ротовой полости у 28-летнего курильщика с 10-летним стаже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Во Франции подростки однажды устроили состязание: кто выкурит больше сигарет? Победителя ждал приз. Выигравших было двое, но награду они не получили, потому что умерли от острого отравл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ЧЕМ ВАМ УМИР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4" descr="CADRJVAJ"/>
          <p:cNvPicPr/>
          <p:nvPr/>
        </p:nvPicPr>
        <p:blipFill>
          <a:blip r:embed="rId1"/>
          <a:stretch/>
        </p:blipFill>
        <p:spPr>
          <a:xfrm>
            <a:off x="3348000" y="223920"/>
            <a:ext cx="2592360" cy="248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94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Так что же  такое  - курение 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Это дым из носа и рта…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А в легких сажа, грязнота.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Зачем вы себя засоряете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 И жизнь свою сокращаете?</a:t>
            </a:r>
            <a:br>
              <a:rPr sz="3300"/>
            </a:br>
            <a:r>
              <a:rPr b="1" lang="ru-RU" sz="3300" spc="-1" strike="noStrike">
                <a:solidFill>
                  <a:srgbClr val="ffffcc"/>
                </a:solidFill>
                <a:latin typeface="Tahoma"/>
              </a:rPr>
              <a:t>     Кто курит табак – тот сам себе враг!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1" name="Picture 4" descr="054"/>
          <p:cNvPicPr/>
          <p:nvPr/>
        </p:nvPicPr>
        <p:blipFill>
          <a:blip r:embed="rId1"/>
          <a:stretch/>
        </p:blipFill>
        <p:spPr>
          <a:xfrm>
            <a:off x="3564000" y="407664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4" name="Picture 4" descr="i32"/>
          <p:cNvPicPr/>
          <p:nvPr/>
        </p:nvPicPr>
        <p:blipFill>
          <a:blip r:embed="rId1"/>
          <a:stretch/>
        </p:blipFill>
        <p:spPr>
          <a:xfrm>
            <a:off x="2627280" y="134136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1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ьяному море по колено, а лужа по уши.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395280" y="3573360"/>
            <a:ext cx="8137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то у трезвого на уме – то у пьяного на язы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395280" y="206028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 хмелем познаться – с честью расстаться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8" name="Rectangle 5"/>
          <p:cNvSpPr/>
          <p:nvPr/>
        </p:nvSpPr>
        <p:spPr>
          <a:xfrm>
            <a:off x="468360" y="515736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ить до дна – не видать добра.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68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68" fill="hold"/>
                                        <p:tgtEl>
                                          <p:spTgt spid="15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68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98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доровье – правильная, нормальная деятельность организма, его полное физическое и психическое  благополучие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3" name="Picture 4" descr="CAXG1Z6J"/>
          <p:cNvPicPr/>
          <p:nvPr/>
        </p:nvPicPr>
        <p:blipFill>
          <a:blip r:embed="rId1"/>
          <a:stretch/>
        </p:blipFill>
        <p:spPr>
          <a:xfrm>
            <a:off x="468360" y="4076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5" descr="J0149018"/>
          <p:cNvPicPr/>
          <p:nvPr/>
        </p:nvPicPr>
        <p:blipFill>
          <a:blip r:embed="rId2"/>
          <a:stretch/>
        </p:blipFill>
        <p:spPr>
          <a:xfrm>
            <a:off x="5867280" y="414972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чему мой папа такой? Вечно пьяный и вечно злой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икогда за собой не следит, и на всех почему-то серди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крывает пинком он дверь и врывается в дом, как звер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ас обзывает плохими словами, все в доме пинает ногам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Мама шепчет мне тихо: «Беги!», а мне слышится крик: «Помоги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Я  - мужчина. Но я еще мал, а то папе я твердо б сказал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Мне стыдно, что ты папа мой. Уходи, нам не нужен такой!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1" name="Picture 4" descr="CAGQWGZ6"/>
          <p:cNvPicPr/>
          <p:nvPr/>
        </p:nvPicPr>
        <p:blipFill>
          <a:blip r:embed="rId1"/>
          <a:stretch/>
        </p:blipFill>
        <p:spPr>
          <a:xfrm>
            <a:off x="2987640" y="54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9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4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15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89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475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73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ДОРОВЬЕ =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е пит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спортом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аливание 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ее настро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дные привы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кажи, что ты ешь, и я скажу кто ты есть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486" name="Picture 5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84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спределение суточного рациона в течение дн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9" name="Picture 13" descr="питание"/>
          <p:cNvPicPr/>
          <p:nvPr/>
        </p:nvPicPr>
        <p:blipFill>
          <a:blip r:embed="rId1"/>
          <a:stretch/>
        </p:blipFill>
        <p:spPr>
          <a:xfrm>
            <a:off x="324000" y="1628640"/>
            <a:ext cx="309384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0" name="Object 14"/>
          <p:cNvGraphicFramePr/>
          <p:nvPr/>
        </p:nvGraphicFramePr>
        <p:xfrm>
          <a:off x="3419640" y="2643120"/>
          <a:ext cx="5573520" cy="37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1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2643120"/>
                    <a:ext cx="557352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2" name="Rectangle 15"/>
          <p:cNvSpPr/>
          <p:nvPr/>
        </p:nvSpPr>
        <p:spPr>
          <a:xfrm>
            <a:off x="4500720" y="1628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1 завтрак – 25%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2 завтрак – 15%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ед – 45%,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жин – 15%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837720" y="3670200"/>
            <a:ext cx="8007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быть полезн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овощей бальзам и фруктов с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целебны ото всех болезн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жизни нашей удлиняют с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4" descr="овощи"/>
          <p:cNvPicPr/>
          <p:nvPr/>
        </p:nvPicPr>
        <p:blipFill>
          <a:blip r:embed="rId1"/>
          <a:stretch/>
        </p:blipFill>
        <p:spPr>
          <a:xfrm>
            <a:off x="2484360" y="333360"/>
            <a:ext cx="4319640" cy="2941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ВИЖЕНИЕ - ЖИЗН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8" name="Picture 4" descr="спорт и дети"/>
          <p:cNvPicPr/>
          <p:nvPr/>
        </p:nvPicPr>
        <p:blipFill>
          <a:blip r:embed="rId1"/>
          <a:stretch/>
        </p:blipFill>
        <p:spPr>
          <a:xfrm>
            <a:off x="468360" y="1628640"/>
            <a:ext cx="2735280" cy="23036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5" descr="CA6HWROZ"/>
          <p:cNvPicPr/>
          <p:nvPr/>
        </p:nvPicPr>
        <p:blipFill>
          <a:blip r:embed="rId2"/>
          <a:stretch/>
        </p:blipFill>
        <p:spPr>
          <a:xfrm>
            <a:off x="3203640" y="2852640"/>
            <a:ext cx="2736720" cy="223200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6" descr="лыжи"/>
          <p:cNvPicPr/>
          <p:nvPr/>
        </p:nvPicPr>
        <p:blipFill>
          <a:blip r:embed="rId3"/>
          <a:stretch/>
        </p:blipFill>
        <p:spPr>
          <a:xfrm>
            <a:off x="5940360" y="4005360"/>
            <a:ext cx="2735280" cy="212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имнастика, физические упражнения, ходьба должны прочно войти в повседневный быт каждого, кто хочет сохранить работоспособность, здоровье, полноценную и радостную жизнь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4" name="Picture 5" descr="CACTE7C5"/>
          <p:cNvPicPr/>
          <p:nvPr/>
        </p:nvPicPr>
        <p:blipFill>
          <a:blip r:embed="rId1"/>
          <a:stretch/>
        </p:blipFill>
        <p:spPr>
          <a:xfrm>
            <a:off x="6227640" y="404640"/>
            <a:ext cx="2519640" cy="237492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6" descr="images"/>
          <p:cNvPicPr/>
          <p:nvPr/>
        </p:nvPicPr>
        <p:blipFill>
          <a:blip r:embed="rId2"/>
          <a:stretch/>
        </p:blipFill>
        <p:spPr>
          <a:xfrm>
            <a:off x="468360" y="404640"/>
            <a:ext cx="2630520" cy="2160720"/>
          </a:xfrm>
          <a:prstGeom prst="rect">
            <a:avLst/>
          </a:prstGeom>
          <a:ln w="0">
            <a:noFill/>
          </a:ln>
        </p:spPr>
      </p:pic>
      <p:sp>
        <p:nvSpPr>
          <p:cNvPr id="1506" name="Rectangle 12"/>
          <p:cNvSpPr/>
          <p:nvPr/>
        </p:nvSpPr>
        <p:spPr>
          <a:xfrm>
            <a:off x="46836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507" name="Object 18"/>
          <p:cNvGraphicFramePr/>
          <p:nvPr/>
        </p:nvGraphicFramePr>
        <p:xfrm>
          <a:off x="3203640" y="382680"/>
          <a:ext cx="2881080" cy="23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82680"/>
                    <a:ext cx="288108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Picture 4" descr="плакат закал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Главный закон закаливания - постепенность и систематичность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Основных средств закаливания четыре: вода, воздух, солнечные лучи и физические упражнения. 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Самое мощное средство закаливания - вода.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4" name="Picture 5" descr="закал"/>
          <p:cNvPicPr/>
          <p:nvPr/>
        </p:nvPicPr>
        <p:blipFill>
          <a:blip r:embed="rId1"/>
          <a:stretch/>
        </p:blipFill>
        <p:spPr>
          <a:xfrm>
            <a:off x="1500120" y="2286000"/>
            <a:ext cx="2519280" cy="273672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6" descr="облив"/>
          <p:cNvPicPr/>
          <p:nvPr/>
        </p:nvPicPr>
        <p:blipFill>
          <a:blip r:embed="rId2"/>
          <a:stretch/>
        </p:blipFill>
        <p:spPr>
          <a:xfrm>
            <a:off x="4929120" y="328608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1:18:39Z</dcterms:created>
  <dc:creator>Дима</dc:creator>
  <dc:description/>
  <dc:language>en-US</dc:language>
  <cp:lastModifiedBy>Admin</cp:lastModifiedBy>
  <dcterms:modified xsi:type="dcterms:W3CDTF">2010-08-18T08:44:49Z</dcterms:modified>
  <cp:revision>19</cp:revision>
  <dc:subject/>
  <dc:title>ФОРМУЛА ЗДОРОВЬЯ </dc:title>
</cp:coreProperties>
</file>