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58D-9383-403E-8619-496C4B9424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1D6-5B83-46C2-8A5C-105FD342E6C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FB8-C927-49EF-AD40-3F12BCB8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E07-CF72-4C49-AA7B-41E46E2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87ABE-F98D-401A-B3C0-F312FA23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545F6-6A22-4356-87BC-990AE93D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356BD-C7FD-45CA-8C1E-0B5A8890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5B8BB-C2CF-4043-B950-B924FA5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CC0B8-FA2B-464C-AC3A-DE06077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28965-9AB5-4C1D-8094-4FF7D6ED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211E4-51B7-4BD3-9028-9CD8876B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83513-A4BD-4B1F-8C1D-08E6444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4BF8B-4073-48A3-A331-88C8D467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1054-906B-4C9C-85AD-BF3FB80E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8DE-3E96-44F3-8365-766CDB4A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29AC5-959B-4585-8EE2-98D35F5B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A4A5E-A7C6-4A6B-B615-9D6A7610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58D54-3BC8-4CA2-93E8-ACF4CE1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9EC3A-7E32-44EE-96B4-D920C32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9E26C-A34D-47BB-BA5A-52B63188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422C-D908-47D0-9F47-0305057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5F5B8-05F2-466C-83C1-BFBD0560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74993-788D-4A09-BA83-D91072C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2B8CC-9D70-4698-82A2-DCDBA262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32B05-35C5-4C09-B164-AC0E5856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CF3-78E2-430E-97A9-74588657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03335-DA7F-4BEB-AD47-BBAC4F9A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3D8BA-7D0B-4B12-9BD6-309F732B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0175-CC49-47F6-A570-A815E25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9ADB-F00E-4708-BF12-4987AE1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812E-CCDB-4B79-B7A5-EB389EF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CD703-C245-4270-B383-6F63D732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F3207-47AF-42C3-932E-99C096F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55D3-810A-4FB4-9B51-94285BA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BA81-E485-4AB0-974F-E043888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0C02-637B-4971-AB84-57D8B97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1D1-394D-4180-8A86-1E97EE50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1416F-BAF6-48F6-9E8D-B74B307A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D9FC-0EB1-444F-87E2-AE900A92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A4896-AF38-4DB7-8C64-05F20969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89536-2AC6-4B8F-AAFD-07A22C45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1AF53-C39F-495A-ADBD-EBB970C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AFD4A-0536-4C91-A32B-D023D400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43E94-E04C-451E-B245-4231743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0E5BC-3E57-4FD1-8653-1220E688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E7998-89F4-4DE5-9C7F-3CBF3810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909A8-6437-4624-ABC9-EC44A20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B090-C0A4-4E03-831D-BE54E044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DE3D1-7694-4FC7-9191-F369F4A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3C9C0-8157-4198-9339-B7BF8DC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7BDD1-1ECF-4903-A49C-4D5A197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78002-92E4-4972-8540-26FF4FB5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1760C-8822-4E8B-9C33-99D7FF21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2F555-6B78-4B23-B7CE-61DA4101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69F4A-888D-43C8-A9B2-ACF00AF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64559-8EA8-4D96-BABA-AED1EE0B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FB53B-ED13-466C-81B6-E0C4F26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243A6-F2DC-4122-93E9-90727808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F56A-6EB9-4AFA-B763-9968D39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2205D-34F5-49B4-A73C-2DDC4A44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1D737-6A4A-4354-B2A4-2C0B7A3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CC9E0-459E-441E-9F9B-D26D0D0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3F716-06D4-4E4E-ACFC-9155E35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5FB3D-F8D4-495E-AD3E-4323108B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4F4A1-70F3-4C69-B196-66467EA8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4ED82-3C6E-4E98-9879-2C43CA24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1E3DE-2A89-46EB-A180-E0F7C214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892C0-BEFD-4741-A2DA-A79966C3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CCFB1-6940-4CA8-8D48-04EEF875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CD9C-6458-4D3F-B806-EDAB780F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4BBC3-D423-4F17-809D-B2C6405D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49171-A16E-4104-B51E-F8C943F1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C86D4-AB96-42F7-A1A5-CAA5502A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8B4B6-58D1-4F3D-90AF-2BE0800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827E4-3714-41F9-88A0-59DE7C5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1510C-3938-440D-BC07-7395D7B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2C0B4-B0F4-4270-9361-493A86D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803A9-18C6-4C65-8A7A-36B1C958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EA76A-296D-48B4-98A9-63B5DE3C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02677-2A8F-4083-A445-74AFCF69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19BE-C1B3-47E0-AE7E-B4DDCB45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9EE59-EB37-4736-972B-C3B5E7F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A8D51-26EB-49FA-B396-CDFA5C74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840F2-B75C-4AB1-88C0-A1CFC61C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C8AF2-2F15-4594-BC8C-518FB887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51127-0B15-433F-A77D-635307F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A3CF5-5648-4A71-8B07-58B9523A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60994-5FD5-4F06-90B2-C56AB30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054AD-61A7-4A79-9587-C737553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37D98-0D9C-4548-B767-C907B07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53CA1-A5CD-4D24-8A4B-035414E0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4BAF-450B-4383-833F-32C2A5B3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0164A-5F48-43DE-8FE6-214ACAC1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BF742-B67E-4E8B-B89C-D4C9D786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2BD8E-37D2-48A5-98EF-A2AA54B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93D2F-0444-4D3A-B4AF-04FDE5A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0FD77-66C3-4545-815C-3F88BC35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C0B37-65D7-4E3D-BEFB-3A4A8FFE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F1307-95E0-447F-ABA8-0ED82AE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BFF0D-7CA2-4145-A416-0756E28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BCF64-57FB-4BEA-9569-35876B1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0FFF7-0E46-4F22-91F7-ED85739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3C1-A1BD-41A7-A9B6-B5FB796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C0124-A6BF-4863-8069-2CB6F900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35899-19A7-4581-A49D-BEAEDAAF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1C53C-095E-4C1B-A417-AE7C2DE9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34310-2709-4CBE-B8DF-A2084161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A0923-31E6-4A92-8AD1-B4C97A8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94F8E-A778-4A3B-BED2-1ADD9AD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BB6FD-882B-47F0-8F4B-AD8625E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75971-27B8-40C3-90C3-0859BD8D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63AC7-2B98-4507-BC11-93A21E8F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14EB3-B628-4525-ACBC-F4B18B7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526-9AB6-49A4-BCDD-1D149977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EE88-9F89-40E8-AAAE-BEDC6221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84721-C64F-4B13-B75B-5817BB1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DC462-FE9E-4D80-B2C6-B68BA59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28030-0825-42BB-8BEA-56D3A57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0C6CA-27BA-48B7-AB52-3EB41500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AD998-88D2-4688-8C09-412905DD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C9BAA-BA14-4870-BE1A-1C4324E6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0EA5D-AC39-4222-9D9A-4E5140F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B695A-6DD6-457C-B352-D40F218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5E9AF-0BB4-42BD-AAA9-38F119EE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19111-3BAC-4C0A-8E48-6E0115B4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E9BB-0F72-4CEE-AC18-77A58FE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84692-20DF-4EEF-B06B-37900AC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4AAE7-542D-49A7-844A-2B82905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21FA1-660A-4BBF-8ACE-425F9D58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30176-98B2-4A1E-9F1A-1C8C312C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D88B0-56D9-44ED-8183-A4D9D66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D32C4-6162-4EAB-87FF-35B39C47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84A27-C1E0-4784-B734-9F957806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42E0C-68C9-40B0-A4D1-5BD8EA01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46BFB-C515-465F-92FA-4163D74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D4DE4B-81B3-400D-A1A1-7E0FCA4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28C7-48A5-4EC6-921E-00F9A67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98AB8-982B-434D-B82D-621AC73C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96BE6-1B72-437E-BB7C-8A489CA4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7222F-45B4-42C6-B3BA-21F9A60F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C09DF-DA75-4E9A-97F8-C021121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4498A-E847-4F30-BB47-8EE379F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86742-616F-4E66-8A5D-AE3C1BA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9B593-E830-4322-97EC-48610BA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CD04D-029D-473F-8208-92C3EE70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EA2BC-25FF-456D-A737-2EB6DEDA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0C5D39-4A9D-4E8B-96E1-33CFE8F3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8A20-DE87-4284-9FB5-EE211E5F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951DEB-945F-458E-ABC6-2C5ABD40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A24452-1BF5-4B35-850C-15C8BFA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6BCFB4-7757-4BF9-845E-93EEEE7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9E9F8B-51E8-4700-B660-AF2AC82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6E75CE-3702-4BC0-8B2C-C3D4F7CA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5BC1D6-3DEC-472F-8CAC-FD333B75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4478C1-13C8-42E0-8AE2-81B5365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96F551-88F1-4F38-98DB-B8F0FB8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416160-7A89-4D0D-98CB-D1E31E7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677C13-1EEB-431A-8B08-B4440683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F26C-FF82-4EE3-8B90-39702243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F1CADB-D375-430F-B57A-C655AA84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339AC-ADBF-4BCC-A4B5-188D4B52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2094E-4DB3-4D46-B3FC-68596FD8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40E5D-98E1-493B-A614-D1C203BB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96827-9F9D-4DCF-8DB8-E7004EA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2C695-4DCE-4787-8EF1-FDC3BD11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51D72-F8AB-4477-BE82-2A10FAC6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D0F76-CA39-4159-A283-F4547B6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62EC34-3DD4-49FB-B45A-54BFC73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F23DD-C173-4AE1-9419-5C1515B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58E5-09D2-46A2-A485-91F3720E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1C7C8-B900-43B9-8291-7B726BA5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1FDA6-C4AD-4672-9376-76D31E8A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5B822-6BC3-4396-8569-DA0AE915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C5775-E8C6-498A-87C9-D955433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52915-1948-47C2-A2D4-BB7BF9E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D92F11-DEFF-48FA-9FB6-6662C116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E7E6D4-DC41-4C11-8FFE-7BCCD5F9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75713-AFA3-4A2C-B149-38B4DACE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1707B-B715-4AD6-A1B4-A742BA83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24567C-045F-4942-9B8E-03B540B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148D-F65A-4EFB-A4C6-D8E9241A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23C7EE-2582-4B69-BE02-DF43C70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979F9-66E8-4B2E-A026-62C4BF48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19418-1CB6-4BDF-A68D-F969745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1DEA9-6A2E-45E8-B68F-A58A25B1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0BE10-AF2D-4DB1-8621-18663875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6B26D8-EE10-41CE-9CD4-E843ECF9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F273E1-D285-43F6-82DA-3978A890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8145BB-54C5-48D1-A959-BB307B52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FC4FB5-A2DF-464B-9F67-16E60E45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C6A510-DCC9-4DC3-BA82-41E390A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EAA2-D516-47B7-A84C-40EB73B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E1F847-993D-4927-A6E2-233FE9EC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BAF601-C7F3-496A-A669-83E9594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33B8D8-5CAE-4719-BF0E-0DD3024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7B468-C7A8-4149-9A1F-BC2E794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D589B-67FD-46FF-B9A9-0C9E7131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263B2A-9476-4117-BB45-3FD109E3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C86300-06D5-43C6-BD9B-D39551CD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09666-C070-427F-9405-6E8ABB59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C75FC0-AA88-4188-B978-91DDF6D6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3AAFCF-3E62-429F-A72B-B995D151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E3AC-28AE-4C11-9022-E21F36E9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269807-A99F-4376-BE3D-883CDF6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709A8E-FD81-43C3-B563-F12486B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E1CA9-C0A0-4562-A9BE-C3C0D558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566FD-EB26-46D8-AEDA-E50FF64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ABDCC5-F224-491D-8FAA-2018CC0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9FB5FB-B29D-4F13-BA2D-BA374CB0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8A62B3-D7CB-44B0-AD38-EB8167C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1C1059-5EBA-4AE4-BF5F-F1FE0AD6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AF4648-1DFF-4989-A91C-B8EA2BD1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EE16F-73EE-4B6C-AF11-77CB61DF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9820-1172-477E-9E2A-87A96F4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BFB9BA-A58A-42D6-AA74-8E5C2A0A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AD6B9F-9407-4B65-B505-A78292AC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31179-9711-45D4-B133-8E2B8A1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DDB918-DBF3-4440-97C8-4236756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7AA83B-93A1-4320-B6CD-4D20E9A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EEF12-B29B-493A-8449-9AC4008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85A8D-E8E0-4E69-A455-8C24EC5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4CC222-4A5B-449F-987A-957E257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AC0C36-442C-44C4-996D-8BB1445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5544C7-3E81-4B48-B60E-993E4B5C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1BA-7811-4B82-9308-920671D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5C02-07AD-4E37-AD1C-0B4B602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A27539-1426-4603-9787-78BCEF15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B62EC1-C6EF-4FEE-BBFD-47C0D74F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7DD41-1957-41F9-B3FD-71AD73E6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69690C-F253-439E-9342-092F4F12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6E4AB0-9967-4AE8-B6D6-55D9DA6E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59CD7D-61BA-4323-9F01-FA6C1A75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750FB-1FD2-4DB6-8F64-A2E2A522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F2B530-5DF6-4117-A7E0-5FA842D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A45DF7-EE1D-412D-962F-308B718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C23309-E87C-4B2E-B298-C3E7370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6FE4-E9E1-4D1D-B5CF-09375BE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B4CCCA-AB54-42F8-8110-0D65B752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A2BCF-B5DE-4609-A384-3BF2316D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36C87C-F126-48F8-96A0-544D558A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8E1BCE-B522-4285-A828-D969F438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9A85BB-2701-4B52-8B34-8DA1C0F5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C66E51-08F8-4DA8-8ABF-EB4D7D6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C90842-3AFD-45EB-A45D-CF789D7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593E76-CA19-4F7B-BD53-546FD890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A9FAB0-D7DC-4043-B25D-F7F5C86C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301E83-D929-44D9-A22A-08146A41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66DB-939E-4E3B-B543-AB74930A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C8E1ED-DD91-4358-A87B-E30B28B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D7B72B-805A-497E-8528-C6D25B6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09B093-C4B7-4F97-9653-8496AD5E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D71A58-10F2-4FC2-9C53-023CB87E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6C2463-C673-4058-A184-A483EE4C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73E1-5718-457F-9E2C-B7FBCDA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F0B9-A320-4A7F-A82D-36920BCB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AE30-E072-40EA-83E9-7CFC5DB1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DAC6-E7C3-4416-96D4-35C8F686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756C-AB80-4E98-A6B5-83E1635E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A9FE-94C1-4D69-8528-EE8D8CED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11B6E-DC29-4704-8E5D-4E6D922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7EB-03D4-4D88-972E-B4C6607C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FE29-8CC4-4B91-81BD-178A6249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5EB6-B04E-479D-9855-9A096E1B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FD7C-F2FF-40A0-894E-13D2D41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962A-5988-4071-BBD7-642C13DD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4BF9-4334-4C82-8D5E-DCAB2A5F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1DB8-ACEE-497F-BFC9-A07FF515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2ECC-4420-46B1-9EE5-023DE1A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0C1E-C725-45BF-B17D-86C5A0F4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E4AF-3D7F-473D-BDA7-DF293198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7A50-DF9F-4923-986A-32E9DA05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65B-DCB5-4128-BB2A-065E2589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3E49-B1B0-47C1-A7CA-168303A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1A53-84A4-4E89-B8CE-F81E3AC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7252-E438-43B8-BFC6-EE01337B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529C-CEE3-4514-B9F6-53E654ED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CA9E-6194-456F-80AE-1B87061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1D8A-942F-41C0-92F5-477155F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C9AA-BFBA-4508-9B67-149EA53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A607-D9F7-4459-AB2F-1EDE314E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9EC5-041D-4BF0-8A4D-F9522FA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C65C-2343-49E8-8ED5-855BA1D4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7D2-3DBE-4D29-8448-D36D78B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3B670-1E45-40F2-9384-3BFD8AAA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E3AC-F72B-4453-BCE3-21FCDF1B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81613-B4FE-425A-95A8-DD659E8E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5FF18-C3D8-4333-98C4-6327FF8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0AC14-2F02-4907-A656-A279D66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BFEF-9CA8-43F3-AE7A-BC7F0CA1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95CF-A40F-4D31-8EEC-6B1A4C93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776FC-6FEB-4F84-83DB-8D91126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F034-13D1-4F43-9109-2233E2F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E2322-71AD-480D-A6BA-A6113CC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AB8-F5B2-4A9C-B057-B0B1BD1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7749-1A1E-4AA1-A8F6-B3C65636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5763-0D56-4B45-AABC-F27D280E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C0821-E627-45E1-82C9-2547E0C7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F74F2-4A2B-4A13-AD64-A72FD511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2909B-B8D5-481A-8D9B-1F01CA1C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2E9D2-BA9A-47C7-8E3D-7406CDE9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8D8EE-BCB0-4249-AD6D-A928DC2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1C72C-0E5B-4786-9139-7E0EC086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8BF2A-E7EF-46F2-ABFB-490FD634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EC04F-C2E9-4734-94AF-3C41BD0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806-4129-493A-9644-389CC8D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D05B9-052A-40B7-B5E1-4E0DA42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B78C1-6299-4F91-BE6C-A2C5174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8B2B9-19B5-4450-A28E-52B65DF1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01E4A-23A3-4667-8696-D53331D8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D214C-AB75-4D98-A46C-C55B2435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418C2-B8A5-47E8-BAA3-4395F4CE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A423-F50E-4037-B2C9-FA5C26CA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C6E9-0BF1-4D30-A502-ACD19F90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752D-E48C-46E7-A978-8A9F461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D404-1042-4003-8624-EC76443C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4DC-54DC-4AE8-8121-89BFBB1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902BF-83F9-4BEC-AB86-64408DB2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BCD5-4047-42CF-ACE6-E645821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992F3-AB0D-417A-A2C5-4B11AEB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28D0F-9021-43C3-9E53-66609BD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C332E-1B55-4792-AB3E-1B17145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90FE6-7914-4FF0-A6C2-5A3796CF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E6E7F-509B-45CC-B58E-B9E7D3F4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37356-89C6-4734-A096-5B0D7467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D1A9-AB86-40AF-882B-1128828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C81FC-FB27-46A2-94AD-647773F2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B96-095C-4591-8DF8-19E3805B97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2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9DC-8029-41EB-BC74-9DE5FB71DC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0F9F-4F2C-421E-A23D-47C65CA722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1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1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2D9E-E96E-4C7C-9118-BFD3ACE1EF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6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4568-42B0-4261-AF29-B8EFAD96C5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01B2-93A1-424B-9D07-11319A5F00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18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E23B-3263-4872-B4D0-A8F649FF9B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1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1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2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6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87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7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096D-97EE-415F-9062-E425A11BC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0C5-6531-4EB1-B7A9-A7BB472EF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7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B432-5D48-4A95-ADB1-E4B34ABD58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7CD1-BBE4-4DFE-800F-09947578A3E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B29-C803-433B-B4C4-01BD0A6B3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7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7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7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7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7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8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08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8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809-FCAD-4D83-A02E-A32B18031C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3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3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3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6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682A-3EBD-46E1-86BC-4C943E5083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18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6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02C-041E-4143-9D27-0C56238E1F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2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3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3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6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6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6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5653-7FA4-4268-8D91-876A2D00E43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7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7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7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8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7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7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1112-5863-4EFE-85FA-DF98687F05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2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2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32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33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33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996-B1FB-4C33-8EF2-6234B7EEFDE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CA44-3D32-41FA-881B-67063AFDE6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7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8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8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894-E48C-417D-B538-3736098622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EA57-A271-4439-B5DC-2168C0DF56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465-214D-4F10-AF2F-AEABB9A65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4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D081-A671-4983-BB29-A161E99481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2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2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2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BE0-25FC-4AA8-93D5-AF8255B7A2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F413-97D9-4A91-8D76-B5F515CBD7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8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690-9E88-4FB2-A8DC-A29A9728CF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7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7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2A5C-A197-4291-9477-88A446ED062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barynya.com/stopsmoking/lung4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barynya.com/stopsmoking/bad_lung.gif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ФОРМУЛА ЗДОРОВЬЯ</a:t>
            </a: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лассный час для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класс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важнейшими жизненными ценностями; убедить в необходимости здорового образа жизни; развивать умение выступать перед аудиторией своих сверстников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еликий врач Древнего Востока Авиценн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3520800"/>
            <a:ext cx="792504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гимнастикой дружи, всегда веселым 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оживешь 100 лет, а может быть,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стуры, порошки - к здоровью лож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ю лечись - в саду и чист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Picture 4" descr="avicena1"/>
          <p:cNvPicPr/>
          <p:nvPr/>
        </p:nvPicPr>
        <p:blipFill>
          <a:blip r:embed="rId1"/>
          <a:stretch/>
        </p:blipFill>
        <p:spPr>
          <a:xfrm>
            <a:off x="3780000" y="1484280"/>
            <a:ext cx="1512720" cy="208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силий Александрович Сухомлинский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/>
          </p:nvPr>
        </p:nvSpPr>
        <p:spPr>
          <a:xfrm>
            <a:off x="2262240" y="2381400"/>
            <a:ext cx="62690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ы живёте среди людей. Каждый ваш поступок, каждое ваше желание отражается на людях. Знайте, что существует граница между тем, что вам хочется, и тем, что можно. Ваши желания - это радости или горести ваших близких. Проверяйте свои поступки сознанием: не причиняете ли вы зла, неприятностей людям. Делайте так, чтобы людям, которые вас окружают, было хорошо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1" name="Picture 4" descr="CAEHK7C3"/>
          <p:cNvPicPr/>
          <p:nvPr/>
        </p:nvPicPr>
        <p:blipFill>
          <a:blip r:embed="rId1"/>
          <a:stretch/>
        </p:blipFill>
        <p:spPr>
          <a:xfrm>
            <a:off x="404640" y="1916280"/>
            <a:ext cx="1387800" cy="21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Всесильная сигарета?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3" name="Picture 7" descr="Курильщикам нельзя пить кофе"/>
          <p:cNvPicPr/>
          <p:nvPr/>
        </p:nvPicPr>
        <p:blipFill>
          <a:blip r:embed="rId1"/>
          <a:stretch/>
        </p:blipFill>
        <p:spPr>
          <a:xfrm>
            <a:off x="2824200" y="1917720"/>
            <a:ext cx="401940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14400" y="-1976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5" name="Picture 4" descr="Состав табачного ды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5 лет курения                  После 25 лет ку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8" name="Picture 4" descr="nonsmokerslung_sm"/>
          <p:cNvPicPr/>
          <p:nvPr/>
        </p:nvPicPr>
        <p:blipFill>
          <a:blip r:embed="rId1"/>
          <a:stretch/>
        </p:blipFill>
        <p:spPr>
          <a:xfrm>
            <a:off x="755640" y="907920"/>
            <a:ext cx="2736720" cy="201312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5" descr="smokerslung_sm"/>
          <p:cNvPicPr/>
          <p:nvPr/>
        </p:nvPicPr>
        <p:blipFill>
          <a:blip r:embed="rId2"/>
          <a:stretch/>
        </p:blipFill>
        <p:spPr>
          <a:xfrm>
            <a:off x="5364000" y="907920"/>
            <a:ext cx="2519640" cy="194472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6"/>
          <p:cNvSpPr/>
          <p:nvPr/>
        </p:nvSpPr>
        <p:spPr>
          <a:xfrm>
            <a:off x="2535480" y="20808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 и сделай выво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1" name="Picture 7" descr="Пейте спиртное, пока не осознаете, что в течение дня ни разу не подумали о сигарет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78936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8" descr="Перед сном можно почитать интересную книжк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3716280"/>
            <a:ext cx="1973160" cy="2160720"/>
          </a:xfrm>
          <a:prstGeom prst="rect">
            <a:avLst/>
          </a:prstGeom>
          <a:ln w="0">
            <a:noFill/>
          </a:ln>
        </p:spPr>
      </p:pic>
      <p:sp>
        <p:nvSpPr>
          <p:cNvPr id="1533" name="Text Box 9"/>
          <p:cNvSpPr/>
          <p:nvPr/>
        </p:nvSpPr>
        <p:spPr>
          <a:xfrm>
            <a:off x="733680" y="306396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некуря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4" name="Text Box 10"/>
          <p:cNvSpPr/>
          <p:nvPr/>
        </p:nvSpPr>
        <p:spPr>
          <a:xfrm>
            <a:off x="5292720" y="2997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куря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1998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98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Picture 2" descr="fatal_mouth_cancer_28years_old"/>
          <p:cNvPicPr/>
          <p:nvPr/>
        </p:nvPicPr>
        <p:blipFill>
          <a:blip r:embed="rId1"/>
          <a:stretch/>
        </p:blipFill>
        <p:spPr>
          <a:xfrm>
            <a:off x="1187280" y="393840"/>
            <a:ext cx="6624720" cy="497988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3"/>
          <p:cNvSpPr/>
          <p:nvPr/>
        </p:nvSpPr>
        <p:spPr>
          <a:xfrm>
            <a:off x="395280" y="57992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к ротовой полости у 28-летнего курильщика с 10-летним стаже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Во Франции подростки однажды устроили состязание: кто выкурит больше сигарет? Победителя ждал приз. Выигравших было двое, но награду они не получили, потому что умерли от острого отравл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ЧЕМ ВАМ УМИР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4" descr="CADRJVAJ"/>
          <p:cNvPicPr/>
          <p:nvPr/>
        </p:nvPicPr>
        <p:blipFill>
          <a:blip r:embed="rId1"/>
          <a:stretch/>
        </p:blipFill>
        <p:spPr>
          <a:xfrm>
            <a:off x="3348000" y="223920"/>
            <a:ext cx="259236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94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Так что же  такое  - курение ?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Это дым из носа и рта…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А в легких сажа, грязнота.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Зачем вы себя засоряете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И жизнь свою сокращаете?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Кто курит табак – тот сам себе враг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1" name="Picture 4" descr="054"/>
          <p:cNvPicPr/>
          <p:nvPr/>
        </p:nvPicPr>
        <p:blipFill>
          <a:blip r:embed="rId1"/>
          <a:stretch/>
        </p:blipFill>
        <p:spPr>
          <a:xfrm>
            <a:off x="3564000" y="407664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4" name="Picture 4" descr="i32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1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ьяному море по колено, а лужа по уши.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13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то у трезвого на уме – то у пьяного на язы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7" name="Rectangle 4"/>
          <p:cNvSpPr/>
          <p:nvPr/>
        </p:nvSpPr>
        <p:spPr>
          <a:xfrm>
            <a:off x="395280" y="206028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 хмелем познаться – с честью расстаться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8" name="Rectangle 5"/>
          <p:cNvSpPr/>
          <p:nvPr/>
        </p:nvSpPr>
        <p:spPr>
          <a:xfrm>
            <a:off x="468360" y="515736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ить до дна – не видать добра.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5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98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доровье – правильная, нормальная деятельность организма, его полное физическое и психическое  благополучие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3" name="Picture 4" descr="CAXG1Z6J"/>
          <p:cNvPicPr/>
          <p:nvPr/>
        </p:nvPicPr>
        <p:blipFill>
          <a:blip r:embed="rId1"/>
          <a:stretch/>
        </p:blipFill>
        <p:spPr>
          <a:xfrm>
            <a:off x="468360" y="4076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5" descr="J0149018"/>
          <p:cNvPicPr/>
          <p:nvPr/>
        </p:nvPicPr>
        <p:blipFill>
          <a:blip r:embed="rId2"/>
          <a:stretch/>
        </p:blipFill>
        <p:spPr>
          <a:xfrm>
            <a:off x="5867280" y="414972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чему мой папа такой? Вечно пьяный и вечно злой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икогда за собой не следит, и на всех почему-то серди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крывает пинком он дверь и врывается в дом, как звер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 обзывает плохими словами, все в доме пинает ног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ама шепчет мне тихо: «Беги!», а мне слышится крик: «Помоги!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Я  - мужчина. Но я еще мал, а то папе я твердо б сказал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Мне стыдно, что ты папа мой. Уходи, нам не нужен такой!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1" name="Picture 4" descr="CAGQWGZ6"/>
          <p:cNvPicPr/>
          <p:nvPr/>
        </p:nvPicPr>
        <p:blipFill>
          <a:blip r:embed="rId1"/>
          <a:stretch/>
        </p:blipFill>
        <p:spPr>
          <a:xfrm>
            <a:off x="2987640" y="54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9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4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5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9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75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73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ДОРОВЬЕ =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спортом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ее настро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кажи, что ты ешь, и я скажу кто ты есть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86" name="Picture 5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840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пределение суточного рациона в течение дн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9" name="Picture 13" descr="питание"/>
          <p:cNvPicPr/>
          <p:nvPr/>
        </p:nvPicPr>
        <p:blipFill>
          <a:blip r:embed="rId1"/>
          <a:stretch/>
        </p:blipFill>
        <p:spPr>
          <a:xfrm>
            <a:off x="324000" y="1628640"/>
            <a:ext cx="309384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0" name="Object 14"/>
          <p:cNvGraphicFramePr/>
          <p:nvPr/>
        </p:nvGraphicFramePr>
        <p:xfrm>
          <a:off x="3419640" y="2643120"/>
          <a:ext cx="5573520" cy="37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1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43120"/>
                    <a:ext cx="557352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15"/>
          <p:cNvSpPr/>
          <p:nvPr/>
        </p:nvSpPr>
        <p:spPr>
          <a:xfrm>
            <a:off x="4500720" y="1628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 завтрак – 25%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 завтрак – 15%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ед – 45%,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жин – 15%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837720" y="3670200"/>
            <a:ext cx="8007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быть полезн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овощей бальзам и фруктов с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целебны ото всех болезн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жизни нашей удлиняют с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4" descr="овощи"/>
          <p:cNvPicPr/>
          <p:nvPr/>
        </p:nvPicPr>
        <p:blipFill>
          <a:blip r:embed="rId1"/>
          <a:stretch/>
        </p:blipFill>
        <p:spPr>
          <a:xfrm>
            <a:off x="2484360" y="333360"/>
            <a:ext cx="4319640" cy="29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ВИЖЕНИЕ - ЖИЗ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8" name="Picture 4" descr="спорт и дети"/>
          <p:cNvPicPr/>
          <p:nvPr/>
        </p:nvPicPr>
        <p:blipFill>
          <a:blip r:embed="rId1"/>
          <a:stretch/>
        </p:blipFill>
        <p:spPr>
          <a:xfrm>
            <a:off x="468360" y="1628640"/>
            <a:ext cx="2735280" cy="23036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5" descr="CA6HWROZ"/>
          <p:cNvPicPr/>
          <p:nvPr/>
        </p:nvPicPr>
        <p:blipFill>
          <a:blip r:embed="rId2"/>
          <a:stretch/>
        </p:blipFill>
        <p:spPr>
          <a:xfrm>
            <a:off x="3203640" y="285264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6" descr="лыжи"/>
          <p:cNvPicPr/>
          <p:nvPr/>
        </p:nvPicPr>
        <p:blipFill>
          <a:blip r:embed="rId3"/>
          <a:stretch/>
        </p:blipFill>
        <p:spPr>
          <a:xfrm>
            <a:off x="5940360" y="4005360"/>
            <a:ext cx="2735280" cy="212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имнастика, физические упражнения, ходьба должны прочно войти в повседневный быт каждого, кто хочет сохранить работоспособность, здоровье, полноценную и радостную жизнь»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4" name="Picture 5" descr="CACTE7C5"/>
          <p:cNvPicPr/>
          <p:nvPr/>
        </p:nvPicPr>
        <p:blipFill>
          <a:blip r:embed="rId1"/>
          <a:stretch/>
        </p:blipFill>
        <p:spPr>
          <a:xfrm>
            <a:off x="6227640" y="40464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6" descr="images"/>
          <p:cNvPicPr/>
          <p:nvPr/>
        </p:nvPicPr>
        <p:blipFill>
          <a:blip r:embed="rId2"/>
          <a:stretch/>
        </p:blipFill>
        <p:spPr>
          <a:xfrm>
            <a:off x="468360" y="404640"/>
            <a:ext cx="2630520" cy="216072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2"/>
          <p:cNvSpPr/>
          <p:nvPr/>
        </p:nvSpPr>
        <p:spPr>
          <a:xfrm>
            <a:off x="46836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07" name="Object 18"/>
          <p:cNvGraphicFramePr/>
          <p:nvPr/>
        </p:nvGraphicFramePr>
        <p:xfrm>
          <a:off x="3203640" y="382680"/>
          <a:ext cx="2881080" cy="23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82680"/>
                    <a:ext cx="288108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1" name="Picture 4" descr="плакат закал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Главный закон закаливания - постепенность и систематичность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Основных средств закаливания четыре: вода, воздух, солнечные лучи и физические упражнения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амое мощное средство закаливания - вода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4" name="Picture 5" descr="закал"/>
          <p:cNvPicPr/>
          <p:nvPr/>
        </p:nvPicPr>
        <p:blipFill>
          <a:blip r:embed="rId1"/>
          <a:stretch/>
        </p:blipFill>
        <p:spPr>
          <a:xfrm>
            <a:off x="1500120" y="2286000"/>
            <a:ext cx="2519280" cy="273672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6" descr="облив"/>
          <p:cNvPicPr/>
          <p:nvPr/>
        </p:nvPicPr>
        <p:blipFill>
          <a:blip r:embed="rId2"/>
          <a:stretch/>
        </p:blipFill>
        <p:spPr>
          <a:xfrm>
            <a:off x="4929120" y="328608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1:18:39Z</dcterms:created>
  <dc:creator>Дима</dc:creator>
  <dc:description/>
  <dc:language>en-US</dc:language>
  <cp:lastModifiedBy>Admin</cp:lastModifiedBy>
  <dcterms:modified xsi:type="dcterms:W3CDTF">2010-08-18T08:44:49Z</dcterms:modified>
  <cp:revision>19</cp:revision>
  <dc:subject/>
  <dc:title>ФОРМУЛА ЗДОРОВЬЯ </dc:title>
</cp:coreProperties>
</file>