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0B8B-4792-4AFC-8B30-37516F0383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45B4-BCE6-4AC7-A67E-A272B9607A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60A-ED12-49A7-91F8-9CC9478C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51D-6747-4E04-8095-3DF5EC3A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429-CC53-4BE0-B14B-C468277A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04D-E3F6-4556-A965-713C6DD9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B413-501C-4B29-B81B-7A995AE3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534-FA72-472E-A947-387D5544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894-31AE-4BCC-AC92-6C951682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7AAD-85DB-4988-9C69-A1970137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0C2-F4E8-417A-BC6E-41E251D7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A31C-55E7-44F7-99AD-027A974C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5E8F-C623-4A18-9A92-E0165946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B76-49BD-415A-8C24-E7C53B78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f6e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BC82-4752-4604-AAD6-6AFC94E2BB0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B26A-D8D6-4E43-B7F8-53B38EF54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georus.by.ru/russia/rivers.shtml.htm" TargetMode="External"/><Relationship Id="rId2" Type="http://schemas.openxmlformats.org/officeDocument/2006/relationships/hyperlink" Target="http://www.volganet.ru/portret.php" TargetMode="External"/><Relationship Id="rId3" Type="http://schemas.openxmlformats.org/officeDocument/2006/relationships/hyperlink" Target="http://www.volganet.ru/portret.php" TargetMode="External"/><Relationship Id="rId4" Type="http://schemas.openxmlformats.org/officeDocument/2006/relationships/hyperlink" Target="http://www.volganet.ru/portret.php" TargetMode="External"/><Relationship Id="rId5" Type="http://schemas.openxmlformats.org/officeDocument/2006/relationships/hyperlink" Target="http://www.volganet.ru/portret.php" TargetMode="External"/><Relationship Id="rId6" Type="http://schemas.openxmlformats.org/officeDocument/2006/relationships/hyperlink" Target="http://www.volganet.ru/portret.php" TargetMode="External"/><Relationship Id="rId7" Type="http://schemas.openxmlformats.org/officeDocument/2006/relationships/hyperlink" Target="http://www.volganet.ru/portret.php" TargetMode="Externa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468360" y="333360"/>
            <a:ext cx="8136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нутренние воды России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3708360" y="5300640"/>
            <a:ext cx="4876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по геогрфии России</a:t>
            </a:r>
            <a:endParaRPr b="0" lang="en-US" sz="1800" spc="1" strike="noStrike">
              <a:ln w="19080">
                <a:solidFill>
                  <a:srgbClr val="0033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 класс.</a:t>
            </a:r>
            <a:endParaRPr b="0" lang="en-US" sz="1800" spc="1" strike="noStrike">
              <a:ln w="19080">
                <a:solidFill>
                  <a:srgbClr val="0033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611280" y="692280"/>
            <a:ext cx="7848360" cy="2939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7785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актическая работа.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1042920" y="2349360"/>
            <a:ext cx="709128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Подписать самые крупные реки России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На контурной карте.(стр. 44-45), задания 2-6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 Охарактеризовать 2 реки (стр. 16-17).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1" name="R. Clyderman - Fur Elise.mp3" descr=""/>
          <p:cNvPicPr/>
          <p:nvPr/>
        </p:nvPicPr>
        <p:blipFill>
          <a:blip r:embed="rId1"/>
          <a:stretch/>
        </p:blipFill>
        <p:spPr>
          <a:xfrm>
            <a:off x="4427640" y="162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4475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4906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Самая полноводная река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нис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м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л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Внезапный подъём уровня воды в ре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овод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вод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во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Размыв горных пород, почв текущей водой называ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куму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ро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дение ре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Большинство рек России имеет пит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жде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днико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его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мешан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Самый низкий уровень воды в ре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овод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ж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ерзае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5435640" y="333360"/>
            <a:ext cx="32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Закрепление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435640" y="1557360"/>
            <a:ext cx="33843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Показать реки на ка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м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Ени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лы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ндиги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ечё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ь, Ирты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10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1000" fill="hold"/>
                                        <p:tgtEl>
                                          <p:spTgt spid="12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12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12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37" dur="500" fill="hold"/>
                                        <p:tgtEl>
                                          <p:spTgt spid="12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1000" fill="hold"/>
                                        <p:tgtEl>
                                          <p:spTgt spid="12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описание одной из рек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ть различные источники, параграф 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ежающее 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творческие работы о других видах внутренних вод Росс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езентации, схемы, тесты, кросворд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684360" y="549360"/>
            <a:ext cx="7848360" cy="2363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62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1128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ринова И. И. «География России» М. «Дрофа» 2006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жина Е.А. «Поурочные разработки по географии» М. «ВАКО» 200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1547640" y="692280"/>
            <a:ext cx="6409080" cy="2452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210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1892160" cy="1943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5280" y="2924280"/>
            <a:ext cx="8569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реки разделяются 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орные ре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ыстрым течением, текущие в узких долинах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равнин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характерным медленным течением и широкими террасированными долинам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ение рек по разме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0"/>
          <p:cNvSpPr txBox="1"/>
          <p:nvPr/>
        </p:nvSpPr>
        <p:spPr>
          <a:xfrm>
            <a:off x="1258920" y="0"/>
            <a:ext cx="69120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нутренние воды - рек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6" name="Text Box 1024"/>
          <p:cNvSpPr/>
          <p:nvPr/>
        </p:nvSpPr>
        <p:spPr>
          <a:xfrm>
            <a:off x="4356000" y="-2332080"/>
            <a:ext cx="6264360" cy="20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При любой системе подсчетов малых рек подавляющее большинство. На малые реки длиной менее 100 км приходится около 99% общего числа рек России (всего более 2 млн.) и свыше 90% их протяж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25"/>
          <p:cNvSpPr/>
          <p:nvPr/>
        </p:nvSpPr>
        <p:spPr>
          <a:xfrm>
            <a:off x="324000" y="5445000"/>
            <a:ext cx="882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любой системе подсчетов малых рек подавляющее большинство. На малые реки длиной менее 100 км приходится около 99% общего числа рек России (всего более 2 млн.) и свыше 90% их протяж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26"/>
          <p:cNvSpPr/>
          <p:nvPr/>
        </p:nvSpPr>
        <p:spPr>
          <a:xfrm>
            <a:off x="2340000" y="54936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Существуют различные классификации р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27"/>
          <p:cNvSpPr/>
          <p:nvPr/>
        </p:nvSpPr>
        <p:spPr>
          <a:xfrm>
            <a:off x="5076720" y="465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62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2400" h="21600">
                <a:moveTo>
                  <a:pt x="162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2400" h="21600">
                <a:moveTo>
                  <a:pt x="13624" y="8224"/>
                </a:moveTo>
                <a:lnTo>
                  <a:pt x="17488" y="8224"/>
                </a:lnTo>
                <a:lnTo>
                  <a:pt x="17488" y="15221"/>
                </a:lnTo>
                <a:lnTo>
                  <a:pt x="18776" y="15221"/>
                </a:lnTo>
                <a:lnTo>
                  <a:pt x="18776" y="16144"/>
                </a:lnTo>
                <a:lnTo>
                  <a:pt x="13624" y="16144"/>
                </a:lnTo>
                <a:lnTo>
                  <a:pt x="13624" y="15221"/>
                </a:lnTo>
                <a:lnTo>
                  <a:pt x="14912" y="15221"/>
                </a:lnTo>
                <a:lnTo>
                  <a:pt x="14912" y="9129"/>
                </a:lnTo>
                <a:lnTo>
                  <a:pt x="136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28" descr=""/>
          <p:cNvPicPr/>
          <p:nvPr/>
        </p:nvPicPr>
        <p:blipFill>
          <a:blip r:embed="rId4"/>
          <a:stretch/>
        </p:blipFill>
        <p:spPr>
          <a:xfrm>
            <a:off x="3419640" y="1019160"/>
            <a:ext cx="2447640" cy="1909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29" descr=""/>
          <p:cNvPicPr/>
          <p:nvPr/>
        </p:nvPicPr>
        <p:blipFill>
          <a:blip r:embed="rId5"/>
          <a:stretch/>
        </p:blipFill>
        <p:spPr>
          <a:xfrm>
            <a:off x="6877080" y="1052640"/>
            <a:ext cx="1722240" cy="18716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030">
            <a:hlinkClick r:id="rId6" action="ppaction://hlinksldjump"/>
          </p:cNvPr>
          <p:cNvSpPr/>
          <p:nvPr/>
        </p:nvSpPr>
        <p:spPr>
          <a:xfrm>
            <a:off x="8388360" y="472428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ru.wikipedia.org/wiki - Ам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ru.wikipedia.or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eorus.by.ru/russia/rivers.shtml.ht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volganet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re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p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О волге и Д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971640" y="260280"/>
            <a:ext cx="7056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нтернет для Вас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3640" y="2060280"/>
            <a:ext cx="460836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трайбулова Антон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иколаев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Учитель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катег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МОУ «Лахденпохская средняя общеобразовательная школыа№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1547640" y="620640"/>
            <a:ext cx="597708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287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 авторе</a:t>
            </a:r>
            <a:endParaRPr b="0" lang="en-US" sz="32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718080" cy="4608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718080" cy="4608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3"/>
          <a:stretch/>
        </p:blipFill>
        <p:spPr>
          <a:xfrm>
            <a:off x="4932360" y="1773360"/>
            <a:ext cx="3718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755640" y="333360"/>
            <a:ext cx="7561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цели и задачи урока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50920" y="906480"/>
            <a:ext cx="80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сширить и углубить знания о реках Росс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Значении и экологическом состоянии водоём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Формировать умение решать практические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50920" y="2683800"/>
            <a:ext cx="86421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Задачи урока: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ть влияние рельефа и климата на особенности рек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самостоятельному поиску географических объектов: 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ть на контурной карте найденные объе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ь практические задачи по определению падения и уклонов р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вать средствами урока чувство бережного отношения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684360" y="189000"/>
            <a:ext cx="78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9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Актуализация знаний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9" name="Picture 5" descr="v023_jpg"/>
          <p:cNvPicPr/>
          <p:nvPr/>
        </p:nvPicPr>
        <p:blipFill>
          <a:blip r:embed="rId1"/>
          <a:stretch/>
        </p:blipFill>
        <p:spPr>
          <a:xfrm>
            <a:off x="755640" y="1628640"/>
            <a:ext cx="7777080" cy="499428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1619280" y="1916280"/>
            <a:ext cx="60483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з воды нет жизни.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755640" y="2637000"/>
            <a:ext cx="7632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ловек не может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жить более 8 дней без воды.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900000" y="4149720"/>
            <a:ext cx="7572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ловеку нужна чистая пресная вода,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торая составляет всего около 2% гидросфеы.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900000" y="5516640"/>
            <a:ext cx="7493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сия богата водами,</a:t>
            </a:r>
            <a:endParaRPr b="0" lang="en-US" sz="2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торые находятся на суше.</a:t>
            </a:r>
            <a:endParaRPr b="0" lang="en-US" sz="2800" spc="1" strike="noStrike">
              <a:ln w="0">
                <a:noFill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1042920" y="907920"/>
            <a:ext cx="7058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Что понимают под 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нутренними водами?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6" name="WordArt 5"/>
          <p:cNvSpPr txBox="1"/>
          <p:nvPr/>
        </p:nvSpPr>
        <p:spPr>
          <a:xfrm>
            <a:off x="1042920" y="2565360"/>
            <a:ext cx="6985080" cy="13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акие внутренние воды 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стречаются в России?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1187280" y="4437000"/>
            <a:ext cx="6985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акие главные компоненты 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лияют на внутренние воды?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8" name="Oval 7"/>
          <p:cNvSpPr/>
          <p:nvPr/>
        </p:nvSpPr>
        <p:spPr>
          <a:xfrm>
            <a:off x="324000" y="189000"/>
            <a:ext cx="718920" cy="71892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68360" y="1890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81010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ки, естественные водные потоки, текущие в выработанном ими русле и питающиеся за счет поверхностного и подземного стока с их бассейн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7380360" y="4437000"/>
            <a:ext cx="1569960" cy="1760760"/>
          </a:xfrm>
          <a:prstGeom prst="rect">
            <a:avLst/>
          </a:prstGeom>
          <a:ln w="0">
            <a:noFill/>
          </a:ln>
        </p:spPr>
      </p:pic>
      <p:sp>
        <p:nvSpPr>
          <p:cNvPr id="73" name="WordArt 1024"/>
          <p:cNvSpPr txBox="1"/>
          <p:nvPr/>
        </p:nvSpPr>
        <p:spPr>
          <a:xfrm>
            <a:off x="1619280" y="260280"/>
            <a:ext cx="612144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то называют реками?</a:t>
            </a:r>
            <a:endParaRPr b="0" lang="en-US" sz="2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Text Box 1025"/>
          <p:cNvSpPr/>
          <p:nvPr/>
        </p:nvSpPr>
        <p:spPr>
          <a:xfrm>
            <a:off x="395280" y="2852640"/>
            <a:ext cx="69134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якая река имеет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исток и устье, или дель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и с притоками образу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чную систем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характер и развитие которой обусловлены главным образом климатом, рельефом, геологическим строением и размерами бассейна, то есть той прилегающей местности, откуда идет сток (см. бассейн речной). Между речными бассейнами проходит граница —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доразд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важнейшим характеристикам относятся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доносность, структура стока по источникам питания, тип водного режима, длина реки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щадь водосбора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клон водной поверхности, ширина и глубина русла, скорость течения воды, ее температура, химический состав вод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026"/>
          <p:cNvSpPr txBox="1"/>
          <p:nvPr/>
        </p:nvSpPr>
        <p:spPr>
          <a:xfrm>
            <a:off x="468360" y="2205000"/>
            <a:ext cx="799128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акие особенности рек вам известны?</a:t>
            </a:r>
            <a:endParaRPr b="0" lang="en-US" sz="2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496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76360" y="260280"/>
            <a:ext cx="54212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Различные классификации ре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203640" y="765000"/>
            <a:ext cx="5616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ьте схем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«Различие рек по разным признака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539640" y="1484280"/>
            <a:ext cx="3135240" cy="4392360"/>
            <a:chOff x="539640" y="1484280"/>
            <a:chExt cx="3135240" cy="4392360"/>
          </a:xfrm>
        </p:grpSpPr>
        <p:sp>
          <p:nvSpPr>
            <p:cNvPr id="81" name="AutoShape 6"/>
            <p:cNvSpPr/>
            <p:nvPr/>
          </p:nvSpPr>
          <p:spPr>
            <a:xfrm>
              <a:off x="1294200" y="2381040"/>
              <a:ext cx="1615680" cy="269172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7"/>
            <p:cNvSpPr/>
            <p:nvPr/>
          </p:nvSpPr>
          <p:spPr>
            <a:xfrm>
              <a:off x="539640" y="4979880"/>
              <a:ext cx="928440" cy="896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"/>
            <p:cNvSpPr/>
            <p:nvPr/>
          </p:nvSpPr>
          <p:spPr>
            <a:xfrm>
              <a:off x="1643040" y="1484280"/>
              <a:ext cx="928800" cy="89676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9"/>
            <p:cNvSpPr/>
            <p:nvPr/>
          </p:nvSpPr>
          <p:spPr>
            <a:xfrm>
              <a:off x="2746440" y="4979880"/>
              <a:ext cx="928440" cy="89676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0"/>
          <p:cNvSpPr/>
          <p:nvPr/>
        </p:nvSpPr>
        <p:spPr>
          <a:xfrm>
            <a:off x="1476360" y="4221000"/>
            <a:ext cx="122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1"/>
          <p:cNvGrpSpPr/>
          <p:nvPr/>
        </p:nvGrpSpPr>
        <p:grpSpPr>
          <a:xfrm>
            <a:off x="3564000" y="2060640"/>
            <a:ext cx="5189040" cy="4343040"/>
            <a:chOff x="3564000" y="2060640"/>
            <a:chExt cx="5189040" cy="4343040"/>
          </a:xfrm>
        </p:grpSpPr>
        <p:sp>
          <p:nvSpPr>
            <p:cNvPr id="87" name="AutoShape 12"/>
            <p:cNvSpPr/>
            <p:nvPr/>
          </p:nvSpPr>
          <p:spPr>
            <a:xfrm>
              <a:off x="4813200" y="2947320"/>
              <a:ext cx="2674080" cy="26614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3"/>
            <p:cNvSpPr/>
            <p:nvPr/>
          </p:nvSpPr>
          <p:spPr>
            <a:xfrm>
              <a:off x="3564000" y="5517000"/>
              <a:ext cx="1536840" cy="8866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4"/>
            <p:cNvSpPr/>
            <p:nvPr/>
          </p:nvSpPr>
          <p:spPr>
            <a:xfrm>
              <a:off x="5389920" y="2060640"/>
              <a:ext cx="1537200" cy="88668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5"/>
            <p:cNvSpPr/>
            <p:nvPr/>
          </p:nvSpPr>
          <p:spPr>
            <a:xfrm>
              <a:off x="7216200" y="5517000"/>
              <a:ext cx="1536840" cy="88668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6"/>
          <p:cNvSpPr/>
          <p:nvPr/>
        </p:nvSpPr>
        <p:spPr>
          <a:xfrm>
            <a:off x="5292720" y="4292640"/>
            <a:ext cx="149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8"/>
          <p:cNvSpPr/>
          <p:nvPr/>
        </p:nvSpPr>
        <p:spPr>
          <a:xfrm>
            <a:off x="1835280" y="3429000"/>
            <a:ext cx="504720" cy="719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719280"/>
              <a:gd name="textAreaBottom" fmla="*/ 686880 h 719280"/>
            </a:gdLst>
            <a:ahLst/>
            <a:rect l="textAreaLeft" t="textAreaTop" r="textAreaRight" b="textAreaBottom"/>
            <a:pathLst>
              <a:path w="21600" h="30776">
                <a:moveTo>
                  <a:pt x="0" y="0"/>
                </a:moveTo>
                <a:lnTo>
                  <a:pt x="21600" y="0"/>
                </a:lnTo>
                <a:lnTo>
                  <a:pt x="21600" y="30776"/>
                </a:lnTo>
                <a:lnTo>
                  <a:pt x="0" y="30776"/>
                </a:lnTo>
                <a:close/>
              </a:path>
              <a:path fill="lightenLess" w="21600" h="307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776">
                <a:moveTo>
                  <a:pt x="21600" y="0"/>
                </a:moveTo>
                <a:lnTo>
                  <a:pt x="21600" y="30776"/>
                </a:lnTo>
                <a:lnTo>
                  <a:pt x="20200" y="29376"/>
                </a:lnTo>
                <a:lnTo>
                  <a:pt x="20200" y="1400"/>
                </a:lnTo>
                <a:close/>
              </a:path>
              <a:path fill="darkenLess" w="21600" h="30776">
                <a:moveTo>
                  <a:pt x="21600" y="30776"/>
                </a:moveTo>
                <a:lnTo>
                  <a:pt x="0" y="30776"/>
                </a:lnTo>
                <a:lnTo>
                  <a:pt x="1400" y="29376"/>
                </a:lnTo>
                <a:lnTo>
                  <a:pt x="20200" y="29376"/>
                </a:lnTo>
                <a:close/>
              </a:path>
              <a:path fill="lighten" w="21600" h="30776">
                <a:moveTo>
                  <a:pt x="0" y="307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9376"/>
                </a:lnTo>
                <a:close/>
              </a:path>
              <a:path fill="darken" w="21600" h="30776">
                <a:moveTo>
                  <a:pt x="10800" y="1939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776">
                <a:moveTo>
                  <a:pt x="11905" y="18869"/>
                </a:moveTo>
                <a:lnTo>
                  <a:pt x="11905" y="16911"/>
                </a:lnTo>
                <a:cubicBezTo>
                  <a:pt x="11905" y="16084"/>
                  <a:pt x="12236" y="15388"/>
                  <a:pt x="12837" y="15388"/>
                </a:cubicBezTo>
                <a:cubicBezTo>
                  <a:pt x="13968" y="15388"/>
                  <a:pt x="14865" y="14021"/>
                  <a:pt x="14865" y="12437"/>
                </a:cubicBezTo>
                <a:cubicBezTo>
                  <a:pt x="14865" y="10122"/>
                  <a:pt x="13011" y="8381"/>
                  <a:pt x="10800" y="8381"/>
                </a:cubicBezTo>
                <a:cubicBezTo>
                  <a:pt x="8589" y="8381"/>
                  <a:pt x="6918" y="10122"/>
                  <a:pt x="6918" y="12437"/>
                </a:cubicBezTo>
                <a:lnTo>
                  <a:pt x="8772" y="12437"/>
                </a:lnTo>
                <a:cubicBezTo>
                  <a:pt x="8772" y="11297"/>
                  <a:pt x="9695" y="10409"/>
                  <a:pt x="10800" y="10409"/>
                </a:cubicBezTo>
                <a:cubicBezTo>
                  <a:pt x="11905" y="10409"/>
                  <a:pt x="12837" y="11297"/>
                  <a:pt x="12837" y="12437"/>
                </a:cubicBezTo>
                <a:cubicBezTo>
                  <a:pt x="12837" y="13177"/>
                  <a:pt x="12367" y="13908"/>
                  <a:pt x="11905" y="13908"/>
                </a:cubicBezTo>
                <a:cubicBezTo>
                  <a:pt x="10800" y="13908"/>
                  <a:pt x="9695" y="15388"/>
                  <a:pt x="9695" y="16911"/>
                </a:cubicBezTo>
                <a:lnTo>
                  <a:pt x="9695" y="1886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9">
            <a:hlinkClick r:id="rId1" action="ppaction://hlinksldjump"/>
          </p:cNvPr>
          <p:cNvSpPr/>
          <p:nvPr/>
        </p:nvSpPr>
        <p:spPr>
          <a:xfrm>
            <a:off x="5724360" y="3933720"/>
            <a:ext cx="792360" cy="43200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603" h="21600">
                <a:moveTo>
                  <a:pt x="0" y="0"/>
                </a:moveTo>
                <a:lnTo>
                  <a:pt x="39603" y="0"/>
                </a:lnTo>
                <a:lnTo>
                  <a:pt x="39603" y="21600"/>
                </a:lnTo>
                <a:lnTo>
                  <a:pt x="0" y="21600"/>
                </a:lnTo>
                <a:close/>
              </a:path>
              <a:path fill="lightenLess" w="39603" h="21600">
                <a:moveTo>
                  <a:pt x="0" y="0"/>
                </a:moveTo>
                <a:lnTo>
                  <a:pt x="39603" y="0"/>
                </a:lnTo>
                <a:lnTo>
                  <a:pt x="38203" y="1400"/>
                </a:lnTo>
                <a:lnTo>
                  <a:pt x="1400" y="1400"/>
                </a:lnTo>
                <a:close/>
              </a:path>
              <a:path fill="darken" w="39603" h="21600">
                <a:moveTo>
                  <a:pt x="39603" y="0"/>
                </a:moveTo>
                <a:lnTo>
                  <a:pt x="39603" y="21600"/>
                </a:lnTo>
                <a:lnTo>
                  <a:pt x="38203" y="20200"/>
                </a:lnTo>
                <a:lnTo>
                  <a:pt x="38203" y="1400"/>
                </a:lnTo>
                <a:close/>
              </a:path>
              <a:path fill="darkenLess" w="39603" h="21600">
                <a:moveTo>
                  <a:pt x="39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3" y="20200"/>
                </a:lnTo>
                <a:close/>
              </a:path>
              <a:path fill="lighten" w="39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3" h="21600">
                <a:moveTo>
                  <a:pt x="198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9603" h="21600">
                <a:moveTo>
                  <a:pt x="20907" y="14281"/>
                </a:moveTo>
                <a:lnTo>
                  <a:pt x="20907" y="12323"/>
                </a:lnTo>
                <a:cubicBezTo>
                  <a:pt x="20907" y="11496"/>
                  <a:pt x="21238" y="10800"/>
                  <a:pt x="21838" y="10800"/>
                </a:cubicBezTo>
                <a:cubicBezTo>
                  <a:pt x="22970" y="10800"/>
                  <a:pt x="23866" y="9434"/>
                  <a:pt x="23866" y="7849"/>
                </a:cubicBezTo>
                <a:cubicBezTo>
                  <a:pt x="23866" y="5534"/>
                  <a:pt x="22012" y="3794"/>
                  <a:pt x="19801" y="3794"/>
                </a:cubicBezTo>
                <a:cubicBezTo>
                  <a:pt x="17591" y="3794"/>
                  <a:pt x="15920" y="5534"/>
                  <a:pt x="15920" y="7849"/>
                </a:cubicBezTo>
                <a:lnTo>
                  <a:pt x="17774" y="7849"/>
                </a:lnTo>
                <a:cubicBezTo>
                  <a:pt x="17774" y="6709"/>
                  <a:pt x="18696" y="5821"/>
                  <a:pt x="19801" y="5821"/>
                </a:cubicBezTo>
                <a:cubicBezTo>
                  <a:pt x="20907" y="5821"/>
                  <a:pt x="21838" y="6709"/>
                  <a:pt x="21838" y="7849"/>
                </a:cubicBezTo>
                <a:cubicBezTo>
                  <a:pt x="21838" y="8589"/>
                  <a:pt x="21368" y="9320"/>
                  <a:pt x="20907" y="9320"/>
                </a:cubicBezTo>
                <a:cubicBezTo>
                  <a:pt x="19801" y="9320"/>
                  <a:pt x="18696" y="10800"/>
                  <a:pt x="18696" y="12323"/>
                </a:cubicBezTo>
                <a:lnTo>
                  <a:pt x="18696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1547640" y="1700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л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395280" y="5229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2556000" y="5300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5364000" y="234936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4"/>
          <p:cNvSpPr/>
          <p:nvPr/>
        </p:nvSpPr>
        <p:spPr>
          <a:xfrm>
            <a:off x="3492360" y="573408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и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7164360" y="5661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и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6" descr="shuya"/>
          <p:cNvPicPr/>
          <p:nvPr/>
        </p:nvPicPr>
        <p:blipFill>
          <a:blip r:embed="rId2"/>
          <a:stretch/>
        </p:blipFill>
        <p:spPr>
          <a:xfrm>
            <a:off x="468360" y="189000"/>
            <a:ext cx="183528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245120" cy="4120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4898880" y="1413000"/>
            <a:ext cx="4245120" cy="41209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0"/>
          <p:cNvSpPr txBox="1"/>
          <p:nvPr/>
        </p:nvSpPr>
        <p:spPr>
          <a:xfrm>
            <a:off x="1258920" y="333360"/>
            <a:ext cx="6514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ка Лена и дельта реки Лен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1024"/>
          <p:cNvSpPr txBox="1"/>
          <p:nvPr/>
        </p:nvSpPr>
        <p:spPr>
          <a:xfrm>
            <a:off x="2050920" y="5516640"/>
            <a:ext cx="5473800" cy="11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овы особенности Лены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611280" y="620640"/>
            <a:ext cx="792144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5640" y="981000"/>
            <a:ext cx="6192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учебнику стр.75-76, определите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называют падением и уклоном реки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рассчи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ияние на особенности р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539640" y="4076640"/>
            <a:ext cx="4608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дение -это превышение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ка реки над устьем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Н ист.-Н устья).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Н- абсолютная высота)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WordArt 7"/>
          <p:cNvSpPr txBox="1"/>
          <p:nvPr/>
        </p:nvSpPr>
        <p:spPr>
          <a:xfrm>
            <a:off x="5219640" y="4149720"/>
            <a:ext cx="36943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ношение падения</a:t>
            </a:r>
            <a:endParaRPr b="0" lang="en-US" sz="2800" spc="1" strike="noStrike">
              <a:ln w="9360">
                <a:solidFill>
                  <a:srgbClr val="0066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ки (см) к её длине (км)</a:t>
            </a:r>
            <a:endParaRPr b="0" lang="en-US" sz="2800" spc="1" strike="noStrike">
              <a:ln w="9360">
                <a:solidFill>
                  <a:srgbClr val="0066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6084720" y="2492280"/>
            <a:ext cx="2808360" cy="1295640"/>
          </a:xfrm>
          <a:prstGeom prst="wedgeRoundRectCallout">
            <a:avLst>
              <a:gd name="adj1" fmla="val -80018"/>
              <a:gd name="adj2" fmla="val 5551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клоны горных рек больше , чем равни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йбулова А. 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611280" y="260280"/>
            <a:ext cx="8137440" cy="3299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187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лияние климата на рекиРоссии.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684360" y="1844640"/>
            <a:ext cx="3887640" cy="387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ание 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дождевое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дниковое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неговое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унтовое (подземное)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мешанное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5148360" y="1844640"/>
            <a:ext cx="32194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жим питания</a:t>
            </a:r>
            <a:endParaRPr b="0" lang="en-US" sz="2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сеннее половодье</a:t>
            </a:r>
            <a:endParaRPr b="0" lang="en-US" sz="2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тнее половодье</a:t>
            </a:r>
            <a:endParaRPr b="0" lang="en-US" sz="2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водок</a:t>
            </a:r>
            <a:endParaRPr b="0" lang="en-US" sz="28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4067280" y="692280"/>
            <a:ext cx="1079280" cy="100800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771640" y="5877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ик стр. 77-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8:37:20Z</dcterms:created>
  <dc:creator>ASUS</dc:creator>
  <dc:description/>
  <dc:language>en-US</dc:language>
  <cp:lastModifiedBy>Коля</cp:lastModifiedBy>
  <dcterms:modified xsi:type="dcterms:W3CDTF">2013-06-14T16:18:25Z</dcterms:modified>
  <cp:revision>68</cp:revision>
  <dc:subject/>
  <dc:title>Реки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7000000000001024140</vt:lpwstr>
  </property>
</Properties>
</file>