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3C4-80B4-4A05-9379-DBD01D46A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9D6-264D-4449-8E7B-6367D284E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5EB-CE60-444C-9190-30CB7A4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9B2-58F4-4568-A853-61564EE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6F4-C4DE-4850-A7C2-8F218D46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A26-8B12-47CD-97F7-0C2215D1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1AD-4EC0-4B95-9158-0385B905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10E-0281-4A9E-8293-E4FCEE3E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289-FA92-4C9D-8851-C994D5DA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ABF-65A5-4D8E-BCDC-1D4F5A2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402-55E6-4BC7-B27C-25763CE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9D3-F517-40FF-B440-E91248C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2BF-CE59-4A92-B70F-970EF27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022-1650-4B54-9781-32CC021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f6e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D16-24A5-4C53-8DE7-F27D93C74DB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577-6769-41B0-99CE-CC3C5CD1D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eorus.by.ru/russia/rivers.shtml.htm" TargetMode="External"/><Relationship Id="rId2" Type="http://schemas.openxmlformats.org/officeDocument/2006/relationships/hyperlink" Target="http://www.volganet.ru/portret.php" TargetMode="External"/><Relationship Id="rId3" Type="http://schemas.openxmlformats.org/officeDocument/2006/relationships/hyperlink" Target="http://www.volganet.ru/portret.php" TargetMode="External"/><Relationship Id="rId4" Type="http://schemas.openxmlformats.org/officeDocument/2006/relationships/hyperlink" Target="http://www.volganet.ru/portret.php" TargetMode="External"/><Relationship Id="rId5" Type="http://schemas.openxmlformats.org/officeDocument/2006/relationships/hyperlink" Target="http://www.volganet.ru/portret.php" TargetMode="External"/><Relationship Id="rId6" Type="http://schemas.openxmlformats.org/officeDocument/2006/relationships/hyperlink" Target="http://www.volganet.ru/portret.php" TargetMode="External"/><Relationship Id="rId7" Type="http://schemas.openxmlformats.org/officeDocument/2006/relationships/hyperlink" Target="http://www.volganet.ru/portret.php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468360" y="333360"/>
            <a:ext cx="813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е воды Росс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708360" y="5300640"/>
            <a:ext cx="4876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по геогрфии России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 класс.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611280" y="692280"/>
            <a:ext cx="7848360" cy="29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785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042920" y="2349360"/>
            <a:ext cx="709128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Подписать самые крупные реки России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На контурной карте.(стр. 44-45), задания 2-6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Охарактеризовать 2 реки (стр. 16-17)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R. Clyderman - Fur Elise.mp3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475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906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амая полноводная рек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Внезапный подъём уровня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од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Размыв горных пород, почв текущей водой назы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кум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дение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Большинство рек России имеет пит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ша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Самый низкий уровень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рз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5435640" y="333360"/>
            <a:ext cx="32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репление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35640" y="1557360"/>
            <a:ext cx="3384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оказать реки 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м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лы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диги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ч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ь, Ирт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описание одной из ре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ть различные источники, параграф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ежающе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творческие работы о других видах внутренних вод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езентации, схемы, тесты, кросвор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684360" y="549360"/>
            <a:ext cx="7848360" cy="2363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62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инова И. И. «География России» М. «Дрофа»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жина Е.А. «Поурочные разработки по географии» М. «ВАКО» 20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547640" y="692280"/>
            <a:ext cx="6409080" cy="24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1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892160" cy="194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реки разделяю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рные ре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ым течением, текущие в узких долинах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равни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характерным медленным течением и широкими террасированными долин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 рек по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0"/>
          <p:cNvSpPr txBox="1"/>
          <p:nvPr/>
        </p:nvSpPr>
        <p:spPr>
          <a:xfrm>
            <a:off x="1258920" y="0"/>
            <a:ext cx="69120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нутренние воды - ре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6" name="Text Box 1024"/>
          <p:cNvSpPr/>
          <p:nvPr/>
        </p:nvSpPr>
        <p:spPr>
          <a:xfrm>
            <a:off x="4356000" y="-2332080"/>
            <a:ext cx="6264360" cy="2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5"/>
          <p:cNvSpPr/>
          <p:nvPr/>
        </p:nvSpPr>
        <p:spPr>
          <a:xfrm>
            <a:off x="324000" y="5445000"/>
            <a:ext cx="88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6"/>
          <p:cNvSpPr/>
          <p:nvPr/>
        </p:nvSpPr>
        <p:spPr>
          <a:xfrm>
            <a:off x="2340000" y="54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уществуют различные классификации 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27"/>
          <p:cNvSpPr/>
          <p:nvPr/>
        </p:nvSpPr>
        <p:spPr>
          <a:xfrm>
            <a:off x="5076720" y="465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00" h="21600">
                <a:moveTo>
                  <a:pt x="162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00" h="21600">
                <a:moveTo>
                  <a:pt x="13624" y="8224"/>
                </a:moveTo>
                <a:lnTo>
                  <a:pt x="17488" y="8224"/>
                </a:lnTo>
                <a:lnTo>
                  <a:pt x="17488" y="15221"/>
                </a:lnTo>
                <a:lnTo>
                  <a:pt x="18776" y="15221"/>
                </a:lnTo>
                <a:lnTo>
                  <a:pt x="18776" y="16144"/>
                </a:lnTo>
                <a:lnTo>
                  <a:pt x="13624" y="16144"/>
                </a:lnTo>
                <a:lnTo>
                  <a:pt x="13624" y="15221"/>
                </a:lnTo>
                <a:lnTo>
                  <a:pt x="14912" y="15221"/>
                </a:lnTo>
                <a:lnTo>
                  <a:pt x="14912" y="9129"/>
                </a:lnTo>
                <a:lnTo>
                  <a:pt x="136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"/>
          <p:cNvPicPr/>
          <p:nvPr/>
        </p:nvPicPr>
        <p:blipFill>
          <a:blip r:embed="rId4"/>
          <a:stretch/>
        </p:blipFill>
        <p:spPr>
          <a:xfrm>
            <a:off x="3419640" y="1019160"/>
            <a:ext cx="2447640" cy="1909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9" descr=""/>
          <p:cNvPicPr/>
          <p:nvPr/>
        </p:nvPicPr>
        <p:blipFill>
          <a:blip r:embed="rId5"/>
          <a:stretch/>
        </p:blipFill>
        <p:spPr>
          <a:xfrm>
            <a:off x="6877080" y="1052640"/>
            <a:ext cx="1722240" cy="18716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030">
            <a:hlinkClick r:id="rId6" action="ppaction://hlinksldjump"/>
          </p:cNvPr>
          <p:cNvSpPr/>
          <p:nvPr/>
        </p:nvSpPr>
        <p:spPr>
          <a:xfrm>
            <a:off x="838836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/wiki - 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eorus.by.ru/russia/rivers.shtml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olganet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r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О волге и Д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971640" y="260280"/>
            <a:ext cx="705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тернет для Ва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2060280"/>
            <a:ext cx="4608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райбулова Анто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кола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читель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атег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ОУ «Лахденпохская средняя общеобразовательная школыа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547640" y="620640"/>
            <a:ext cx="59770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287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 авторе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755640" y="333360"/>
            <a:ext cx="7561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и задачи урока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90648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ширить и углубить знания о реках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начении и экологическом состоянии водоём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умение решать практически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0920" y="26838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Задачи урока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влияние рельефа и климата на особенности рек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амостоятельному поиску географических объектов: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 контурной карте найден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рактические задачи по определению падения и уклонов р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ть средствами урока чувство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18900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ктуализация знаний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9" name="Picture 5" descr="v023_jpg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4994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619280" y="1916280"/>
            <a:ext cx="6048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 воды нет жизни.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755640" y="2637000"/>
            <a:ext cx="7632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не может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жить более 8 дней без воды.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900000" y="4149720"/>
            <a:ext cx="7572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у нужна чистая пресная вода,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ая составляет всего около 2% гидросфеы.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900000" y="5516640"/>
            <a:ext cx="7493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богата водами,</a:t>
            </a:r>
            <a:endParaRPr b="0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ые находятся на суше.</a:t>
            </a:r>
            <a:endParaRPr b="0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907920"/>
            <a:ext cx="705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понимают под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ми водам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042920" y="2565360"/>
            <a:ext cx="69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внутренние вод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тречаются в Росси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187280" y="4437000"/>
            <a:ext cx="698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главные компонент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лияют на внутренние воды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24000" y="189000"/>
            <a:ext cx="718920" cy="718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68360" y="189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101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ки, естественные водные потоки, текущие в выработанном ими русле и питающиеся за счет поверхностного и подземного стока с их бассейн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569960" cy="1760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24"/>
          <p:cNvSpPr txBox="1"/>
          <p:nvPr/>
        </p:nvSpPr>
        <p:spPr>
          <a:xfrm>
            <a:off x="1619280" y="260280"/>
            <a:ext cx="61214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называют реками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Text Box 1025"/>
          <p:cNvSpPr/>
          <p:nvPr/>
        </p:nvSpPr>
        <p:spPr>
          <a:xfrm>
            <a:off x="395280" y="2852640"/>
            <a:ext cx="6913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ая река име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сток и устье, или дель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и с притоками образу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чную систе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характер и развитие которой обусловлены главным образом климатом, рельефом, геологическим строением и размерами бассейна, то есть той прилегающей местности, откуда идет сток (см. бассейн речной). Между речными бассейнами проходит границ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аз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ажнейшим характеристикам относятс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носность, структура стока по источникам питания, тип водного режима, длина рек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щадь водосбора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лон водной поверхности, ширина и глубина русла, скорость течения воды, ее температура, химический состав вод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026"/>
          <p:cNvSpPr txBox="1"/>
          <p:nvPr/>
        </p:nvSpPr>
        <p:spPr>
          <a:xfrm>
            <a:off x="468360" y="2205000"/>
            <a:ext cx="79912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ие особенности рек вам известны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76360" y="260280"/>
            <a:ext cx="5421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азличные классификации ре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03640" y="765000"/>
            <a:ext cx="561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Различие рек по разным признак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39640" y="1484280"/>
            <a:ext cx="3135240" cy="4392360"/>
            <a:chOff x="539640" y="1484280"/>
            <a:chExt cx="3135240" cy="4392360"/>
          </a:xfrm>
        </p:grpSpPr>
        <p:sp>
          <p:nvSpPr>
            <p:cNvPr id="81" name="AutoShape 6"/>
            <p:cNvSpPr/>
            <p:nvPr/>
          </p:nvSpPr>
          <p:spPr>
            <a:xfrm>
              <a:off x="1294200" y="2381040"/>
              <a:ext cx="1615680" cy="2691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539640" y="4979880"/>
              <a:ext cx="928440" cy="896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1643040" y="1484280"/>
              <a:ext cx="928800" cy="896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2746440" y="4979880"/>
              <a:ext cx="928440" cy="896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1476360" y="422100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3564000" y="2060640"/>
            <a:ext cx="5189040" cy="4343040"/>
            <a:chOff x="3564000" y="2060640"/>
            <a:chExt cx="5189040" cy="4343040"/>
          </a:xfrm>
        </p:grpSpPr>
        <p:sp>
          <p:nvSpPr>
            <p:cNvPr id="87" name="AutoShape 12"/>
            <p:cNvSpPr/>
            <p:nvPr/>
          </p:nvSpPr>
          <p:spPr>
            <a:xfrm>
              <a:off x="4813200" y="2947320"/>
              <a:ext cx="26740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564000" y="5517000"/>
              <a:ext cx="153684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4"/>
            <p:cNvSpPr/>
            <p:nvPr/>
          </p:nvSpPr>
          <p:spPr>
            <a:xfrm>
              <a:off x="5389920" y="2060640"/>
              <a:ext cx="153720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5"/>
            <p:cNvSpPr/>
            <p:nvPr/>
          </p:nvSpPr>
          <p:spPr>
            <a:xfrm>
              <a:off x="7216200" y="5517000"/>
              <a:ext cx="153684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6"/>
          <p:cNvSpPr/>
          <p:nvPr/>
        </p:nvSpPr>
        <p:spPr>
          <a:xfrm>
            <a:off x="5292720" y="4292640"/>
            <a:ext cx="149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1835280" y="342900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19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776">
                <a:moveTo>
                  <a:pt x="11905" y="18869"/>
                </a:moveTo>
                <a:lnTo>
                  <a:pt x="11905" y="16911"/>
                </a:lnTo>
                <a:cubicBezTo>
                  <a:pt x="11905" y="16084"/>
                  <a:pt x="12236" y="15388"/>
                  <a:pt x="12837" y="15388"/>
                </a:cubicBezTo>
                <a:cubicBezTo>
                  <a:pt x="13968" y="15388"/>
                  <a:pt x="14865" y="14021"/>
                  <a:pt x="14865" y="12437"/>
                </a:cubicBezTo>
                <a:cubicBezTo>
                  <a:pt x="14865" y="10122"/>
                  <a:pt x="13011" y="8381"/>
                  <a:pt x="10800" y="8381"/>
                </a:cubicBezTo>
                <a:cubicBezTo>
                  <a:pt x="8589" y="8381"/>
                  <a:pt x="6918" y="10122"/>
                  <a:pt x="6918" y="12437"/>
                </a:cubicBezTo>
                <a:lnTo>
                  <a:pt x="8772" y="12437"/>
                </a:lnTo>
                <a:cubicBezTo>
                  <a:pt x="8772" y="11297"/>
                  <a:pt x="9695" y="10409"/>
                  <a:pt x="10800" y="10409"/>
                </a:cubicBezTo>
                <a:cubicBezTo>
                  <a:pt x="11905" y="10409"/>
                  <a:pt x="12837" y="11297"/>
                  <a:pt x="12837" y="12437"/>
                </a:cubicBezTo>
                <a:cubicBezTo>
                  <a:pt x="12837" y="13177"/>
                  <a:pt x="12367" y="13908"/>
                  <a:pt x="11905" y="13908"/>
                </a:cubicBezTo>
                <a:cubicBezTo>
                  <a:pt x="10800" y="13908"/>
                  <a:pt x="9695" y="15388"/>
                  <a:pt x="9695" y="16911"/>
                </a:cubicBezTo>
                <a:lnTo>
                  <a:pt x="9695" y="188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>
            <a:hlinkClick r:id="rId1" action="ppaction://hlinksldjump"/>
          </p:cNvPr>
          <p:cNvSpPr/>
          <p:nvPr/>
        </p:nvSpPr>
        <p:spPr>
          <a:xfrm>
            <a:off x="5724360" y="3933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98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9603" h="21600">
                <a:moveTo>
                  <a:pt x="20907" y="14281"/>
                </a:moveTo>
                <a:lnTo>
                  <a:pt x="20907" y="12323"/>
                </a:lnTo>
                <a:cubicBezTo>
                  <a:pt x="20907" y="11496"/>
                  <a:pt x="21238" y="10800"/>
                  <a:pt x="21838" y="10800"/>
                </a:cubicBezTo>
                <a:cubicBezTo>
                  <a:pt x="22970" y="10800"/>
                  <a:pt x="23866" y="9434"/>
                  <a:pt x="23866" y="7849"/>
                </a:cubicBezTo>
                <a:cubicBezTo>
                  <a:pt x="23866" y="5534"/>
                  <a:pt x="22012" y="3794"/>
                  <a:pt x="19801" y="3794"/>
                </a:cubicBezTo>
                <a:cubicBezTo>
                  <a:pt x="17591" y="3794"/>
                  <a:pt x="15920" y="5534"/>
                  <a:pt x="15920" y="7849"/>
                </a:cubicBezTo>
                <a:lnTo>
                  <a:pt x="17774" y="7849"/>
                </a:lnTo>
                <a:cubicBezTo>
                  <a:pt x="17774" y="6709"/>
                  <a:pt x="18696" y="5821"/>
                  <a:pt x="19801" y="5821"/>
                </a:cubicBezTo>
                <a:cubicBezTo>
                  <a:pt x="20907" y="5821"/>
                  <a:pt x="21838" y="6709"/>
                  <a:pt x="21838" y="7849"/>
                </a:cubicBezTo>
                <a:cubicBezTo>
                  <a:pt x="21838" y="8589"/>
                  <a:pt x="21368" y="9320"/>
                  <a:pt x="20907" y="9320"/>
                </a:cubicBezTo>
                <a:cubicBezTo>
                  <a:pt x="19801" y="9320"/>
                  <a:pt x="18696" y="10800"/>
                  <a:pt x="18696" y="12323"/>
                </a:cubicBezTo>
                <a:lnTo>
                  <a:pt x="1869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47640" y="17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9528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556000" y="530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364000" y="2349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492360" y="573408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6" descr="shuya"/>
          <p:cNvPicPr/>
          <p:nvPr/>
        </p:nvPicPr>
        <p:blipFill>
          <a:blip r:embed="rId2"/>
          <a:stretch/>
        </p:blipFill>
        <p:spPr>
          <a:xfrm>
            <a:off x="468360" y="189000"/>
            <a:ext cx="1835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245120" cy="412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898880" y="1413000"/>
            <a:ext cx="4245120" cy="4120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0"/>
          <p:cNvSpPr txBox="1"/>
          <p:nvPr/>
        </p:nvSpPr>
        <p:spPr>
          <a:xfrm>
            <a:off x="1258920" y="333360"/>
            <a:ext cx="651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а Лена и дельта реки Ле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024"/>
          <p:cNvSpPr txBox="1"/>
          <p:nvPr/>
        </p:nvSpPr>
        <p:spPr>
          <a:xfrm>
            <a:off x="2050920" y="5516640"/>
            <a:ext cx="547380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вы особенности Лены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11280" y="620640"/>
            <a:ext cx="79214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981000"/>
            <a:ext cx="6192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учебнику стр.75-76, определит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азывают падением и уклоном реки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с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на особенност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539640" y="4076640"/>
            <a:ext cx="460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ние -это превыш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ка реки над устьем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 ист.-Н устья).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- абсолютная высота)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5219640" y="4149720"/>
            <a:ext cx="36943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ношение падения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и (см) к её длине (км)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084720" y="2492280"/>
            <a:ext cx="2808360" cy="1295640"/>
          </a:xfrm>
          <a:prstGeom prst="wedgeRoundRectCallout">
            <a:avLst>
              <a:gd name="adj1" fmla="val -80018"/>
              <a:gd name="adj2" fmla="val 55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лоны горных рек больше , чем равни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11280" y="260280"/>
            <a:ext cx="8137440" cy="329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8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ияние климата на рекиРоссии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684360" y="1844640"/>
            <a:ext cx="3887640" cy="38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ие 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дожде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нтовое (подземное)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ешанн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5148360" y="1844640"/>
            <a:ext cx="32194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 питания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н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одок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4067280" y="692280"/>
            <a:ext cx="1079280" cy="1008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771640" y="587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 стр. 77-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37:20Z</dcterms:created>
  <dc:creator>ASUS</dc:creator>
  <dc:description/>
  <dc:language>en-US</dc:language>
  <cp:lastModifiedBy>Коля</cp:lastModifiedBy>
  <dcterms:modified xsi:type="dcterms:W3CDTF">2013-06-14T16:18:25Z</dcterms:modified>
  <cp:revision>68</cp:revision>
  <dc:subject/>
  <dc:title>Рек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140</vt:lpwstr>
  </property>
</Properties>
</file>