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4ABD7-3CC7-4D1A-893D-69F584C09B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43BE1-A5C4-428D-A67E-64AFD12A8F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F986-943B-4113-8E91-A9EE24ADD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1E79-4A1E-4F74-A600-288AD01D2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55E5-B766-4B8D-9987-599D8DF58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F355-1E42-437C-A010-B254BA8F5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74DF-485A-49A4-ABF5-75D7D4D3B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FEBD-FA82-412A-9D96-29B983908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1DF5-3EF5-4B33-8016-03753FDB7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EBA9-F31A-4C0A-9FB8-812A653CA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8F49-449A-4FC5-8002-CC2F010C1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7A24-168C-458A-9381-C0B72A0D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FB19-FD98-4E21-BCB6-BC3973F3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2BD5-ED98-4D9E-BC9F-B2C37C55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8f6e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A1556-2718-4974-9FAD-3C05714A38F6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айбулова А. 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70FBA-95B1-420D-BD80-F1C04F8270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" Target="slide6.xml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georus.by.ru/russia/rivers.shtml.htm" TargetMode="External"/><Relationship Id="rId2" Type="http://schemas.openxmlformats.org/officeDocument/2006/relationships/hyperlink" Target="http://www.volganet.ru/portret.php" TargetMode="External"/><Relationship Id="rId3" Type="http://schemas.openxmlformats.org/officeDocument/2006/relationships/hyperlink" Target="http://www.volganet.ru/portret.php" TargetMode="External"/><Relationship Id="rId4" Type="http://schemas.openxmlformats.org/officeDocument/2006/relationships/hyperlink" Target="http://www.volganet.ru/portret.php" TargetMode="External"/><Relationship Id="rId5" Type="http://schemas.openxmlformats.org/officeDocument/2006/relationships/hyperlink" Target="http://www.volganet.ru/portret.php" TargetMode="External"/><Relationship Id="rId6" Type="http://schemas.openxmlformats.org/officeDocument/2006/relationships/hyperlink" Target="http://www.volganet.ru/portret.php" TargetMode="External"/><Relationship Id="rId7" Type="http://schemas.openxmlformats.org/officeDocument/2006/relationships/hyperlink" Target="http://www.volganet.ru/portret.php" TargetMode="External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айбулова А. 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0" y="2376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51" name="WordArt 6"/>
          <p:cNvSpPr txBox="1"/>
          <p:nvPr/>
        </p:nvSpPr>
        <p:spPr>
          <a:xfrm>
            <a:off x="468360" y="333360"/>
            <a:ext cx="813600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Внутренние воды России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52" name="WordArt 7"/>
          <p:cNvSpPr txBox="1"/>
          <p:nvPr/>
        </p:nvSpPr>
        <p:spPr>
          <a:xfrm>
            <a:off x="3708360" y="5300640"/>
            <a:ext cx="48769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33cc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рок по геогрфии России</a:t>
            </a:r>
            <a:endParaRPr b="0" lang="en-US" sz="1800" spc="1" strike="noStrike">
              <a:ln w="19080">
                <a:solidFill>
                  <a:srgbClr val="0033cc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33cc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 класс.</a:t>
            </a:r>
            <a:endParaRPr b="0" lang="en-US" sz="1800" spc="1" strike="noStrike">
              <a:ln w="19080">
                <a:solidFill>
                  <a:srgbClr val="0033cc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айбулова А. 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WordArt 4"/>
          <p:cNvSpPr txBox="1"/>
          <p:nvPr/>
        </p:nvSpPr>
        <p:spPr>
          <a:xfrm>
            <a:off x="611280" y="692280"/>
            <a:ext cx="7848360" cy="2939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7785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актическая работа.</a:t>
            </a:r>
            <a:endParaRPr b="0" lang="en-US" sz="2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0" name="WordArt 5"/>
          <p:cNvSpPr txBox="1"/>
          <p:nvPr/>
        </p:nvSpPr>
        <p:spPr>
          <a:xfrm>
            <a:off x="1042920" y="2349360"/>
            <a:ext cx="7091280" cy="316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.Подписать самые крупные реки России</a:t>
            </a:r>
            <a:endParaRPr b="0" lang="en-US" sz="2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</a:t>
            </a:r>
            <a:r>
              <a:rPr b="0" lang="en-US" sz="2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.На контурной карте.(стр. 44-45), задания 2-6</a:t>
            </a:r>
            <a:endParaRPr b="0" lang="en-US" sz="2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. Охарактеризовать 2 реки (стр. 16-17).</a:t>
            </a:r>
            <a:endParaRPr b="0" lang="en-US" sz="2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1" name="R. Clyderman - Fur Elise.mp3" descr=""/>
          <p:cNvPicPr/>
          <p:nvPr/>
        </p:nvPicPr>
        <p:blipFill>
          <a:blip r:embed="rId1"/>
          <a:stretch/>
        </p:blipFill>
        <p:spPr>
          <a:xfrm>
            <a:off x="4427640" y="162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86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9" dur="144757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айбулова А. 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49068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 Самая полноводная река Росс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нис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е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м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л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Внезапный подъём уровня воды в ре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ловодь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водн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авод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Размыв горных пород, почв текущей водой называе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ккумуля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роз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адение ре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. Большинство рек России имеет питани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ждев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едников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негов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мешан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. Самый низкий уровень воды в ре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ловодь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еж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мерзаем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WordArt 4"/>
          <p:cNvSpPr txBox="1"/>
          <p:nvPr/>
        </p:nvSpPr>
        <p:spPr>
          <a:xfrm>
            <a:off x="5435640" y="333360"/>
            <a:ext cx="32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1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Закрепление</a:t>
            </a:r>
            <a:endParaRPr b="0" lang="en-US" sz="2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5435640" y="1557360"/>
            <a:ext cx="338436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Показать реки на кар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ол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Ам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Л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Енис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К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Колы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Индиги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ечё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бь, Ирты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animClr clrSpc="rgb">
                                      <p:cBhvr>
                                        <p:cTn id="19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9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1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animClr clrSpc="rgb">
                                      <p:cBhvr>
                                        <p:cTn id="206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07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1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5" dur="5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animClr clrSpc="rgb">
                                      <p:cBhvr>
                                        <p:cTn id="216" dur="5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17" dur="5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1000" fill="hold"/>
                                        <p:tgtEl>
                                          <p:spTgt spid="1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12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animClr clrSpc="rgb">
                                      <p:cBhvr>
                                        <p:cTn id="226" dur="500" fill="hold"/>
                                        <p:tgtEl>
                                          <p:spTgt spid="12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27" dur="500" fill="hold"/>
                                        <p:tgtEl>
                                          <p:spTgt spid="12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1000" fill="hold"/>
                                        <p:tgtEl>
                                          <p:spTgt spid="12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" dur="500" fill="hold"/>
                                        <p:tgtEl>
                                          <p:spTgt spid="12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animClr clrSpc="rgb">
                                      <p:cBhvr>
                                        <p:cTn id="236" dur="500" fill="hold"/>
                                        <p:tgtEl>
                                          <p:spTgt spid="12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37" dur="500" fill="hold"/>
                                        <p:tgtEl>
                                          <p:spTgt spid="12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1" dur="1000" fill="hold"/>
                                        <p:tgtEl>
                                          <p:spTgt spid="12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айбулова А. 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ить описание одной из рек Ро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овать различные источники, параграф 1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ережающее домашнее 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ить творческие работы о других видах внутренних вод Росс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презентации, схемы, тесты, кросворд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WordArt 4"/>
          <p:cNvSpPr txBox="1"/>
          <p:nvPr/>
        </p:nvSpPr>
        <p:spPr>
          <a:xfrm>
            <a:off x="684360" y="549360"/>
            <a:ext cx="7848360" cy="2363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0622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2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айбулова А. 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11280" y="2332080"/>
            <a:ext cx="8229600" cy="34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ринова И. И. «География России» М. «Дрофа» 2006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жина Е.А. «Поурочные разработки по географии» М. «ВАКО» 2004 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WordArt 4"/>
          <p:cNvSpPr txBox="1"/>
          <p:nvPr/>
        </p:nvSpPr>
        <p:spPr>
          <a:xfrm>
            <a:off x="1547640" y="692280"/>
            <a:ext cx="6409080" cy="2452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7210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есурсы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айбулова А. 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1892160" cy="19432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95280" y="2924280"/>
            <a:ext cx="85694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 реки разделяются на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горные рек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ыстрым течением, текущие в узких долинах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равнинны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 характерным медленным течением и широкими террасированными долинами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ление рек по размер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WordArt 0"/>
          <p:cNvSpPr txBox="1"/>
          <p:nvPr/>
        </p:nvSpPr>
        <p:spPr>
          <a:xfrm>
            <a:off x="1258920" y="0"/>
            <a:ext cx="6912000" cy="71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Внутренние воды - рек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36" name="Text Box 1024"/>
          <p:cNvSpPr/>
          <p:nvPr/>
        </p:nvSpPr>
        <p:spPr>
          <a:xfrm>
            <a:off x="4356000" y="-2332080"/>
            <a:ext cx="6264360" cy="20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При любой системе подсчетов малых рек подавляющее большинство. На малые реки длиной менее 100 км приходится около 99% общего числа рек России (всего более 2 млн.) и свыше 90% их протяжен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25"/>
          <p:cNvSpPr/>
          <p:nvPr/>
        </p:nvSpPr>
        <p:spPr>
          <a:xfrm>
            <a:off x="324000" y="5445000"/>
            <a:ext cx="8820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любой системе подсчетов малых рек подавляющее большинство. На малые реки длиной менее 100 км приходится около 99% общего числа рек России (всего более 2 млн.) и свыше 90% их протяжен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026"/>
          <p:cNvSpPr/>
          <p:nvPr/>
        </p:nvSpPr>
        <p:spPr>
          <a:xfrm>
            <a:off x="2340000" y="549360"/>
            <a:ext cx="547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Существуют различные классификации р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027"/>
          <p:cNvSpPr/>
          <p:nvPr/>
        </p:nvSpPr>
        <p:spPr>
          <a:xfrm>
            <a:off x="5076720" y="465300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162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32400" h="21600">
                <a:moveTo>
                  <a:pt x="162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32400" h="21600">
                <a:moveTo>
                  <a:pt x="13624" y="8224"/>
                </a:moveTo>
                <a:lnTo>
                  <a:pt x="17488" y="8224"/>
                </a:lnTo>
                <a:lnTo>
                  <a:pt x="17488" y="15221"/>
                </a:lnTo>
                <a:lnTo>
                  <a:pt x="18776" y="15221"/>
                </a:lnTo>
                <a:lnTo>
                  <a:pt x="18776" y="16144"/>
                </a:lnTo>
                <a:lnTo>
                  <a:pt x="13624" y="16144"/>
                </a:lnTo>
                <a:lnTo>
                  <a:pt x="13624" y="15221"/>
                </a:lnTo>
                <a:lnTo>
                  <a:pt x="14912" y="15221"/>
                </a:lnTo>
                <a:lnTo>
                  <a:pt x="14912" y="9129"/>
                </a:lnTo>
                <a:lnTo>
                  <a:pt x="136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028" descr=""/>
          <p:cNvPicPr/>
          <p:nvPr/>
        </p:nvPicPr>
        <p:blipFill>
          <a:blip r:embed="rId4"/>
          <a:stretch/>
        </p:blipFill>
        <p:spPr>
          <a:xfrm>
            <a:off x="3419640" y="1019160"/>
            <a:ext cx="2447640" cy="1909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29" descr=""/>
          <p:cNvPicPr/>
          <p:nvPr/>
        </p:nvPicPr>
        <p:blipFill>
          <a:blip r:embed="rId5"/>
          <a:stretch/>
        </p:blipFill>
        <p:spPr>
          <a:xfrm>
            <a:off x="6877080" y="1052640"/>
            <a:ext cx="1722240" cy="187164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1030">
            <a:hlinkClick r:id="rId6" action="ppaction://hlinksldjump"/>
          </p:cNvPr>
          <p:cNvSpPr/>
          <p:nvPr/>
        </p:nvSpPr>
        <p:spPr>
          <a:xfrm>
            <a:off x="8388360" y="4724280"/>
            <a:ext cx="576360" cy="3603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34" h="21600">
                <a:moveTo>
                  <a:pt x="0" y="0"/>
                </a:moveTo>
                <a:lnTo>
                  <a:pt x="34534" y="0"/>
                </a:lnTo>
                <a:lnTo>
                  <a:pt x="34534" y="21600"/>
                </a:lnTo>
                <a:lnTo>
                  <a:pt x="0" y="21600"/>
                </a:lnTo>
                <a:close/>
              </a:path>
              <a:path fill="lightenLess" w="34534" h="21600">
                <a:moveTo>
                  <a:pt x="0" y="0"/>
                </a:moveTo>
                <a:lnTo>
                  <a:pt x="34534" y="0"/>
                </a:lnTo>
                <a:lnTo>
                  <a:pt x="33134" y="1400"/>
                </a:lnTo>
                <a:lnTo>
                  <a:pt x="1400" y="1400"/>
                </a:lnTo>
                <a:close/>
              </a:path>
              <a:path fill="darken" w="34534" h="21600">
                <a:moveTo>
                  <a:pt x="34534" y="0"/>
                </a:moveTo>
                <a:lnTo>
                  <a:pt x="34534" y="21600"/>
                </a:lnTo>
                <a:lnTo>
                  <a:pt x="33134" y="20200"/>
                </a:lnTo>
                <a:lnTo>
                  <a:pt x="33134" y="1400"/>
                </a:lnTo>
                <a:close/>
              </a:path>
              <a:path fill="darkenLess" w="34534" h="21600">
                <a:moveTo>
                  <a:pt x="34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34" y="20200"/>
                </a:lnTo>
                <a:close/>
              </a:path>
              <a:path fill="lighten" w="34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34" h="21600">
                <a:moveTo>
                  <a:pt x="10261" y="10800"/>
                </a:moveTo>
                <a:lnTo>
                  <a:pt x="24274" y="3794"/>
                </a:lnTo>
                <a:lnTo>
                  <a:pt x="242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айбулова А. 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ru.wikipedia.org/wiki - Аму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ru.wikipedia.or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georus.by.ru/russia/rivers.shtml.ht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Ре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.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volganet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tre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p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О волге и До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WordArt 4"/>
          <p:cNvSpPr txBox="1"/>
          <p:nvPr/>
        </p:nvSpPr>
        <p:spPr>
          <a:xfrm>
            <a:off x="971640" y="260280"/>
            <a:ext cx="70563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Интернет для Вас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айбулова А. 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23640" y="2060280"/>
            <a:ext cx="4608360" cy="57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Страйбулова Антон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Николаев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Учитель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катего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МОУ «Лахденпохская средняя общеобразовательная школыа№1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WordArt 4"/>
          <p:cNvSpPr txBox="1"/>
          <p:nvPr/>
        </p:nvSpPr>
        <p:spPr>
          <a:xfrm>
            <a:off x="1547640" y="620640"/>
            <a:ext cx="5977080" cy="863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8287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б авторе</a:t>
            </a:r>
            <a:endParaRPr b="0" lang="en-US" sz="3200" spc="1" strike="noStrike">
              <a:ln w="9360">
                <a:solidFill>
                  <a:srgbClr val="ff00ff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49" name="Picture 5" descr=""/>
          <p:cNvPicPr/>
          <p:nvPr/>
        </p:nvPicPr>
        <p:blipFill>
          <a:blip r:embed="rId1"/>
          <a:stretch/>
        </p:blipFill>
        <p:spPr>
          <a:xfrm>
            <a:off x="4932360" y="1773360"/>
            <a:ext cx="3718080" cy="4608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"/>
          <p:cNvPicPr/>
          <p:nvPr/>
        </p:nvPicPr>
        <p:blipFill>
          <a:blip r:embed="rId2"/>
          <a:stretch/>
        </p:blipFill>
        <p:spPr>
          <a:xfrm>
            <a:off x="4932360" y="1773360"/>
            <a:ext cx="3718080" cy="4608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3"/>
          <a:stretch/>
        </p:blipFill>
        <p:spPr>
          <a:xfrm>
            <a:off x="4932360" y="1773360"/>
            <a:ext cx="37180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айбулова А. 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4"/>
          <p:cNvSpPr txBox="1"/>
          <p:nvPr/>
        </p:nvSpPr>
        <p:spPr>
          <a:xfrm>
            <a:off x="755640" y="333360"/>
            <a:ext cx="756144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цели и задачи урока</a:t>
            </a:r>
            <a:endParaRPr b="0" lang="en-US" sz="2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250920" y="906480"/>
            <a:ext cx="80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Цели уро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Расширить и углубить знания о реках Росси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Значении и экологическом состоянии водоём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Формировать умение решать практические зада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250920" y="2683800"/>
            <a:ext cx="864216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Задачи урока: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ть влияние рельефа и климата на особенности рек Росс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ь самостоятельному поиску географических объектов: р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ять на контурной карте найденные объек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ить практические задачи по определению падения и уклонов ре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звать средствами урока чувство бережного отношения к прир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айбулова А. 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4"/>
          <p:cNvSpPr txBox="1"/>
          <p:nvPr/>
        </p:nvSpPr>
        <p:spPr>
          <a:xfrm>
            <a:off x="684360" y="189000"/>
            <a:ext cx="7848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92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Актуализация знаний</a:t>
            </a:r>
            <a:endParaRPr b="0" lang="en-US" sz="2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59" name="Picture 5" descr="v023_jpg"/>
          <p:cNvPicPr/>
          <p:nvPr/>
        </p:nvPicPr>
        <p:blipFill>
          <a:blip r:embed="rId1"/>
          <a:stretch/>
        </p:blipFill>
        <p:spPr>
          <a:xfrm>
            <a:off x="755640" y="1628640"/>
            <a:ext cx="7777080" cy="4994280"/>
          </a:xfrm>
          <a:prstGeom prst="rect">
            <a:avLst/>
          </a:prstGeom>
          <a:ln w="0">
            <a:noFill/>
          </a:ln>
        </p:spPr>
      </p:pic>
      <p:sp>
        <p:nvSpPr>
          <p:cNvPr id="60" name="WordArt 6"/>
          <p:cNvSpPr txBox="1"/>
          <p:nvPr/>
        </p:nvSpPr>
        <p:spPr>
          <a:xfrm>
            <a:off x="1619280" y="1916280"/>
            <a:ext cx="604836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ез воды нет жизни.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WordArt 7"/>
          <p:cNvSpPr txBox="1"/>
          <p:nvPr/>
        </p:nvSpPr>
        <p:spPr>
          <a:xfrm>
            <a:off x="755640" y="2637000"/>
            <a:ext cx="763272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еловек не может</a:t>
            </a:r>
            <a:endParaRPr b="0" lang="en-US" sz="2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жить более 8 дней без воды.</a:t>
            </a:r>
            <a:endParaRPr b="0" lang="en-US" sz="2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WordArt 9"/>
          <p:cNvSpPr txBox="1"/>
          <p:nvPr/>
        </p:nvSpPr>
        <p:spPr>
          <a:xfrm>
            <a:off x="900000" y="4149720"/>
            <a:ext cx="75726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еловеку нужна чистая пресная вода,</a:t>
            </a:r>
            <a:endParaRPr b="0" lang="en-US" sz="2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торая составляет всего около 2% гидросфеы.</a:t>
            </a:r>
            <a:endParaRPr b="0" lang="en-US" sz="28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WordArt 10"/>
          <p:cNvSpPr txBox="1"/>
          <p:nvPr/>
        </p:nvSpPr>
        <p:spPr>
          <a:xfrm>
            <a:off x="900000" y="5516640"/>
            <a:ext cx="74930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оссия богата водами,</a:t>
            </a:r>
            <a:endParaRPr b="0" lang="en-US" sz="2800" spc="1" strike="noStrike">
              <a:ln w="0">
                <a:noFill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800" spc="1" strike="noStrike">
                <a:ln w="0">
                  <a:noFill/>
                </a:ln>
                <a:blipFill rotWithShape="0">
                  <a:blip r:embed="rId1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торые находятся на суше.</a:t>
            </a:r>
            <a:endParaRPr b="0" lang="en-US" sz="2800" spc="1" strike="noStrike">
              <a:ln w="0">
                <a:noFill/>
              </a:ln>
              <a:blipFill rotWithShape="0">
                <a:blip r:embed="rId1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7000"/>
                            </p:stCondLst>
                            <p:childTnLst>
                              <p:par>
                                <p:cTn id="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3000"/>
                            </p:stCondLst>
                            <p:childTnLst>
                              <p:par>
                                <p:cTn id="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айбулова А. 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4"/>
          <p:cNvSpPr txBox="1"/>
          <p:nvPr/>
        </p:nvSpPr>
        <p:spPr>
          <a:xfrm>
            <a:off x="1042920" y="907920"/>
            <a:ext cx="70581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Что понимают под </a:t>
            </a:r>
            <a:endParaRPr b="0" lang="en-US" sz="2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внутренними водами?</a:t>
            </a:r>
            <a:endParaRPr b="0" lang="en-US" sz="2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66" name="WordArt 5"/>
          <p:cNvSpPr txBox="1"/>
          <p:nvPr/>
        </p:nvSpPr>
        <p:spPr>
          <a:xfrm>
            <a:off x="1042920" y="2565360"/>
            <a:ext cx="6985080" cy="131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Какие внутренние воды </a:t>
            </a:r>
            <a:endParaRPr b="0" lang="en-US" sz="2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встречаются в России?</a:t>
            </a:r>
            <a:endParaRPr b="0" lang="en-US" sz="2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67" name="WordArt 6"/>
          <p:cNvSpPr txBox="1"/>
          <p:nvPr/>
        </p:nvSpPr>
        <p:spPr>
          <a:xfrm>
            <a:off x="1187280" y="4437000"/>
            <a:ext cx="69850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4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какие главные компоненты </a:t>
            </a:r>
            <a:endParaRPr b="0" lang="en-US" sz="2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влияют на внутренние воды?</a:t>
            </a:r>
            <a:endParaRPr b="0" lang="en-US" sz="2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68" name="Oval 7"/>
          <p:cNvSpPr/>
          <p:nvPr/>
        </p:nvSpPr>
        <p:spPr>
          <a:xfrm>
            <a:off x="324000" y="189000"/>
            <a:ext cx="718920" cy="718920"/>
          </a:xfrm>
          <a:prstGeom prst="ellipse">
            <a:avLst/>
          </a:prstGeom>
          <a:solidFill>
            <a:srgbClr val="bbe0e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468360" y="18900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000"/>
                            </p:stCondLst>
                            <p:childTnLst>
                              <p:par>
                                <p:cTn id="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айбулова А. 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539280" y="907560"/>
            <a:ext cx="810108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еки, естественные водные потоки, текущие в выработанном ими русле и питающиеся за счет поверхностного и подземного стока с их бассейнов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7380360" y="4437000"/>
            <a:ext cx="1569960" cy="1760760"/>
          </a:xfrm>
          <a:prstGeom prst="rect">
            <a:avLst/>
          </a:prstGeom>
          <a:ln w="0">
            <a:noFill/>
          </a:ln>
        </p:spPr>
      </p:pic>
      <p:sp>
        <p:nvSpPr>
          <p:cNvPr id="73" name="WordArt 1024"/>
          <p:cNvSpPr txBox="1"/>
          <p:nvPr/>
        </p:nvSpPr>
        <p:spPr>
          <a:xfrm>
            <a:off x="1619280" y="260280"/>
            <a:ext cx="6121440" cy="47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Что называют реками?</a:t>
            </a:r>
            <a:endParaRPr b="0" lang="en-US" sz="2800" spc="1" strike="noStrike">
              <a:ln w="1260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Text Box 1025"/>
          <p:cNvSpPr/>
          <p:nvPr/>
        </p:nvSpPr>
        <p:spPr>
          <a:xfrm>
            <a:off x="395280" y="2852640"/>
            <a:ext cx="691344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якая река имеет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исток и устье, или дель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ки с притоками образую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чную систему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характер и развитие которой обусловлены главным образом климатом, рельефом, геологическим строением и размерами бассейна, то есть той прилегающей местности, откуда идет сток (см. бассейн речной). Между речными бассейнами проходит граница —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доразд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 важнейшим характеристикам относятся: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доносность, структура стока по источникам питания, тип водного режима, длина реки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лощадь водосбора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клон водной поверхности, ширина и глубина русла, скорость течения воды, ее температура, химический состав вод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1026"/>
          <p:cNvSpPr txBox="1"/>
          <p:nvPr/>
        </p:nvSpPr>
        <p:spPr>
          <a:xfrm>
            <a:off x="468360" y="2205000"/>
            <a:ext cx="7991280" cy="54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акие особенности рек вам известны?</a:t>
            </a:r>
            <a:endParaRPr b="0" lang="en-US" sz="2800" spc="1" strike="noStrike">
              <a:ln w="1260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ver dir="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айбулова А. 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49636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76360" y="260280"/>
            <a:ext cx="54212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Различные классификации рек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3203640" y="765000"/>
            <a:ext cx="561636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дание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ьте схем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«Различие рек по разным признака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5"/>
          <p:cNvGrpSpPr/>
          <p:nvPr/>
        </p:nvGrpSpPr>
        <p:grpSpPr>
          <a:xfrm>
            <a:off x="539640" y="1484280"/>
            <a:ext cx="3135240" cy="4392360"/>
            <a:chOff x="539640" y="1484280"/>
            <a:chExt cx="3135240" cy="4392360"/>
          </a:xfrm>
        </p:grpSpPr>
        <p:sp>
          <p:nvSpPr>
            <p:cNvPr id="81" name="AutoShape 6"/>
            <p:cNvSpPr/>
            <p:nvPr/>
          </p:nvSpPr>
          <p:spPr>
            <a:xfrm>
              <a:off x="1294200" y="2381040"/>
              <a:ext cx="1615680" cy="269172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7"/>
            <p:cNvSpPr/>
            <p:nvPr/>
          </p:nvSpPr>
          <p:spPr>
            <a:xfrm>
              <a:off x="539640" y="4979880"/>
              <a:ext cx="928440" cy="8967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8"/>
            <p:cNvSpPr/>
            <p:nvPr/>
          </p:nvSpPr>
          <p:spPr>
            <a:xfrm>
              <a:off x="1643040" y="1484280"/>
              <a:ext cx="928800" cy="89676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9"/>
            <p:cNvSpPr/>
            <p:nvPr/>
          </p:nvSpPr>
          <p:spPr>
            <a:xfrm>
              <a:off x="2746440" y="4979880"/>
              <a:ext cx="928440" cy="89676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Text Box 10"/>
          <p:cNvSpPr/>
          <p:nvPr/>
        </p:nvSpPr>
        <p:spPr>
          <a:xfrm>
            <a:off x="1476360" y="4221000"/>
            <a:ext cx="1224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мер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11"/>
          <p:cNvGrpSpPr/>
          <p:nvPr/>
        </p:nvGrpSpPr>
        <p:grpSpPr>
          <a:xfrm>
            <a:off x="3564000" y="2060640"/>
            <a:ext cx="5189040" cy="4343040"/>
            <a:chOff x="3564000" y="2060640"/>
            <a:chExt cx="5189040" cy="4343040"/>
          </a:xfrm>
        </p:grpSpPr>
        <p:sp>
          <p:nvSpPr>
            <p:cNvPr id="87" name="AutoShape 12"/>
            <p:cNvSpPr/>
            <p:nvPr/>
          </p:nvSpPr>
          <p:spPr>
            <a:xfrm>
              <a:off x="4813200" y="2947320"/>
              <a:ext cx="2674080" cy="266148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13"/>
            <p:cNvSpPr/>
            <p:nvPr/>
          </p:nvSpPr>
          <p:spPr>
            <a:xfrm>
              <a:off x="3564000" y="5517000"/>
              <a:ext cx="1536840" cy="8866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14"/>
            <p:cNvSpPr/>
            <p:nvPr/>
          </p:nvSpPr>
          <p:spPr>
            <a:xfrm>
              <a:off x="5389920" y="2060640"/>
              <a:ext cx="1537200" cy="88668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15"/>
            <p:cNvSpPr/>
            <p:nvPr/>
          </p:nvSpPr>
          <p:spPr>
            <a:xfrm>
              <a:off x="7216200" y="5517000"/>
              <a:ext cx="1536840" cy="88668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Text Box 16"/>
          <p:cNvSpPr/>
          <p:nvPr/>
        </p:nvSpPr>
        <p:spPr>
          <a:xfrm>
            <a:off x="5292720" y="4292640"/>
            <a:ext cx="1496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аракте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8"/>
          <p:cNvSpPr/>
          <p:nvPr/>
        </p:nvSpPr>
        <p:spPr>
          <a:xfrm>
            <a:off x="1835280" y="3429000"/>
            <a:ext cx="504720" cy="7192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719280"/>
              <a:gd name="textAreaBottom" fmla="*/ 686880 h 719280"/>
            </a:gdLst>
            <a:ahLst/>
            <a:rect l="textAreaLeft" t="textAreaTop" r="textAreaRight" b="textAreaBottom"/>
            <a:pathLst>
              <a:path w="21600" h="30776">
                <a:moveTo>
                  <a:pt x="0" y="0"/>
                </a:moveTo>
                <a:lnTo>
                  <a:pt x="21600" y="0"/>
                </a:lnTo>
                <a:lnTo>
                  <a:pt x="21600" y="30776"/>
                </a:lnTo>
                <a:lnTo>
                  <a:pt x="0" y="30776"/>
                </a:lnTo>
                <a:close/>
              </a:path>
              <a:path fill="lightenLess" w="21600" h="307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776">
                <a:moveTo>
                  <a:pt x="21600" y="0"/>
                </a:moveTo>
                <a:lnTo>
                  <a:pt x="21600" y="30776"/>
                </a:lnTo>
                <a:lnTo>
                  <a:pt x="20200" y="29376"/>
                </a:lnTo>
                <a:lnTo>
                  <a:pt x="20200" y="1400"/>
                </a:lnTo>
                <a:close/>
              </a:path>
              <a:path fill="darkenLess" w="21600" h="30776">
                <a:moveTo>
                  <a:pt x="21600" y="30776"/>
                </a:moveTo>
                <a:lnTo>
                  <a:pt x="0" y="30776"/>
                </a:lnTo>
                <a:lnTo>
                  <a:pt x="1400" y="29376"/>
                </a:lnTo>
                <a:lnTo>
                  <a:pt x="20200" y="29376"/>
                </a:lnTo>
                <a:close/>
              </a:path>
              <a:path fill="lighten" w="21600" h="30776">
                <a:moveTo>
                  <a:pt x="0" y="307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9376"/>
                </a:lnTo>
                <a:close/>
              </a:path>
              <a:path fill="darken" w="21600" h="30776">
                <a:moveTo>
                  <a:pt x="10800" y="19392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0776">
                <a:moveTo>
                  <a:pt x="11905" y="18869"/>
                </a:moveTo>
                <a:lnTo>
                  <a:pt x="11905" y="16911"/>
                </a:lnTo>
                <a:cubicBezTo>
                  <a:pt x="11905" y="16084"/>
                  <a:pt x="12236" y="15388"/>
                  <a:pt x="12837" y="15388"/>
                </a:cubicBezTo>
                <a:cubicBezTo>
                  <a:pt x="13968" y="15388"/>
                  <a:pt x="14865" y="14021"/>
                  <a:pt x="14865" y="12437"/>
                </a:cubicBezTo>
                <a:cubicBezTo>
                  <a:pt x="14865" y="10122"/>
                  <a:pt x="13011" y="8381"/>
                  <a:pt x="10800" y="8381"/>
                </a:cubicBezTo>
                <a:cubicBezTo>
                  <a:pt x="8589" y="8381"/>
                  <a:pt x="6918" y="10122"/>
                  <a:pt x="6918" y="12437"/>
                </a:cubicBezTo>
                <a:lnTo>
                  <a:pt x="8772" y="12437"/>
                </a:lnTo>
                <a:cubicBezTo>
                  <a:pt x="8772" y="11297"/>
                  <a:pt x="9695" y="10409"/>
                  <a:pt x="10800" y="10409"/>
                </a:cubicBezTo>
                <a:cubicBezTo>
                  <a:pt x="11905" y="10409"/>
                  <a:pt x="12837" y="11297"/>
                  <a:pt x="12837" y="12437"/>
                </a:cubicBezTo>
                <a:cubicBezTo>
                  <a:pt x="12837" y="13177"/>
                  <a:pt x="12367" y="13908"/>
                  <a:pt x="11905" y="13908"/>
                </a:cubicBezTo>
                <a:cubicBezTo>
                  <a:pt x="10800" y="13908"/>
                  <a:pt x="9695" y="15388"/>
                  <a:pt x="9695" y="16911"/>
                </a:cubicBezTo>
                <a:lnTo>
                  <a:pt x="9695" y="1886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9">
            <a:hlinkClick r:id="rId1" action="ppaction://hlinksldjump"/>
          </p:cNvPr>
          <p:cNvSpPr/>
          <p:nvPr/>
        </p:nvSpPr>
        <p:spPr>
          <a:xfrm>
            <a:off x="5724360" y="3933720"/>
            <a:ext cx="792360" cy="432000"/>
          </a:xfrm>
          <a:custGeom>
            <a:avLst/>
            <a:gdLst>
              <a:gd name="textAreaLeft" fmla="*/ 27720 w 792360"/>
              <a:gd name="textAreaRight" fmla="*/ 764640 w 792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603" h="21600">
                <a:moveTo>
                  <a:pt x="0" y="0"/>
                </a:moveTo>
                <a:lnTo>
                  <a:pt x="39603" y="0"/>
                </a:lnTo>
                <a:lnTo>
                  <a:pt x="39603" y="21600"/>
                </a:lnTo>
                <a:lnTo>
                  <a:pt x="0" y="21600"/>
                </a:lnTo>
                <a:close/>
              </a:path>
              <a:path fill="lightenLess" w="39603" h="21600">
                <a:moveTo>
                  <a:pt x="0" y="0"/>
                </a:moveTo>
                <a:lnTo>
                  <a:pt x="39603" y="0"/>
                </a:lnTo>
                <a:lnTo>
                  <a:pt x="38203" y="1400"/>
                </a:lnTo>
                <a:lnTo>
                  <a:pt x="1400" y="1400"/>
                </a:lnTo>
                <a:close/>
              </a:path>
              <a:path fill="darken" w="39603" h="21600">
                <a:moveTo>
                  <a:pt x="39603" y="0"/>
                </a:moveTo>
                <a:lnTo>
                  <a:pt x="39603" y="21600"/>
                </a:lnTo>
                <a:lnTo>
                  <a:pt x="38203" y="20200"/>
                </a:lnTo>
                <a:lnTo>
                  <a:pt x="38203" y="1400"/>
                </a:lnTo>
                <a:close/>
              </a:path>
              <a:path fill="darkenLess" w="39603" h="21600">
                <a:moveTo>
                  <a:pt x="396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03" y="20200"/>
                </a:lnTo>
                <a:close/>
              </a:path>
              <a:path fill="lighten" w="396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03" h="21600">
                <a:moveTo>
                  <a:pt x="198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9603" h="21600">
                <a:moveTo>
                  <a:pt x="20907" y="14281"/>
                </a:moveTo>
                <a:lnTo>
                  <a:pt x="20907" y="12323"/>
                </a:lnTo>
                <a:cubicBezTo>
                  <a:pt x="20907" y="11496"/>
                  <a:pt x="21238" y="10800"/>
                  <a:pt x="21838" y="10800"/>
                </a:cubicBezTo>
                <a:cubicBezTo>
                  <a:pt x="22970" y="10800"/>
                  <a:pt x="23866" y="9434"/>
                  <a:pt x="23866" y="7849"/>
                </a:cubicBezTo>
                <a:cubicBezTo>
                  <a:pt x="23866" y="5534"/>
                  <a:pt x="22012" y="3794"/>
                  <a:pt x="19801" y="3794"/>
                </a:cubicBezTo>
                <a:cubicBezTo>
                  <a:pt x="17591" y="3794"/>
                  <a:pt x="15920" y="5534"/>
                  <a:pt x="15920" y="7849"/>
                </a:cubicBezTo>
                <a:lnTo>
                  <a:pt x="17774" y="7849"/>
                </a:lnTo>
                <a:cubicBezTo>
                  <a:pt x="17774" y="6709"/>
                  <a:pt x="18696" y="5821"/>
                  <a:pt x="19801" y="5821"/>
                </a:cubicBezTo>
                <a:cubicBezTo>
                  <a:pt x="20907" y="5821"/>
                  <a:pt x="21838" y="6709"/>
                  <a:pt x="21838" y="7849"/>
                </a:cubicBezTo>
                <a:cubicBezTo>
                  <a:pt x="21838" y="8589"/>
                  <a:pt x="21368" y="9320"/>
                  <a:pt x="20907" y="9320"/>
                </a:cubicBezTo>
                <a:cubicBezTo>
                  <a:pt x="19801" y="9320"/>
                  <a:pt x="18696" y="10800"/>
                  <a:pt x="18696" y="12323"/>
                </a:cubicBezTo>
                <a:lnTo>
                  <a:pt x="18696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0"/>
          <p:cNvSpPr/>
          <p:nvPr/>
        </p:nvSpPr>
        <p:spPr>
          <a:xfrm>
            <a:off x="1547640" y="170028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л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1"/>
          <p:cNvSpPr/>
          <p:nvPr/>
        </p:nvSpPr>
        <p:spPr>
          <a:xfrm>
            <a:off x="395280" y="5229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2"/>
          <p:cNvSpPr/>
          <p:nvPr/>
        </p:nvSpPr>
        <p:spPr>
          <a:xfrm>
            <a:off x="2556000" y="530064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льш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3"/>
          <p:cNvSpPr/>
          <p:nvPr/>
        </p:nvSpPr>
        <p:spPr>
          <a:xfrm>
            <a:off x="5364000" y="2349360"/>
            <a:ext cx="11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р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4"/>
          <p:cNvSpPr/>
          <p:nvPr/>
        </p:nvSpPr>
        <p:spPr>
          <a:xfrm>
            <a:off x="3492360" y="5734080"/>
            <a:ext cx="149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вни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5"/>
          <p:cNvSpPr/>
          <p:nvPr/>
        </p:nvSpPr>
        <p:spPr>
          <a:xfrm>
            <a:off x="7164360" y="566100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р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вни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6" descr="shuya"/>
          <p:cNvPicPr/>
          <p:nvPr/>
        </p:nvPicPr>
        <p:blipFill>
          <a:blip r:embed="rId2"/>
          <a:stretch/>
        </p:blipFill>
        <p:spPr>
          <a:xfrm>
            <a:off x="468360" y="189000"/>
            <a:ext cx="1835280" cy="12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айбулова А. 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4245120" cy="4120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2"/>
          <a:stretch/>
        </p:blipFill>
        <p:spPr>
          <a:xfrm>
            <a:off x="4898880" y="1413000"/>
            <a:ext cx="4245120" cy="4120920"/>
          </a:xfrm>
          <a:prstGeom prst="rect">
            <a:avLst/>
          </a:prstGeom>
          <a:ln w="0">
            <a:noFill/>
          </a:ln>
        </p:spPr>
      </p:pic>
      <p:sp>
        <p:nvSpPr>
          <p:cNvPr id="104" name="WordArt 0"/>
          <p:cNvSpPr txBox="1"/>
          <p:nvPr/>
        </p:nvSpPr>
        <p:spPr>
          <a:xfrm>
            <a:off x="1258920" y="333360"/>
            <a:ext cx="65149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ека Лена и дельта реки Лен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5" name="WordArt 1024"/>
          <p:cNvSpPr txBox="1"/>
          <p:nvPr/>
        </p:nvSpPr>
        <p:spPr>
          <a:xfrm>
            <a:off x="2050920" y="5516640"/>
            <a:ext cx="5473800" cy="11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аковы особенности Лены?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айбулова А. 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4"/>
          <p:cNvSpPr txBox="1"/>
          <p:nvPr/>
        </p:nvSpPr>
        <p:spPr>
          <a:xfrm>
            <a:off x="611280" y="620640"/>
            <a:ext cx="7921440" cy="576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абота с учебником</a:t>
            </a:r>
            <a:endParaRPr b="0" lang="en-US" sz="2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755640" y="981000"/>
            <a:ext cx="6192720" cy="31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Задание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учебнику стр.75-76, определите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называют падением и уклоном реки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рассчит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лияние на особенности ре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WordArt 6"/>
          <p:cNvSpPr txBox="1"/>
          <p:nvPr/>
        </p:nvSpPr>
        <p:spPr>
          <a:xfrm>
            <a:off x="539640" y="4076640"/>
            <a:ext cx="460872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адение -это превышение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стока реки над устьем.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Н ист.-Н устья). 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Н- абсолютная высота).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0" name="WordArt 7"/>
          <p:cNvSpPr txBox="1"/>
          <p:nvPr/>
        </p:nvSpPr>
        <p:spPr>
          <a:xfrm>
            <a:off x="5219640" y="4149720"/>
            <a:ext cx="369432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ношение падения</a:t>
            </a:r>
            <a:endParaRPr b="0" lang="en-US" sz="2800" spc="1" strike="noStrike">
              <a:ln w="9360">
                <a:solidFill>
                  <a:srgbClr val="0066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2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ки (см) к её длине (км)</a:t>
            </a:r>
            <a:endParaRPr b="0" lang="en-US" sz="2800" spc="1" strike="noStrike">
              <a:ln w="9360">
                <a:solidFill>
                  <a:srgbClr val="0066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1" name="AutoShape 8"/>
          <p:cNvSpPr/>
          <p:nvPr/>
        </p:nvSpPr>
        <p:spPr>
          <a:xfrm>
            <a:off x="6084720" y="2492280"/>
            <a:ext cx="2808360" cy="1295640"/>
          </a:xfrm>
          <a:prstGeom prst="wedgeRoundRectCallout">
            <a:avLst>
              <a:gd name="adj1" fmla="val -80018"/>
              <a:gd name="adj2" fmla="val 5551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клоны горных рек больше , чем равни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айбулова А. 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WordArt 4"/>
          <p:cNvSpPr txBox="1"/>
          <p:nvPr/>
        </p:nvSpPr>
        <p:spPr>
          <a:xfrm>
            <a:off x="611280" y="260280"/>
            <a:ext cx="8137440" cy="3299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1877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лияние климата на рекиРоссии.</a:t>
            </a:r>
            <a:endParaRPr b="0" lang="en-US" sz="2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4" name="WordArt 5"/>
          <p:cNvSpPr txBox="1"/>
          <p:nvPr/>
        </p:nvSpPr>
        <p:spPr>
          <a:xfrm>
            <a:off x="684360" y="1844640"/>
            <a:ext cx="3887640" cy="387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итание </a:t>
            </a:r>
            <a:endParaRPr b="0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-дождевое</a:t>
            </a:r>
            <a:endParaRPr b="0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едниковое</a:t>
            </a:r>
            <a:endParaRPr b="0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неговое</a:t>
            </a:r>
            <a:endParaRPr b="0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рунтовое (подземное)</a:t>
            </a:r>
            <a:endParaRPr b="0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мешанное</a:t>
            </a:r>
            <a:endParaRPr b="0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" name="WordArt 6"/>
          <p:cNvSpPr txBox="1"/>
          <p:nvPr/>
        </p:nvSpPr>
        <p:spPr>
          <a:xfrm>
            <a:off x="5148360" y="1844640"/>
            <a:ext cx="321948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жим питания</a:t>
            </a:r>
            <a:endParaRPr b="0" lang="en-US" sz="2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есеннее половодье</a:t>
            </a:r>
            <a:endParaRPr b="0" lang="en-US" sz="2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1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етнее половодье</a:t>
            </a:r>
            <a:endParaRPr b="0" lang="en-US" sz="2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1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аводок</a:t>
            </a:r>
            <a:endParaRPr b="0" lang="en-US" sz="2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2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" name="Oval 7"/>
          <p:cNvSpPr/>
          <p:nvPr/>
        </p:nvSpPr>
        <p:spPr>
          <a:xfrm>
            <a:off x="4067280" y="692280"/>
            <a:ext cx="1079280" cy="1008000"/>
          </a:xfrm>
          <a:prstGeom prst="ellipse">
            <a:avLst/>
          </a:prstGeom>
          <a:solidFill>
            <a:srgbClr val="bbe0e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2771640" y="587700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ебник стр. 77-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7T18:37:20Z</dcterms:created>
  <dc:creator>ASUS</dc:creator>
  <dc:description/>
  <dc:language>en-US</dc:language>
  <cp:lastModifiedBy>Коля</cp:lastModifiedBy>
  <dcterms:modified xsi:type="dcterms:W3CDTF">2013-06-14T16:18:25Z</dcterms:modified>
  <cp:revision>68</cp:revision>
  <dc:subject/>
  <dc:title>Реки Росс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607000000000001024140</vt:lpwstr>
  </property>
</Properties>
</file>