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5B0-7695-4675-8500-F29244BC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4B5-61A1-469B-A3F4-55A7D5DE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D5A-1A1C-4A5F-B060-4494BCC2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ED9-8742-4ABF-B720-BE393CC7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DCCA-2834-4B8F-9C75-50E08B52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F6B9-9F04-49E1-BDC1-5487038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25B6-C868-448A-AAC1-33676576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FC6C-BA37-4AA9-BD2A-AAA5510A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7602-BA85-4367-A748-701FCF87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EB05-D5A3-4B92-BF93-E1DBC35B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A8B7-7BAE-4F0D-BF50-6F837CCE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27B-0A95-45D4-B8C1-50E7B937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E7EB-D2A2-4F81-BEF0-A0AB6A8B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0D1E-DDF0-4D9C-A9B3-947FB2B1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3231-96D3-4F32-95D8-BC02EF22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4F0A-599F-4A0C-9D4B-AF31401F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3751-52A5-4B4B-99D7-5F3F997E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41D-A423-4344-B1BE-F7DBE66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906-496B-48B6-B11F-4CD302F0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48D-DF44-41EB-819F-5A44DBE0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EB2-0D48-43D6-950E-C2D8D8B2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3F1-114C-4E3F-A618-F6100F49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2D5-172D-4463-9350-12DD6158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70D-F8D6-4152-B471-922D14C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A560-85B1-48A7-ACB0-CBBF34337EF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B37D-3F4F-42D5-A1B5-E7EBB65CF2E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audio" Target="file:///tmp/home/.config/libreoffice/4/user/gallery/&#1040;&#1074;&#1090;&#1086;&#1084;&#1086;&#1073;&#1080;&#1083;&#1080;.wav" TargetMode="External"/><Relationship Id="rId7" Type="http://schemas.microsoft.com/office/2007/relationships/media" Target="file:///tmp/home/.config/libreoffice/4/user/gallery/&#1040;&#1074;&#1090;&#1086;&#1084;&#1086;&#1073;&#1080;&#1083;&#1080;.wav" TargetMode="External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Государственное специальное (коррекционное) образовательное учреждение для обучающихся, воспитанников с ограниченными возможностями здоровья общеобразовательная школа-интернат 8 вида с.Ванновского Краснодарского края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907640" y="5300640"/>
            <a:ext cx="5905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зработали : О.В.Цмакова-учитель высше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.А.Артемьева-учитель- дефектолог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275560"/>
            <a:ext cx="58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по теме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а дорожного движения. И знаки дорожного движения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5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95280" y="475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Знаки бывают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19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1.Предупреждающ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2.Запрещающ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3.Предписывающ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780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Спасибо за урок, </a:t>
            </a:r>
            <a:br>
              <a:rPr sz="4800"/>
            </a:b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                  молодцы!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96720" y="51573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003640" y="4332240"/>
            <a:ext cx="2160720" cy="189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4835520" cy="5718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400120" cy="2838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76720" y="1916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ойт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58720" y="267660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- “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нимани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31800" y="3757680"/>
            <a:ext cx="44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вижение разрешаетс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углый знак, а в нем окошко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пешите сгоряча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 подумайте немножко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здесь, свалка кирпича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5373720"/>
            <a:ext cx="5245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651640" y="461808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Я в кругу с обводом красным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Это значит - тут опасн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Тут, поймите, запрещень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ешеходного движенья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 голубом иду я круг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И понятно всей округ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Если вдуматься немножко -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48360" y="44974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Шли из школы мы домой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идим - знак на мостовой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Круг, внутри велосипед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ичего другого нет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292720" y="4508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Я хочу спросить про зна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арисован он вот так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 треугольнике ребят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Со всех ног бегут куда-то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35640" y="4807080"/>
            <a:ext cx="1584360" cy="137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71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77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83" dur="5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125" dur="5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131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0:08:22Z</dcterms:created>
  <dc:creator>1</dc:creator>
  <dc:description/>
  <dc:language>en-US</dc:language>
  <cp:lastModifiedBy>1</cp:lastModifiedBy>
  <dcterms:modified xsi:type="dcterms:W3CDTF">2004-12-31T21:48:44Z</dcterms:modified>
  <cp:revision>3</cp:revision>
  <dc:subject/>
  <dc:title>Слайд 1</dc:title>
</cp:coreProperties>
</file>