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02C-C739-4E11-A468-557C30B2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A26-198E-42E4-A1F6-E6EC276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829-1CB8-472C-8157-0F1A8DDB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F80-D13C-4B2E-B0BB-E4421290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F9BF-73F1-42C7-BF6F-0A9F993C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5F59-D256-4CE5-942F-370B82C6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8E24-D75B-41A9-BE8B-23CDBCB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7B03-80D0-4BD9-AA6F-BCC013B1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0BD-7C02-4848-A5E4-695CC568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AFB1-B9D7-45E3-A947-0D9F1C7C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FB56-41CE-4E33-9A96-8BEE39C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CB4-881C-4C9F-A4B7-192CE541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BB7F-69D1-4F5E-AC15-A45E544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0FAB-C8D4-4974-B734-AB049A0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7BAD-93DA-499B-A3F6-2CA36F5A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824-0593-45C5-A395-749CF54E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42F-4B5A-4D60-9950-4C4BBAEE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B37-D767-411E-89E6-5AE6F8A5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643-CE3F-4266-81D9-4DB9A99C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DEE-EDC9-42CC-9A89-170A9E56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1B6-5256-4250-9AFC-DAA2E24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C2B-B403-4341-BA53-7C99299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7C9-CBE6-43D7-9F2D-CF317C2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421-06A0-41F2-B64A-2BDFFE75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8534-1DF0-46DD-BF1C-F75BACB586A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FBB-8467-4467-8F89-C4E08F47E4E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file:///tmp/home/.config/libreoffice/4/user/gallery/&#1040;&#1074;&#1090;&#1086;&#1084;&#1086;&#1073;&#1080;&#1083;&#1080;.wav" TargetMode="External"/><Relationship Id="rId7" Type="http://schemas.microsoft.com/office/2007/relationships/media" Target="file:///tmp/home/.config/libreoffice/4/user/gallery/&#1040;&#1074;&#1090;&#1086;&#1084;&#1086;&#1073;&#1080;&#1083;&#1080;.wav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Государственное специальное (коррекционное) образовательное учреждение для обучающихся, воспитанников с ограниченными возможностями здоровья общеобразовательная школа-интернат 8 вида с.Ванновского Краснодарского края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907640" y="5300640"/>
            <a:ext cx="5905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зработали : О.В.Цмакова-учитель высше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.А.Артемьева-учитель- дефектоло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27556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по теме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а дорожного движения. И знаки дорожного движени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5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Знаки бывают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9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1.Предупрежд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2.Запрещ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3.Предписыв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780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Спасибо за урок, </a:t>
            </a: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                 молодцы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96720" y="51573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03640" y="4332240"/>
            <a:ext cx="2160720" cy="189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4835520" cy="5718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400120" cy="2838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76720" y="1916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ойт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58720" y="26766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“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ниман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31800" y="3757680"/>
            <a:ext cx="44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вижение разрешаетс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глый знак, а в нем окошко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пешите сгоряча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подумайте немножко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здесь, свалка кирпича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5373720"/>
            <a:ext cx="5245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651640" y="461808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Я в кругу с обводом красны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Это значит - тут опасн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ут, поймите, запрещень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ешеходного движенья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 голубом иду я круг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И понятно всей округ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Если вдуматься немножко -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8360" y="44974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Шли из школы мы домой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идим - знак на мостовой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руг, внутри велосипед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ичего другого нет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Я хочу спросить про зна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арисован он вот так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 треугольнике ребя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о всех ног бегут куда-т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35640" y="4807080"/>
            <a:ext cx="1584360" cy="137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71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77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83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25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31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0:08:22Z</dcterms:created>
  <dc:creator>1</dc:creator>
  <dc:description/>
  <dc:language>en-US</dc:language>
  <cp:lastModifiedBy>1</cp:lastModifiedBy>
  <dcterms:modified xsi:type="dcterms:W3CDTF">2004-12-31T21:48:44Z</dcterms:modified>
  <cp:revision>3</cp:revision>
  <dc:subject/>
  <dc:title>Слайд 1</dc:title>
</cp:coreProperties>
</file>