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FA7F-F842-4EBB-9FB5-2BCC9A10C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065A-318A-49BD-B115-E544DC294FBC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F1ED-FCEB-4CF6-A6FC-73E27BF0773E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9C3E-1C65-4AC9-8F37-F472ADCD988D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5BCD-8DF7-41B9-A2B4-372BD1531C12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B66E-ED08-4AEE-9A90-374652ACA2D5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B7DA-B51B-4966-9A17-0627B70FB165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0A16-1C93-46D0-BD40-67DD2B636D8D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440B-E3C0-4118-BBB9-5FC320498A10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5FF2-B20B-4E95-B889-4DFE78398D89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30D-E1EE-4EEB-9A2A-F553E808DD3A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1568-E8C6-4F1F-9DF4-B5C9A610BA92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6753-10C6-430C-836E-E0372526EA90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DC61-9EB3-44F9-B7B4-8DC877EB618B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CF41-63CD-42A2-827C-AB465878CFA0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5035-F9BC-4FA6-8F9E-91838A43FAD1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FAD-A477-4FA1-8E0B-5A54BA7D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292-774E-4E44-A094-FB3F2DAC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B47-0F1B-4474-B55D-C24D5BE3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97E-BC5B-48E5-953D-AF1853C8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C87F-C6D4-4120-9884-42488805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6788-D0CD-44D7-9CD5-D4CAA115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9371-DF38-462B-ACC1-35C4515E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C068-736F-4C07-AFF0-BC6806CF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2759-AFB5-4552-ABD2-27BA4378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D677-0F32-4BDD-98E5-BCDBB586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2467-5867-4D82-B0CF-6ADCF83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24C-FB83-4020-A84D-F0939339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9DD5-01B0-4A59-B1FE-CDCD8B2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6CCE-329F-4F4D-B23D-717E8447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70C3-06CC-471D-9C09-8616A0F0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9D8F-2248-4EAB-94B5-257E91A6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A1C7-CEAB-4019-B0CB-0C5A8967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624-58F8-442C-BF7B-D89ACB8D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ECC-AD45-4BF6-8E42-48F59E71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752-A62A-4339-B16F-D2FCB4FC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E71-0C82-488C-A45F-251C905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C12-50A1-410E-92DD-9474333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1DE-3EB9-4604-AE9E-F51B0F1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890-2C14-4DE3-8EAF-8F885117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D1F0-0D53-492C-BA27-5E0A310AE035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3424-481D-40C8-ABD8-6CBB3F874D68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3"/>
          <p:cNvSpPr txBox="1"/>
          <p:nvPr/>
        </p:nvSpPr>
        <p:spPr>
          <a:xfrm>
            <a:off x="2590920" y="2209680"/>
            <a:ext cx="4952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Ж И Р 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743200" y="38088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БИОЛОГИЧЕСКАЯ РОЛЬ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13120" y="1066680"/>
            <a:ext cx="8032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ФУНКЦИИ ЖИРОВ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1.Энергетическ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ходе расщепления 1г жиров до СО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и Н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 осво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ождается большое количество энергии- 38,9 кДж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- основное резервное топливо, его называю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«энергетическим депо» живых организм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ыделяющаяся энергия необходима для жизн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ятельности организм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Picture 5" descr="C:\Documents and Settings\Лена\Мои документы\Мои рисунки\теннис.jpg"/>
          <p:cNvPicPr/>
          <p:nvPr/>
        </p:nvPicPr>
        <p:blipFill>
          <a:blip r:embed="rId1"/>
          <a:stretch/>
        </p:blipFill>
        <p:spPr>
          <a:xfrm>
            <a:off x="2133720" y="419112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Documents and Settings\Лена\Мои документы\Мои рисунки\футбол.gif"/>
          <p:cNvPicPr/>
          <p:nvPr/>
        </p:nvPicPr>
        <p:blipFill>
          <a:blip r:embed="rId2"/>
          <a:stretch/>
        </p:blipFill>
        <p:spPr>
          <a:xfrm>
            <a:off x="6095880" y="4191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276200" y="1000080"/>
            <a:ext cx="78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Строитель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 являются структурными элементами мемб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н клеток и клеточных органелл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7" name="Picture 3" descr="C:\Documents and Settings\Лена\Мои документы\Мои рисунки\липиды.jpg"/>
          <p:cNvPicPr/>
          <p:nvPr/>
        </p:nvPicPr>
        <p:blipFill>
          <a:blip r:embed="rId1"/>
          <a:stretch/>
        </p:blipFill>
        <p:spPr>
          <a:xfrm>
            <a:off x="2819520" y="2362320"/>
            <a:ext cx="487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327680" y="928800"/>
            <a:ext cx="756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Регулятор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бразование некоторых липидов предшествуе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интезу ряда гормонов, например кор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адпочечник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9" name="Picture 3" descr="C:\Documents and Settings\Лена\Мои документы\Мои рисунки\кора.jpg"/>
          <p:cNvPicPr/>
          <p:nvPr/>
        </p:nvPicPr>
        <p:blipFill>
          <a:blip r:embed="rId1"/>
          <a:stretch/>
        </p:blipFill>
        <p:spPr>
          <a:xfrm>
            <a:off x="2928960" y="278604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307520" y="857160"/>
            <a:ext cx="783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Запас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- запасные вещества, в форме которых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понируется метаболическое топливо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звестно, что верблюд в состоянии прожи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ез питья до полутора месяцев. Воду в это врем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н «добывает» за счет постепенного окислени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одержащихся в горбах запасов жира, которые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огут достигать до 120 кг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Picture 3" descr="C:\Documents and Settings\Лена\Мои документы\Мои рисунки\верблюд.jpg"/>
          <p:cNvPicPr/>
          <p:nvPr/>
        </p:nvPicPr>
        <p:blipFill>
          <a:blip r:embed="rId1"/>
          <a:stretch/>
        </p:blipFill>
        <p:spPr>
          <a:xfrm>
            <a:off x="2714760" y="3857760"/>
            <a:ext cx="4905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375200" y="857160"/>
            <a:ext cx="777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5. Защит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связи с хорошо выраженными термоизоля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ционными свойствами жиры сохраняют тепло в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рганизме, особенно у морских и полярных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вотных. В виде жировой прокладки предохра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яют тело и органы животных от механическог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вреждения, служат жировой смазкой для кож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3" descr="C:\Documents and Settings\Лена\Мои документы\Мои рисунки\касатка.jpg"/>
          <p:cNvPicPr/>
          <p:nvPr/>
        </p:nvPicPr>
        <p:blipFill>
          <a:blip r:embed="rId1"/>
          <a:stretch/>
        </p:blipFill>
        <p:spPr>
          <a:xfrm>
            <a:off x="1285920" y="364320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Лена\Мои документы\Мои рисунки\медведь.jpg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84720" y="1000080"/>
            <a:ext cx="8584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Закрепляющий  тест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акой из продуктов надо дать уставшему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арафонцу для поддержания сил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кусочек сахара, б) кусок мяса, в) кусок сал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Большее количество Е выделяется при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сщеплении 1г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жира, б) глюкозы, в) белк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В каком веществе растворяются жиры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спирт, б) вода, в) соляная кислот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Способность верблюдов хорошо переноси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ажду объясняется тем, что жиры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сохраняют воду в организм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) выделяют воду при окислени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) создают теплоизолирующий слой, уменьшаю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щий испарени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75240" y="1447920"/>
            <a:ext cx="865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План  урока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 в природ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 Классификация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 Состав и строение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Биологическая роль в организм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94200" y="1523880"/>
            <a:ext cx="785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  В  ПРИРОДЕ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составе всех клеток животных и растений со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ржатся липиды. Самыми распространенными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з липидов являются жиры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одержание жира в клетках обычно невелико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5 – 15 % от сухого вещества, а в клетках жирово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ткани  количество жира возрастает до 90%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212120" y="1000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 растений жиры встречаются в основном в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еменах и плодах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3" descr="C:\Documents and Settings\Лена\Мои документы\Мои рисунки\подсолнух.jpg"/>
          <p:cNvPicPr/>
          <p:nvPr/>
        </p:nvPicPr>
        <p:blipFill>
          <a:blip r:embed="rId1"/>
          <a:stretch/>
        </p:blipFill>
        <p:spPr>
          <a:xfrm>
            <a:off x="4857840" y="164304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Лена\Мои документы\Мои рисунки\лен.jpg"/>
          <p:cNvPicPr/>
          <p:nvPr/>
        </p:nvPicPr>
        <p:blipFill>
          <a:blip r:embed="rId2"/>
          <a:stretch/>
        </p:blipFill>
        <p:spPr>
          <a:xfrm>
            <a:off x="1785960" y="1928880"/>
            <a:ext cx="2563920" cy="245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Лена\Мои документы\РИСУНКИ С ИНЕТ\Яndex фундук (178).files\16_catalog.gif"/>
          <p:cNvPicPr/>
          <p:nvPr/>
        </p:nvPicPr>
        <p:blipFill>
          <a:blip r:embed="rId3"/>
          <a:stretch/>
        </p:blipFill>
        <p:spPr>
          <a:xfrm>
            <a:off x="5929200" y="5000760"/>
            <a:ext cx="1533600" cy="139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Documents and Settings\Лена\Рабочий стол\Яndex грецкий орех (337).files\thumbnail.jpg"/>
          <p:cNvPicPr/>
          <p:nvPr/>
        </p:nvPicPr>
        <p:blipFill>
          <a:blip r:embed="rId4"/>
          <a:stretch/>
        </p:blipFill>
        <p:spPr>
          <a:xfrm>
            <a:off x="1357200" y="4572000"/>
            <a:ext cx="32004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83400" y="1071720"/>
            <a:ext cx="72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 у животных и человека – в подкожном слое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ежду мышечными волокнами и в брюшно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лос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0" name="Picture 4" descr="C:\Documents and Settings\Лена\Мои документы\Мои рисунки\жировая клетчатка.jpg"/>
          <p:cNvPicPr/>
          <p:nvPr/>
        </p:nvPicPr>
        <p:blipFill>
          <a:blip r:embed="rId1"/>
          <a:stretch/>
        </p:blipFill>
        <p:spPr>
          <a:xfrm>
            <a:off x="1857240" y="292896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Лена\Мои документы\Мои рисунки\сумо.jpg"/>
          <p:cNvPicPr/>
          <p:nvPr/>
        </p:nvPicPr>
        <p:blipFill>
          <a:blip r:embed="rId2"/>
          <a:stretch/>
        </p:blipFill>
        <p:spPr>
          <a:xfrm>
            <a:off x="5257800" y="2590920"/>
            <a:ext cx="324324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1500120" y="1071720"/>
            <a:ext cx="59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КЛАССИФИКАЦИЯ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  ЖИВОТНЫ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600200" y="1500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ТВЕРДЫЕ                    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СКЛЮЧЕНИ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ЫБИЙ ЖИ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9" descr="C:\Documents and Settings\Лена\Мои документы\Мои рисунки\маргарин.jpg"/>
          <p:cNvPicPr/>
          <p:nvPr/>
        </p:nvPicPr>
        <p:blipFill>
          <a:blip r:embed="rId1"/>
          <a:stretch/>
        </p:blipFill>
        <p:spPr>
          <a:xfrm>
            <a:off x="1571760" y="264312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Documents and Settings\Лена\Мои документы\Мои рисунки\рыбий жир.jpg"/>
          <p:cNvPicPr/>
          <p:nvPr/>
        </p:nvPicPr>
        <p:blipFill>
          <a:blip r:embed="rId2"/>
          <a:stretch/>
        </p:blipFill>
        <p:spPr>
          <a:xfrm>
            <a:off x="5929200" y="312408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430520" y="128592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2. ЖИРЫ  РАСТИТЕЛЬНЫ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043720" y="13352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ДКИ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Picture 4" descr="C:\Documents and Settings\Лена\Мои документы\Мои рисунки\maslo.jpg"/>
          <p:cNvPicPr/>
          <p:nvPr/>
        </p:nvPicPr>
        <p:blipFill>
          <a:blip r:embed="rId1"/>
          <a:stretch/>
        </p:blipFill>
        <p:spPr>
          <a:xfrm>
            <a:off x="1905120" y="2133720"/>
            <a:ext cx="182880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34120" y="2209680"/>
            <a:ext cx="346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СКЛЮЧЕНИ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ОКОСОВОЕ  МАСЛ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" name="Picture 6" descr="C:\Documents and Settings\Лена\Мои документы\Мои рисунки\kokos2.jpg"/>
          <p:cNvPicPr/>
          <p:nvPr/>
        </p:nvPicPr>
        <p:blipFill>
          <a:blip r:embed="rId2"/>
          <a:stretch/>
        </p:blipFill>
        <p:spPr>
          <a:xfrm>
            <a:off x="5105520" y="3124080"/>
            <a:ext cx="3809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285920" y="9288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ФИЗИЧЕСКИЕ  СВОЙСТВА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се жиры легче воды, в воде нерастворимы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хорошо растворимы в органических     растворителя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19320" y="235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В установлении состава и строения жиров большую роль сыграли французские химик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57680" y="3500280"/>
            <a:ext cx="43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1854 году  М. Бертл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уществил синтез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Picture 5" descr="C:\Documents and Settings\Лена\Мои документы\Мои рисунки\Chevreul.gif"/>
          <p:cNvPicPr/>
          <p:nvPr/>
        </p:nvPicPr>
        <p:blipFill>
          <a:blip r:embed="rId1"/>
          <a:stretch/>
        </p:blipFill>
        <p:spPr>
          <a:xfrm>
            <a:off x="1371600" y="419112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Лена\Мои документы\Мои рисунки\209437006.jpg"/>
          <p:cNvPicPr/>
          <p:nvPr/>
        </p:nvPicPr>
        <p:blipFill>
          <a:blip r:embed="rId2"/>
          <a:stretch/>
        </p:blipFill>
        <p:spPr>
          <a:xfrm>
            <a:off x="7162920" y="3214800"/>
            <a:ext cx="1981080" cy="253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643200" y="5715000"/>
            <a:ext cx="47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нач.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ека М. Шеврель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уществил гидролиз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523160" y="1143000"/>
            <a:ext cx="73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- СЛОЖНЫЕ ЭФИРЫ, ОБРАЗОВАННЫЕ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ГЛИЦЕРИНОМ  И  ВЫСШИМИ  КАРБОНОВЫ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ИСЛОТАМ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23920" y="2971800"/>
            <a:ext cx="25992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– О – С –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  – O – C – 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– O – C – 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038480" y="3429000"/>
            <a:ext cx="0" cy="6094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4038480" y="4495680"/>
            <a:ext cx="0" cy="6098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334480" y="2666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334480" y="3733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334120" y="480060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35200" y="2362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53352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3352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 rot="5400000">
            <a:off x="4190400" y="510516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5181480" y="2438280"/>
            <a:ext cx="0" cy="3581640"/>
          </a:xfrm>
          <a:prstGeom prst="line">
            <a:avLst/>
          </a:prstGeom>
          <a:ln w="93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6477120" y="2895480"/>
            <a:ext cx="609480" cy="281952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7091640" y="373392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татк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арбоновы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исло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643560" y="59072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глицерин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2:38:49Z</dcterms:created>
  <dc:creator>Лена</dc:creator>
  <dc:description/>
  <dc:language>en-US</dc:language>
  <cp:lastModifiedBy>Пользователь Windows</cp:lastModifiedBy>
  <dcterms:modified xsi:type="dcterms:W3CDTF">2009-11-25T18:17:57Z</dcterms:modified>
  <cp:revision>13</cp:revision>
  <dc:subject/>
  <dc:title>Презентация PowerPoint</dc:title>
</cp:coreProperties>
</file>