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71FD-92D2-4330-BD88-A7DD145AC8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889B-0B84-47A3-8B9A-50D87DBBEBC9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6BD7-7065-4579-8FBF-AA03A51FDF35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8978-4800-496C-9A0C-DC4D985A3DDA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8A96-2C19-49A7-9D02-5761B0ABD863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547B-5C1C-4ADD-A19C-919B5422F1ED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C3F2-9201-46F2-AB71-ED92179F348F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56EB-6ADE-4891-9987-46FB4E52F2AA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D8B0-7037-463B-B2E8-EE1425BF580F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43BD-C850-453E-95A0-EF83260BF92D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81FC-D8BF-4227-83A1-8727672DFCD4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CB3F-8ECB-43C6-935B-1398EA5A6018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D7CF-3C89-4467-8191-9477B53820DE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8065-73EF-4258-B531-167BCB6F1B37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EFDF-A742-4FAF-879A-C9640B862B93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C2F8-9B11-4F8D-A019-F6C5AB034631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7B0-04B5-4D0C-82B6-8D1137AA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F62-08F0-45C6-94BD-076F8F9A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2EE6-4ED5-49FF-AA63-B002AD4E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1EC-EBF2-4F33-8411-C81CA6A3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16E1-8219-4E57-8379-BAA0620C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55AB-F30F-490B-9ABB-5D86C7DE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B82A-8ECE-484A-B402-3A6F313E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C5E5-BB35-4F09-8CE3-E9076D0E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F390-8C66-47F3-A215-5CE0C875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1B2E-29E8-4868-96AC-F184D8B5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BDE5-58C6-41F7-97BD-9E0EE0EC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9C4-B558-431C-93A8-20831C0C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AE8C-16AC-4AAF-A096-ADE15C65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031C-120C-46CE-BF3C-83705924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C33D-A5BD-4ADC-9C5F-4FB69F8F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17C2-8FB9-44B0-B124-5A64FDDA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AFB9-A0E5-464E-AA51-77F734B2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B37-546E-485F-8C36-4C287CF9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2A9-C516-49F3-A65A-EB3F1BE3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946-099C-4B62-97B2-B7BCF928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4A3-7C7D-4B50-BFA1-CD430C27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6EB-A110-4E19-95F5-2A5AD276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098-7673-47C9-8489-8A1B0569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18F-E6A1-4677-8BA1-8068856E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A915-1D12-4A82-9D68-242D54D8DE2C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3C2C-1969-4497-BBBD-5ED21196663A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3"/>
          <p:cNvSpPr txBox="1"/>
          <p:nvPr/>
        </p:nvSpPr>
        <p:spPr>
          <a:xfrm>
            <a:off x="2590920" y="2209680"/>
            <a:ext cx="49528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Ж И Р 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743200" y="380880"/>
            <a:ext cx="52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БИОЛОГИЧЕСКАЯ РОЛЬ ЖИР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113120" y="1066680"/>
            <a:ext cx="80323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ФУНКЦИИ ЖИРОВ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1.Энергетическа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ходе расщепления 1г жиров до СО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и Н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 осво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бождается большое количество энергии- 38,9 кДж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иры- основное резервное топливо, его называю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«энергетическим депо» живых организм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ыделяющаяся энергия необходима для жизне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деятельности организма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4" name="Picture 5" descr="C:\Documents and Settings\Лена\Мои документы\Мои рисунки\теннис.jpg"/>
          <p:cNvPicPr/>
          <p:nvPr/>
        </p:nvPicPr>
        <p:blipFill>
          <a:blip r:embed="rId1"/>
          <a:stretch/>
        </p:blipFill>
        <p:spPr>
          <a:xfrm>
            <a:off x="2133720" y="4191120"/>
            <a:ext cx="2286000" cy="243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Documents and Settings\Лена\Мои документы\Мои рисунки\футбол.gif"/>
          <p:cNvPicPr/>
          <p:nvPr/>
        </p:nvPicPr>
        <p:blipFill>
          <a:blip r:embed="rId2"/>
          <a:stretch/>
        </p:blipFill>
        <p:spPr>
          <a:xfrm>
            <a:off x="6095880" y="419112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276200" y="1000080"/>
            <a:ext cx="786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2. Строительна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иры являются структурными элементами мемб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ран клеток и клеточных органелл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7" name="Picture 3" descr="C:\Documents and Settings\Лена\Мои документы\Мои рисунки\липиды.jpg"/>
          <p:cNvPicPr/>
          <p:nvPr/>
        </p:nvPicPr>
        <p:blipFill>
          <a:blip r:embed="rId1"/>
          <a:stretch/>
        </p:blipFill>
        <p:spPr>
          <a:xfrm>
            <a:off x="2819520" y="2362320"/>
            <a:ext cx="4876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327680" y="928800"/>
            <a:ext cx="756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3. Регуляторна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бразование некоторых липидов предшествуе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Синтезу ряда гормонов, например кор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надпочечник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9" name="Picture 3" descr="C:\Documents and Settings\Лена\Мои документы\Мои рисунки\кора.jpg"/>
          <p:cNvPicPr/>
          <p:nvPr/>
        </p:nvPicPr>
        <p:blipFill>
          <a:blip r:embed="rId1"/>
          <a:stretch/>
        </p:blipFill>
        <p:spPr>
          <a:xfrm>
            <a:off x="2928960" y="278604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307520" y="857160"/>
            <a:ext cx="783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4. Запасна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иры- запасные вещества, в форме которых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депонируется метаболическое топливо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Известно, что верблюд в состоянии прожит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без питья до полутора месяцев. Воду в это врем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н «добывает» за счет постепенного окислени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содержащихся в горбах запасов жира, которые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могут достигать до 120 кг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Picture 3" descr="C:\Documents and Settings\Лена\Мои документы\Мои рисунки\верблюд.jpg"/>
          <p:cNvPicPr/>
          <p:nvPr/>
        </p:nvPicPr>
        <p:blipFill>
          <a:blip r:embed="rId1"/>
          <a:stretch/>
        </p:blipFill>
        <p:spPr>
          <a:xfrm>
            <a:off x="2714760" y="3857760"/>
            <a:ext cx="4905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375200" y="857160"/>
            <a:ext cx="777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5. Защитна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связи с хорошо выраженными термоизоля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ционными свойствами жиры сохраняют тепло в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рганизме, особенно у морских и полярных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ивотных. В виде жировой прокладки предохра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няют тело и органы животных от механическог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овреждения, служат жировой смазкой для кож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3" descr="C:\Documents and Settings\Лена\Мои документы\Мои рисунки\касатка.jpg"/>
          <p:cNvPicPr/>
          <p:nvPr/>
        </p:nvPicPr>
        <p:blipFill>
          <a:blip r:embed="rId1"/>
          <a:stretch/>
        </p:blipFill>
        <p:spPr>
          <a:xfrm>
            <a:off x="1285920" y="3643200"/>
            <a:ext cx="4343400" cy="2895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Лена\Мои документы\Мои рисунки\медведь.jpg"/>
          <p:cNvPicPr/>
          <p:nvPr/>
        </p:nvPicPr>
        <p:blipFill>
          <a:blip r:embed="rId2"/>
          <a:stretch/>
        </p:blipFill>
        <p:spPr>
          <a:xfrm>
            <a:off x="5867280" y="3643200"/>
            <a:ext cx="3276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684720" y="1000080"/>
            <a:ext cx="8584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Закрепляющий  тест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Какой из продуктов надо дать уставшему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марафонцу для поддержания сил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а) кусочек сахара, б) кусок мяса, в) кусок сал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2. Большее количество Е выделяется при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расщеплении 1г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а) жира, б) глюкозы, в) белк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3. В каком веществе растворяются жиры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а) спирт, б) вода, в) соляная кислот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4. Способность верблюдов хорошо переносит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ажду объясняется тем, что жиры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а) сохраняют воду в организм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б) выделяют воду при окислени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) создают теплоизолирующий слой, уменьшаю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щий испарени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975240" y="1447920"/>
            <a:ext cx="8651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План  урока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иры в природ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2.  Классификация жир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3.  Состав и строение жир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4. Биологическая роль в организм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294200" y="1523880"/>
            <a:ext cx="785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       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ЖИРЫ  В  ПРИРОДЕ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составе всех клеток животных и растений со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держатся липиды. Самыми распространенными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из липидов являются жиры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Содержание жира в клетках обычно невелико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5 – 15 % от сухого вещества, а в клетках жировой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ткани  количество жира возрастает до 90%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212120" y="1000080"/>
            <a:ext cx="70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У растений жиры встречаются в основном в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семенах и плодах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" name="Picture 3" descr="C:\Documents and Settings\Лена\Мои документы\Мои рисунки\подсолнух.jpg"/>
          <p:cNvPicPr/>
          <p:nvPr/>
        </p:nvPicPr>
        <p:blipFill>
          <a:blip r:embed="rId1"/>
          <a:stretch/>
        </p:blipFill>
        <p:spPr>
          <a:xfrm>
            <a:off x="4857840" y="164304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Documents and Settings\Лена\Мои документы\Мои рисунки\лен.jpg"/>
          <p:cNvPicPr/>
          <p:nvPr/>
        </p:nvPicPr>
        <p:blipFill>
          <a:blip r:embed="rId2"/>
          <a:stretch/>
        </p:blipFill>
        <p:spPr>
          <a:xfrm>
            <a:off x="1785960" y="1928880"/>
            <a:ext cx="2563920" cy="2454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Documents and Settings\Лена\Мои документы\РИСУНКИ С ИНЕТ\Яndex фундук (178).files\16_catalog.gif"/>
          <p:cNvPicPr/>
          <p:nvPr/>
        </p:nvPicPr>
        <p:blipFill>
          <a:blip r:embed="rId3"/>
          <a:stretch/>
        </p:blipFill>
        <p:spPr>
          <a:xfrm>
            <a:off x="5929200" y="5000760"/>
            <a:ext cx="1533600" cy="1392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C:\Documents and Settings\Лена\Рабочий стол\Яndex грецкий орех (337).files\thumbnail.jpg"/>
          <p:cNvPicPr/>
          <p:nvPr/>
        </p:nvPicPr>
        <p:blipFill>
          <a:blip r:embed="rId4"/>
          <a:stretch/>
        </p:blipFill>
        <p:spPr>
          <a:xfrm>
            <a:off x="1357200" y="4572000"/>
            <a:ext cx="32004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283400" y="1071720"/>
            <a:ext cx="72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А у животных и человека – в подкожном слое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между мышечными волокнами и в брюшной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олост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0" name="Picture 4" descr="C:\Documents and Settings\Лена\Мои документы\Мои рисунки\жировая клетчатка.jpg"/>
          <p:cNvPicPr/>
          <p:nvPr/>
        </p:nvPicPr>
        <p:blipFill>
          <a:blip r:embed="rId1"/>
          <a:stretch/>
        </p:blipFill>
        <p:spPr>
          <a:xfrm>
            <a:off x="1857240" y="2928960"/>
            <a:ext cx="285768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Documents and Settings\Лена\Мои документы\Мои рисунки\сумо.jpg"/>
          <p:cNvPicPr/>
          <p:nvPr/>
        </p:nvPicPr>
        <p:blipFill>
          <a:blip r:embed="rId2"/>
          <a:stretch/>
        </p:blipFill>
        <p:spPr>
          <a:xfrm>
            <a:off x="5257800" y="2590920"/>
            <a:ext cx="324324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1500120" y="1071720"/>
            <a:ext cx="59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КЛАССИФИКАЦИЯ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1.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ЖИРЫ  ЖИВОТНЫ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600200" y="1500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ТВЕРДЫЕ                                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ИСКЛЮЧЕНИЕ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РЫБИЙ ЖИР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" name="Picture 9" descr="C:\Documents and Settings\Лена\Мои документы\Мои рисунки\маргарин.jpg"/>
          <p:cNvPicPr/>
          <p:nvPr/>
        </p:nvPicPr>
        <p:blipFill>
          <a:blip r:embed="rId1"/>
          <a:stretch/>
        </p:blipFill>
        <p:spPr>
          <a:xfrm>
            <a:off x="1571760" y="2643120"/>
            <a:ext cx="3124080" cy="2743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C:\Documents and Settings\Лена\Мои документы\Мои рисунки\рыбий жир.jpg"/>
          <p:cNvPicPr/>
          <p:nvPr/>
        </p:nvPicPr>
        <p:blipFill>
          <a:blip r:embed="rId2"/>
          <a:stretch/>
        </p:blipFill>
        <p:spPr>
          <a:xfrm>
            <a:off x="5929200" y="3124080"/>
            <a:ext cx="2743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430520" y="1285920"/>
            <a:ext cx="43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2. ЖИРЫ  РАСТИТЕЛЬНЫ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043720" y="13352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ИДКИ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" name="Picture 4" descr="C:\Documents and Settings\Лена\Мои документы\Мои рисунки\maslo.jpg"/>
          <p:cNvPicPr/>
          <p:nvPr/>
        </p:nvPicPr>
        <p:blipFill>
          <a:blip r:embed="rId1"/>
          <a:stretch/>
        </p:blipFill>
        <p:spPr>
          <a:xfrm>
            <a:off x="1905120" y="2133720"/>
            <a:ext cx="1828800" cy="40384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334120" y="2209680"/>
            <a:ext cx="346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ИСКЛЮЧЕНИЕ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КОКОСОВОЕ  МАСЛ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" name="Picture 6" descr="C:\Documents and Settings\Лена\Мои документы\Мои рисунки\kokos2.jpg"/>
          <p:cNvPicPr/>
          <p:nvPr/>
        </p:nvPicPr>
        <p:blipFill>
          <a:blip r:embed="rId2"/>
          <a:stretch/>
        </p:blipFill>
        <p:spPr>
          <a:xfrm>
            <a:off x="5105520" y="3124080"/>
            <a:ext cx="38098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285920" y="9288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ФИЗИЧЕСКИЕ  СВОЙСТВА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се жиры легче воды, в воде нерастворимы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хорошо растворимы в органических     растворителя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219320" y="2357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В установлении состава и строения жиров большую роль сыграли французские химик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857680" y="3500280"/>
            <a:ext cx="433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1854 году  М. Бертл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существил синтез жир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4" name="Picture 5" descr="C:\Documents and Settings\Лена\Мои документы\Мои рисунки\Chevreul.gif"/>
          <p:cNvPicPr/>
          <p:nvPr/>
        </p:nvPicPr>
        <p:blipFill>
          <a:blip r:embed="rId1"/>
          <a:stretch/>
        </p:blipFill>
        <p:spPr>
          <a:xfrm>
            <a:off x="1371600" y="4191120"/>
            <a:ext cx="2209680" cy="2514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Documents and Settings\Лена\Мои документы\Мои рисунки\209437006.jpg"/>
          <p:cNvPicPr/>
          <p:nvPr/>
        </p:nvPicPr>
        <p:blipFill>
          <a:blip r:embed="rId2"/>
          <a:stretch/>
        </p:blipFill>
        <p:spPr>
          <a:xfrm>
            <a:off x="7162920" y="3214800"/>
            <a:ext cx="1981080" cy="2539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3643200" y="5715000"/>
            <a:ext cx="47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нач.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ека М. Шеврель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существил гидролиз жир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523160" y="1143000"/>
            <a:ext cx="732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ЖИРЫ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- СЛОЖНЫЕ ЭФИРЫ, ОБРАЗОВАННЫЕ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ГЛИЦЕРИНОМ  И  ВЫСШИМИ  КАРБОНОВЫМ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КИСЛОТАМ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23920" y="2971800"/>
            <a:ext cx="25992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– О – С –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H  – O – C – R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– O – C – R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038480" y="3429000"/>
            <a:ext cx="0" cy="6094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4038480" y="4495680"/>
            <a:ext cx="0" cy="60984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334480" y="2666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334480" y="3733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5334120" y="4800600"/>
            <a:ext cx="4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//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335200" y="2362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533520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335200" y="4495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AutoShape 16"/>
          <p:cNvSpPr/>
          <p:nvPr/>
        </p:nvSpPr>
        <p:spPr>
          <a:xfrm rot="5400000">
            <a:off x="4190400" y="5105160"/>
            <a:ext cx="457200" cy="1219320"/>
          </a:xfrm>
          <a:custGeom>
            <a:avLst/>
            <a:gdLst>
              <a:gd name="textAreaLeft" fmla="*/ 0 w 457200"/>
              <a:gd name="textAreaRight" fmla="*/ 16488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5181480" y="2438280"/>
            <a:ext cx="0" cy="3581640"/>
          </a:xfrm>
          <a:prstGeom prst="line">
            <a:avLst/>
          </a:prstGeom>
          <a:ln w="9360">
            <a:solidFill>
              <a:srgbClr val="3333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6477120" y="2895480"/>
            <a:ext cx="609480" cy="2819520"/>
          </a:xfrm>
          <a:custGeom>
            <a:avLst/>
            <a:gdLst>
              <a:gd name="textAreaLeft" fmla="*/ 0 w 609480"/>
              <a:gd name="textAreaRight" fmla="*/ 219960 w 6094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7091640" y="3733920"/>
            <a:ext cx="205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статк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карбоновы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кисло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643560" y="590724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глицерин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2:38:49Z</dcterms:created>
  <dc:creator>Лена</dc:creator>
  <dc:description/>
  <dc:language>en-US</dc:language>
  <cp:lastModifiedBy>Пользователь Windows</cp:lastModifiedBy>
  <dcterms:modified xsi:type="dcterms:W3CDTF">2009-11-25T18:17:57Z</dcterms:modified>
  <cp:revision>13</cp:revision>
  <dc:subject/>
  <dc:title>Презентация PowerPoint</dc:title>
</cp:coreProperties>
</file>