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42F-D648-4F15-9012-86D8519CCE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7C9-1B5E-44AB-8141-9BADE318AC86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0B9B-2F5F-4EBF-840D-97BAA28A58D8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E1D-D024-436A-9FF0-9E7AE7D585A0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BE06-BBE1-487F-81B1-83C313459427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71F-5DB6-4991-BFBD-5BEEA3822C04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23C-4B8D-4BDA-ADBF-E78AAAD880F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AE08-4CC1-41B2-882A-C9B6CF0F29D3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A9EF-9169-462C-AB81-DF797E23B35B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ED3E-F49A-43B9-9388-CB4D862F9A11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8ADD-8836-4501-B7CF-99158FAEEAE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772-9CBA-4999-B6D6-8E93DF93F3A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F5E-C8E6-4DFF-A3B5-B1BDD5B9EBC5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85C-4BB7-4FDF-A9C6-99AE134636C2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B9C-3DEF-438A-A600-FC5C4790EE0A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3541-1286-4BF6-89D4-BD9EB7122F4D}" type="slidenum">
              <a:rPr b="0" lang="ru-RU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B8D-6D9E-4BBC-95CA-4900F12C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33E-5579-4645-A8FF-B39214F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19E-DB54-4B4F-AFBD-CCCD8E18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C40-023D-49A0-8D74-E789F41F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533-975F-40F8-BB96-068279F9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6DE-8FB6-425F-9385-F09376E9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FC2-0044-4DE6-96F4-A3C2B7E8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A7C-4438-456F-81DF-8D41B53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F24F-3EA7-45D3-A00A-BC802DB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A665-1121-4B02-9E0C-A974606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7AD-C141-44C4-AB48-04544C1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A0E-A915-4A3B-89C2-D3D1E25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B248-9DCE-4AA2-B28C-3D9C094F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DDAD-D252-4FD4-8C70-0BEAB64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2526-CF85-4219-AB3A-C00328A9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48C6-918D-400F-8424-E3067891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86D3-0F41-4579-92D5-CB762720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44A-A724-47D2-A322-8941C6D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066-63CD-42D6-9E57-1E1BF7B2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B48-89E9-4F11-A2D9-894FB93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9F1E-423D-4420-86A3-7F9AFE1B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CE2-6580-48CA-9157-DB62445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EF3-4FD1-4A75-932F-288F9763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10E-2BA5-44C3-AB66-C81E9790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C:\My Documents\bits\Astonbnr.GIF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E093-3857-4744-AAC3-18D807C46EFE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C:\My Documents\bits\Astonbnr.GIF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E19-5ABA-4D6A-AA2D-8C85DDE8E1CD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2590920" y="2209680"/>
            <a:ext cx="4952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Ж И Р 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743200" y="38088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БИОЛОГИЧЕСКАЯ РОЛЬ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113120" y="1066680"/>
            <a:ext cx="8032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УНКЦИИ ЖИРОВ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Энергетическ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ходе расщепления 1г жиров до СО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и 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 осв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ождается большое количество энергии- 38,9 кДж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основное резервное топливо, его называю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«энергетическим депо» живых организм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ыделяющаяся энергия необходима для жизн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ятельности организм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5" descr="C:\Documents and Settings\Лена\Мои документы\Мои рисунки\теннис.jpg"/>
          <p:cNvPicPr/>
          <p:nvPr/>
        </p:nvPicPr>
        <p:blipFill>
          <a:blip r:embed="rId1"/>
          <a:stretch/>
        </p:blipFill>
        <p:spPr>
          <a:xfrm>
            <a:off x="2133720" y="41911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Documents and Settings\Лена\Мои документы\Мои рисунки\футбол.gif"/>
          <p:cNvPicPr/>
          <p:nvPr/>
        </p:nvPicPr>
        <p:blipFill>
          <a:blip r:embed="rId2"/>
          <a:stretch/>
        </p:blipFill>
        <p:spPr>
          <a:xfrm>
            <a:off x="6095880" y="419112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276200" y="1000080"/>
            <a:ext cx="78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Строитель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являются структурными элементами мемб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н клеток и клеточных органелл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7" name="Picture 3" descr="C:\Documents and Settings\Лена\Мои документы\Мои рисунки\липиды.jpg"/>
          <p:cNvPicPr/>
          <p:nvPr/>
        </p:nvPicPr>
        <p:blipFill>
          <a:blip r:embed="rId1"/>
          <a:stretch/>
        </p:blipFill>
        <p:spPr>
          <a:xfrm>
            <a:off x="2819520" y="2362320"/>
            <a:ext cx="4876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327680" y="928800"/>
            <a:ext cx="75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Регулятор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бразование некоторых липидов предшествуе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интезу ряда гормонов, например кор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адпочечник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9" name="Picture 3" descr="C:\Documents and Settings\Лена\Мои документы\Мои рисунки\кора.jpg"/>
          <p:cNvPicPr/>
          <p:nvPr/>
        </p:nvPicPr>
        <p:blipFill>
          <a:blip r:embed="rId1"/>
          <a:stretch/>
        </p:blipFill>
        <p:spPr>
          <a:xfrm>
            <a:off x="2928960" y="278604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307520" y="857160"/>
            <a:ext cx="783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Запас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- запасные вещества, в форме которых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понируется метаболическое топливо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вестно, что верблюд в состоянии прож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ез питья до полутора месяцев. Воду в это врем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н «добывает» за счет постепенного окислени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щихся в горбах запасов жира, котор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огут достигать до 120 кг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Picture 3" descr="C:\Documents and Settings\Лена\Мои документы\Мои рисунки\верблюд.jpg"/>
          <p:cNvPicPr/>
          <p:nvPr/>
        </p:nvPicPr>
        <p:blipFill>
          <a:blip r:embed="rId1"/>
          <a:stretch/>
        </p:blipFill>
        <p:spPr>
          <a:xfrm>
            <a:off x="2714760" y="3857760"/>
            <a:ext cx="4905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375200" y="857160"/>
            <a:ext cx="7771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. Защитная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вязи с хорошо выраженными термоизоля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ционными свойствами жиры сохраняют тепло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рганизме, особенно у морских и полярных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вотных. В виде жировой прокладки предохра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няют тело и органы животных от механическог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вреждения, служат жировой смазкой для кож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3" descr="C:\Documents and Settings\Лена\Мои документы\Мои рисунки\касатка.jpg"/>
          <p:cNvPicPr/>
          <p:nvPr/>
        </p:nvPicPr>
        <p:blipFill>
          <a:blip r:embed="rId1"/>
          <a:stretch/>
        </p:blipFill>
        <p:spPr>
          <a:xfrm>
            <a:off x="1285920" y="364320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Лена\Мои документы\Мои рисунки\медведь.jpg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84720" y="1000080"/>
            <a:ext cx="8584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Закрепляющий  тест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кой из продуктов надо дать уставшему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арафонцу для поддержания сил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кусочек сахара, б) кусок мяса, в) кусок сал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Большее количество Е выделяется при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асщеплении 1г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жира, б) глюкозы, в) белк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В каком веществе растворяются жиры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пирт, б) вода, в) соляная кисло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Способность верблюдов хорошо переноси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ажду объясняется тем, что жиры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) сохраняют воду в организм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б) выделяют воду при окислени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) создают теплоизолирующий слой, уменьшаю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щий испарени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75240" y="1447920"/>
            <a:ext cx="865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План  урок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ры в природ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2.  Классификация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3.  Состав и строение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Биологическая роль в организм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94200" y="1523880"/>
            <a:ext cx="785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В  ПРИРОДЕ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составе всех клеток животных и растений со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ржатся липиды. Самыми распространенными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з липидов являются жиры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одержание жира в клетках обычно невелико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5 – 15 % от сухого вещества, а в клетках жиров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кани  количество жира возрастает до 90%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12120" y="1000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У растений жиры встречаются в основном в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еменах и плодах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" name="Picture 3" descr="C:\Documents and Settings\Лена\Мои документы\Мои рисунки\подсолнух.jpg"/>
          <p:cNvPicPr/>
          <p:nvPr/>
        </p:nvPicPr>
        <p:blipFill>
          <a:blip r:embed="rId1"/>
          <a:stretch/>
        </p:blipFill>
        <p:spPr>
          <a:xfrm>
            <a:off x="4857840" y="164304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Documents and Settings\Лена\Мои документы\Мои рисунки\лен.jpg"/>
          <p:cNvPicPr/>
          <p:nvPr/>
        </p:nvPicPr>
        <p:blipFill>
          <a:blip r:embed="rId2"/>
          <a:stretch/>
        </p:blipFill>
        <p:spPr>
          <a:xfrm>
            <a:off x="1785960" y="1928880"/>
            <a:ext cx="2563920" cy="2454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Лена\Мои документы\РИСУНКИ С ИНЕТ\Яndex фундук (178).files\16_catalog.gif"/>
          <p:cNvPicPr/>
          <p:nvPr/>
        </p:nvPicPr>
        <p:blipFill>
          <a:blip r:embed="rId3"/>
          <a:stretch/>
        </p:blipFill>
        <p:spPr>
          <a:xfrm>
            <a:off x="5929200" y="5000760"/>
            <a:ext cx="1533600" cy="139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Лена\Рабочий стол\Яndex грецкий орех (337).files\thumbnail.jpg"/>
          <p:cNvPicPr/>
          <p:nvPr/>
        </p:nvPicPr>
        <p:blipFill>
          <a:blip r:embed="rId4"/>
          <a:stretch/>
        </p:blipFill>
        <p:spPr>
          <a:xfrm>
            <a:off x="1357200" y="4572000"/>
            <a:ext cx="32004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83400" y="1071720"/>
            <a:ext cx="72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А у животных и человека – в подкожном слое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между мышечными волокнами и в брюшной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ло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0" name="Picture 4" descr="C:\Documents and Settings\Лена\Мои документы\Мои рисунки\жировая клетчатка.jpg"/>
          <p:cNvPicPr/>
          <p:nvPr/>
        </p:nvPicPr>
        <p:blipFill>
          <a:blip r:embed="rId1"/>
          <a:stretch/>
        </p:blipFill>
        <p:spPr>
          <a:xfrm>
            <a:off x="1857240" y="292896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Documents and Settings\Лена\Мои документы\Мои рисунки\сумо.jpg"/>
          <p:cNvPicPr/>
          <p:nvPr/>
        </p:nvPicPr>
        <p:blipFill>
          <a:blip r:embed="rId2"/>
          <a:stretch/>
        </p:blipFill>
        <p:spPr>
          <a:xfrm>
            <a:off x="5257800" y="2590920"/>
            <a:ext cx="32432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1500120" y="1071720"/>
            <a:ext cx="59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КЛАССИФИКАЦИЯ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  ЖИВОТ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600200" y="1500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ТВЕРДЫЕ                                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ЫБИЙ ЖИ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9" descr="C:\Documents and Settings\Лена\Мои документы\Мои рисунки\маргарин.jpg"/>
          <p:cNvPicPr/>
          <p:nvPr/>
        </p:nvPicPr>
        <p:blipFill>
          <a:blip r:embed="rId1"/>
          <a:stretch/>
        </p:blipFill>
        <p:spPr>
          <a:xfrm>
            <a:off x="1571760" y="26431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Лена\Мои документы\Мои рисунки\рыбий жир.jpg"/>
          <p:cNvPicPr/>
          <p:nvPr/>
        </p:nvPicPr>
        <p:blipFill>
          <a:blip r:embed="rId2"/>
          <a:stretch/>
        </p:blipFill>
        <p:spPr>
          <a:xfrm>
            <a:off x="5929200" y="3124080"/>
            <a:ext cx="2743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430520" y="12859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2. ЖИРЫ  РАСТИТЕЛЬНЫ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043720" y="13352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ЖИДК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4" descr="C:\Documents and Settings\Лена\Мои документы\Мои рисунки\maslo.jpg"/>
          <p:cNvPicPr/>
          <p:nvPr/>
        </p:nvPicPr>
        <p:blipFill>
          <a:blip r:embed="rId1"/>
          <a:stretch/>
        </p:blipFill>
        <p:spPr>
          <a:xfrm>
            <a:off x="1905120" y="2133720"/>
            <a:ext cx="182880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34120" y="2209680"/>
            <a:ext cx="346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ИСКЛЮЧЕНИЕ-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ОКОСОВОЕ  МАС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" name="Picture 6" descr="C:\Documents and Settings\Лена\Мои документы\Мои рисунки\kokos2.jpg"/>
          <p:cNvPicPr/>
          <p:nvPr/>
        </p:nvPicPr>
        <p:blipFill>
          <a:blip r:embed="rId2"/>
          <a:stretch/>
        </p:blipFill>
        <p:spPr>
          <a:xfrm>
            <a:off x="5105520" y="3124080"/>
            <a:ext cx="3809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285920" y="9288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ФИЗИЧЕСКИЕ  СВОЙСТВА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се жиры легче воды, в воде нерастворимы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хорошо растворимы в органических     растворителя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219320" y="235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В установлении состава и строения жиров большую роль сыграли французские хими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7680" y="3500280"/>
            <a:ext cx="43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1854 году  М. Берт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синте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Picture 5" descr="C:\Documents and Settings\Лена\Мои документы\Мои рисунки\Chevreul.gif"/>
          <p:cNvPicPr/>
          <p:nvPr/>
        </p:nvPicPr>
        <p:blipFill>
          <a:blip r:embed="rId1"/>
          <a:stretch/>
        </p:blipFill>
        <p:spPr>
          <a:xfrm>
            <a:off x="1371600" y="419112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Лена\Мои документы\Мои рисунки\209437006.jpg"/>
          <p:cNvPicPr/>
          <p:nvPr/>
        </p:nvPicPr>
        <p:blipFill>
          <a:blip r:embed="rId2"/>
          <a:stretch/>
        </p:blipFill>
        <p:spPr>
          <a:xfrm>
            <a:off x="7162920" y="3214800"/>
            <a:ext cx="1981080" cy="253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643200" y="5715000"/>
            <a:ext cx="47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нач.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ека М. Шеврель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уществил гидролиз жиров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523160" y="1143000"/>
            <a:ext cx="73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ЖИРЫ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- СЛОЖНЫЕ ЭФИРЫ, ОБРАЗОВАННЫЕ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ОМ  И  ВЫСШИМИ  КАРБОНОВЫМ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А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23920" y="2971800"/>
            <a:ext cx="2599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 – О – С –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 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– O – C – R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038480" y="3429000"/>
            <a:ext cx="0" cy="6094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4038480" y="4495680"/>
            <a:ext cx="0" cy="6098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34480" y="2666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334480" y="3733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34120" y="4800600"/>
            <a:ext cx="4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35200" y="2362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53352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335200" y="4495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 rot="5400000">
            <a:off x="4190400" y="5105160"/>
            <a:ext cx="457200" cy="121932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181480" y="2438280"/>
            <a:ext cx="0" cy="3581640"/>
          </a:xfrm>
          <a:prstGeom prst="line">
            <a:avLst/>
          </a:prstGeom>
          <a:ln w="93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6477120" y="2895480"/>
            <a:ext cx="609480" cy="281952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7091640" y="3733920"/>
            <a:ext cx="205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стат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арбоновых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исло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643560" y="59072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глицерин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2:38:49Z</dcterms:created>
  <dc:creator>Лена</dc:creator>
  <dc:description/>
  <dc:language>en-US</dc:language>
  <cp:lastModifiedBy>Пользователь Windows</cp:lastModifiedBy>
  <dcterms:modified xsi:type="dcterms:W3CDTF">2009-11-25T18:17:57Z</dcterms:modified>
  <cp:revision>13</cp:revision>
  <dc:subject/>
  <dc:title>Презентация PowerPoint</dc:title>
</cp:coreProperties>
</file>