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224-C2ED-4672-A5BC-C699708B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569-75A9-4749-A7FD-48B50C7B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FB4-1C48-4A04-8CE6-373B319F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D40-0751-47E9-A7F0-99CD1673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FCF-FA7E-49B7-BDCC-F81A72BD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464-3AB3-4667-976A-58E38ECE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37D-1C59-4BA3-9870-B5B4E85B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1E4-86CE-43A9-BD46-A141E92F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360-5435-4544-B095-FAD950B8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806-31C4-4A31-A0B3-BB4EFA71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F0A-1E14-49DB-AC2B-98710382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08C-60B8-4217-9FF0-CC1DF107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CC6E-7D31-4CD1-91D5-6E457580A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hyperlink" Target="http://go.mail.ru/frame.html?imgurl=http://fotolife.com.ua/albums/11/11de83e8/xl_ee505.jpg&amp;pageurl=http://fotolife.com.ua%2F%3Fpage%3Dcategory%26cat_id%3D16%26image%3D1018&amp;id=24365996&amp;iid=4&amp;imgwidth=640&amp;imgheight=427&amp;imgsize=91338&amp;images_links=b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image" Target="../media/image16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0" y="2268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  <a:ea typeface="Calibri"/>
              </a:rPr>
              <a:t>Тренажёр по предмет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alibri"/>
                <a:ea typeface="Calibri"/>
              </a:rPr>
              <a:t>«Окружающий мир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660066"/>
                </a:solidFill>
                <a:latin typeface="a_AlgeriusBlw"/>
                <a:ea typeface="Calibri"/>
              </a:rPr>
              <a:t>«Строение тела человека»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_AlgeriusBlw"/>
                <a:ea typeface="Calibri"/>
              </a:rPr>
              <a:t>2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777240" y="5592240"/>
            <a:ext cx="505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оставила: Кузнецова Свет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Вале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Светулька.CENDRES\Рабочий стол\света\нов.год\gallery_2_177_51356.gif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0"/>
          <p:cNvSpPr/>
          <p:nvPr/>
        </p:nvSpPr>
        <p:spPr>
          <a:xfrm>
            <a:off x="3986640" y="292896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Calibri"/>
              </a:rPr>
              <a:t>С Е Р Д Ц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1"/>
          <p:cNvSpPr/>
          <p:nvPr/>
        </p:nvSpPr>
        <p:spPr>
          <a:xfrm>
            <a:off x="428760" y="5716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 главный неутомимый мотор нашего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Светулька.CENDRES\Рабочий стол\Свете-ОРГАНЫ\Алкоголикам.jpg"/>
          <p:cNvPicPr/>
          <p:nvPr/>
        </p:nvPicPr>
        <p:blipFill>
          <a:blip r:embed="rId1"/>
          <a:stretch/>
        </p:blipFill>
        <p:spPr>
          <a:xfrm>
            <a:off x="500040" y="2643120"/>
            <a:ext cx="2109960" cy="123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Documents and Settings\Светулька.CENDRES\Рабочий стол\Свете-ОРГАНЫ\Вечно-твое_и_мое.jpg"/>
          <p:cNvPicPr/>
          <p:nvPr/>
        </p:nvPicPr>
        <p:blipFill>
          <a:blip r:embed="rId2"/>
          <a:stretch/>
        </p:blipFill>
        <p:spPr>
          <a:xfrm>
            <a:off x="4643280" y="4429080"/>
            <a:ext cx="1373400" cy="15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Documents and Settings\Светулька.CENDRES\Рабочий стол\Свете-ОРГАНЫ\Легкие.jpg"/>
          <p:cNvPicPr/>
          <p:nvPr/>
        </p:nvPicPr>
        <p:blipFill>
          <a:blip r:embed="rId3"/>
          <a:stretch/>
        </p:blipFill>
        <p:spPr>
          <a:xfrm>
            <a:off x="1714680" y="4357800"/>
            <a:ext cx="1919160" cy="2044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Documents and Settings\Светулька.CENDRES\Рабочий стол\части тела\image8.jpeg"/>
          <p:cNvPicPr/>
          <p:nvPr/>
        </p:nvPicPr>
        <p:blipFill>
          <a:blip r:embed="rId4"/>
          <a:stretch/>
        </p:blipFill>
        <p:spPr>
          <a:xfrm>
            <a:off x="6929280" y="2786040"/>
            <a:ext cx="1785960" cy="21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815040" y="2428920"/>
            <a:ext cx="24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Л Ё Г К И 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5712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ыхательный аппарат, похожий на две губ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Documents and Settings\Светулька.CENDRES\Рабочий стол\Свете-ОРГАНЫ\Легкие.jpg"/>
          <p:cNvPicPr/>
          <p:nvPr/>
        </p:nvPicPr>
        <p:blipFill>
          <a:blip r:embed="rId1"/>
          <a:stretch/>
        </p:blipFill>
        <p:spPr>
          <a:xfrm>
            <a:off x="500040" y="3571920"/>
            <a:ext cx="2276640" cy="242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Светулька.CENDRES\Рабочий стол\Свете-ОРГАНЫ\Желудок.jpg"/>
          <p:cNvPicPr/>
          <p:nvPr/>
        </p:nvPicPr>
        <p:blipFill>
          <a:blip r:embed="rId2"/>
          <a:stretch/>
        </p:blipFill>
        <p:spPr>
          <a:xfrm>
            <a:off x="3571920" y="4857840"/>
            <a:ext cx="2208240" cy="1571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Светулька.CENDRES\Рабочий стол\части тела\FG.jpg"/>
          <p:cNvPicPr/>
          <p:nvPr/>
        </p:nvPicPr>
        <p:blipFill>
          <a:blip r:embed="rId3"/>
          <a:stretch/>
        </p:blipFill>
        <p:spPr>
          <a:xfrm>
            <a:off x="6286680" y="2428920"/>
            <a:ext cx="2350800" cy="269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714240" y="3215880"/>
            <a:ext cx="42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К И Ш Е Ч Н И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0" y="42876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 орган «внутренней кухни» похож на извилистый лабири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Светулька.CENDRES\Рабочий стол\части тела\zivotik.jpg"/>
          <p:cNvPicPr/>
          <p:nvPr/>
        </p:nvPicPr>
        <p:blipFill>
          <a:blip r:embed="rId1"/>
          <a:srcRect l="0" t="0" r="0" b="16610"/>
          <a:stretch/>
        </p:blipFill>
        <p:spPr>
          <a:xfrm>
            <a:off x="3357720" y="4429080"/>
            <a:ext cx="20556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Documents and Settings\Светулька.CENDRES\Рабочий стол\Свете-ОРГАНЫ\Твое_любимое.jpg"/>
          <p:cNvPicPr/>
          <p:nvPr/>
        </p:nvPicPr>
        <p:blipFill>
          <a:blip r:embed="rId2"/>
          <a:stretch/>
        </p:blipFill>
        <p:spPr>
          <a:xfrm>
            <a:off x="6012000" y="2997360"/>
            <a:ext cx="2379600" cy="199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Documents and Settings\Светулька.CENDRES\Рабочий стол\Свете-ОРГАНЫ\Вечно-твое_и_мое.jpg"/>
          <p:cNvPicPr/>
          <p:nvPr/>
        </p:nvPicPr>
        <p:blipFill>
          <a:blip r:embed="rId3"/>
          <a:stretch/>
        </p:blipFill>
        <p:spPr>
          <a:xfrm>
            <a:off x="785880" y="2786040"/>
            <a:ext cx="1725480" cy="19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5"/>
          <p:cNvSpPr/>
          <p:nvPr/>
        </p:nvSpPr>
        <p:spPr>
          <a:xfrm>
            <a:off x="2219760" y="200016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Г О Л О В Н О Й    М О З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714240" y="500040"/>
            <a:ext cx="771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лавный командир» нашего организ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Documents and Settings\Светулька.CENDRES\Рабочий стол\Свете-ОРГАНЫ\180110_Тело.jpg"/>
          <p:cNvPicPr/>
          <p:nvPr/>
        </p:nvPicPr>
        <p:blipFill>
          <a:blip r:embed="rId1"/>
          <a:stretch/>
        </p:blipFill>
        <p:spPr>
          <a:xfrm>
            <a:off x="857160" y="3286080"/>
            <a:ext cx="1258920" cy="287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sesi"/>
          <p:cNvPicPr/>
          <p:nvPr/>
        </p:nvPicPr>
        <p:blipFill>
          <a:blip r:embed="rId2"/>
          <a:stretch/>
        </p:blipFill>
        <p:spPr>
          <a:xfrm>
            <a:off x="7202520" y="3786120"/>
            <a:ext cx="1733400" cy="1928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Documents and Settings\Светулька.CENDRES\Рабочий стол\Свете-ОРГАНЫ\Мой-мозг.jpg"/>
          <p:cNvPicPr/>
          <p:nvPr/>
        </p:nvPicPr>
        <p:blipFill>
          <a:blip r:embed="rId3"/>
          <a:stretch/>
        </p:blipFill>
        <p:spPr>
          <a:xfrm>
            <a:off x="3643200" y="3286080"/>
            <a:ext cx="2141640" cy="185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C:\Documents and Settings\Светулька.CENDRES\Рабочий стол\Свете-ОРГАНЫ\Алкоголикам.jpg"/>
          <p:cNvPicPr/>
          <p:nvPr/>
        </p:nvPicPr>
        <p:blipFill>
          <a:blip r:embed="rId4"/>
          <a:stretch/>
        </p:blipFill>
        <p:spPr>
          <a:xfrm>
            <a:off x="3714840" y="5500800"/>
            <a:ext cx="1592280" cy="92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066840" y="3500280"/>
            <a:ext cx="23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П Е Ч Е Н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285840" y="3571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соседку желудка, которая очищает наш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C:\Documents and Settings\Светулька.CENDRES\Рабочий стол\Свете-ОРГАНЫ\Вечно-твое_и_мое.jpg"/>
          <p:cNvPicPr/>
          <p:nvPr/>
        </p:nvPicPr>
        <p:blipFill>
          <a:blip r:embed="rId1"/>
          <a:stretch/>
        </p:blipFill>
        <p:spPr>
          <a:xfrm>
            <a:off x="571680" y="1857240"/>
            <a:ext cx="2011320" cy="230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Светулька.CENDRES\Рабочий стол\Свете-ОРГАНЫ\Желудок.jpg"/>
          <p:cNvPicPr/>
          <p:nvPr/>
        </p:nvPicPr>
        <p:blipFill>
          <a:blip r:embed="rId2"/>
          <a:stretch/>
        </p:blipFill>
        <p:spPr>
          <a:xfrm>
            <a:off x="5715000" y="1928880"/>
            <a:ext cx="2874960" cy="2046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Светулька.CENDRES\Рабочий стол\Свете-ОРГАНЫ\Алкоголикам.jpg"/>
          <p:cNvPicPr/>
          <p:nvPr/>
        </p:nvPicPr>
        <p:blipFill>
          <a:blip r:embed="rId3"/>
          <a:stretch/>
        </p:blipFill>
        <p:spPr>
          <a:xfrm>
            <a:off x="2857680" y="4714920"/>
            <a:ext cx="2579400" cy="15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428760" y="5000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вное от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нутренней кухни»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1428840" y="300024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Ж Е Л У Д О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Documents and Settings\Светулька.CENDRES\Рабочий стол\Свете-ОРГАНЫ\Легкие.jpg"/>
          <p:cNvPicPr/>
          <p:nvPr/>
        </p:nvPicPr>
        <p:blipFill>
          <a:blip r:embed="rId1"/>
          <a:stretch/>
        </p:blipFill>
        <p:spPr>
          <a:xfrm>
            <a:off x="357120" y="1714680"/>
            <a:ext cx="2276640" cy="242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Documents and Settings\Светулька.CENDRES\Рабочий стол\Свете-ОРГАНЫ\Алкоголикам.jpg"/>
          <p:cNvPicPr/>
          <p:nvPr/>
        </p:nvPicPr>
        <p:blipFill>
          <a:blip r:embed="rId2"/>
          <a:stretch/>
        </p:blipFill>
        <p:spPr>
          <a:xfrm>
            <a:off x="6000840" y="1928880"/>
            <a:ext cx="2579760" cy="150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Documents and Settings\Светулька.CENDRES\Рабочий стол\Свете-ОРГАНЫ\Желудок.jpg"/>
          <p:cNvPicPr/>
          <p:nvPr/>
        </p:nvPicPr>
        <p:blipFill>
          <a:blip r:embed="rId3"/>
          <a:stretch/>
        </p:blipFill>
        <p:spPr>
          <a:xfrm>
            <a:off x="1785960" y="4357800"/>
            <a:ext cx="2874960" cy="2046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i?id=24365996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72080" y="4286160"/>
            <a:ext cx="250020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1364040" y="52149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_AlgeriusCaps"/>
                <a:ea typeface="Times New Roman"/>
              </a:rPr>
              <a:t>Г О Л О В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2" descr="C:\Documents and Settings\Светулька.CENDRES\Рабочий стол\части тела\39c92bb30f60bdf28c658b08b38b23cf_full.jpg"/>
          <p:cNvPicPr/>
          <p:nvPr/>
        </p:nvPicPr>
        <p:blipFill>
          <a:blip r:embed="rId1"/>
          <a:stretch/>
        </p:blipFill>
        <p:spPr>
          <a:xfrm>
            <a:off x="1357200" y="2500200"/>
            <a:ext cx="2570400" cy="19288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214200" y="50004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ь тела, где наход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лавный командир» нашего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C:\Documents and Settings\Светулька.CENDRES\Рабочий стол\Свете-ОРГАНЫ\Твое_любимое.jpg"/>
          <p:cNvPicPr/>
          <p:nvPr/>
        </p:nvPicPr>
        <p:blipFill>
          <a:blip r:embed="rId2"/>
          <a:stretch/>
        </p:blipFill>
        <p:spPr>
          <a:xfrm>
            <a:off x="1357200" y="4643280"/>
            <a:ext cx="2382840" cy="2000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Documents and Settings\Светулька.CENDRES\Рабочий стол\Свете-ОРГАНЫ\Вечно-твое_и_мое.jpg"/>
          <p:cNvPicPr/>
          <p:nvPr/>
        </p:nvPicPr>
        <p:blipFill>
          <a:blip r:embed="rId3"/>
          <a:stretch/>
        </p:blipFill>
        <p:spPr>
          <a:xfrm>
            <a:off x="6500880" y="2071800"/>
            <a:ext cx="1785960" cy="204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Светулька.CENDRES\Рабочий стол\Свете-ОРГАНЫ\Желудок.jpg"/>
          <p:cNvPicPr/>
          <p:nvPr/>
        </p:nvPicPr>
        <p:blipFill>
          <a:blip r:embed="rId4"/>
          <a:stretch/>
        </p:blipFill>
        <p:spPr>
          <a:xfrm>
            <a:off x="4714920" y="4429080"/>
            <a:ext cx="2874960" cy="2046240"/>
          </a:xfrm>
          <a:prstGeom prst="rect">
            <a:avLst/>
          </a:prstGeom>
          <a:ln w="0">
            <a:noFill/>
          </a:ln>
        </p:spPr>
      </p:pic>
      <p:pic>
        <p:nvPicPr>
          <p:cNvPr id="82" name="Чудо.wav" descr=""/>
          <p:cNvPicPr/>
          <p:nvPr/>
        </p:nvPicPr>
        <p:blipFill>
          <a:blip r:embed="rId5"/>
          <a:stretch/>
        </p:blipFill>
        <p:spPr>
          <a:xfrm>
            <a:off x="8429760" y="6143760"/>
            <a:ext cx="447480" cy="44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007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Творческое задание</a:t>
            </a: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:</a:t>
            </a:r>
            <a:br>
              <a:rPr sz="48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 теме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Строение тела человека»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ставить кроссворд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Придумать загадки об органах или частях тела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Сочинить стихи об органах или частях тел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бник: с 6-7. </a:t>
            </a:r>
            <a:br>
              <a:rPr sz="40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7:07:03Z</dcterms:created>
  <dc:creator>Светулька</dc:creator>
  <dc:description/>
  <dc:language>en-US</dc:language>
  <cp:lastModifiedBy>Dmitri</cp:lastModifiedBy>
  <dcterms:modified xsi:type="dcterms:W3CDTF">2012-11-24T16:14:46Z</dcterms:modified>
  <cp:revision>78</cp:revision>
  <dc:subject/>
  <dc:title>Слайд 1</dc:title>
</cp:coreProperties>
</file>