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EA7-DAFA-4B00-9557-3030DDF9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41-7574-4CBA-8177-5B4EB98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729-EE58-42DC-80B4-27616FEC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FFC-EE97-446B-83E7-F66839D3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224-73CC-4D58-8C31-00E74D8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556-CB01-4CEA-8F81-FB97FEA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834-4853-49CA-9F5E-A539549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A86-0EC8-4A5D-80B3-EEF502B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DA5-6449-4B1F-A377-06259A7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2BC-B9F8-478E-8508-16E0D87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8EC-97CF-435B-8BE2-FF42C747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B0C-ACAC-4810-A366-B3AC2F6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755-F7B6-4886-936D-5B28C47E6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hyperlink" Target="http://go.mail.ru/frame.html?imgurl=http://fotolife.com.ua/albums/11/11de83e8/xl_ee505.jpg&amp;pageurl=http://fotolife.com.ua%2F%3Fpage%3Dcategory%26cat_id%3D16%26image%3D1018&amp;id=24365996&amp;iid=4&amp;imgwidth=640&amp;imgheight=427&amp;imgsize=91338&amp;images_links=b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2268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Тренажёр по предмет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«Окружающи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0066"/>
                </a:solidFill>
                <a:latin typeface="a_AlgeriusBlw"/>
                <a:ea typeface="Calibri"/>
              </a:rPr>
              <a:t>«Строение тела человека»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_AlgeriusBlw"/>
                <a:ea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77240" y="5592240"/>
            <a:ext cx="50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оставила: Кузнецова Свет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але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Светулька.CENDRES\Рабочий стол\света\нов.год\gallery_2_177_51356.gif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0"/>
          <p:cNvSpPr/>
          <p:nvPr/>
        </p:nvSpPr>
        <p:spPr>
          <a:xfrm>
            <a:off x="3986640" y="29289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Calibri"/>
              </a:rPr>
              <a:t>С Е Р Д Ц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1"/>
          <p:cNvSpPr/>
          <p:nvPr/>
        </p:nvSpPr>
        <p:spPr>
          <a:xfrm>
            <a:off x="428760" y="571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 главный неутомимый мотор нашего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Светулька.CENDRES\Рабочий стол\Свете-ОРГАНЫ\Алкоголикам.jpg"/>
          <p:cNvPicPr/>
          <p:nvPr/>
        </p:nvPicPr>
        <p:blipFill>
          <a:blip r:embed="rId1"/>
          <a:stretch/>
        </p:blipFill>
        <p:spPr>
          <a:xfrm>
            <a:off x="500040" y="2643120"/>
            <a:ext cx="2109960" cy="123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Светулька.CENDRES\Рабочий стол\Свете-ОРГАНЫ\Вечно-твое_и_мое.jpg"/>
          <p:cNvPicPr/>
          <p:nvPr/>
        </p:nvPicPr>
        <p:blipFill>
          <a:blip r:embed="rId2"/>
          <a:stretch/>
        </p:blipFill>
        <p:spPr>
          <a:xfrm>
            <a:off x="4643280" y="4429080"/>
            <a:ext cx="13734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Светулька.CENDRES\Рабочий стол\Свете-ОРГАНЫ\Легкие.jpg"/>
          <p:cNvPicPr/>
          <p:nvPr/>
        </p:nvPicPr>
        <p:blipFill>
          <a:blip r:embed="rId3"/>
          <a:stretch/>
        </p:blipFill>
        <p:spPr>
          <a:xfrm>
            <a:off x="1714680" y="4357800"/>
            <a:ext cx="1919160" cy="204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Светулька.CENDRES\Рабочий стол\части тела\image8.jpeg"/>
          <p:cNvPicPr/>
          <p:nvPr/>
        </p:nvPicPr>
        <p:blipFill>
          <a:blip r:embed="rId4"/>
          <a:stretch/>
        </p:blipFill>
        <p:spPr>
          <a:xfrm>
            <a:off x="6929280" y="2786040"/>
            <a:ext cx="1785960" cy="21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815040" y="242892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Л Ё Г К И 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5712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тельный аппарат, похожий на две г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500040" y="357192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3571920" y="4857840"/>
            <a:ext cx="220824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Светулька.CENDRES\Рабочий стол\части тела\FG.jpg"/>
          <p:cNvPicPr/>
          <p:nvPr/>
        </p:nvPicPr>
        <p:blipFill>
          <a:blip r:embed="rId3"/>
          <a:stretch/>
        </p:blipFill>
        <p:spPr>
          <a:xfrm>
            <a:off x="6286680" y="2428920"/>
            <a:ext cx="2350800" cy="26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14240" y="321588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К И Ш Е Ч Н И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0" y="42876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орган «внутренней кухни» похож на извилистый лабири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Светулька.CENDRES\Рабочий стол\части тела\zivotik.jpg"/>
          <p:cNvPicPr/>
          <p:nvPr/>
        </p:nvPicPr>
        <p:blipFill>
          <a:blip r:embed="rId1"/>
          <a:srcRect l="0" t="0" r="0" b="16610"/>
          <a:stretch/>
        </p:blipFill>
        <p:spPr>
          <a:xfrm>
            <a:off x="3357720" y="4429080"/>
            <a:ext cx="20556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6012000" y="2997360"/>
            <a:ext cx="2379600" cy="199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785880" y="2786040"/>
            <a:ext cx="172548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2219760" y="200016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Н О Й    М О З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714240" y="50004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Светулька.CENDRES\Рабочий стол\Свете-ОРГАНЫ\180110_Тело.jpg"/>
          <p:cNvPicPr/>
          <p:nvPr/>
        </p:nvPicPr>
        <p:blipFill>
          <a:blip r:embed="rId1"/>
          <a:stretch/>
        </p:blipFill>
        <p:spPr>
          <a:xfrm>
            <a:off x="857160" y="3286080"/>
            <a:ext cx="1258920" cy="287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esi"/>
          <p:cNvPicPr/>
          <p:nvPr/>
        </p:nvPicPr>
        <p:blipFill>
          <a:blip r:embed="rId2"/>
          <a:stretch/>
        </p:blipFill>
        <p:spPr>
          <a:xfrm>
            <a:off x="7202520" y="3786120"/>
            <a:ext cx="17334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Светулька.CENDRES\Рабочий стол\Свете-ОРГАНЫ\Мой-мозг.jpg"/>
          <p:cNvPicPr/>
          <p:nvPr/>
        </p:nvPicPr>
        <p:blipFill>
          <a:blip r:embed="rId3"/>
          <a:stretch/>
        </p:blipFill>
        <p:spPr>
          <a:xfrm>
            <a:off x="3643200" y="3286080"/>
            <a:ext cx="214164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Светулька.CENDRES\Рабочий стол\Свете-ОРГАНЫ\Алкоголикам.jpg"/>
          <p:cNvPicPr/>
          <p:nvPr/>
        </p:nvPicPr>
        <p:blipFill>
          <a:blip r:embed="rId4"/>
          <a:stretch/>
        </p:blipFill>
        <p:spPr>
          <a:xfrm>
            <a:off x="3714840" y="5500800"/>
            <a:ext cx="1592280" cy="92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66840" y="350028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П Е Ч Е Н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285840" y="3571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оседку желудка, которая очищает наш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Светулька.CENDRES\Рабочий стол\Свете-ОРГАНЫ\Вечно-твое_и_мое.jpg"/>
          <p:cNvPicPr/>
          <p:nvPr/>
        </p:nvPicPr>
        <p:blipFill>
          <a:blip r:embed="rId1"/>
          <a:stretch/>
        </p:blipFill>
        <p:spPr>
          <a:xfrm>
            <a:off x="571680" y="1857240"/>
            <a:ext cx="201132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5715000" y="19288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Светулька.CENDRES\Рабочий стол\Свете-ОРГАНЫ\Алкоголикам.jpg"/>
          <p:cNvPicPr/>
          <p:nvPr/>
        </p:nvPicPr>
        <p:blipFill>
          <a:blip r:embed="rId3"/>
          <a:stretch/>
        </p:blipFill>
        <p:spPr>
          <a:xfrm>
            <a:off x="2857680" y="4714920"/>
            <a:ext cx="257940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000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ое от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нутренней кухни»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428840" y="30002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Ж Е Л У Д О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357120" y="171468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Documents and Settings\Светулька.CENDRES\Рабочий стол\Свете-ОРГАНЫ\Алкоголикам.jpg"/>
          <p:cNvPicPr/>
          <p:nvPr/>
        </p:nvPicPr>
        <p:blipFill>
          <a:blip r:embed="rId2"/>
          <a:stretch/>
        </p:blipFill>
        <p:spPr>
          <a:xfrm>
            <a:off x="6000840" y="1928880"/>
            <a:ext cx="2579760" cy="150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Documents and Settings\Светулька.CENDRES\Рабочий стол\Свете-ОРГАНЫ\Желудок.jpg"/>
          <p:cNvPicPr/>
          <p:nvPr/>
        </p:nvPicPr>
        <p:blipFill>
          <a:blip r:embed="rId3"/>
          <a:stretch/>
        </p:blipFill>
        <p:spPr>
          <a:xfrm>
            <a:off x="1785960" y="435780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?id=24365996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42861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364040" y="52149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2" descr="C:\Documents and Settings\Светулька.CENDRES\Рабочий стол\части тела\39c92bb30f60bdf28c658b08b38b23cf_full.jpg"/>
          <p:cNvPicPr/>
          <p:nvPr/>
        </p:nvPicPr>
        <p:blipFill>
          <a:blip r:embed="rId1"/>
          <a:stretch/>
        </p:blipFill>
        <p:spPr>
          <a:xfrm>
            <a:off x="1357200" y="250020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14200" y="5000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тела, где нах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1357200" y="4643280"/>
            <a:ext cx="238284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6500880" y="2071800"/>
            <a:ext cx="178596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Светулька.CENDRES\Рабочий стол\Свете-ОРГАНЫ\Желудок.jpg"/>
          <p:cNvPicPr/>
          <p:nvPr/>
        </p:nvPicPr>
        <p:blipFill>
          <a:blip r:embed="rId4"/>
          <a:stretch/>
        </p:blipFill>
        <p:spPr>
          <a:xfrm>
            <a:off x="4714920" y="44290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82" name="Чудо.wav" descr=""/>
          <p:cNvPicPr/>
          <p:nvPr/>
        </p:nvPicPr>
        <p:blipFill>
          <a:blip r:embed="rId5"/>
          <a:stretch/>
        </p:blipFill>
        <p:spPr>
          <a:xfrm>
            <a:off x="8429760" y="614376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0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Творческое задание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троение тела человека»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ить кроссворд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Придумать загадки об органах или частях тел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Сочинить стихи об органах или частях те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: с 6-7. </a:t>
            </a:r>
            <a:br>
              <a:rPr sz="40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7:03Z</dcterms:created>
  <dc:creator>Светулька</dc:creator>
  <dc:description/>
  <dc:language>en-US</dc:language>
  <cp:lastModifiedBy>Dmitri</cp:lastModifiedBy>
  <dcterms:modified xsi:type="dcterms:W3CDTF">2012-11-24T16:14:46Z</dcterms:modified>
  <cp:revision>78</cp:revision>
  <dc:subject/>
  <dc:title>Слайд 1</dc:title>
</cp:coreProperties>
</file>