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7.wmf" ContentType="image/x-wmf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26.gif" ContentType="image/gif"/>
  <Override PartName="/ppt/media/image29.png" ContentType="image/png"/>
  <Override PartName="/ppt/media/image28.jpeg" ContentType="image/jpeg"/>
  <Override PartName="/ppt/media/image24.gif" ContentType="image/gif"/>
  <Override PartName="/ppt/media/image16.png" ContentType="image/pn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4.jpeg" ContentType="image/jpeg"/>
  <Override PartName="/ppt/media/image27.jpeg" ContentType="image/jpe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22.gif" ContentType="image/gif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EB66-5291-4B81-B9A7-187FF6E5B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553F-B04E-4F81-86E2-D5A6305B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50B7-171F-4E6C-B544-C1748D0E8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D2CA-430E-4A52-BEBD-0E324C735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5ACC-1434-4F1F-BE20-378D97E75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DD20-F498-471F-B468-8BC4C730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4896-E42C-48DF-9DE3-BA7E22B8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9343-CF0E-4ED1-962E-68457574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E314-C1C1-4D8E-AA5F-BD8F374C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9FE8-4C67-43C3-BF34-269298BE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DE2F-6614-4B5E-87B2-EBC4AEA9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76BF-968C-4B62-94B4-4B98D4F5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574A-D22B-4681-AC55-A114141A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0602-629E-48B4-B5B3-2EA5BA8F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1863-685D-40A4-94C6-43D8C747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7AF3-4709-4135-8D9A-5444237B6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630A-34AA-42D6-9699-DDA803997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0DB2A-8836-4CF4-88C4-318747D27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C2212-740B-4C19-98A2-CF3CAB8F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1541C-A92C-45A0-858B-C3A4A926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A706F-E55C-4718-BD9A-285E84D5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E0E3A-0D70-474A-801A-991222FE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DC74-F9F6-4564-BC00-2EA690A6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E20DD-D3DA-45A2-92B2-C83AF14E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90C10-B6D6-4643-A4DD-A606EEA0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21152-DCD5-4FC5-BE20-2133E85F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045BF-0AD7-4D90-92B0-A9457C8B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4EED1-DAB3-4488-9F1D-645D9052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DFF4C-86F7-4484-84EB-F9C7020C9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33217-C3DE-4015-866C-7ADA2B0B5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4384B-50A9-4E76-8E1B-0B378B71B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A8C82-D8DB-460A-8083-7A8C48D8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D412B-A7FD-4F9F-872F-9B40C4A5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D91F-27A6-4196-A380-90DC253B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BC8FF-3838-442C-B07D-319CFBF2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E4943-6370-4087-A838-363E25DA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A9D38-6C26-405A-8303-6204CAE9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41DED-A599-456E-AE8E-D79D53FC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6D055-AB7E-4EAD-9986-CE1C4CBE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0E91B-16A4-4DBC-AC18-CF20F8FF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55998-AE66-4523-9E02-0C67C895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4F5BD-4DD3-4DD1-8983-39E618FA0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4C483-F8DC-421C-A692-86B97625D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CE0E-DEE0-4A38-84E7-2D29A7E9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5D3B-5773-45A0-8D51-390EE882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FB58-12BB-4210-88E9-2B58E662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B939-FE80-4460-8B50-9CD8418F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2761-B248-4575-B9DD-3E108E02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A7DC-EC7B-44F2-9CBC-C9FBD2287E0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EAE6-5A01-4415-BC6D-36A9A47F01B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63E2-1CEB-4FB1-BAD0-7B6FC634ABF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6836-43FC-4AD8-B9E5-A3C5D51594E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23.png"/><Relationship Id="rId7" Type="http://schemas.openxmlformats.org/officeDocument/2006/relationships/image" Target="../media/image24.gif"/><Relationship Id="rId8" Type="http://schemas.openxmlformats.org/officeDocument/2006/relationships/image" Target="../media/image24.gif"/><Relationship Id="rId9" Type="http://schemas.openxmlformats.org/officeDocument/2006/relationships/image" Target="../media/image21.png"/><Relationship Id="rId10" Type="http://schemas.openxmlformats.org/officeDocument/2006/relationships/image" Target="../media/image24.gif"/><Relationship Id="rId11" Type="http://schemas.openxmlformats.org/officeDocument/2006/relationships/image" Target="../media/image24.gif"/><Relationship Id="rId12" Type="http://schemas.openxmlformats.org/officeDocument/2006/relationships/image" Target="../media/image24.gif"/><Relationship Id="rId13" Type="http://schemas.openxmlformats.org/officeDocument/2006/relationships/image" Target="../media/image25.png"/><Relationship Id="rId14" Type="http://schemas.openxmlformats.org/officeDocument/2006/relationships/image" Target="../media/image26.gif"/><Relationship Id="rId15" Type="http://schemas.openxmlformats.org/officeDocument/2006/relationships/image" Target="../media/image26.gif"/><Relationship Id="rId16" Type="http://schemas.openxmlformats.org/officeDocument/2006/relationships/slide" Target="slide14.xml"/><Relationship Id="rId1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VIDEO_TS/VIDEO_TS.VOB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E:/go.exe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../../Program%20Files/Antic/antic.exe" TargetMode="External"/><Relationship Id="rId2" Type="http://schemas.openxmlformats.org/officeDocument/2006/relationships/hyperlink" Target="file:///../../../Program%20Files/Antic/antic.exe" TargetMode="External"/><Relationship Id="rId3" Type="http://schemas.openxmlformats.org/officeDocument/2006/relationships/image" Target="../media/image17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571320" y="3785760"/>
            <a:ext cx="7854840" cy="3071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Урок повторения с элементами интерактивного конструирования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6" name="Picture 7" descr="C:\Documents and Settings\teacher\Рабочий стол\греческий_орнамент.png"/>
          <p:cNvPicPr/>
          <p:nvPr/>
        </p:nvPicPr>
        <p:blipFill>
          <a:blip r:embed="rId1"/>
          <a:stretch/>
        </p:blipFill>
        <p:spPr>
          <a:xfrm>
            <a:off x="857160" y="3286080"/>
            <a:ext cx="1876680" cy="399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C:\Documents and Settings\teacher\Рабочий стол\греческий_орнамент.png"/>
          <p:cNvPicPr/>
          <p:nvPr/>
        </p:nvPicPr>
        <p:blipFill>
          <a:blip r:embed="rId2"/>
          <a:stretch/>
        </p:blipFill>
        <p:spPr>
          <a:xfrm>
            <a:off x="2714760" y="3286080"/>
            <a:ext cx="1876320" cy="399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C:\Documents and Settings\teacher\Рабочий стол\греческий_орнамент.png"/>
          <p:cNvPicPr/>
          <p:nvPr/>
        </p:nvPicPr>
        <p:blipFill>
          <a:blip r:embed="rId3"/>
          <a:stretch/>
        </p:blipFill>
        <p:spPr>
          <a:xfrm>
            <a:off x="4572000" y="3286080"/>
            <a:ext cx="1876320" cy="399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C:\Documents and Settings\teacher\Рабочий стол\греческий_орнамент.png"/>
          <p:cNvPicPr/>
          <p:nvPr/>
        </p:nvPicPr>
        <p:blipFill>
          <a:blip r:embed="rId4"/>
          <a:stretch/>
        </p:blipFill>
        <p:spPr>
          <a:xfrm>
            <a:off x="6357960" y="328608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9"/>
          <p:cNvSpPr/>
          <p:nvPr/>
        </p:nvSpPr>
        <p:spPr>
          <a:xfrm>
            <a:off x="2411280" y="220500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Древнейшая Грец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0" descr="Greece"/>
          <p:cNvPicPr/>
          <p:nvPr/>
        </p:nvPicPr>
        <p:blipFill>
          <a:blip r:embed="rId1"/>
          <a:stretch/>
        </p:blipFill>
        <p:spPr>
          <a:xfrm>
            <a:off x="0" y="3213000"/>
            <a:ext cx="9144000" cy="36450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Arial"/>
              </a:rPr>
              <a:t>  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003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6"/>
          <p:cNvSpPr/>
          <p:nvPr/>
        </p:nvSpPr>
        <p:spPr>
          <a:xfrm>
            <a:off x="182520" y="278136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d051a"/>
                </a:solidFill>
                <a:uFillTx/>
                <a:latin typeface="Arial"/>
              </a:rPr>
              <a:t>Карта интерактивного констру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1258920" y="1268280"/>
            <a:ext cx="7702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е древнегреческие государства – остров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тское государ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амостоятельно научиться создавать интерактивную карт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закрепить умения ориентироваться на мест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TextBox 3" descr=""/>
          <p:cNvPicPr/>
          <p:nvPr/>
        </p:nvPicPr>
        <p:blipFill>
          <a:blip r:embed="rId3"/>
          <a:stretch/>
        </p:blipFill>
        <p:spPr>
          <a:xfrm>
            <a:off x="706320" y="281160"/>
            <a:ext cx="4530960" cy="5655960"/>
          </a:xfrm>
          <a:prstGeom prst="rect">
            <a:avLst/>
          </a:prstGeom>
          <a:ln w="0">
            <a:noFill/>
          </a:ln>
        </p:spPr>
      </p:pic>
      <p:pic>
        <p:nvPicPr>
          <p:cNvPr id="243" name="Содержимое 3" descr="Model_of_a_greek_trireme.jpg"/>
          <p:cNvPicPr/>
          <p:nvPr/>
        </p:nvPicPr>
        <p:blipFill>
          <a:blip r:embed="rId4"/>
          <a:stretch/>
        </p:blipFill>
        <p:spPr>
          <a:xfrm>
            <a:off x="5219640" y="5734080"/>
            <a:ext cx="1152720" cy="6714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11"/>
          <p:cNvSpPr/>
          <p:nvPr/>
        </p:nvSpPr>
        <p:spPr>
          <a:xfrm>
            <a:off x="0" y="3213000"/>
            <a:ext cx="590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24fc"/>
                </a:solidFill>
                <a:latin typeface="Arial"/>
              </a:rPr>
              <a:t>Вывод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24f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24fc"/>
                </a:solidFill>
                <a:latin typeface="Arial"/>
              </a:rPr>
              <a:t>первые государства греков возникли на острове Кри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24f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24fc"/>
                </a:solidFill>
                <a:latin typeface="Arial"/>
              </a:rPr>
              <a:t>Крит находился на пересечении морских пу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24f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24fc"/>
                </a:solidFill>
                <a:latin typeface="Arial"/>
              </a:rPr>
              <a:t>задолго до финикийцев критяне славились как отважные морехо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24f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24fc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24fc"/>
                </a:solidFill>
                <a:latin typeface="Arial"/>
              </a:rPr>
              <a:t>цари Крита создали могущественный фло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24f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24fc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24fc"/>
                </a:solidFill>
                <a:latin typeface="Arial"/>
              </a:rPr>
              <a:t>освоение и заселение греками новых территорий называется колонизацией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24f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24fc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24fc"/>
                </a:solidFill>
                <a:latin typeface="Arial"/>
              </a:rPr>
              <a:t>мы научились самому сложному умению – самостоя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24fc"/>
                </a:solidFill>
                <a:latin typeface="Arial"/>
              </a:rPr>
              <a:t>конструировать интерактивную кар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2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453196.wav" descr=""/>
          <p:cNvPicPr/>
          <p:nvPr/>
        </p:nvPicPr>
        <p:blipFill>
          <a:blip r:embed="rId1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5" descr="fe8ddd18f842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-3244680" y="1844640"/>
            <a:ext cx="3244680" cy="2151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6" descr="f13"/>
          <p:cNvPicPr/>
          <p:nvPr/>
        </p:nvPicPr>
        <p:blipFill>
          <a:blip r:embed="rId3"/>
          <a:stretch/>
        </p:blipFill>
        <p:spPr>
          <a:xfrm>
            <a:off x="755640" y="5157720"/>
            <a:ext cx="1962000" cy="9241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9" descr="f13"/>
          <p:cNvPicPr/>
          <p:nvPr/>
        </p:nvPicPr>
        <p:blipFill>
          <a:blip r:embed="rId4"/>
          <a:stretch/>
        </p:blipFill>
        <p:spPr>
          <a:xfrm>
            <a:off x="4067280" y="2997360"/>
            <a:ext cx="1962000" cy="923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0" descr="f13"/>
          <p:cNvPicPr/>
          <p:nvPr/>
        </p:nvPicPr>
        <p:blipFill>
          <a:blip r:embed="rId5"/>
          <a:stretch/>
        </p:blipFill>
        <p:spPr>
          <a:xfrm>
            <a:off x="6877080" y="4508640"/>
            <a:ext cx="1962000" cy="9237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1" descr="fe8ddd18f842"/>
          <p:cNvPicPr/>
          <p:nvPr/>
        </p:nvPicPr>
        <p:blipFill>
          <a:blip r:embed="rId6">
            <a:lum bright="-18000"/>
          </a:blip>
          <a:stretch/>
        </p:blipFill>
        <p:spPr>
          <a:xfrm>
            <a:off x="9144000" y="4149720"/>
            <a:ext cx="2376360" cy="1482840"/>
          </a:xfrm>
          <a:prstGeom prst="rect">
            <a:avLst/>
          </a:prstGeom>
          <a:ln w="0">
            <a:noFill/>
          </a:ln>
        </p:spPr>
      </p:pic>
      <p:sp>
        <p:nvSpPr>
          <p:cNvPr id="251" name="Oval 22"/>
          <p:cNvSpPr/>
          <p:nvPr/>
        </p:nvSpPr>
        <p:spPr>
          <a:xfrm>
            <a:off x="2916360" y="189000"/>
            <a:ext cx="3456000" cy="3311280"/>
          </a:xfrm>
          <a:prstGeom prst="ellipse">
            <a:avLst/>
          </a:prstGeom>
          <a:gradFill rotWithShape="0">
            <a:gsLst>
              <a:gs pos="0">
                <a:srgbClr val="ffc9f1"/>
              </a:gs>
              <a:gs pos="100000">
                <a:srgbClr val="ee4c6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3" descr="ani-crazy_dolphin"/>
          <p:cNvPicPr/>
          <p:nvPr/>
        </p:nvPicPr>
        <p:blipFill>
          <a:blip r:embed="rId7">
            <a:lum bright="-30000"/>
          </a:blip>
          <a:stretch/>
        </p:blipFill>
        <p:spPr>
          <a:xfrm>
            <a:off x="-1384200" y="3645000"/>
            <a:ext cx="1384200" cy="9144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4" descr="ani-crazy_dolphin"/>
          <p:cNvPicPr/>
          <p:nvPr/>
        </p:nvPicPr>
        <p:blipFill>
          <a:blip r:embed="rId8">
            <a:lum bright="-36000"/>
          </a:blip>
          <a:stretch/>
        </p:blipFill>
        <p:spPr>
          <a:xfrm>
            <a:off x="5867280" y="5157720"/>
            <a:ext cx="1384560" cy="914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5" descr="fe8ddd18f842"/>
          <p:cNvPicPr/>
          <p:nvPr/>
        </p:nvPicPr>
        <p:blipFill>
          <a:blip r:embed="rId9">
            <a:lum bright="-18000"/>
          </a:blip>
          <a:stretch/>
        </p:blipFill>
        <p:spPr>
          <a:xfrm>
            <a:off x="9144000" y="2276640"/>
            <a:ext cx="3244680" cy="2151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6" descr="ani-crazy_dolphin"/>
          <p:cNvPicPr/>
          <p:nvPr/>
        </p:nvPicPr>
        <p:blipFill>
          <a:blip r:embed="rId10">
            <a:lum bright="-36000"/>
          </a:blip>
          <a:stretch/>
        </p:blipFill>
        <p:spPr>
          <a:xfrm flipH="1">
            <a:off x="5796000" y="4005360"/>
            <a:ext cx="1224000" cy="8175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7" descr="ani-crazy_dolphin"/>
          <p:cNvPicPr/>
          <p:nvPr/>
        </p:nvPicPr>
        <p:blipFill>
          <a:blip r:embed="rId11">
            <a:lum bright="-30000"/>
          </a:blip>
          <a:stretch/>
        </p:blipFill>
        <p:spPr>
          <a:xfrm flipH="1">
            <a:off x="9144000" y="3933720"/>
            <a:ext cx="1224000" cy="8175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8" descr="ani-crazy_dolphin"/>
          <p:cNvPicPr/>
          <p:nvPr/>
        </p:nvPicPr>
        <p:blipFill>
          <a:blip r:embed="rId12">
            <a:lum bright="-36000"/>
          </a:blip>
          <a:stretch/>
        </p:blipFill>
        <p:spPr>
          <a:xfrm flipH="1">
            <a:off x="2268000" y="3933720"/>
            <a:ext cx="1366920" cy="91296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2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30" descr="j0432592"/>
          <p:cNvPicPr/>
          <p:nvPr/>
        </p:nvPicPr>
        <p:blipFill>
          <a:blip r:embed="rId13"/>
          <a:stretch/>
        </p:blipFill>
        <p:spPr>
          <a:xfrm>
            <a:off x="6372360" y="6206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1" descr="65faa995e8495198efec9f89623bb9a7"/>
          <p:cNvPicPr/>
          <p:nvPr/>
        </p:nvPicPr>
        <p:blipFill>
          <a:blip r:embed="rId14"/>
          <a:stretch/>
        </p:blipFill>
        <p:spPr>
          <a:xfrm>
            <a:off x="9144000" y="692280"/>
            <a:ext cx="1511280" cy="10443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2" descr="65faa995e8495198efec9f89623bb9a7"/>
          <p:cNvPicPr/>
          <p:nvPr/>
        </p:nvPicPr>
        <p:blipFill>
          <a:blip r:embed="rId15"/>
          <a:stretch/>
        </p:blipFill>
        <p:spPr>
          <a:xfrm>
            <a:off x="9144000" y="1628640"/>
            <a:ext cx="1260360" cy="871560"/>
          </a:xfrm>
          <a:prstGeom prst="rect">
            <a:avLst/>
          </a:prstGeom>
          <a:ln w="0">
            <a:noFill/>
          </a:ln>
        </p:spPr>
      </p:pic>
      <p:sp>
        <p:nvSpPr>
          <p:cNvPr id="262" name="AutoShape 37">
            <a:hlinkClick r:id="rId16" action="ppaction://hlinksldjump"/>
          </p:cNvPr>
          <p:cNvSpPr/>
          <p:nvPr/>
        </p:nvSpPr>
        <p:spPr>
          <a:xfrm>
            <a:off x="8244000" y="630864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9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7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45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49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53" nodeType="after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295 0.1507 C 0.06528 0.17454 0.09375 0.20811 0.19948 0.20741 C 0.35208 0.20741 0.36302 0.09561 0.54531 0.09537 C 0.7092 0.09537 0.6217 0.19306 0.77934 0.1926 C 0.94323 0.1926 0.85573 0.12176 1.03177 0.12176 C 1.18941 0.12176 1.10191 0.16945 1.24236 0.16945 C 1.37778 0.16945 1.30746 0.13311 1.43056 0.13311 C 1.50087 0.13311 1.5059 0.14283 1.51215 0.1507 E">
                                      <p:cBhvr>
                                        <p:cTn id="154" dur="5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56" nodeType="after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302 0.09329 C -0.0743 0.13496 -0.10035 0.19375 -0.1967 0.19237 C -0.33594 0.19237 -0.34635 -0.003 -0.51233 -0.00324 C -0.66163 -0.00324 -0.58194 0.16737 -0.72569 0.16644 C -0.87604 0.16644 -0.79531 0.04283 -0.95608 0.04283 C -1.09983 0.04283 -1.02014 0.12639 -1.14792 0.12639 C -1.27118 0.12639 -1.20729 0.06274 -1.31962 0.06274 C -1.38368 0.06274 -1.38837 0.0801 -1.39375 0.09329 E">
                                      <p:cBhvr>
                                        <p:cTn id="157" dur="5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5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1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163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16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47500"/>
                            </p:stCondLst>
                            <p:childTnLst>
                              <p:par>
                                <p:cTn id="176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6 -0.06134 C -0.08611 0.0662 -0.21354 0.10509 -0.3118 0.02639 C -0.40989 -0.0537 -0.44201 -0.2213 -0.3842 -0.34884 C -0.32587 -0.47708 -0.19896 -0.5162 -0.10069 -0.43704 C -0.00278 -0.35787 0.03021 -0.18958 -0.0276 -0.06134 Z">
                                      <p:cBhvr>
                                        <p:cTn id="177" dur="5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62500"/>
                            </p:stCondLst>
                            <p:childTnLst>
                              <p:par>
                                <p:cTn id="179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0" dur="3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3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655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70500"/>
                            </p:stCondLst>
                            <p:childTnLst>
                              <p:par>
                                <p:cTn id="19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" dur="3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3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75500"/>
                            </p:stCondLst>
                            <p:childTnLst>
                              <p:par>
                                <p:cTn id="206" nodeType="afterEffect" fill="hold" presetClass="path" presetID="3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7037E-006 L -3.05556E-006 0.09745 C -3.05556E-006 0.14166 0.06181 0.19606 0.11216 0.19606 L 0.22448 0.19606 E">
                                      <p:cBhvr>
                                        <p:cTn id="207" dur="3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78500"/>
                            </p:stCondLst>
                            <p:childTnLst>
                              <p:par>
                                <p:cTn id="209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81500"/>
                            </p:stCondLst>
                            <p:childTnLst>
                              <p:par>
                                <p:cTn id="21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4" dur="3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3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84500"/>
                            </p:stCondLst>
                            <p:childTnLst>
                              <p:par>
                                <p:cTn id="218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9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895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905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                                             </a:t>
            </a: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Что является главным источником знаний о древнейшей, архаической Греции?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9640" y="3789360"/>
            <a:ext cx="8229600" cy="28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4617b"/>
                </a:solidFill>
                <a:latin typeface="Constantia"/>
              </a:rPr>
              <a:t>Выводы:</a:t>
            </a:r>
            <a:r>
              <a:rPr b="0" lang="ru-RU" sz="1700" spc="-1" strike="noStrike">
                <a:solidFill>
                  <a:srgbClr val="04617b"/>
                </a:solidFill>
                <a:latin typeface="Constanti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4617b"/>
                </a:solidFill>
                <a:latin typeface="Constantia"/>
              </a:rPr>
              <a:t>главным источником знаний о древнейшей, архаической Греции является мифология (поэмы Гомера «Илиада», «Одиссея»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4617b"/>
                </a:solidFill>
                <a:latin typeface="Constantia"/>
              </a:rPr>
              <a:t>при археологических раскопках найдены глиняные таблички с надписями о сборах царей на войну и далеких походах за добычей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4617b"/>
                </a:solidFill>
                <a:latin typeface="Constantia"/>
              </a:rPr>
              <a:t>- в современной жизни эти знания сопровождают нас крылатыми выражениями: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4617b"/>
                </a:solidFill>
                <a:latin typeface="Constantia"/>
              </a:rPr>
              <a:t>«Ахиллесова пята»- уязвимое место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4617b"/>
                </a:solidFill>
                <a:latin typeface="Constantia"/>
              </a:rPr>
              <a:t>«Между Сциллой и Харибдой»- между двумя опасностями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4617b"/>
                </a:solidFill>
                <a:latin typeface="Constantia"/>
              </a:rPr>
              <a:t>«Троянский  конь» - дар врагу с целью его погубить, обманные действия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4617b"/>
                </a:solidFill>
                <a:latin typeface="Constantia"/>
              </a:rPr>
              <a:t>-  научились анализировать видеофрагменты, сопоставлять факты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324000" y="1916280"/>
            <a:ext cx="8820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2d700"/>
                </a:solidFill>
                <a:uFillTx/>
                <a:latin typeface="Arial"/>
                <a:hlinkClick r:id="rId1"/>
              </a:rPr>
              <a:t>видеофиль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ль: формирование умения обобщать данные, сопоставлять фак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3324fc"/>
                </a:solidFill>
                <a:uFillTx/>
                <a:latin typeface="Arial"/>
              </a:rPr>
              <a:t>Вопросы к видеофильм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3324fc"/>
                </a:solidFill>
                <a:uFillTx/>
                <a:latin typeface="Arial"/>
              </a:rPr>
              <a:t>1.  Кому из вождей ахейцев принадлежала идея созд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3324fc"/>
                </a:solidFill>
                <a:uFillTx/>
                <a:latin typeface="Arial"/>
              </a:rPr>
              <a:t>троянского коня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3324fc"/>
                </a:solidFill>
                <a:uFillTx/>
                <a:latin typeface="Arial"/>
              </a:rPr>
              <a:t> </a:t>
            </a:r>
            <a:r>
              <a:rPr b="1" i="1" lang="ru-RU" sz="1600" spc="-1" strike="noStrike" u="sng">
                <a:solidFill>
                  <a:srgbClr val="3324fc"/>
                </a:solidFill>
                <a:uFillTx/>
                <a:latin typeface="Arial"/>
              </a:rPr>
              <a:t>2.  Почему троянцы ввезли «оставленного» греками коня в город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TextBox 3" descr=""/>
          <p:cNvPicPr/>
          <p:nvPr/>
        </p:nvPicPr>
        <p:blipFill>
          <a:blip r:embed="rId2"/>
          <a:stretch/>
        </p:blipFill>
        <p:spPr>
          <a:xfrm>
            <a:off x="1279440" y="-6480"/>
            <a:ext cx="453096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3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3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3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3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3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3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3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3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30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30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30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6" descr="C:\Documents and Settings\Admin\Рабочий стол\моя вс\62100225_YErehteyon2.jpg"/>
          <p:cNvPicPr/>
          <p:nvPr/>
        </p:nvPicPr>
        <p:blipFill>
          <a:blip r:embed="rId1"/>
          <a:stretch/>
        </p:blipFill>
        <p:spPr>
          <a:xfrm>
            <a:off x="7126200" y="692280"/>
            <a:ext cx="2017800" cy="14619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C:\Documents and Settings\Admin\Рабочий стол\моя вс\e3cb63953888.jpg"/>
          <p:cNvPicPr/>
          <p:nvPr/>
        </p:nvPicPr>
        <p:blipFill>
          <a:blip r:embed="rId2"/>
          <a:stretch/>
        </p:blipFill>
        <p:spPr>
          <a:xfrm>
            <a:off x="7093080" y="5356080"/>
            <a:ext cx="2050920" cy="150192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Вспомните, какую проблему мы поставили в начале урока?</a:t>
            </a:r>
            <a:br>
              <a:rPr sz="2000"/>
            </a:b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 С чем греки сравнивали устройство греческого общества?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Можем ли мы теперь ответить на этот вопрос. Да, можем. </a:t>
            </a:r>
            <a:br>
              <a:rPr sz="2000"/>
            </a:b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Где еще присутствует тема корабля</a:t>
            </a:r>
            <a:r>
              <a:rPr b="1" lang="ru-RU" sz="2000" spc="-1" strike="noStrike">
                <a:solidFill>
                  <a:srgbClr val="04617b"/>
                </a:solidFill>
                <a:latin typeface="Calibri"/>
              </a:rPr>
              <a:t>? 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0" y="2997360"/>
            <a:ext cx="8529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051a"/>
                </a:solidFill>
                <a:latin typeface="Arial"/>
              </a:rPr>
              <a:t>Вывод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051a"/>
                </a:solidFill>
                <a:latin typeface="Arial"/>
              </a:rPr>
              <a:t>- вся жизнь греков была связана с морем: оно кормило (рыболовств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051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051a"/>
                </a:solidFill>
                <a:latin typeface="Arial"/>
              </a:rPr>
              <a:t>было главной транспортной артерией – сухопутным путем из Южной Греции в Среднюю можно было попасть только через узкий перешеек, из Средней Северную – через узкое ущелье (Фермопильский проход)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051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051a"/>
                </a:solidFill>
                <a:latin typeface="Arial"/>
              </a:rPr>
              <a:t>берега Древней Греции изрезаны глубокими и удобными для стоя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051a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dd051a"/>
                </a:solidFill>
                <a:latin typeface="Arial"/>
              </a:rPr>
              <a:t>кораблей бух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9" dur="3000" fill="hold"/>
                                        <p:tgtEl>
                                          <p:spTgt spid="2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2" dur="3000" fill="hold"/>
                                        <p:tgtEl>
                                          <p:spTgt spid="2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Цель: проверить полученные знания ключевых идей урока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95280" y="69192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стирован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0" y="1341360"/>
            <a:ext cx="435600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ерка ответов: максимально – 5 бал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Где находится Древняя Грец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На северо – востоке Афр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На юге Балканского полуостр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На юге Малой Аз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  Поэмы «Илиада» и «Одиссея» написан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/ Гомер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/ Одиссе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/ Солон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Красавицу, из – за которой началась Троянская война звал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/ Афроди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/ Алкино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/ Еле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 Злые чародейки, полуптицы –полуженщин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/ Сцил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/ Хариб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/ Сире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 Бог грома и молнии в Древней Гре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/ Зев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/ Посейд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/ Г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4932360" y="1557360"/>
            <a:ext cx="421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 Какими морями омывается Грец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 Ионическим и Эгейским мор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Красным и Желтыми мор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Балтийским и северным мор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Поэмы «Илиада» и «Одиссея» написан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/ в 8 в.до н.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/ в 18 в.до н.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/ в 80 г. до н.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Главный герой одной из поэм Гомер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/ Полиф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/ Одисс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/ Демод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 Царица на острове Итака, двадцать лет ждавшая муж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/ Еле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/ Феди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/ Пенело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 Бог моря в Древней Гре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/ Посейд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/ Ам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/ Гефе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Итоги урока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анализируем, что нам удалось сделать для достижения поставленных на уроке целей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Домашнее задание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:  повторить тему «Религия древних греков», ответить самостоятельно на вопрос: « В чем проявилось влияние религии на жизнь греков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7" name="TextBox 3" descr=""/>
          <p:cNvPicPr/>
          <p:nvPr/>
        </p:nvPicPr>
        <p:blipFill>
          <a:blip r:embed="rId1"/>
          <a:stretch/>
        </p:blipFill>
        <p:spPr>
          <a:xfrm>
            <a:off x="-1060560" y="1006560"/>
            <a:ext cx="452916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Содержимое 4"/>
          <p:cNvSpPr/>
          <p:nvPr/>
        </p:nvSpPr>
        <p:spPr>
          <a:xfrm>
            <a:off x="2857680" y="1857240"/>
            <a:ext cx="664344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овторим  </a:t>
            </a:r>
            <a:r>
              <a:rPr b="1" i="1" lang="ru-RU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историю древнейшей Греции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ее местонахождение, первые города – государства, мифологию, религ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Заголовок 7" descr=""/>
          <p:cNvPicPr/>
          <p:nvPr/>
        </p:nvPicPr>
        <p:blipFill>
          <a:blip r:embed="rId1"/>
          <a:stretch/>
        </p:blipFill>
        <p:spPr>
          <a:xfrm>
            <a:off x="92160" y="0"/>
            <a:ext cx="9070920" cy="1474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C:\Documents and Settings\teacher\Local Settings\Temporary Internet Files\Content.IE5\5XDDPIS1\MP900403767[1].jpg"/>
          <p:cNvPicPr/>
          <p:nvPr/>
        </p:nvPicPr>
        <p:blipFill>
          <a:blip r:embed="rId2"/>
          <a:stretch/>
        </p:blipFill>
        <p:spPr>
          <a:xfrm>
            <a:off x="142920" y="2428920"/>
            <a:ext cx="2081160" cy="31208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C:\Documents and Settings\teacher\Рабочий стол\греческий_орнамент.png"/>
          <p:cNvPicPr/>
          <p:nvPr/>
        </p:nvPicPr>
        <p:blipFill>
          <a:blip r:embed="rId3"/>
          <a:stretch/>
        </p:blipFill>
        <p:spPr>
          <a:xfrm>
            <a:off x="571680" y="1214280"/>
            <a:ext cx="1876320" cy="400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C:\Documents and Settings\teacher\Рабочий стол\греческий_орнамент.png"/>
          <p:cNvPicPr/>
          <p:nvPr/>
        </p:nvPicPr>
        <p:blipFill>
          <a:blip r:embed="rId4"/>
          <a:stretch/>
        </p:blipFill>
        <p:spPr>
          <a:xfrm>
            <a:off x="2428920" y="1214280"/>
            <a:ext cx="1876320" cy="400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C:\Documents and Settings\teacher\Рабочий стол\греческий_орнамент.png"/>
          <p:cNvPicPr/>
          <p:nvPr/>
        </p:nvPicPr>
        <p:blipFill>
          <a:blip r:embed="rId5"/>
          <a:stretch/>
        </p:blipFill>
        <p:spPr>
          <a:xfrm>
            <a:off x="4286160" y="1214280"/>
            <a:ext cx="1876680" cy="400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C:\Documents and Settings\teacher\Рабочий стол\греческий_орнамент.png"/>
          <p:cNvPicPr/>
          <p:nvPr/>
        </p:nvPicPr>
        <p:blipFill>
          <a:blip r:embed="rId6"/>
          <a:stretch/>
        </p:blipFill>
        <p:spPr>
          <a:xfrm>
            <a:off x="6072120" y="1214280"/>
            <a:ext cx="1876320" cy="400320"/>
          </a:xfrm>
          <a:prstGeom prst="rect">
            <a:avLst/>
          </a:prstGeom>
          <a:ln w="0">
            <a:noFill/>
          </a:ln>
        </p:spPr>
      </p:pic>
      <p:sp>
        <p:nvSpPr>
          <p:cNvPr id="208" name="TextBox 8"/>
          <p:cNvSpPr/>
          <p:nvPr/>
        </p:nvSpPr>
        <p:spPr>
          <a:xfrm>
            <a:off x="2786040" y="3500280"/>
            <a:ext cx="600084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Узнаем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приемы интерактивного конструирования, интересные фа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9"/>
          <p:cNvSpPr/>
          <p:nvPr/>
        </p:nvSpPr>
        <p:spPr>
          <a:xfrm>
            <a:off x="2857680" y="4786200"/>
            <a:ext cx="621504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роверим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знания понятий и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терминов: колония, религия, мифология, элл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1" descr=""/>
          <p:cNvPicPr/>
          <p:nvPr/>
        </p:nvPicPr>
        <p:blipFill>
          <a:blip r:embed="rId1"/>
          <a:stretch/>
        </p:blipFill>
        <p:spPr>
          <a:xfrm>
            <a:off x="49320" y="360360"/>
            <a:ext cx="8716680" cy="1528920"/>
          </a:xfrm>
          <a:prstGeom prst="rect">
            <a:avLst/>
          </a:prstGeom>
          <a:ln w="0">
            <a:noFill/>
          </a:ln>
        </p:spPr>
      </p:pic>
      <p:sp>
        <p:nvSpPr>
          <p:cNvPr id="211" name="Содержимое 2"/>
          <p:cNvSpPr/>
          <p:nvPr/>
        </p:nvSpPr>
        <p:spPr>
          <a:xfrm>
            <a:off x="2071800" y="2643120"/>
            <a:ext cx="6514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ботать с  учебником, атласом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полнить интерактивные задания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ботать с видеофрагментом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ставить интерактивную карт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TextBox 3" descr=""/>
          <p:cNvPicPr/>
          <p:nvPr/>
        </p:nvPicPr>
        <p:blipFill>
          <a:blip r:embed="rId2"/>
          <a:stretch/>
        </p:blipFill>
        <p:spPr>
          <a:xfrm>
            <a:off x="-1378080" y="1359000"/>
            <a:ext cx="4529160" cy="56577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C:\Documents and Settings\teacher\Рабочий стол\греческий_орнамент.png"/>
          <p:cNvPicPr/>
          <p:nvPr/>
        </p:nvPicPr>
        <p:blipFill>
          <a:blip r:embed="rId3"/>
          <a:stretch/>
        </p:blipFill>
        <p:spPr>
          <a:xfrm>
            <a:off x="357120" y="1643040"/>
            <a:ext cx="1876320" cy="399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C:\Documents and Settings\teacher\Рабочий стол\греческий_орнамент.png"/>
          <p:cNvPicPr/>
          <p:nvPr/>
        </p:nvPicPr>
        <p:blipFill>
          <a:blip r:embed="rId4"/>
          <a:stretch/>
        </p:blipFill>
        <p:spPr>
          <a:xfrm>
            <a:off x="2214720" y="1643040"/>
            <a:ext cx="1876320" cy="399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C:\Documents and Settings\teacher\Рабочий стол\греческий_орнамент.png"/>
          <p:cNvPicPr/>
          <p:nvPr/>
        </p:nvPicPr>
        <p:blipFill>
          <a:blip r:embed="rId5"/>
          <a:stretch/>
        </p:blipFill>
        <p:spPr>
          <a:xfrm>
            <a:off x="4071960" y="1643040"/>
            <a:ext cx="1876320" cy="3999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C:\Documents and Settings\teacher\Рабочий стол\греческий_орнамент.png"/>
          <p:cNvPicPr/>
          <p:nvPr/>
        </p:nvPicPr>
        <p:blipFill>
          <a:blip r:embed="rId6"/>
          <a:stretch/>
        </p:blipFill>
        <p:spPr>
          <a:xfrm>
            <a:off x="5857920" y="1643040"/>
            <a:ext cx="187632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Arial"/>
              </a:rPr>
              <a:t>Цели урок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на основе полученных ранее знаний систематизировать, обобщить и закрепить знания учащихся по теме «Древнейшая Греция»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крепить знания понятий: колония, религия, мифология, эллины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вивать умение ориентироваться на местности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работать с интерактивными картами, умение самостоятельно конструировать карты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280" y="-243360"/>
            <a:ext cx="8218440" cy="2708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4617b"/>
                </a:solidFill>
                <a:latin typeface="Arial"/>
              </a:rPr>
              <a:t>               </a:t>
            </a:r>
            <a:r>
              <a:rPr b="0" lang="ru-RU" sz="1600" spc="-1" strike="noStrike">
                <a:solidFill>
                  <a:srgbClr val="1303e3"/>
                </a:solidFill>
                <a:latin typeface="Arial"/>
              </a:rPr>
              <a:t>Острова, острова, острова…</a:t>
            </a:r>
            <a:br>
              <a:rPr sz="1600"/>
            </a:br>
            <a:r>
              <a:rPr b="0" lang="ru-RU" sz="1600" spc="-1" strike="noStrike">
                <a:solidFill>
                  <a:srgbClr val="1303e3"/>
                </a:solidFill>
                <a:latin typeface="Arial"/>
              </a:rPr>
              <a:t>               Стадо белых коней Посейдона.</a:t>
            </a:r>
            <a:br>
              <a:rPr sz="1600"/>
            </a:br>
            <a:r>
              <a:rPr b="0" lang="ru-RU" sz="1600" spc="-1" strike="noStrike">
                <a:solidFill>
                  <a:srgbClr val="1303e3"/>
                </a:solidFill>
                <a:latin typeface="Arial"/>
              </a:rPr>
              <a:t>               От земных вас корней оторвав,</a:t>
            </a:r>
            <a:br>
              <a:rPr sz="1600"/>
            </a:br>
            <a:r>
              <a:rPr b="0" lang="ru-RU" sz="1600" spc="-1" strike="noStrike">
                <a:solidFill>
                  <a:srgbClr val="1303e3"/>
                </a:solidFill>
                <a:latin typeface="Arial"/>
              </a:rPr>
              <a:t>               Он свои навязал вам законы.</a:t>
            </a:r>
            <a:br>
              <a:rPr sz="1600"/>
            </a:br>
            <a:r>
              <a:rPr b="0" lang="ru-RU" sz="1600" spc="-1" strike="noStrike">
                <a:solidFill>
                  <a:srgbClr val="1303e3"/>
                </a:solidFill>
                <a:latin typeface="Arial"/>
              </a:rPr>
              <a:t>                                                                                     Возвращает преданий прибой</a:t>
            </a:r>
            <a:br>
              <a:rPr sz="1600"/>
            </a:br>
            <a:r>
              <a:rPr b="0" lang="ru-RU" sz="1600" spc="-1" strike="noStrike">
                <a:solidFill>
                  <a:srgbClr val="1303e3"/>
                </a:solidFill>
                <a:latin typeface="Arial"/>
              </a:rPr>
              <a:t>                                                                                     Чудеса, что ушли безвозвратно,</a:t>
            </a:r>
            <a:br>
              <a:rPr sz="1600"/>
            </a:br>
            <a:r>
              <a:rPr b="0" lang="ru-RU" sz="1600" spc="-1" strike="noStrike">
                <a:solidFill>
                  <a:srgbClr val="1303e3"/>
                </a:solidFill>
                <a:latin typeface="Arial"/>
              </a:rPr>
              <a:t>                                                                                     И как будто ведет за собой</a:t>
            </a:r>
            <a:br>
              <a:rPr sz="1600"/>
            </a:br>
            <a:r>
              <a:rPr b="0" lang="ru-RU" sz="1600" spc="-1" strike="noStrike">
                <a:solidFill>
                  <a:srgbClr val="1303e3"/>
                </a:solidFill>
                <a:latin typeface="Arial"/>
              </a:rPr>
              <a:t>                                                                                     В лабиринты времен Ариадна.</a:t>
            </a:r>
            <a:br>
              <a:rPr sz="1600"/>
            </a:br>
            <a:r>
              <a:rPr b="0" lang="ru-RU" sz="1600" spc="-1" strike="noStrike">
                <a:solidFill>
                  <a:srgbClr val="1303e3"/>
                </a:solidFill>
                <a:latin typeface="Arial"/>
              </a:rPr>
              <a:t>                                                                                                  Немировский А. И.</a:t>
            </a:r>
            <a:br>
              <a:rPr sz="1600"/>
            </a:b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Picture 4" descr="Greece"/>
          <p:cNvPicPr/>
          <p:nvPr/>
        </p:nvPicPr>
        <p:blipFill>
          <a:blip r:embed="rId1"/>
          <a:stretch/>
        </p:blipFill>
        <p:spPr>
          <a:xfrm>
            <a:off x="0" y="2430360"/>
            <a:ext cx="5904000" cy="4427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Картинка 8 из 215"/>
          <p:cNvPicPr/>
          <p:nvPr/>
        </p:nvPicPr>
        <p:blipFill>
          <a:blip r:embed="rId2"/>
          <a:stretch/>
        </p:blipFill>
        <p:spPr>
          <a:xfrm>
            <a:off x="5097600" y="2276640"/>
            <a:ext cx="40464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3303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Античные люди, наделенные воображением, видели общество, которое их породило, </a:t>
            </a: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кораблем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, несущимся по бурному морю времени. Этот же образ вошел в терминологию </a:t>
            </a:r>
            <a:r>
              <a:rPr b="0" lang="ru-RU" sz="2800" spc="-1" strike="noStrike">
                <a:solidFill>
                  <a:srgbClr val="009dd9"/>
                </a:solidFill>
                <a:latin typeface="Calibri"/>
              </a:rPr>
              <a:t>храма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, модели космоса. </a:t>
            </a: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Наосом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(кораблем) называлось его главное помещение, в котором находились статуи небожителей, покровителей города – государства.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3212640"/>
            <a:ext cx="914400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6" descr="C:\Documents and Settings\Admin\Рабочий стол\моя вс\62100225_YErehteyon2.jpg"/>
          <p:cNvPicPr/>
          <p:nvPr/>
        </p:nvPicPr>
        <p:blipFill>
          <a:blip r:embed="rId1"/>
          <a:stretch/>
        </p:blipFill>
        <p:spPr>
          <a:xfrm>
            <a:off x="324000" y="3141720"/>
            <a:ext cx="2420640" cy="1754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C:\Documents and Settings\Admin\Рабочий стол\моя вс\e3cb63953888.jpg"/>
          <p:cNvPicPr/>
          <p:nvPr/>
        </p:nvPicPr>
        <p:blipFill>
          <a:blip r:embed="rId2"/>
          <a:stretch/>
        </p:blipFill>
        <p:spPr>
          <a:xfrm>
            <a:off x="2843280" y="3110040"/>
            <a:ext cx="6156360" cy="3747960"/>
          </a:xfrm>
          <a:prstGeom prst="rect">
            <a:avLst/>
          </a:prstGeom>
          <a:ln w="0">
            <a:noFill/>
          </a:ln>
        </p:spPr>
      </p:pic>
      <p:pic>
        <p:nvPicPr>
          <p:cNvPr id="226" name="Содержимое 4" descr="100128_rfoster_mp_his_greek_102.jpg"/>
          <p:cNvPicPr/>
          <p:nvPr/>
        </p:nvPicPr>
        <p:blipFill>
          <a:blip r:embed="rId3"/>
          <a:stretch/>
        </p:blipFill>
        <p:spPr>
          <a:xfrm>
            <a:off x="250920" y="4941720"/>
            <a:ext cx="244944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2000" fill="hold"/>
                                        <p:tgtEl>
                                          <p:spTgt spid="2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3000" fill="hold"/>
                                        <p:tgtEl>
                                          <p:spTgt spid="2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3000" fill="hold"/>
                                        <p:tgtEl>
                                          <p:spTgt spid="2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блемное задание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8" name="TextBox 3" descr=""/>
          <p:cNvPicPr/>
          <p:nvPr/>
        </p:nvPicPr>
        <p:blipFill>
          <a:blip r:embed="rId1"/>
          <a:stretch/>
        </p:blipFill>
        <p:spPr>
          <a:xfrm>
            <a:off x="-244440" y="2000160"/>
            <a:ext cx="4530600" cy="56563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5"/>
          <p:cNvSpPr/>
          <p:nvPr/>
        </p:nvSpPr>
        <p:spPr>
          <a:xfrm>
            <a:off x="2916360" y="3213000"/>
            <a:ext cx="59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Arial"/>
              </a:rPr>
              <a:t>Почему греки придавали такое             большое значение морю, кораблю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Arial"/>
              </a:rPr>
              <a:t>Итак, наше плавание начинается…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Работа с картой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9152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                                                   </a:t>
            </a: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Без чего мы не можем отправиться в плавание?</a:t>
            </a:r>
            <a:br>
              <a:rPr sz="2000"/>
            </a:b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                                                                                                            Без знания карты.</a:t>
            </a:r>
            <a:br>
              <a:rPr sz="2000"/>
            </a:b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Цель: повторить местоположение Древнейшей Греции;</a:t>
            </a:r>
            <a:br>
              <a:rPr sz="2000"/>
            </a:b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выделить ее особенности. </a:t>
            </a:r>
            <a:br>
              <a:rPr sz="2000"/>
            </a:b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сравнить с государствами Древнего Востока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Выполни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                           интерактивное зада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311120" y="4313160"/>
            <a:ext cx="48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539640" y="3716280"/>
            <a:ext cx="8158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24fc"/>
                </a:solidFill>
                <a:latin typeface="Arial"/>
              </a:rPr>
              <a:t>Выводы:</a:t>
            </a:r>
            <a:r>
              <a:rPr b="1" lang="ru-RU" sz="1800" spc="-1" strike="noStrike">
                <a:solidFill>
                  <a:srgbClr val="3324f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24fc"/>
                </a:solidFill>
                <a:latin typeface="Arial"/>
              </a:rPr>
              <a:t>- значительная часть Греции покрыта круты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24fc"/>
                </a:solidFill>
                <a:latin typeface="Arial"/>
              </a:rPr>
              <a:t>и обрывистыми горами, они делят Грецию на </a:t>
            </a:r>
            <a:r>
              <a:rPr b="1" i="1" lang="ru-RU" sz="2000" spc="-1" strike="noStrike" u="sng">
                <a:solidFill>
                  <a:srgbClr val="3324fc"/>
                </a:solidFill>
                <a:uFillTx/>
                <a:latin typeface="Arial"/>
              </a:rPr>
              <a:t>изолиров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24f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24fc"/>
                </a:solidFill>
                <a:latin typeface="Arial"/>
              </a:rPr>
              <a:t>друг от друга области: Северная, Средняя, Южная (Пелопонесс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24fc"/>
                </a:solidFill>
                <a:latin typeface="Arial"/>
              </a:rPr>
              <a:t>- нет крупных рек, почва каменистая, малоплодородн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24fc"/>
                </a:solidFill>
                <a:latin typeface="Arial"/>
              </a:rPr>
              <a:t>- государство возникло позже, чем в странах Восто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24fc"/>
                </a:solidFill>
                <a:latin typeface="Arial"/>
              </a:rPr>
              <a:t>Особенности:</a:t>
            </a:r>
            <a:r>
              <a:rPr b="1" lang="ru-RU" sz="2000" spc="-1" strike="noStrike">
                <a:solidFill>
                  <a:srgbClr val="3324fc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3324fc"/>
                </a:solidFill>
                <a:uFillTx/>
                <a:latin typeface="Arial"/>
              </a:rPr>
              <a:t>мореходство, освоение островов Средиземного моря (в отличие от стран Восто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j0292152"/>
          <p:cNvPicPr/>
          <p:nvPr/>
        </p:nvPicPr>
        <p:blipFill>
          <a:blip r:embed="rId3"/>
          <a:stretch/>
        </p:blipFill>
        <p:spPr>
          <a:xfrm>
            <a:off x="7451640" y="1125360"/>
            <a:ext cx="1538280" cy="1825920"/>
          </a:xfrm>
          <a:prstGeom prst="rect">
            <a:avLst/>
          </a:prstGeom>
          <a:ln w="0">
            <a:noFill/>
          </a:ln>
        </p:spPr>
      </p:pic>
      <p:pic>
        <p:nvPicPr>
          <p:cNvPr id="236" name="TextBox 3" descr=""/>
          <p:cNvPicPr/>
          <p:nvPr/>
        </p:nvPicPr>
        <p:blipFill>
          <a:blip r:embed="rId4"/>
          <a:stretch/>
        </p:blipFill>
        <p:spPr>
          <a:xfrm>
            <a:off x="633240" y="-554040"/>
            <a:ext cx="452916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4T19:06:29Z</dcterms:created>
  <dc:creator>AT</dc:creator>
  <dc:description/>
  <dc:language>en-US</dc:language>
  <cp:lastModifiedBy>AT</cp:lastModifiedBy>
  <dcterms:modified xsi:type="dcterms:W3CDTF">2012-10-12T18:33:53Z</dcterms:modified>
  <cp:revision>64</cp:revision>
  <dc:subject/>
  <dc:title>Слайд 1</dc:title>
</cp:coreProperties>
</file>