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7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28.jpeg" ContentType="image/jpeg"/>
  <Override PartName="/ppt/media/image24.gif" ContentType="image/gif"/>
  <Override PartName="/ppt/media/image1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4.jpeg" ContentType="image/jpeg"/>
  <Override PartName="/ppt/media/image27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73A-7FF2-4B98-B86A-F37A87AB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63F-330D-41DA-8386-2625F46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47F-71A8-41AE-B578-9D49E08A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8ED-2C47-4931-A02A-572E76BB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51EE-10F2-4CED-9A35-27E43708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5AE-DE2D-40EE-9D6F-CE6BD47C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F6D1-217E-46EC-ADB6-41ED546C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F8BA-C1F3-4C94-AE6D-9A9B754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5EA0-5B1C-4EDD-9C62-373A698A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8480-B7F4-4C36-A638-F55723E7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D69-64B8-4657-9E79-F003DC0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12E-BD62-42AD-98CD-27FBB78F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051B-279B-4F75-B238-E63E6F4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479-A511-45A5-8762-62677DA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29A-214F-498D-8650-74DA496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9038-AA43-4A6C-AF64-509AD54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1A9-1F01-4471-B82A-4182FABB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61E1-CA9D-4101-B458-B0734FE2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0AFB-379B-4A59-928F-EFDC83D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1534-A906-4BDC-B43D-2B12403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408D-F20F-42F2-BF00-149E241D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891A-35E9-4395-A8B9-2C42026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346-DF87-4F01-9A83-345A92DC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95B9-D16F-45B7-9ABE-EA03295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A589-3265-49D5-9410-7F87700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1D2C-5D2D-44BD-B351-0C4A634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CE6D-1BDD-4B05-90E7-B266C3E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409A-E979-48FD-896B-6552DDD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8210-EEB9-4653-881C-03CB775D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92A7-963E-4534-B5B0-F80D1AD8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FAC1-C17B-41C3-8396-FAA847BF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3EEF-27E9-4519-BB81-332571C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AF51-5C09-4EF8-BF4C-6F99E0A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25A-698C-4268-A734-9D39631C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C6C5-EBC2-4872-A2AC-38D6E25A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5C2B-6278-492F-8EAA-9CAFE206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5419-0E14-4DE4-B4D8-C147BF2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997A-C915-4BFE-8F93-6F78F87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5AE3-FE7E-4AB0-A7A9-0C997DF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B257-F68B-470F-B098-D6D25E5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79D6-7162-4302-B32C-9548EFDE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F44D-EFDC-4064-BC8A-625199FB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7973-E219-4BBF-A28B-58E3CEB6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A00-9B85-45F1-8E7C-D862E0F1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F7F-6B63-4E99-B8BA-D5038BE2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732-7E41-4B22-99F7-E4FAEAEC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5BF-F62D-4AE4-A04A-BA6AA88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F56-FC23-40F8-A7B5-5F4F683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03B-E639-4F65-921D-E155CDBA7C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C88-68DC-4E85-B46C-3E4799EA0D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026-6990-475B-94EB-428C92F127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ADD-ACF4-400E-8AFD-BA5F8BD4C2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1.png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25.png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slide" Target="slide14.xml"/><Relationship Id="rId1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VIDEO_TS/VIDEO_TS.VOB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:/go.ex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Antic/antic.exe" TargetMode="External"/><Relationship Id="rId2" Type="http://schemas.openxmlformats.org/officeDocument/2006/relationships/hyperlink" Target="file:///../../../Program%20Files/Antic/antic.exe" TargetMode="External"/><Relationship Id="rId3" Type="http://schemas.openxmlformats.org/officeDocument/2006/relationships/image" Target="../media/image17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1320" y="3785760"/>
            <a:ext cx="7854840" cy="3071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к повторения с элементами интерактивного конструирования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7" descr="C:\Documents and Settings\teacher\Рабочий стол\греческий_орнамент.png"/>
          <p:cNvPicPr/>
          <p:nvPr/>
        </p:nvPicPr>
        <p:blipFill>
          <a:blip r:embed="rId1"/>
          <a:stretch/>
        </p:blipFill>
        <p:spPr>
          <a:xfrm>
            <a:off x="857160" y="3286080"/>
            <a:ext cx="1876680" cy="39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Documents and Settings\teacher\Рабочий стол\греческий_орнамент.png"/>
          <p:cNvPicPr/>
          <p:nvPr/>
        </p:nvPicPr>
        <p:blipFill>
          <a:blip r:embed="rId2"/>
          <a:stretch/>
        </p:blipFill>
        <p:spPr>
          <a:xfrm>
            <a:off x="2714760" y="328608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4572000" y="328608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6357960" y="328608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2411280" y="2205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ревнейшая Гре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Greece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00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182520" y="27813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d051a"/>
                </a:solidFill>
                <a:uFillTx/>
                <a:latin typeface="Arial"/>
              </a:rPr>
              <a:t>Карта интерактивного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258920" y="1268280"/>
            <a:ext cx="770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древнегреческие государства – остро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ск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амостоятельно научиться создавать интерактивную к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крепить умения ориентироваться на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3" descr=""/>
          <p:cNvPicPr/>
          <p:nvPr/>
        </p:nvPicPr>
        <p:blipFill>
          <a:blip r:embed="rId3"/>
          <a:stretch/>
        </p:blipFill>
        <p:spPr>
          <a:xfrm>
            <a:off x="706320" y="281160"/>
            <a:ext cx="4530960" cy="565596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3" descr="Model_of_a_greek_trireme.jpg"/>
          <p:cNvPicPr/>
          <p:nvPr/>
        </p:nvPicPr>
        <p:blipFill>
          <a:blip r:embed="rId4"/>
          <a:stretch/>
        </p:blipFill>
        <p:spPr>
          <a:xfrm>
            <a:off x="5219640" y="5734080"/>
            <a:ext cx="1152720" cy="6714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1"/>
          <p:cNvSpPr/>
          <p:nvPr/>
        </p:nvSpPr>
        <p:spPr>
          <a:xfrm>
            <a:off x="0" y="3213000"/>
            <a:ext cx="59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первые государства греков возникли на острове Кр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Крит находился на пересечении морских пу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задолго до финикийцев критяне славились как отважные море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цари Крита создали могущественный фл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освоение и заселение греками новых территорий называется колонизацией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мы научились самому сложному умению –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конструировать интерактивную ка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453196.wav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fe8ddd18f842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-3244680" y="1844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f13"/>
          <p:cNvPicPr/>
          <p:nvPr/>
        </p:nvPicPr>
        <p:blipFill>
          <a:blip r:embed="rId3"/>
          <a:stretch/>
        </p:blipFill>
        <p:spPr>
          <a:xfrm>
            <a:off x="755640" y="515772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f13"/>
          <p:cNvPicPr/>
          <p:nvPr/>
        </p:nvPicPr>
        <p:blipFill>
          <a:blip r:embed="rId4"/>
          <a:stretch/>
        </p:blipFill>
        <p:spPr>
          <a:xfrm>
            <a:off x="4067280" y="299736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f13"/>
          <p:cNvPicPr/>
          <p:nvPr/>
        </p:nvPicPr>
        <p:blipFill>
          <a:blip r:embed="rId5"/>
          <a:stretch/>
        </p:blipFill>
        <p:spPr>
          <a:xfrm>
            <a:off x="6877080" y="45086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fe8ddd18f842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9144000" y="4149720"/>
            <a:ext cx="2376360" cy="1482840"/>
          </a:xfrm>
          <a:prstGeom prst="rect">
            <a:avLst/>
          </a:prstGeom>
          <a:ln w="0">
            <a:noFill/>
          </a:ln>
        </p:spPr>
      </p:pic>
      <p:sp>
        <p:nvSpPr>
          <p:cNvPr id="251" name="Oval 22"/>
          <p:cNvSpPr/>
          <p:nvPr/>
        </p:nvSpPr>
        <p:spPr>
          <a:xfrm>
            <a:off x="2916360" y="189000"/>
            <a:ext cx="3456000" cy="3311280"/>
          </a:xfrm>
          <a:prstGeom prst="ellipse">
            <a:avLst/>
          </a:prstGeom>
          <a:gradFill rotWithShape="0">
            <a:gsLst>
              <a:gs pos="0">
                <a:srgbClr val="ffc9f1"/>
              </a:gs>
              <a:gs pos="100000">
                <a:srgbClr val="ee4c6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3" descr="ani-crazy_dolphin"/>
          <p:cNvPicPr/>
          <p:nvPr/>
        </p:nvPicPr>
        <p:blipFill>
          <a:blip r:embed="rId7">
            <a:lum bright="-30000"/>
          </a:blip>
          <a:stretch/>
        </p:blipFill>
        <p:spPr>
          <a:xfrm>
            <a:off x="-1384200" y="3645000"/>
            <a:ext cx="13842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ani-crazy_dolphin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5157720"/>
            <a:ext cx="138456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fe8ddd18f842"/>
          <p:cNvPicPr/>
          <p:nvPr/>
        </p:nvPicPr>
        <p:blipFill>
          <a:blip r:embed="rId9">
            <a:lum bright="-18000"/>
          </a:blip>
          <a:stretch/>
        </p:blipFill>
        <p:spPr>
          <a:xfrm>
            <a:off x="9144000" y="2276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ani-crazy_dolphin"/>
          <p:cNvPicPr/>
          <p:nvPr/>
        </p:nvPicPr>
        <p:blipFill>
          <a:blip r:embed="rId10">
            <a:lum bright="-36000"/>
          </a:blip>
          <a:stretch/>
        </p:blipFill>
        <p:spPr>
          <a:xfrm flipH="1">
            <a:off x="5796000" y="400536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ani-crazy_dolphin"/>
          <p:cNvPicPr/>
          <p:nvPr/>
        </p:nvPicPr>
        <p:blipFill>
          <a:blip r:embed="rId11">
            <a:lum bright="-30000"/>
          </a:blip>
          <a:stretch/>
        </p:blipFill>
        <p:spPr>
          <a:xfrm flipH="1">
            <a:off x="9144000" y="393372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8" descr="ani-crazy_dolphin"/>
          <p:cNvPicPr/>
          <p:nvPr/>
        </p:nvPicPr>
        <p:blipFill>
          <a:blip r:embed="rId12">
            <a:lum bright="-36000"/>
          </a:blip>
          <a:stretch/>
        </p:blipFill>
        <p:spPr>
          <a:xfrm flipH="1">
            <a:off x="2268000" y="3933720"/>
            <a:ext cx="1366920" cy="912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0" descr="j0432592"/>
          <p:cNvPicPr/>
          <p:nvPr/>
        </p:nvPicPr>
        <p:blipFill>
          <a:blip r:embed="rId13"/>
          <a:stretch/>
        </p:blipFill>
        <p:spPr>
          <a:xfrm>
            <a:off x="6372360" y="62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1" descr="65faa995e8495198efec9f89623bb9a7"/>
          <p:cNvPicPr/>
          <p:nvPr/>
        </p:nvPicPr>
        <p:blipFill>
          <a:blip r:embed="rId14"/>
          <a:stretch/>
        </p:blipFill>
        <p:spPr>
          <a:xfrm>
            <a:off x="9144000" y="6922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65faa995e8495198efec9f89623bb9a7"/>
          <p:cNvPicPr/>
          <p:nvPr/>
        </p:nvPicPr>
        <p:blipFill>
          <a:blip r:embed="rId15"/>
          <a:stretch/>
        </p:blipFill>
        <p:spPr>
          <a:xfrm>
            <a:off x="9144000" y="1628640"/>
            <a:ext cx="1260360" cy="87156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7">
            <a:hlinkClick r:id="rId16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3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0.1507 C 0.06528 0.17454 0.09375 0.20811 0.19948 0.20741 C 0.35208 0.20741 0.36302 0.09561 0.54531 0.09537 C 0.7092 0.09537 0.6217 0.19306 0.77934 0.1926 C 0.94323 0.1926 0.85573 0.12176 1.03177 0.12176 C 1.18941 0.12176 1.10191 0.16945 1.24236 0.16945 C 1.37778 0.16945 1.30746 0.13311 1.43056 0.13311 C 1.50087 0.13311 1.5059 0.14283 1.51215 0.1507 E">
                                      <p:cBhvr>
                                        <p:cTn id="154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6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9329 C -0.0743 0.13496 -0.10035 0.19375 -0.1967 0.19237 C -0.33594 0.19237 -0.34635 -0.003 -0.51233 -0.00324 C -0.66163 -0.00324 -0.58194 0.16737 -0.72569 0.16644 C -0.87604 0.16644 -0.79531 0.04283 -0.95608 0.04283 C -1.09983 0.04283 -1.02014 0.12639 -1.14792 0.12639 C -1.27118 0.12639 -1.20729 0.06274 -1.31962 0.06274 C -1.38368 0.06274 -1.38837 0.0801 -1.39375 0.09329 E">
                                      <p:cBhvr>
                                        <p:cTn id="157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6134 C -0.08611 0.0662 -0.21354 0.10509 -0.3118 0.02639 C -0.40989 -0.0537 -0.44201 -0.2213 -0.3842 -0.34884 C -0.32587 -0.47708 -0.19896 -0.5162 -0.10069 -0.43704 C -0.00278 -0.35787 0.03021 -0.18958 -0.0276 -0.06134 Z">
                                      <p:cBhvr>
                                        <p:cTn id="177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7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1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5500"/>
                            </p:stCondLst>
                            <p:childTnLst>
                              <p:par>
                                <p:cTn id="206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3.05556E-006 0.09745 C -3.05556E-006 0.14166 0.06181 0.19606 0.11216 0.19606 L 0.22448 0.19606 E">
                                      <p:cBhvr>
                                        <p:cTn id="207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20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1500"/>
                            </p:stCondLst>
                            <p:childTnLst>
                              <p:par>
                                <p:cTn id="2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4500"/>
                            </p:stCondLst>
                            <p:childTnLst>
                              <p:par>
                                <p:cTn id="21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9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0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Что является главным источником знаний о древнейшей, архаической Греции?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Выводы:</a:t>
            </a: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главным источником знаний о древнейшей, архаической Греции является мифология (поэмы Гомера «Илиада», «Одиссея»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при археологических раскопках найдены глиняные таблички с надписями о сборах царей на войну и далеких походах за добычей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- в современной жизни эти знания сопровождают нас крылатыми выражениями: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Ахиллесова пята»- уязвимое место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Между Сциллой и Харибдой»- между двумя опасностям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Троянский  конь» - дар врагу с целью его погубить, обманные действи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-  научились анализировать видеофрагменты, сопоставлять факт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24000" y="191628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видеофиль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формирование умения обобщать данные, сопоставлять фа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Вопросы к видеофиль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1.  Кому из вождей ахейцев принадлежала идея созд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троянского кон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2.  Почему троянцы ввезли «оставленного» греками коня в город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extBox 3" descr=""/>
          <p:cNvPicPr/>
          <p:nvPr/>
        </p:nvPicPr>
        <p:blipFill>
          <a:blip r:embed="rId2"/>
          <a:stretch/>
        </p:blipFill>
        <p:spPr>
          <a:xfrm>
            <a:off x="1279440" y="-6480"/>
            <a:ext cx="4530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C:\Documents and Settings\Admin\Рабочий стол\моя вс\62100225_YErehteyon2.jpg"/>
          <p:cNvPicPr/>
          <p:nvPr/>
        </p:nvPicPr>
        <p:blipFill>
          <a:blip r:embed="rId1"/>
          <a:stretch/>
        </p:blipFill>
        <p:spPr>
          <a:xfrm>
            <a:off x="7126200" y="692280"/>
            <a:ext cx="2017800" cy="1461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Admin\Рабочий стол\моя вс\e3cb63953888.jpg"/>
          <p:cNvPicPr/>
          <p:nvPr/>
        </p:nvPicPr>
        <p:blipFill>
          <a:blip r:embed="rId2"/>
          <a:stretch/>
        </p:blipFill>
        <p:spPr>
          <a:xfrm>
            <a:off x="7093080" y="5356080"/>
            <a:ext cx="2050920" cy="1501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спомните, какую проблему мы поставили в начале урока?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С чем греки сравнивали устройство греческого общества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Можем ли мы теперь ответить на этот вопрос. Да, можем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Где еще присутствует тема корабля</a:t>
            </a: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0" y="2997360"/>
            <a:ext cx="852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- вся жизнь греков была связана с морем: оно кормило (рыболов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051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было главной транспортной артерией – сухопутным путем из Южной Греции в Среднюю можно было попасть только через узкий перешеек, из Средней Северную – через узкое ущелье (Фермопильский проход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051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берега Древней Греции изрезаны глубокими и удобными для стоя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кораблей бух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Цель: проверить полученные знания ключевых идей урок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тир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0" y="1341360"/>
            <a:ext cx="4356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ка ответов: максимально – 5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Где находится Древняя Гре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На северо – востоке Аф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а юге Балканского полуост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На юге Малой А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Поэмы «Илиада» и «Одиссея» напис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Гоме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Одиссе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Сол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расавицу, из – за которой началась Троянская война зв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Афрод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Алкино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Е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Злые чародейки, полуптицы –полуженщи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Сцил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Хариб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Сир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Бог грома и молнии в Древней Гре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Зев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932360" y="1557360"/>
            <a:ext cx="421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Какими морями омывается Гре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Ионическим и Эгейским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расным и Желтыми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Балтийским и северным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эмы «Илиада» и «Одиссея» напис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в 8 в.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в 18 в.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в 80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Главный герой одной из поэм Гоме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Полиф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/ Одисс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Демод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Царица на острове Итака, двадцать лет ждавшая муж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Е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Фед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Пенело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Бог моря в Древней Гре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А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Геф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Итоги урока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уем, что нам удалось сделать для достижения поставленных на уроке це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омашнее зад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 повторить тему «Религия древних греков», ответить самостоятельно на вопрос: « В чем проявилось влияние религии на жизнь греков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TextBox 3" descr=""/>
          <p:cNvPicPr/>
          <p:nvPr/>
        </p:nvPicPr>
        <p:blipFill>
          <a:blip r:embed="rId1"/>
          <a:stretch/>
        </p:blipFill>
        <p:spPr>
          <a:xfrm>
            <a:off x="-1060560" y="1006560"/>
            <a:ext cx="45291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Содержимое 4"/>
          <p:cNvSpPr/>
          <p:nvPr/>
        </p:nvSpPr>
        <p:spPr>
          <a:xfrm>
            <a:off x="2857680" y="1857240"/>
            <a:ext cx="6643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вторим  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сторию древнейшей 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ее местонахождение, первые города – государства, мифологию, рели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Заголовок 7" descr=""/>
          <p:cNvPicPr/>
          <p:nvPr/>
        </p:nvPicPr>
        <p:blipFill>
          <a:blip r:embed="rId1"/>
          <a:stretch/>
        </p:blipFill>
        <p:spPr>
          <a:xfrm>
            <a:off x="92160" y="0"/>
            <a:ext cx="9070920" cy="147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teacher\Local Settings\Temporary Internet Files\Content.IE5\5XDDPIS1\MP900403767[1].jpg"/>
          <p:cNvPicPr/>
          <p:nvPr/>
        </p:nvPicPr>
        <p:blipFill>
          <a:blip r:embed="rId2"/>
          <a:stretch/>
        </p:blipFill>
        <p:spPr>
          <a:xfrm>
            <a:off x="142920" y="24289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571680" y="1214280"/>
            <a:ext cx="1876320" cy="4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2428920" y="1214280"/>
            <a:ext cx="1876320" cy="40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Documents and Settings\teacher\Рабочий стол\греческий_орнамент.png"/>
          <p:cNvPicPr/>
          <p:nvPr/>
        </p:nvPicPr>
        <p:blipFill>
          <a:blip r:embed="rId5"/>
          <a:stretch/>
        </p:blipFill>
        <p:spPr>
          <a:xfrm>
            <a:off x="4286160" y="1214280"/>
            <a:ext cx="1876680" cy="40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Documents and Settings\teacher\Рабочий стол\греческий_орнамент.png"/>
          <p:cNvPicPr/>
          <p:nvPr/>
        </p:nvPicPr>
        <p:blipFill>
          <a:blip r:embed="rId6"/>
          <a:stretch/>
        </p:blipFill>
        <p:spPr>
          <a:xfrm>
            <a:off x="6072120" y="1214280"/>
            <a:ext cx="1876320" cy="4003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2786040" y="3500280"/>
            <a:ext cx="60008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знаем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иемы интерактивного конструирования, 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2857680" y="4786200"/>
            <a:ext cx="62150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нания понятий и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рминов: колония, религия, мифология, эл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9320" y="360360"/>
            <a:ext cx="8716680" cy="1528920"/>
          </a:xfrm>
          <a:prstGeom prst="rect">
            <a:avLst/>
          </a:prstGeom>
          <a:ln w="0">
            <a:noFill/>
          </a:ln>
        </p:spPr>
      </p:pic>
      <p:sp>
        <p:nvSpPr>
          <p:cNvPr id="211" name="Содержимое 2"/>
          <p:cNvSpPr/>
          <p:nvPr/>
        </p:nvSpPr>
        <p:spPr>
          <a:xfrm>
            <a:off x="2071800" y="2643120"/>
            <a:ext cx="65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с  учебником, атлас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ть интерактивные зада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с видеофрагмент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интерактивную кар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TextBox 3" descr=""/>
          <p:cNvPicPr/>
          <p:nvPr/>
        </p:nvPicPr>
        <p:blipFill>
          <a:blip r:embed="rId2"/>
          <a:stretch/>
        </p:blipFill>
        <p:spPr>
          <a:xfrm>
            <a:off x="-1378080" y="1359000"/>
            <a:ext cx="45291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35712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221472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:\Documents and Settings\teacher\Рабочий стол\греческий_орнамент.png"/>
          <p:cNvPicPr/>
          <p:nvPr/>
        </p:nvPicPr>
        <p:blipFill>
          <a:blip r:embed="rId5"/>
          <a:stretch/>
        </p:blipFill>
        <p:spPr>
          <a:xfrm>
            <a:off x="407196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Documents and Settings\teacher\Рабочий стол\греческий_орнамент.png"/>
          <p:cNvPicPr/>
          <p:nvPr/>
        </p:nvPicPr>
        <p:blipFill>
          <a:blip r:embed="rId6"/>
          <a:stretch/>
        </p:blipFill>
        <p:spPr>
          <a:xfrm>
            <a:off x="5857920" y="1643040"/>
            <a:ext cx="18763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Цели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а основе полученных ранее знаний систематизировать, обобщить и закрепить знания учащихся по теме «Древнейшая Греция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репить знания понятий: колония, религия, мифология, эллин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умение ориентироваться на местности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аботать с интерактивными картами, умение самостоятельно конструировать кар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821844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Острова, острова, острова…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Стадо белых коней Посейдона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От земных вас корней оторвав,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Он свои навязал вам законы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Возвращает преданий прибой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Чудеса, что ушли безвозвратно,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И как будто ведет за собой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В лабиринты времен Ариадна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             Немировский А. И.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Greece"/>
          <p:cNvPicPr/>
          <p:nvPr/>
        </p:nvPicPr>
        <p:blipFill>
          <a:blip r:embed="rId1"/>
          <a:stretch/>
        </p:blipFill>
        <p:spPr>
          <a:xfrm>
            <a:off x="0" y="2430360"/>
            <a:ext cx="5904000" cy="442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ртинка 8 из 215"/>
          <p:cNvPicPr/>
          <p:nvPr/>
        </p:nvPicPr>
        <p:blipFill>
          <a:blip r:embed="rId2"/>
          <a:stretch/>
        </p:blipFill>
        <p:spPr>
          <a:xfrm>
            <a:off x="5097600" y="2276640"/>
            <a:ext cx="40464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Античные люди, наделенные воображением, видели общество, которое их породило,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ораблем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несущимся по бурному морю времени. Этот же образ вошел в терминологию </a:t>
            </a:r>
            <a:r>
              <a:rPr b="0" lang="ru-RU" sz="2800" spc="-1" strike="noStrike">
                <a:solidFill>
                  <a:srgbClr val="009dd9"/>
                </a:solidFill>
                <a:latin typeface="Calibri"/>
              </a:rPr>
              <a:t>храм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модели космоса.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Наосом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(кораблем) называлось его главное помещение, в котором находились статуи небожителей, покровителей города – государства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Documents and Settings\Admin\Рабочий стол\моя вс\62100225_YErehteyon2.jpg"/>
          <p:cNvPicPr/>
          <p:nvPr/>
        </p:nvPicPr>
        <p:blipFill>
          <a:blip r:embed="rId1"/>
          <a:stretch/>
        </p:blipFill>
        <p:spPr>
          <a:xfrm>
            <a:off x="324000" y="3141720"/>
            <a:ext cx="2420640" cy="1754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Admin\Рабочий стол\моя вс\e3cb63953888.jpg"/>
          <p:cNvPicPr/>
          <p:nvPr/>
        </p:nvPicPr>
        <p:blipFill>
          <a:blip r:embed="rId2"/>
          <a:stretch/>
        </p:blipFill>
        <p:spPr>
          <a:xfrm>
            <a:off x="2843280" y="3110040"/>
            <a:ext cx="6156360" cy="374796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4" descr="100128_rfoster_mp_his_greek_102.jpg"/>
          <p:cNvPicPr/>
          <p:nvPr/>
        </p:nvPicPr>
        <p:blipFill>
          <a:blip r:embed="rId3"/>
          <a:stretch/>
        </p:blipFill>
        <p:spPr>
          <a:xfrm>
            <a:off x="250920" y="4941720"/>
            <a:ext cx="24494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ное зада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TextBox 3" descr=""/>
          <p:cNvPicPr/>
          <p:nvPr/>
        </p:nvPicPr>
        <p:blipFill>
          <a:blip r:embed="rId1"/>
          <a:stretch/>
        </p:blipFill>
        <p:spPr>
          <a:xfrm>
            <a:off x="-244440" y="2000160"/>
            <a:ext cx="4530600" cy="5656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2916360" y="321300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Почему греки придавали такое             большое значение морю, корабл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Итак, наше плавание начинается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Работа с карто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ез чего мы не можем отправиться в плавание?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                      Без знания карты.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Цель: повторить местоположение Древнейшей Греции;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ыделить ее особенности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сравнить с государствами Древнего Востока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Выполн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                           интерактивное зад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311120" y="4313160"/>
            <a:ext cx="48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39640" y="3716280"/>
            <a:ext cx="815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4fc"/>
                </a:solidFill>
                <a:latin typeface="Arial"/>
              </a:rPr>
              <a:t>Выводы:</a:t>
            </a:r>
            <a:r>
              <a:rPr b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значительная часть Греции покрыта крут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и обрывистыми горами, они делят Грецию на </a:t>
            </a:r>
            <a:r>
              <a:rPr b="1" i="1" lang="ru-RU" sz="2000" spc="-1" strike="noStrike" u="sng">
                <a:solidFill>
                  <a:srgbClr val="3324fc"/>
                </a:solidFill>
                <a:uFillTx/>
                <a:latin typeface="Arial"/>
              </a:rPr>
              <a:t>изол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друг от друга области: Северная, Средняя, Южная (Пелопонес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нет крупных рек, почва каменистая, малоплодород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государство возникло позже, чем в странах Вост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4fc"/>
                </a:solidFill>
                <a:latin typeface="Arial"/>
              </a:rPr>
              <a:t>Особенности:</a:t>
            </a: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24fc"/>
                </a:solidFill>
                <a:uFillTx/>
                <a:latin typeface="Arial"/>
              </a:rPr>
              <a:t>мореходство, освоение островов Средиземного моря (в отличие от стран Вост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j0292152"/>
          <p:cNvPicPr/>
          <p:nvPr/>
        </p:nvPicPr>
        <p:blipFill>
          <a:blip r:embed="rId3"/>
          <a:stretch/>
        </p:blipFill>
        <p:spPr>
          <a:xfrm>
            <a:off x="7451640" y="112536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3" descr=""/>
          <p:cNvPicPr/>
          <p:nvPr/>
        </p:nvPicPr>
        <p:blipFill>
          <a:blip r:embed="rId4"/>
          <a:stretch/>
        </p:blipFill>
        <p:spPr>
          <a:xfrm>
            <a:off x="633240" y="-554040"/>
            <a:ext cx="45291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06:29Z</dcterms:created>
  <dc:creator>AT</dc:creator>
  <dc:description/>
  <dc:language>en-US</dc:language>
  <cp:lastModifiedBy>AT</cp:lastModifiedBy>
  <dcterms:modified xsi:type="dcterms:W3CDTF">2012-10-12T18:33:53Z</dcterms:modified>
  <cp:revision>64</cp:revision>
  <dc:subject/>
  <dc:title>Слайд 1</dc:title>
</cp:coreProperties>
</file>