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579-2861-475C-94B5-5EC8D7EF0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C06A-A811-428F-A195-6BC3001414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CDDD-E0B1-4E80-837C-3D66CBFBAA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307E-01FC-4ADB-9D16-FF7610111F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D0FB-DC20-4702-8D10-A8EC494B97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8C63-59C7-4755-9B1F-7CA1C237F3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874-C7F5-482C-843E-C3C0AFBD05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8BC1-6AD5-4A2D-8420-4CB9200A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4097-CA5C-44C6-93E0-2D171E25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41C7-2544-487C-BABB-ADE2C435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0709-48F3-46B0-877D-305799FD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F84A-318D-4A1C-9F9A-3C2A5C8F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BD08-2BCF-4D10-B4B2-EA58B04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954C-8458-47E7-917D-1482853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9112-3F74-4C8F-A30B-B3DC1C1B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1A1A-77E6-4170-87EB-5BD4E422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9326-1D0B-4CC8-92E3-523E0D0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5FB-F228-4D51-BDD6-D2B6709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33E6-2B49-4B90-BFC4-D3352DF4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CEE9-36C7-4CD6-B86B-1E1C651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8952-26A5-4F53-8042-FFA41A9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53C-76EB-4A1C-8FC9-CC8516E4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54AA-D57C-4FAD-9098-6F3641A7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DE38-1353-487D-8283-F71A42A0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45CF-7229-497E-BABB-C13EA406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8A4A-C305-4859-BD26-669B284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5580-4FAC-47DD-B8BE-E525A753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FC94-ACFA-4881-AF73-00957E75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7480-8CA0-498A-AA1A-9AA5E5F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B735-4087-4384-89FA-5FB8CFD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C5F1-56A6-4234-8AE2-D30B7E9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06F-ADF8-435E-A9F9-1507F87D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E192-F62E-44AD-85D9-4C4387871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66720" y="4627080"/>
            <a:ext cx="60645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2117"/>
                </a:solidFill>
                <a:latin typeface="Arial"/>
              </a:rPr>
              <a:t>Краснооктябрьская средняя общеобразовательная школа, Республика Марий Э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2117"/>
                </a:solidFill>
                <a:latin typeface="Garamond"/>
              </a:rPr>
              <a:t>Старикова Г.А</a:t>
            </a:r>
            <a:r>
              <a:rPr b="1" lang="ru-RU" sz="1200" spc="-1" strike="noStrike">
                <a:solidFill>
                  <a:srgbClr val="442117"/>
                </a:solidFill>
                <a:latin typeface="Arial"/>
              </a:rPr>
              <a:t>., учитель высшей категории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09680" y="4572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00200" y="12193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Тригонометрические уравнения и методы их реш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АСИБО ЗА СОТРУДНИЧЕСТВО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нание есть сила, сила есть знание. - Френсис Бэкон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«Великая книга природы открыта для нас, но научиться понимать ее можно лишь путем прилежания, любви, страданий. Язык этот-математика. Математика расцветает в результате практической деятельности.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Л. Эйлер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751120" cy="3429000"/>
          </a:xfrm>
          <a:prstGeom prst="rect">
            <a:avLst/>
          </a:prstGeom>
          <a:ln w="31680">
            <a:solidFill>
              <a:srgbClr val="000514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052280"/>
            <a:ext cx="86868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име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ь математические знания для поиска методов решения тригонометрических уравнени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ирать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приемы решения тригонометрических уравнений различными способами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совершенствовать навыки контрол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азвить умение анализирова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лучить возможность научиться  составлять алгоритм решения уравнений с последовательным применением различных приемов и метод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165600"/>
            <a:ext cx="9144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90920" y="-165600"/>
            <a:ext cx="4572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410080" y="4495680"/>
            <a:ext cx="2210040" cy="217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93240" y="282600"/>
            <a:ext cx="448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 хочу научиться на урок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img4"/>
          <p:cNvPicPr/>
          <p:nvPr/>
        </p:nvPicPr>
        <p:blipFill>
          <a:blip r:embed="rId1"/>
          <a:stretch/>
        </p:blipFill>
        <p:spPr>
          <a:xfrm>
            <a:off x="609480" y="380880"/>
            <a:ext cx="6629400" cy="464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221004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Найди ошиб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2201760"/>
            <a:ext cx="5029200" cy="34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"/>
          <p:cNvPicPr/>
          <p:nvPr/>
        </p:nvPicPr>
        <p:blipFill>
          <a:blip r:embed="rId2"/>
          <a:stretch/>
        </p:blipFill>
        <p:spPr>
          <a:xfrm>
            <a:off x="0" y="3962520"/>
            <a:ext cx="167652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428760" y="1197000"/>
            <a:ext cx="6429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si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–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sinx -2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cos²x – 5cos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tg²x+2tgx-1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sin²x-4cosx-1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cos²x+4sinx-1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2x-cos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7x-cos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n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s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 = 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cos²x-sin2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ctgxsinx+cos4x=4cos²1/2x-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1/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=x²-4x+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x+3sin1/2x=-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sin²x+cos4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²º¹º  x+sin²º¹¹ x=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x sin5x=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- √3/3 sin2x = co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057400" cy="2030400"/>
          </a:xfrm>
          <a:prstGeom prst="rect">
            <a:avLst/>
          </a:prstGeom>
          <a:ln w="0">
            <a:noFill/>
          </a:ln>
        </p:spPr>
      </p:pic>
      <p:pic>
        <p:nvPicPr>
          <p:cNvPr id="125" name="Text Box 7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59310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77840"/>
          <a:ext cx="8712360" cy="5670360"/>
        </p:xfrm>
        <a:graphic>
          <a:graphicData uri="http://schemas.openxmlformats.org/drawingml/2006/table">
            <a:tbl>
              <a:tblPr/>
              <a:tblGrid>
                <a:gridCol w="1316160"/>
                <a:gridCol w="1563840"/>
                <a:gridCol w="3097080"/>
                <a:gridCol w="2735280"/>
              </a:tblGrid>
              <a:tr h="87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н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тод замены перемен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лгоритм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нкретные шаги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зовые 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Сos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– sin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– cos x =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buClr>
                          <a:srgbClr val="ffcc00"/>
                        </a:buClr>
                        <a:buSzPct val="7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ивести к одной функ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Привести подобн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лагаемы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Ввести новую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еременную и решить квадратно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Решить простейше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Gill Sans M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-(1-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)-cos x = 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x -1+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-cos x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 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-cos x – 1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усть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cos x = z,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z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z-1=0,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отсюд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=0,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=-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cos x = 1, отсюда x=2пn или cos x = -1/2 и x=±2п/3+2пn, n є 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Основное тригонометрическое тожд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 +cos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 =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При приведении подобных слагаемых складываем коэффициенты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Решение квадратного уравнения ax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bx+c=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-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±)/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Решение простейших урав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=±arccosa+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sin x = a, x=(-1)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arcsin a +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g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rctg a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20" descr=""/>
          <p:cNvPicPr/>
          <p:nvPr/>
        </p:nvPicPr>
        <p:blipFill>
          <a:blip r:embed="rId1"/>
          <a:stretch/>
        </p:blipFill>
        <p:spPr>
          <a:xfrm>
            <a:off x="0" y="3962520"/>
            <a:ext cx="15238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177840"/>
          <a:ext cx="8712360" cy="6129360"/>
        </p:xfrm>
        <a:graphic>
          <a:graphicData uri="http://schemas.openxmlformats.org/drawingml/2006/table">
            <a:tbl>
              <a:tblPr/>
              <a:tblGrid>
                <a:gridCol w="1497240"/>
                <a:gridCol w="1382760"/>
                <a:gridCol w="2808000"/>
                <a:gridCol w="3024360"/>
              </a:tblGrid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н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тод замены перемен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лгоритм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нкретные шаги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зовые 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Сos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sin x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buClr>
                          <a:srgbClr val="ffcc00"/>
                        </a:buClr>
                        <a:buSzPct val="7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ивести к одной функ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Привести подобн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лагаемы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Ввести новую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еременную и решить квадратно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Решить простейше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+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усть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= z,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z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-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=0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ю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=0  z=0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sin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 = ½  ,    отсю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=(-1)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/6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Основное тригонометрическое тожд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 +cos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 =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При приведении подобных слагаемых складываем коэффициенты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Решение квадратного уравнения ax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bx+c=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-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±)/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Решение простейших урав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=±arccosa+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sin x = a, x=(-1)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arcsin a +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g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rctg a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22" descr=""/>
          <p:cNvPicPr/>
          <p:nvPr/>
        </p:nvPicPr>
        <p:blipFill>
          <a:blip r:embed="rId1"/>
          <a:stretch/>
        </p:blipFill>
        <p:spPr>
          <a:xfrm>
            <a:off x="0" y="396252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052280"/>
            <a:ext cx="86868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бобщили знания и отработали навыки решения тригонометрических уравнений различными способам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азвили чувство самостоятельности и ответственности за качество своих зна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азвили  навыки самоконтроля, умений анализировать, составлять план или алгоритм решения уравн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лучили интересную дополнительную информацию о дополнительных источниках информации с целью усовершенствования зна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165600"/>
            <a:ext cx="9144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-49356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86240" y="306360"/>
            <a:ext cx="49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ШИ ДОСТИЖЕНИЯ НА УРОК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4-28T13:05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