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7134-6F35-49E9-BEBC-C581C32C62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F0AB-1B8B-4CD6-8ED0-C41C78427C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8D63-9A60-4116-ACBD-5AAED8B2C5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D302-C143-4AE0-8068-1FDBCAFA49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D611-DA97-48AD-8A72-418E958635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6FF-4C08-4EB9-9B6F-66D1FFC2B7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4D9B-5F72-4E8B-A310-073C828C17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6C8A-D42C-425D-A6DC-CF790A87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94B5-D2A2-4332-A410-306613B3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92D2A-8C68-480F-8BD1-CE6230A5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2C05-3B12-440C-ABE3-3FCDAFD2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5AB7-A6B2-4A4C-82D1-975373DB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4F7E-DDB7-4D8A-86D8-7D2DAE27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9198-2D5E-4B1D-945D-8D405798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87E6-20B6-4ED3-B9BF-F7F9634C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2B45-63FA-4A46-B38D-D46DA880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B7AE-2B71-4310-9671-C3C025BE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BFFD-E8BC-4A6A-9BE5-46A55B7C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8025-2E6A-495C-8B7B-BDB8B791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7F81-55A7-42F0-921D-C765DC9D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E7B3-BCFC-4C5E-B35B-2007DB19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1086-1853-4B46-96D4-19CBAE31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C75B-924E-4D92-840A-4A8C94D7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946E-0B31-4A7A-AFEE-02EB4D2C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747C-E03A-434F-9AF0-0F687EF3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42F3-5BE4-47CF-B36A-A6F84EF7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C8E4-B978-4DA7-804E-D4C96839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D426-5437-4C38-9984-35F5CBF5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4032-12E1-47FF-89B9-67429A4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B959-54CC-4A00-A123-BF1DC8C3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020D-26E0-4A6A-97FF-A817E42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351-9BEC-4A10-9109-84FF048A7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09F1-CECD-4E32-AAFC-9CC6846C88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66720" y="4627080"/>
            <a:ext cx="606456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2117"/>
                </a:solidFill>
                <a:latin typeface="Arial"/>
              </a:rPr>
              <a:t>Краснооктябрьская средняя общеобразовательная школа, Республика Марий Э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2117"/>
                </a:solidFill>
                <a:latin typeface="Garamond"/>
              </a:rPr>
              <a:t>Старикова Г.А</a:t>
            </a:r>
            <a:r>
              <a:rPr b="1" lang="ru-RU" sz="1200" spc="-1" strike="noStrike">
                <a:solidFill>
                  <a:srgbClr val="442117"/>
                </a:solidFill>
                <a:latin typeface="Arial"/>
              </a:rPr>
              <a:t>., учитель высшей категории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09680" y="45720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600200" y="121932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Тригонометрические уравнения и методы их реш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ПАСИБО ЗА СОТРУДНИЧЕСТВО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нание есть сила, сила есть знание. - Френсис Бэкон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«Великая книга природы открыта для нас, но научиться понимать ее можно лишь путем прилежания, любви, страданий. Язык этот-математика. Математика расцветает в результате практической деятельности.»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Л. Эйлер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2751120" cy="3429000"/>
          </a:xfrm>
          <a:prstGeom prst="rect">
            <a:avLst/>
          </a:prstGeom>
          <a:ln w="31680">
            <a:solidFill>
              <a:srgbClr val="000514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052280"/>
            <a:ext cx="868680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име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ь математические знания для поиска методов решения тригонометрических уравнени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ирать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приемы решения тригонометрических уравнений различными способами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совершенствовать навыки контрол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азвить умение анализироват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лучить возможность научиться  составлять алгоритм решения уравнений с последовательным применением различных приемов и метод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165600"/>
            <a:ext cx="91440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590920" y="-165600"/>
            <a:ext cx="4572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5410080" y="4495680"/>
            <a:ext cx="2210040" cy="2179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93240" y="282600"/>
            <a:ext cx="448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 хочу научиться на урок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img4"/>
          <p:cNvPicPr/>
          <p:nvPr/>
        </p:nvPicPr>
        <p:blipFill>
          <a:blip r:embed="rId1"/>
          <a:stretch/>
        </p:blipFill>
        <p:spPr>
          <a:xfrm>
            <a:off x="609480" y="380880"/>
            <a:ext cx="6629400" cy="464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2210040" cy="21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Найди ошиб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52480" y="2201760"/>
            <a:ext cx="5029200" cy="34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"/>
          <p:cNvPicPr/>
          <p:nvPr/>
        </p:nvPicPr>
        <p:blipFill>
          <a:blip r:embed="rId2"/>
          <a:stretch/>
        </p:blipFill>
        <p:spPr>
          <a:xfrm>
            <a:off x="0" y="3962520"/>
            <a:ext cx="167652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428760" y="1197000"/>
            <a:ext cx="6429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si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x –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sinx -2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cos²x – 5cos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tg²x+2tgx-1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sin²x-4cosx-1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cos²x+4sinx-1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2x-cosx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7x-cosx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nx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s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x  = 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cos²x-sin2x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ctgxsinx+cos4x=4cos²1/2x-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1/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=x²-4x+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x+3sin1/2x=-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sin²x+cos4x=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²º¹º  x+sin²º¹¹ x=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x sin5x=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x - √3/3 sin2x = co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057400" cy="2030400"/>
          </a:xfrm>
          <a:prstGeom prst="rect">
            <a:avLst/>
          </a:prstGeom>
          <a:ln w="0">
            <a:noFill/>
          </a:ln>
        </p:spPr>
      </p:pic>
      <p:pic>
        <p:nvPicPr>
          <p:cNvPr id="125" name="Text Box 7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593100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177840"/>
          <a:ext cx="8712360" cy="5670360"/>
        </p:xfrm>
        <a:graphic>
          <a:graphicData uri="http://schemas.openxmlformats.org/drawingml/2006/table">
            <a:tbl>
              <a:tblPr/>
              <a:tblGrid>
                <a:gridCol w="1316160"/>
                <a:gridCol w="1563840"/>
                <a:gridCol w="3097080"/>
                <a:gridCol w="2735280"/>
              </a:tblGrid>
              <a:tr h="87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ни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тод замены перемен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лгоритм реш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онкретные шаги реш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зовые зн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Сos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– sin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– cos x = 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buClr>
                          <a:srgbClr val="ffcc00"/>
                        </a:buClr>
                        <a:buSzPct val="70000"/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ивести к одной функц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Привести подобн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лагаемы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Ввести новую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еременную и решить квадратное уравне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Решить простейшее уравне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Gill Sans M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s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-(1-cos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)-cos x = 0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buClr>
                          <a:srgbClr val="ffcc00"/>
                        </a:buClr>
                        <a:buSzPct val="70000"/>
                        <a:buFont typeface="Garamon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cos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x -1+cos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-cos x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 cos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-cos x – 1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усть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cos x = z,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z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z-1=0,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отсюд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z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=0,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z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=-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cos x = 1, отсюда x=2пn или cos x = -1/2 и x=±2п/3+2пn, n є 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Основное тригонометрическое тожд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 +cos 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 =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При приведении подобных слагаемых складываем коэффициенты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Решение квадратного уравнения ax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bx+c=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-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±)/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Решение простейших уравне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=±arccosa+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sin x = a, x=(-1)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arcsin a +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g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=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rctg a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п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20" descr=""/>
          <p:cNvPicPr/>
          <p:nvPr/>
        </p:nvPicPr>
        <p:blipFill>
          <a:blip r:embed="rId1"/>
          <a:stretch/>
        </p:blipFill>
        <p:spPr>
          <a:xfrm>
            <a:off x="0" y="3962520"/>
            <a:ext cx="152388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177840"/>
          <a:ext cx="8712360" cy="6129360"/>
        </p:xfrm>
        <a:graphic>
          <a:graphicData uri="http://schemas.openxmlformats.org/drawingml/2006/table">
            <a:tbl>
              <a:tblPr/>
              <a:tblGrid>
                <a:gridCol w="1497240"/>
                <a:gridCol w="1382760"/>
                <a:gridCol w="2808000"/>
                <a:gridCol w="3024360"/>
              </a:tblGrid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ни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тод замены перемен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лгоритм реш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онкретные шаги реш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зовые зн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Сos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sin x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buClr>
                          <a:srgbClr val="ffcc00"/>
                        </a:buClr>
                        <a:buSzPct val="70000"/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ивести к одной функц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Привести подобн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лагаемы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Ввести новую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еременную и решить квадратное уравне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2286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Решить простейшее уравнен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fcc00"/>
                        </a:buClr>
                        <a:buSzPct val="70000"/>
                        <a:buFont typeface="Garamon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+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buClr>
                          <a:srgbClr val="ffcc00"/>
                        </a:buClr>
                        <a:buSzPct val="70000"/>
                        <a:buFont typeface="Garamon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buClr>
                          <a:srgbClr val="ffcc00"/>
                        </a:buClr>
                        <a:buSzPct val="70000"/>
                        <a:buFont typeface="Garamon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,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x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buClr>
                          <a:srgbClr val="ffcc00"/>
                        </a:buClr>
                        <a:buSzPct val="70000"/>
                        <a:buFont typeface="Garamond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усть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n x = z,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z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z-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=0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ю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=0  z=0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sin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 = ½  ,    отсю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=(-1) 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/6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+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Основное тригонометрическое тожд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 +cos 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 =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При приведении подобных слагаемых складываем коэффициенты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Решение квадратного уравнения ax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bx+c=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-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±)/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Решение простейших уравне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=±arccosa+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sin x = a, x=(-1)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arcsin a +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g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=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 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rctg a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п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22" descr=""/>
          <p:cNvPicPr/>
          <p:nvPr/>
        </p:nvPicPr>
        <p:blipFill>
          <a:blip r:embed="rId1"/>
          <a:stretch/>
        </p:blipFill>
        <p:spPr>
          <a:xfrm>
            <a:off x="0" y="3962520"/>
            <a:ext cx="14479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052280"/>
            <a:ext cx="868680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бобщили знания и отработали навыки решения тригонометрических уравнений различными способам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азвили чувство самостоятельности и ответственности за качество своих зна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азвили  навыки самоконтроля, умений анализировать, составлять план или алгоритм решения уравн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лучили интересную дополнительную информацию о дополнительных источниках информации с целью усовершенствования зна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165600"/>
            <a:ext cx="91440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-49356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2586240" y="306360"/>
            <a:ext cx="49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ШИ ДОСТИЖЕНИЯ НА УРОК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2-04-28T13:05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