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5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93B1-39F6-426C-85F7-1013B7C570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DDF-3416-41CA-806F-F39A215F0F5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2CE-CD95-4F91-9EBA-C4B32B06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DBC-BD9B-4F06-8416-68FF4E51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F85-96DF-42EC-AA4A-D418305A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D66-224E-4FEC-992B-A044C90D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B95-1C89-4DBC-A73A-6B3C3FB3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5787-4AD4-4F98-B939-5CDF42ED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497E-4176-4687-87FB-D9BF7DD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ACF1-B210-4A9C-8451-A3741490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E2B2-EAD3-44C8-A144-619879EE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639B-B42C-490B-B6FD-E80CAA1A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4CA7-D051-4430-94B5-2A6F496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B61-84A4-4DF4-AF83-8047EBD3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7273-705E-4A7F-A2BA-7A8E4C0F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1409-833B-43A9-A0A0-CE134AA6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87D2-9DC8-4EBA-8A5D-973A0E51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EDAD-2EFC-4814-BE9E-4A898BD6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5EA7-C38B-4CAC-BA00-CE3A7ACF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397-769B-462C-B330-357F0CD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23B-E44E-4F67-AADA-AC3C0E58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5EE-5AE4-4759-9B1A-4B9CC362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A38-12FC-4758-A52A-1BF44621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137-7685-4601-9D67-F9DE40D7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B89-D79C-4646-9AEF-464EA08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5610-38E1-43C2-888E-8BB223B6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5493-C458-475B-A700-49559AAD941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AD7A-927B-4AAD-A9B4-B072ADE0BD8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Acer\Downloads\25.jpg"/>
          <p:cNvPicPr/>
          <p:nvPr/>
        </p:nvPicPr>
        <p:blipFill>
          <a:blip r:embed="rId1"/>
          <a:stretch/>
        </p:blipFill>
        <p:spPr>
          <a:xfrm>
            <a:off x="-79200" y="-79200"/>
            <a:ext cx="9448560" cy="716256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-73080" y="-152280"/>
            <a:ext cx="9436320" cy="192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9280" y="1557000"/>
            <a:ext cx="4176720" cy="187164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68640" indent="-36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решения любой управленческой задачи требуется определенный объем информаци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уществует определенная зависимость между качеством выполненной задачи и потребленным объемом информации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C:\Users\Acer\Downloads\kg13316.gif"/>
          <p:cNvPicPr/>
          <p:nvPr/>
        </p:nvPicPr>
        <p:blipFill>
          <a:blip r:embed="rId2"/>
          <a:stretch/>
        </p:blipFill>
        <p:spPr>
          <a:xfrm>
            <a:off x="1258920" y="3429000"/>
            <a:ext cx="248436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>
            <a:off x="3780000" y="3357720"/>
            <a:ext cx="5113080" cy="2950920"/>
          </a:xfrm>
          <a:prstGeom prst="rect">
            <a:avLst/>
          </a:prstGeom>
          <a:solidFill>
            <a:srgbClr val="a9432b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большом объеме информации имеется широкий выбор решений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о же время большой объем информации не всегда гарантирует эффективное решение задачи: это верно до определенной критической точки. Далее резко возрастают затраты времени на анализ информации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ффективным решение будет тогда, когда оно принято в минимально необходимое время при определенном объеме информац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276720" y="1600200"/>
            <a:ext cx="5688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Знание механизма данного закона позволяет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ционально организовывать информационный поток, документооборот при построении информационных систем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босновывать структуры информационного поля в автоматизированных системах управления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ланировать мероприятия по повышению живучести, надежности и помехозащищенности средств и систем связи, сбора, обработки, передачи и отображения информаци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C:\Users\Acer\Downloads\Закон нелеп, но это закон.jpg"/>
          <p:cNvPicPr/>
          <p:nvPr/>
        </p:nvPicPr>
        <p:blipFill>
          <a:blip r:embed="rId2"/>
          <a:stretch/>
        </p:blipFill>
        <p:spPr>
          <a:xfrm>
            <a:off x="179280" y="2349360"/>
            <a:ext cx="3203640" cy="29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Acer\Downloads\mon_08.JPG"/>
          <p:cNvPicPr/>
          <p:nvPr/>
        </p:nvPicPr>
        <p:blipFill>
          <a:blip r:embed="rId1"/>
          <a:stretch/>
        </p:blipFill>
        <p:spPr>
          <a:xfrm>
            <a:off x="2340000" y="3716280"/>
            <a:ext cx="4103640" cy="2737080"/>
          </a:xfrm>
          <a:prstGeom prst="rect">
            <a:avLst/>
          </a:prstGeom>
          <a:ln w="0">
            <a:noFill/>
          </a:ln>
        </p:spPr>
      </p:pic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91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закон отражает одно из важных требований к управлению – ег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ератив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98240" cy="192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Users\Acer\Downloads\index_main_image.jpg"/>
          <p:cNvPicPr/>
          <p:nvPr/>
        </p:nvPicPr>
        <p:blipFill>
          <a:blip r:embed="rId2"/>
          <a:stretch/>
        </p:blipFill>
        <p:spPr>
          <a:xfrm>
            <a:off x="6084720" y="2852640"/>
            <a:ext cx="2411640" cy="1800360"/>
          </a:xfrm>
          <a:prstGeom prst="rect">
            <a:avLst/>
          </a:prstGeom>
          <a:ln w="0">
            <a:noFill/>
          </a:ln>
        </p:spPr>
      </p:pic>
      <p:sp>
        <p:nvSpPr>
          <p:cNvPr id="132" name="Содержимое 2"/>
          <p:cNvSpPr/>
          <p:nvPr/>
        </p:nvSpPr>
        <p:spPr>
          <a:xfrm>
            <a:off x="179280" y="1700280"/>
            <a:ext cx="5977080" cy="295272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Предполагается, что данная совместимость должна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Обеспечивать стыковку технических средств в едином контуре управления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по пропускной способности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формам входных и выходных сигналов и параметров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энергопотреблению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транспортной базе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другим характеристикам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- Исключать взаимные помехи при одновременной работе различных средств, используемых в системе управления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3132000" y="4653000"/>
            <a:ext cx="5400720" cy="1944720"/>
          </a:xfrm>
          <a:prstGeom prst="rect">
            <a:avLst/>
          </a:prstGeom>
          <a:solidFill>
            <a:srgbClr val="a9432b"/>
          </a:solidFill>
          <a:ln w="936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обую роль при этом играют автоматизированные системы управления, в которых выделяют совместимость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техническую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информационную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ограммну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556000" y="1600200"/>
            <a:ext cx="4464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Acer\Downloads\374.jpg"/>
          <p:cNvPicPr/>
          <p:nvPr/>
        </p:nvPicPr>
        <p:blipFill>
          <a:blip r:embed="rId1"/>
          <a:stretch/>
        </p:blipFill>
        <p:spPr>
          <a:xfrm>
            <a:off x="5003640" y="1844640"/>
            <a:ext cx="387540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-360" y="1628280"/>
            <a:ext cx="4799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Закон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- это не зависящая ни от чьей воли, объективно наличествующая непреложность, заданность, сложившаяся в процессе существования данного явления, его связей и отношений с окружающим миром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личают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общи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пецифически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законы управл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C:\Users\Acer\Downloads\business2.jpg"/>
          <p:cNvPicPr/>
          <p:nvPr/>
        </p:nvPicPr>
        <p:blipFill>
          <a:blip r:embed="rId1"/>
          <a:stretch/>
        </p:blipFill>
        <p:spPr>
          <a:xfrm>
            <a:off x="5796000" y="3933720"/>
            <a:ext cx="304164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и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специализации управлен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интеграции управлен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н экономии време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-360" y="1341000"/>
            <a:ext cx="7596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C:\Users\Acer\Downloads\illustration-127.jpg"/>
          <p:cNvPicPr/>
          <p:nvPr/>
        </p:nvPicPr>
        <p:blipFill>
          <a:blip r:embed="rId2"/>
          <a:stretch/>
        </p:blipFill>
        <p:spPr>
          <a:xfrm>
            <a:off x="5580000" y="1628640"/>
            <a:ext cx="3313080" cy="25923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0" y="1341360"/>
            <a:ext cx="4608360" cy="1582920"/>
          </a:xfrm>
          <a:prstGeom prst="rect">
            <a:avLst/>
          </a:prstGeom>
          <a:solidFill>
            <a:srgbClr val="d16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кон специализации 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означает, что данный вид деятельности  может осуществляться специально подготовленными людь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684360" y="2781360"/>
            <a:ext cx="457200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кон интеграции управле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объединение всех структур, процессов, отделов и всех уровней управления (или объединение всех факторов деятельности предприятия: целей, требований рынка, задач, структур и т.п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132000" y="4272120"/>
            <a:ext cx="3240360" cy="2562840"/>
          </a:xfrm>
          <a:prstGeom prst="rect">
            <a:avLst/>
          </a:prstGeom>
          <a:solidFill>
            <a:srgbClr val="8c7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кон экономии времен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сводится к любой экономии, а отсюда следует повышение эффективности управления, достижения поставленной цели (например “скорость и реакция менеджера на изменение потребностей рынка”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Acer\Downloads\komanda.jpg"/>
          <p:cNvPicPr/>
          <p:nvPr/>
        </p:nvPicPr>
        <p:blipFill>
          <a:blip r:embed="rId1"/>
          <a:stretch/>
        </p:blipFill>
        <p:spPr>
          <a:xfrm>
            <a:off x="324000" y="2133720"/>
            <a:ext cx="2862000" cy="2663640"/>
          </a:xfrm>
          <a:prstGeom prst="rect">
            <a:avLst/>
          </a:prstGeom>
          <a:ln w="0">
            <a:noFill/>
          </a:ln>
        </p:spPr>
      </p:pic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3276360" y="1700280"/>
            <a:ext cx="5616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пецифические законы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правления выражают наиболее существенные связи и отношения различных сторон управления между собой и с элементами внешней сре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 законы затрагивают те стороны управления, для которых характерно взаимовлияние, т.е. когда изменение формы и содержания одной стороны управления вызывает устойчивые и вполне определенные изменения друг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Acer\Downloads\c90468a8bce4.jpg"/>
          <p:cNvPicPr/>
          <p:nvPr/>
        </p:nvPicPr>
        <p:blipFill>
          <a:blip r:embed="rId1"/>
          <a:stretch/>
        </p:blipFill>
        <p:spPr>
          <a:xfrm>
            <a:off x="5867280" y="2276640"/>
            <a:ext cx="2989440" cy="33670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-73080" y="-73080"/>
            <a:ext cx="9436320" cy="156060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2" descr=""/>
          <p:cNvPicPr/>
          <p:nvPr/>
        </p:nvPicPr>
        <p:blipFill>
          <a:blip r:embed="rId3"/>
          <a:stretch/>
        </p:blipFill>
        <p:spPr>
          <a:xfrm>
            <a:off x="317520" y="1547640"/>
            <a:ext cx="548640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712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-181440" y="1600200"/>
            <a:ext cx="5977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закон гласит, что система управления должна обладать организационным и функциональным единств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а должна содержать все необходимые элементы, объективно соответствующие целям и задачам управления. Функциональная целостность означает, что система управления должна реализовывать все функции управления, необходимые для достижения целей сист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я система управления должна быть построена на основе единых принципов, подходов, единых интересов, что не означает унификацию, единообразие звеньев, уровней и подходов в управлен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C:\Users\Acer\Downloads\2075AC51690CD5169A614EAC09A2.jpg"/>
          <p:cNvPicPr/>
          <p:nvPr/>
        </p:nvPicPr>
        <p:blipFill>
          <a:blip r:embed="rId2"/>
          <a:stretch/>
        </p:blipFill>
        <p:spPr>
          <a:xfrm>
            <a:off x="5724360" y="2060640"/>
            <a:ext cx="319428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920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268000" y="4076280"/>
            <a:ext cx="6480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ть его заключается в соответствии сферы управления требованиям характера деятельности. Закон гласит, что любая система управления независимо от степени сложности и места в общей системе управления представляет собой комплекс элементов, между которыми должна поддерживаться пропорциональность и оптимальная соотносите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C:\Users\Acer\Downloads\закон.jpg"/>
          <p:cNvPicPr/>
          <p:nvPr/>
        </p:nvPicPr>
        <p:blipFill>
          <a:blip r:embed="rId2"/>
          <a:stretch/>
        </p:blipFill>
        <p:spPr>
          <a:xfrm>
            <a:off x="5076720" y="1916280"/>
            <a:ext cx="3240360" cy="22334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5"/>
          <p:cNvSpPr/>
          <p:nvPr/>
        </p:nvSpPr>
        <p:spPr>
          <a:xfrm>
            <a:off x="755640" y="1557360"/>
            <a:ext cx="39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ганизация рассматривается как система управления, состоящая из объекта и субъекта управл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ъект управле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это то на что оказывают управляющее воздействие (производственно-хозяйственные процессы), т.е. то чем управляю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436320" cy="199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бъект управлен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оказывает управляющее воздействие на объект управления (орган управления, управленческий аппарат), т.е. то, что управля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3203640" y="350028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относительность системы управления означает, что субъект и объект управления должны соответствовать друг другу по функциональным и структурным возможностям, уровням, направлениям, целям и задачам развития. В частности, она предполагает установления и поддержание между ними оптимальных соотношений, в том числе по численности занятого персонала, технико-экономическому уровню и уровню технической оснащенности производства и другим характеристик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C:\Users\Acer\Downloads\законы.jpg"/>
          <p:cNvPicPr/>
          <p:nvPr/>
        </p:nvPicPr>
        <p:blipFill>
          <a:blip r:embed="rId2"/>
          <a:stretch/>
        </p:blipFill>
        <p:spPr>
          <a:xfrm>
            <a:off x="611280" y="3860640"/>
            <a:ext cx="2448000" cy="20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06:09:06Z</dcterms:created>
  <dc:creator>Чанышева</dc:creator>
  <dc:description/>
  <dc:language>en-US</dc:language>
  <cp:lastModifiedBy>Nadushka</cp:lastModifiedBy>
  <dcterms:modified xsi:type="dcterms:W3CDTF">2012-03-12T14:48:25Z</dcterms:modified>
  <cp:revision>1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490000000000010250600207f5200358026400</vt:lpwstr>
  </property>
</Properties>
</file>