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23.jpeg" ContentType="image/jpeg"/>
  <Override PartName="/ppt/media/image21.png" ContentType="image/png"/>
  <Override PartName="/ppt/media/image19.jpeg" ContentType="image/jpeg"/>
  <Override PartName="/ppt/media/image5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79ED-4A02-4C7C-B90D-55303F819D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CAAD-5649-46AC-A2A3-418A1757B71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7CF9-81EE-41A4-8CE1-41311091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ADB-E3A2-473B-A6BE-E56086B7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7455-FC11-4DB8-A5C5-82472870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E1F-50AE-4056-BE2E-F4694066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E8DB-C29D-4A1C-B629-207523E7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E441-17C4-4348-85A2-F6694498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5D52-8D55-443A-BA1E-BE277522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C3A9-9A42-4FB2-8ED6-08400C04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3348-70F6-4B78-AB47-3FA11F55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D00D-DBAD-4EC9-87FD-C8ED97E0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4776-A315-43FA-9D56-AC9ED48B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B90E-BEF9-41B2-9E38-0EBECA15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5DB1-102F-4373-95F9-8E93A901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89D6-7742-4DA9-90E3-5E196A90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4646-6794-4863-BCE7-4508B801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CF5A-0135-49C7-9065-36B6689B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FF56-E6D4-46E3-90BF-BE644BA9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76F-B36D-4D7D-855D-C0F51BEB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869-E4FD-420E-B15D-898ADDC1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4711-0CC5-4A72-8402-51057A9D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BBC8-2C70-4157-9E33-D95788F8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6DC5-1FE2-49AE-907E-AE80D79B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54C-57EA-40AC-8B71-9B87C1AA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56E9-0ECC-423F-B4D2-2895534D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7DDE-D793-42C6-BFDC-C1140298528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3AE1-CE53-419C-8160-044C289E36F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Acer\Downloads\25.jpg"/>
          <p:cNvPicPr/>
          <p:nvPr/>
        </p:nvPicPr>
        <p:blipFill>
          <a:blip r:embed="rId1"/>
          <a:stretch/>
        </p:blipFill>
        <p:spPr>
          <a:xfrm>
            <a:off x="-79200" y="-79200"/>
            <a:ext cx="9448560" cy="716256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-73080" y="-152280"/>
            <a:ext cx="9436320" cy="192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436320" cy="171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79280" y="1557000"/>
            <a:ext cx="4176720" cy="1871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68640" indent="-36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решения любой управленческой задачи требуется определенный объем информаци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уществует определенная зависимость между качеством выполненной задачи и потребленным объемом информации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C:\Users\Acer\Downloads\kg13316.gif"/>
          <p:cNvPicPr/>
          <p:nvPr/>
        </p:nvPicPr>
        <p:blipFill>
          <a:blip r:embed="rId2"/>
          <a:stretch/>
        </p:blipFill>
        <p:spPr>
          <a:xfrm>
            <a:off x="1258920" y="3429000"/>
            <a:ext cx="2484360" cy="2448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6"/>
          <p:cNvSpPr/>
          <p:nvPr/>
        </p:nvSpPr>
        <p:spPr>
          <a:xfrm>
            <a:off x="3780000" y="3357720"/>
            <a:ext cx="5113080" cy="2950920"/>
          </a:xfrm>
          <a:prstGeom prst="rect">
            <a:avLst/>
          </a:prstGeom>
          <a:solidFill>
            <a:srgbClr val="a9432b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большом объеме информации имеется широкий выбор решений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то же время большой объем информации не всегда гарантирует эффективное решение задачи: это верно до определенной критической точки. Далее резко возрастают затраты времени на анализ информации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ффективным решение будет тогда, когда оно принято в минимально необходимое время при определенном объеме информаци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436320" cy="1712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276720" y="1600200"/>
            <a:ext cx="5688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Знание механизма данного закона позволяет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ационально организовывать информационный поток, документооборот при построении информационных систем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босновывать структуры информационного поля в автоматизированных системах управле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ланировать мероприятия по повышению живучести, надежности и помехозащищенности средств и систем связи, сбора, обработки, передачи и отображения информаци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3" descr="C:\Users\Acer\Downloads\Закон нелеп, но это закон.jpg"/>
          <p:cNvPicPr/>
          <p:nvPr/>
        </p:nvPicPr>
        <p:blipFill>
          <a:blip r:embed="rId2"/>
          <a:stretch/>
        </p:blipFill>
        <p:spPr>
          <a:xfrm>
            <a:off x="179280" y="2349360"/>
            <a:ext cx="3203640" cy="299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C:\Users\Acer\Downloads\mon_08.JPG"/>
          <p:cNvPicPr/>
          <p:nvPr/>
        </p:nvPicPr>
        <p:blipFill>
          <a:blip r:embed="rId1"/>
          <a:stretch/>
        </p:blipFill>
        <p:spPr>
          <a:xfrm>
            <a:off x="2340000" y="3716280"/>
            <a:ext cx="4103640" cy="2737080"/>
          </a:xfrm>
          <a:prstGeom prst="rect">
            <a:avLst/>
          </a:prstGeom>
          <a:ln w="0">
            <a:noFill/>
          </a:ln>
        </p:spPr>
      </p:pic>
      <p:pic>
        <p:nvPicPr>
          <p:cNvPr id="128" name="Заголовок 1" descr=""/>
          <p:cNvPicPr/>
          <p:nvPr/>
        </p:nvPicPr>
        <p:blipFill>
          <a:blip r:embed="rId2"/>
          <a:stretch/>
        </p:blipFill>
        <p:spPr>
          <a:xfrm>
            <a:off x="-73080" y="-73080"/>
            <a:ext cx="9436320" cy="1914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т закон отражает одно из важных требований к управлению – его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еративнос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498240" cy="1920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Users\Acer\Downloads\index_main_image.jpg"/>
          <p:cNvPicPr/>
          <p:nvPr/>
        </p:nvPicPr>
        <p:blipFill>
          <a:blip r:embed="rId2"/>
          <a:stretch/>
        </p:blipFill>
        <p:spPr>
          <a:xfrm>
            <a:off x="6084720" y="2852640"/>
            <a:ext cx="2411640" cy="1800360"/>
          </a:xfrm>
          <a:prstGeom prst="rect">
            <a:avLst/>
          </a:prstGeom>
          <a:ln w="0">
            <a:noFill/>
          </a:ln>
        </p:spPr>
      </p:pic>
      <p:sp>
        <p:nvSpPr>
          <p:cNvPr id="132" name="Содержимое 2"/>
          <p:cNvSpPr/>
          <p:nvPr/>
        </p:nvSpPr>
        <p:spPr>
          <a:xfrm>
            <a:off x="179280" y="1700280"/>
            <a:ext cx="5977080" cy="295272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редполагается, что данная совместимость должна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Обеспечивать стыковку технических средств в едином контуре управления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- по пропускной способности;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- формам входных и выходных сигналов и параметров;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- энергопотреблению;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- транспортной базе;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- другим характеристикам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- Исключать взаимные помехи при одновременной работе различных средств, используемых в системе управления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3132000" y="4653000"/>
            <a:ext cx="5400720" cy="1944720"/>
          </a:xfrm>
          <a:prstGeom prst="rect">
            <a:avLst/>
          </a:prstGeom>
          <a:solidFill>
            <a:srgbClr val="a9432b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обую роль при этом играют автоматизированные системы управления, в которых выделяют совместимость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техническую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информационную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программну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556000" y="1600200"/>
            <a:ext cx="446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асибо за внимание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Users\Acer\Downloads\374.jpg"/>
          <p:cNvPicPr/>
          <p:nvPr/>
        </p:nvPicPr>
        <p:blipFill>
          <a:blip r:embed="rId1"/>
          <a:stretch/>
        </p:blipFill>
        <p:spPr>
          <a:xfrm>
            <a:off x="5003640" y="1844640"/>
            <a:ext cx="3875400" cy="3600360"/>
          </a:xfrm>
          <a:prstGeom prst="rect">
            <a:avLst/>
          </a:prstGeom>
          <a:ln w="0">
            <a:noFill/>
          </a:ln>
        </p:spPr>
      </p:pic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-73080" y="-73080"/>
            <a:ext cx="9436320" cy="1712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-360" y="1628280"/>
            <a:ext cx="4799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Закон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- это не зависящая ни от чьей воли, объективно наличествующая непреложность, заданность, сложившаяся в процессе существования данного явления, его связей и отношений с окружающим миром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личают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общи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пецифически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законы управлени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C:\Users\Acer\Downloads\business2.jpg"/>
          <p:cNvPicPr/>
          <p:nvPr/>
        </p:nvPicPr>
        <p:blipFill>
          <a:blip r:embed="rId1"/>
          <a:stretch/>
        </p:blipFill>
        <p:spPr>
          <a:xfrm>
            <a:off x="5796000" y="3933720"/>
            <a:ext cx="3041640" cy="2133720"/>
          </a:xfrm>
          <a:prstGeom prst="rect">
            <a:avLst/>
          </a:prstGeom>
          <a:ln w="0">
            <a:noFill/>
          </a:ln>
        </p:spPr>
      </p:pic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-73080" y="-73080"/>
            <a:ext cx="9436320" cy="1712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им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н специализации управления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н интеграции управления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н экономии времен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436320" cy="1712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-360" y="1341000"/>
            <a:ext cx="7596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2" descr="C:\Users\Acer\Downloads\illustration-127.jpg"/>
          <p:cNvPicPr/>
          <p:nvPr/>
        </p:nvPicPr>
        <p:blipFill>
          <a:blip r:embed="rId2"/>
          <a:stretch/>
        </p:blipFill>
        <p:spPr>
          <a:xfrm>
            <a:off x="5580000" y="1628640"/>
            <a:ext cx="3313080" cy="25923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5"/>
          <p:cNvSpPr/>
          <p:nvPr/>
        </p:nvSpPr>
        <p:spPr>
          <a:xfrm>
            <a:off x="0" y="1341360"/>
            <a:ext cx="4608360" cy="1582920"/>
          </a:xfrm>
          <a:prstGeom prst="rect">
            <a:avLst/>
          </a:prstGeom>
          <a:solidFill>
            <a:srgbClr val="d16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кон специализации управлен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означает, что данный вид деятельности  может осуществляться специально подготовленными людь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684360" y="2781360"/>
            <a:ext cx="4572000" cy="1739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кон интеграции управлен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объединение всех структур, процессов, отделов и всех уровней управления (или объединение всех факторов деятельности предприятия: целей, требований рынка, задач, структур и т.п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3132000" y="4272120"/>
            <a:ext cx="3240360" cy="2562840"/>
          </a:xfrm>
          <a:prstGeom prst="rect">
            <a:avLst/>
          </a:prstGeom>
          <a:solidFill>
            <a:srgbClr val="8c7b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кон экономии времен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сводится к любой экономии, а отсюда следует повышение эффективности управления, достижения поставленной цели (например “скорость и реакция менеджера на изменение потребностей рынка”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C:\Users\Acer\Downloads\komanda.jpg"/>
          <p:cNvPicPr/>
          <p:nvPr/>
        </p:nvPicPr>
        <p:blipFill>
          <a:blip r:embed="rId1"/>
          <a:stretch/>
        </p:blipFill>
        <p:spPr>
          <a:xfrm>
            <a:off x="324000" y="2133720"/>
            <a:ext cx="2862000" cy="2663640"/>
          </a:xfrm>
          <a:prstGeom prst="rect">
            <a:avLst/>
          </a:prstGeom>
          <a:ln w="0">
            <a:noFill/>
          </a:ln>
        </p:spPr>
      </p:pic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-73080" y="-73080"/>
            <a:ext cx="9436320" cy="1712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276360" y="1700280"/>
            <a:ext cx="5616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пецифические законы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правления выражают наиболее существенные связи и отношения различных сторон управления между собой и с элементами внешней сре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и законы затрагивают те стороны управления, для которых характерно взаимовлияние, т.е. когда изменение формы и содержания одной стороны управления вызывает устойчивые и вполне определенные изменения друг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Acer\Downloads\c90468a8bce4.jpg"/>
          <p:cNvPicPr/>
          <p:nvPr/>
        </p:nvPicPr>
        <p:blipFill>
          <a:blip r:embed="rId1"/>
          <a:stretch/>
        </p:blipFill>
        <p:spPr>
          <a:xfrm>
            <a:off x="5867280" y="2276640"/>
            <a:ext cx="2989440" cy="3367080"/>
          </a:xfrm>
          <a:prstGeom prst="rect">
            <a:avLst/>
          </a:prstGeom>
          <a:ln w="0">
            <a:noFill/>
          </a:ln>
        </p:spPr>
      </p:pic>
      <p:pic>
        <p:nvPicPr>
          <p:cNvPr id="107" name="Заголовок 1" descr=""/>
          <p:cNvPicPr/>
          <p:nvPr/>
        </p:nvPicPr>
        <p:blipFill>
          <a:blip r:embed="rId2"/>
          <a:stretch/>
        </p:blipFill>
        <p:spPr>
          <a:xfrm>
            <a:off x="-73080" y="-73080"/>
            <a:ext cx="9436320" cy="156060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2" descr=""/>
          <p:cNvPicPr/>
          <p:nvPr/>
        </p:nvPicPr>
        <p:blipFill>
          <a:blip r:embed="rId3"/>
          <a:stretch/>
        </p:blipFill>
        <p:spPr>
          <a:xfrm>
            <a:off x="317520" y="1547640"/>
            <a:ext cx="5486400" cy="510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436320" cy="1712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-181440" y="1600200"/>
            <a:ext cx="5977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ый закон гласит, что система управления должна обладать организационным и функциональным единств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а должна содержать все необходимые элементы, объективно соответствующие целям и задачам управления. Функциональная целостность означает, что система управления должна реализовывать все функции управления, необходимые для достижения целей систем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я система управления должна быть построена на основе единых принципов, подходов, единых интересов, что не означает унификацию, единообразие звеньев, уровней и подходов в управлени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2" descr="C:\Users\Acer\Downloads\2075AC51690CD5169A614EAC09A2.jpg"/>
          <p:cNvPicPr/>
          <p:nvPr/>
        </p:nvPicPr>
        <p:blipFill>
          <a:blip r:embed="rId2"/>
          <a:stretch/>
        </p:blipFill>
        <p:spPr>
          <a:xfrm>
            <a:off x="5724360" y="2060640"/>
            <a:ext cx="3194280" cy="34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436320" cy="1920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268000" y="4076280"/>
            <a:ext cx="6480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уть его заключается в соответствии сферы управления требованиям характера деятельности. Закон гласит, что любая система управления независимо от степени сложности и места в общей системе управления представляет собой комплекс элементов, между которыми должна поддерживаться пропорциональность и оптимальная соотноситель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2" descr="C:\Users\Acer\Downloads\закон.jpg"/>
          <p:cNvPicPr/>
          <p:nvPr/>
        </p:nvPicPr>
        <p:blipFill>
          <a:blip r:embed="rId2"/>
          <a:stretch/>
        </p:blipFill>
        <p:spPr>
          <a:xfrm>
            <a:off x="5076720" y="1916280"/>
            <a:ext cx="3240360" cy="22334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"/>
          <p:cNvSpPr/>
          <p:nvPr/>
        </p:nvSpPr>
        <p:spPr>
          <a:xfrm>
            <a:off x="755640" y="1557360"/>
            <a:ext cx="39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ация рассматривается как система управления, состоящая из объекта и субъекта управл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ъект управлен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это то на что оказывают управляющее воздействие (производственно-хозяйственные процессы), т.е. то чем управляю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436320" cy="1994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бъект управлен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оказывает управляющее воздействие на объект управления (орган управления, управленческий аппарат), т.е. то, что управля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3203640" y="3500280"/>
            <a:ext cx="57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относительность системы управления означает, что субъект и объект управления должны соответствовать друг другу по функциональным и структурным возможностям, уровням, направлениям, целям и задачам развития. В частности, она предполагает установления и поддержание между ними оптимальных соотношений, в том числе по численности занятого персонала, технико-экономическому уровню и уровню технической оснащенности производства и другим характеристик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C:\Users\Acer\Downloads\законы.jpg"/>
          <p:cNvPicPr/>
          <p:nvPr/>
        </p:nvPicPr>
        <p:blipFill>
          <a:blip r:embed="rId2"/>
          <a:stretch/>
        </p:blipFill>
        <p:spPr>
          <a:xfrm>
            <a:off x="611280" y="3860640"/>
            <a:ext cx="2448000" cy="20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06:09:06Z</dcterms:created>
  <dc:creator>Чанышева</dc:creator>
  <dc:description/>
  <dc:language>en-US</dc:language>
  <cp:lastModifiedBy>Nadushka</cp:lastModifiedBy>
  <dcterms:modified xsi:type="dcterms:W3CDTF">2012-03-12T14:48:25Z</dcterms:modified>
  <cp:revision>1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490000000000010250600207f5200358026400</vt:lpwstr>
  </property>
</Properties>
</file>