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FB8-1DA7-471A-9B16-3C8836ADA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E428-11FA-4F69-AEEA-679BACFF81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276-6071-4BA4-8725-BC0E4A4E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5EE-6273-4FC6-B7E0-BD58EA0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C6D-C4D5-4B30-B7B6-444845AE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D6F-AC0B-41D3-87F3-E14FDA16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D960-09B5-402F-A014-A09C0746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DB5-8BB9-4926-8389-9A64B18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339C-2779-4E9B-A948-50A21FA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D9B-CB61-48ED-8F10-9057FD69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798A-5E50-45FF-BED0-3D35123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23EB-4B96-4EB0-B013-EE8D735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7AB6-4D59-4FD4-A638-2FE01BA6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BF2-4C90-46B2-8065-A4E9F5EC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F4A-21A2-4843-BD98-9BCD674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E490-C5CB-4D80-A58A-EDF5160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1E19-EF4A-48F3-A957-65C74CC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002-701F-424B-B080-9375F4C0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BAA-A658-4570-9E80-D2A738A5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5F9-4B40-4B4D-98D2-5670062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1A8-5BD7-4B03-900D-DB01A18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FF1-FB73-4686-B54F-2E00CDC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1FF-2ED0-410E-99CD-E8E9E7D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449-C5DC-4860-BA0C-26EFAD5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B32-B451-484A-9168-8F348E1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30D-89DE-4930-9B19-93AFBF0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5FAA-FFB2-4EE6-BCC5-3CFBC1A0661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B81-13D9-4229-9BDB-6ECF57454DA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Acer\Downloads\25.jpg"/>
          <p:cNvPicPr/>
          <p:nvPr/>
        </p:nvPicPr>
        <p:blipFill>
          <a:blip r:embed="rId1"/>
          <a:stretch/>
        </p:blipFill>
        <p:spPr>
          <a:xfrm>
            <a:off x="-79200" y="-7920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-73080" y="-152280"/>
            <a:ext cx="9436320" cy="19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1557000"/>
            <a:ext cx="4176720" cy="1871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68640" indent="-36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решения любой управленческой задачи требуется определенный объем информаци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уществует определенная зависимость между качеством выполненной задачи и потребленным объемом информаци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C:\Users\Acer\Downloads\kg13316.gif"/>
          <p:cNvPicPr/>
          <p:nvPr/>
        </p:nvPicPr>
        <p:blipFill>
          <a:blip r:embed="rId2"/>
          <a:stretch/>
        </p:blipFill>
        <p:spPr>
          <a:xfrm>
            <a:off x="1258920" y="3429000"/>
            <a:ext cx="248436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3780000" y="3357720"/>
            <a:ext cx="5113080" cy="29509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большом объеме информации имеется широкий выбор решений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о же время большой объем информации не всегда гарантирует эффективное решение задачи: это верно до определенной критической точки. Далее резко возрастают затраты времени на анализ информации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ффективным решение будет тогда, когда оно принято в минимально необходимое время при определенном объеме информац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76720" y="1600200"/>
            <a:ext cx="5688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нание механизма данного закона позволяет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ционально организовывать информационный поток, документооборот при построении информационных систем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босновывать структуры информационного поля в автоматизированных системах управл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ланировать мероприятия по повышению живучести, надежности и помехозащищенности средств и систем связи, сбора, обработки, передачи и отображения информ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C:\Users\Acer\Downloads\Закон нелеп, но это закон.jpg"/>
          <p:cNvPicPr/>
          <p:nvPr/>
        </p:nvPicPr>
        <p:blipFill>
          <a:blip r:embed="rId2"/>
          <a:stretch/>
        </p:blipFill>
        <p:spPr>
          <a:xfrm>
            <a:off x="179280" y="2349360"/>
            <a:ext cx="3203640" cy="29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Acer\Downloads\mon_08.JPG"/>
          <p:cNvPicPr/>
          <p:nvPr/>
        </p:nvPicPr>
        <p:blipFill>
          <a:blip r:embed="rId1"/>
          <a:stretch/>
        </p:blipFill>
        <p:spPr>
          <a:xfrm>
            <a:off x="2340000" y="3716280"/>
            <a:ext cx="41036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91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закон отражает одно из важных требований к управлению – е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ер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98240" cy="192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Acer\Downloads\index_main_image.jpg"/>
          <p:cNvPicPr/>
          <p:nvPr/>
        </p:nvPicPr>
        <p:blipFill>
          <a:blip r:embed="rId2"/>
          <a:stretch/>
        </p:blipFill>
        <p:spPr>
          <a:xfrm>
            <a:off x="6084720" y="2852640"/>
            <a:ext cx="2411640" cy="1800360"/>
          </a:xfrm>
          <a:prstGeom prst="rect">
            <a:avLst/>
          </a:prstGeom>
          <a:ln w="0">
            <a:noFill/>
          </a:ln>
        </p:spPr>
      </p:pic>
      <p:sp>
        <p:nvSpPr>
          <p:cNvPr id="132" name="Содержимое 2"/>
          <p:cNvSpPr/>
          <p:nvPr/>
        </p:nvSpPr>
        <p:spPr>
          <a:xfrm>
            <a:off x="179280" y="1700280"/>
            <a:ext cx="5977080" cy="295272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едполагается, что данная совместимость должна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беспечивать стыковку технических средств в едином контуре управления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по пропускной способности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формам входных и выходных сигналов и параметров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энергопотреблению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транспортной базе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другим характеристикам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Исключать взаимные помехи при одновременной работе различных средств, используемых в системе управления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3132000" y="4653000"/>
            <a:ext cx="5400720" cy="19447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обую роль при этом играют автоматизированные системы управления, в которых выделяют совместим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техническ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информационн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граммну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1600200"/>
            <a:ext cx="446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Acer\Downloads\374.jpg"/>
          <p:cNvPicPr/>
          <p:nvPr/>
        </p:nvPicPr>
        <p:blipFill>
          <a:blip r:embed="rId1"/>
          <a:stretch/>
        </p:blipFill>
        <p:spPr>
          <a:xfrm>
            <a:off x="5003640" y="1844640"/>
            <a:ext cx="38754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-360" y="1628280"/>
            <a:ext cx="4799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Зако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- это не зависящая ни от чьей воли, объективно наличествующая непреложность, заданность, сложившаяся в процессе существования данного явления, его связей и отношений с окружающим миро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личают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общ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пециф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законы управл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Users\Acer\Downloads\business2.jpg"/>
          <p:cNvPicPr/>
          <p:nvPr/>
        </p:nvPicPr>
        <p:blipFill>
          <a:blip r:embed="rId1"/>
          <a:stretch/>
        </p:blipFill>
        <p:spPr>
          <a:xfrm>
            <a:off x="5796000" y="3933720"/>
            <a:ext cx="304164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и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экономии време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-360" y="1341000"/>
            <a:ext cx="759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C:\Users\Acer\Downloads\illustration-127.jpg"/>
          <p:cNvPicPr/>
          <p:nvPr/>
        </p:nvPicPr>
        <p:blipFill>
          <a:blip r:embed="rId2"/>
          <a:stretch/>
        </p:blipFill>
        <p:spPr>
          <a:xfrm>
            <a:off x="5580000" y="162864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0" y="1341360"/>
            <a:ext cx="4608360" cy="1582920"/>
          </a:xfrm>
          <a:prstGeom prst="rect">
            <a:avLst/>
          </a:prstGeom>
          <a:solidFill>
            <a:srgbClr val="d16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означает, что данный вид деятельности  может осуществляться специально подготовленными людь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684360" y="2781360"/>
            <a:ext cx="457200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объединение всех структур, процессов, отделов и всех уровней управления (или объединение всех факторов деятельности предприятия: целей, требований рынка, задач, структур и т.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132000" y="4272120"/>
            <a:ext cx="3240360" cy="2562840"/>
          </a:xfrm>
          <a:prstGeom prst="rect">
            <a:avLst/>
          </a:prstGeom>
          <a:solidFill>
            <a:srgbClr val="8c7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экономии времен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сводится к любой экономии, а отсюда следует повышение эффективности управления, достижения поставленной цели (например “скорость и реакция менеджера на изменение потребностей рынка”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Acer\Downloads\komanda.jpg"/>
          <p:cNvPicPr/>
          <p:nvPr/>
        </p:nvPicPr>
        <p:blipFill>
          <a:blip r:embed="rId1"/>
          <a:stretch/>
        </p:blipFill>
        <p:spPr>
          <a:xfrm>
            <a:off x="324000" y="2133720"/>
            <a:ext cx="286200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76360" y="1700280"/>
            <a:ext cx="561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ецифические закон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я выражают наиболее существенные связи и отношения различных сторон управления между собой и с элементами внешн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законы затрагивают те стороны управления, для которых характерно взаимовлияние, т.е. когда изменение формы и содержания одной стороны управления вызывает устойчивые и вполне определенные изменения дру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Acer\Downloads\c90468a8bce4.jpg"/>
          <p:cNvPicPr/>
          <p:nvPr/>
        </p:nvPicPr>
        <p:blipFill>
          <a:blip r:embed="rId1"/>
          <a:stretch/>
        </p:blipFill>
        <p:spPr>
          <a:xfrm>
            <a:off x="5867280" y="2276640"/>
            <a:ext cx="2989440" cy="33670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5606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2" descr=""/>
          <p:cNvPicPr/>
          <p:nvPr/>
        </p:nvPicPr>
        <p:blipFill>
          <a:blip r:embed="rId3"/>
          <a:stretch/>
        </p:blipFill>
        <p:spPr>
          <a:xfrm>
            <a:off x="317520" y="1547640"/>
            <a:ext cx="548640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-181440" y="1600200"/>
            <a:ext cx="5977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закон гласит, что система управления должна обладать организационным и функциональным един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должна содержать все необходимые элементы, объективно соответствующие целям и задачам управления. Функциональная целостность означает, что система управления должна реализовывать все функции управления, необходимые для достижения целей сис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я система управления должна быть построена на основе единых принципов, подходов, единых интересов, что не означает унификацию, единообразие звеньев, уровней и подходов в управле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Acer\Downloads\2075AC51690CD5169A614EAC09A2.jpg"/>
          <p:cNvPicPr/>
          <p:nvPr/>
        </p:nvPicPr>
        <p:blipFill>
          <a:blip r:embed="rId2"/>
          <a:stretch/>
        </p:blipFill>
        <p:spPr>
          <a:xfrm>
            <a:off x="5724360" y="2060640"/>
            <a:ext cx="319428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2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68000" y="4076280"/>
            <a:ext cx="6480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ть его заключается в соответствии сферы управления требованиям характера деятельности. Закон гласит, что любая система управления независимо от степени сложности и места в общей системе управления представляет собой комплекс элементов, между которыми должна поддерживаться пропорциональность и оптимальная соотноси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C:\Users\Acer\Downloads\закон.jpg"/>
          <p:cNvPicPr/>
          <p:nvPr/>
        </p:nvPicPr>
        <p:blipFill>
          <a:blip r:embed="rId2"/>
          <a:stretch/>
        </p:blipFill>
        <p:spPr>
          <a:xfrm>
            <a:off x="5076720" y="1916280"/>
            <a:ext cx="324036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755640" y="155736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рассматривается как система управления, состоящая из объекта и субъекта управл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ъект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то то на что оказывают управляющее воздействие (производственно-хозяйственные процессы), т.е. то чем управля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9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 управл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оказывает управляющее воздействие на объект управления (орган управления, управленческий аппарат), т.е. то, что управля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3203640" y="350028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относительность системы управления означает, что субъект и объект управления должны соответствовать друг другу по функциональным и структурным возможностям, уровням, направлениям, целям и задачам развития. В частности, она предполагает установления и поддержание между ними оптимальных соотношений, в том числе по численности занятого персонала, технико-экономическому уровню и уровню технической оснащенности производства и другим характеристик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Users\Acer\Downloads\законы.jpg"/>
          <p:cNvPicPr/>
          <p:nvPr/>
        </p:nvPicPr>
        <p:blipFill>
          <a:blip r:embed="rId2"/>
          <a:stretch/>
        </p:blipFill>
        <p:spPr>
          <a:xfrm>
            <a:off x="611280" y="3860640"/>
            <a:ext cx="2448000" cy="20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6:09:06Z</dcterms:created>
  <dc:creator>Чанышева</dc:creator>
  <dc:description/>
  <dc:language>en-US</dc:language>
  <cp:lastModifiedBy>Nadushka</cp:lastModifiedBy>
  <dcterms:modified xsi:type="dcterms:W3CDTF">2012-03-12T14:48:25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490000000000010250600207f5200358026400</vt:lpwstr>
  </property>
</Properties>
</file>