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C177-A888-41E1-9F3D-FB55978E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82F5-954F-473F-A6F0-903CF1B2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3CB3-F25F-4529-8AB6-719363AF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91B0-7378-4DD8-A496-1507DFD5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D6A7-17EE-435E-A9E8-B5838D7A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5C6D-C317-40DD-82FC-0823463D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0095-DAC4-4A57-A10F-31E2E8D1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ADEA-8468-4744-838B-DF0CF6D4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0896-20AE-42B8-B628-84E7DEBC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2BE-4D83-4B8D-9B25-DD1B1483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BA2A-88FE-480B-BE36-C2E849DF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020B-04B9-4FD1-A375-2D7CE96B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CD01-EC7F-4044-A993-B532348DA1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58920" y="47592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Великий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русский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князь</a:t>
            </a:r>
            <a:br>
              <a:rPr sz="4800"/>
            </a:b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Александр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Невски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Documents and Settings\Алексей\Рабочий стол\А.Невский\А.Н.2.jpg"/>
          <p:cNvPicPr/>
          <p:nvPr/>
        </p:nvPicPr>
        <p:blipFill>
          <a:blip r:embed="rId1"/>
          <a:stretch/>
        </p:blipFill>
        <p:spPr>
          <a:xfrm>
            <a:off x="539640" y="836640"/>
            <a:ext cx="41036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Святой Александр Невск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Алексей\Рабочий стол\А.Невский\святой князь.jpg"/>
          <p:cNvPicPr/>
          <p:nvPr/>
        </p:nvPicPr>
        <p:blipFill>
          <a:blip r:embed="rId1"/>
          <a:stretch/>
        </p:blipFill>
        <p:spPr>
          <a:xfrm>
            <a:off x="395280" y="1916280"/>
            <a:ext cx="3352680" cy="435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Алексей\Рабочий стол\А.Невский\портрет 2.jpg"/>
          <p:cNvPicPr/>
          <p:nvPr/>
        </p:nvPicPr>
        <p:blipFill>
          <a:blip r:embed="rId2"/>
          <a:stretch/>
        </p:blipFill>
        <p:spPr>
          <a:xfrm>
            <a:off x="5292720" y="1989000"/>
            <a:ext cx="344160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56000" y="274320"/>
            <a:ext cx="43308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амятник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лександру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вскому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анкт-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етербург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Алексей\Рабочий стол\А.Невский\в Питере.jpg"/>
          <p:cNvPicPr/>
          <p:nvPr/>
        </p:nvPicPr>
        <p:blipFill>
          <a:blip r:embed="rId1"/>
          <a:stretch/>
        </p:blipFill>
        <p:spPr>
          <a:xfrm>
            <a:off x="539640" y="765000"/>
            <a:ext cx="360072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3683160" cy="56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Памятник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великому 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князю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в Псков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Алексей\Рабочий стол\А.Невский\в Пскове.gif"/>
          <p:cNvPicPr/>
          <p:nvPr/>
        </p:nvPicPr>
        <p:blipFill>
          <a:blip r:embed="rId1"/>
          <a:stretch/>
        </p:blipFill>
        <p:spPr>
          <a:xfrm>
            <a:off x="4211640" y="260280"/>
            <a:ext cx="471492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59280" y="274320"/>
            <a:ext cx="5627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гда маленькому Александру исполнилось четыре года, его посвятили в воины. Княжича опоясали мечом и посадили на коня. В руки дали лук со стрелами. С этого дня стали его обучать воинскому искусству — умению владеть мечом, стрелять из лука, биться палицей и секиро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Documents and Settings\Алексей\Рабочий стол\А.Невский\юность.jpg"/>
          <p:cNvPicPr/>
          <p:nvPr/>
        </p:nvPicPr>
        <p:blipFill>
          <a:blip r:embed="rId1"/>
          <a:stretch/>
        </p:blipFill>
        <p:spPr>
          <a:xfrm>
            <a:off x="684360" y="1844640"/>
            <a:ext cx="219996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000" y="3499920"/>
            <a:ext cx="8218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Юный князь учился также письменности и счету.  Александр рос серьезным и вдумчивым, он любил чтение  книг и пени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Алексей\Рабочий стол\А.Невский\кадр из фильма.jpg"/>
          <p:cNvPicPr/>
          <p:nvPr/>
        </p:nvPicPr>
        <p:blipFill>
          <a:blip r:embed="rId1"/>
          <a:stretch/>
        </p:blipFill>
        <p:spPr>
          <a:xfrm>
            <a:off x="2340000" y="404640"/>
            <a:ext cx="4405320" cy="30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вская битв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Documents and Settings\Алексей\Рабочий стол\А.Невский\невская битва.jpg"/>
          <p:cNvPicPr/>
          <p:nvPr/>
        </p:nvPicPr>
        <p:blipFill>
          <a:blip r:embed="rId1"/>
          <a:stretch/>
        </p:blipFill>
        <p:spPr>
          <a:xfrm>
            <a:off x="250920" y="3213000"/>
            <a:ext cx="8596080" cy="3194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324000" y="126972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с немного, а враг силен. Но не в силе Бог, а в правде! Не будем бояться врага, ибо с нами Бог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единок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иргер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Documents and Settings\Алексей\Рабочий стол\А.Невский\поединок с Биргером.jpg"/>
          <p:cNvPicPr/>
          <p:nvPr/>
        </p:nvPicPr>
        <p:blipFill>
          <a:blip r:embed="rId1"/>
          <a:stretch/>
        </p:blipFill>
        <p:spPr>
          <a:xfrm>
            <a:off x="468360" y="260280"/>
            <a:ext cx="396864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мецкие рыца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Алексей\Рабочий стол\А.Невский\немецкие рыцари.jpg"/>
          <p:cNvPicPr/>
          <p:nvPr/>
        </p:nvPicPr>
        <p:blipFill>
          <a:blip r:embed="rId1"/>
          <a:stretch/>
        </p:blipFill>
        <p:spPr>
          <a:xfrm>
            <a:off x="468360" y="1916280"/>
            <a:ext cx="828684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Алексей\Рабочий стол\А.Невский\битва 3.jpg"/>
          <p:cNvPicPr/>
          <p:nvPr/>
        </p:nvPicPr>
        <p:blipFill>
          <a:blip r:embed="rId1"/>
          <a:stretch/>
        </p:blipFill>
        <p:spPr>
          <a:xfrm>
            <a:off x="250920" y="333360"/>
            <a:ext cx="4476600" cy="2954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Алексей\Рабочий стол\А.Невский\битва.jpg"/>
          <p:cNvPicPr/>
          <p:nvPr/>
        </p:nvPicPr>
        <p:blipFill>
          <a:blip r:embed="rId2"/>
          <a:stretch/>
        </p:blipFill>
        <p:spPr>
          <a:xfrm>
            <a:off x="4140360" y="3429000"/>
            <a:ext cx="47624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Алексей\Рабочий стол\А.Невский\А.Невский.jpg"/>
          <p:cNvPicPr/>
          <p:nvPr/>
        </p:nvPicPr>
        <p:blipFill>
          <a:blip r:embed="rId1"/>
          <a:stretch/>
        </p:blipFill>
        <p:spPr>
          <a:xfrm>
            <a:off x="468360" y="260280"/>
            <a:ext cx="3166920" cy="619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Алексей\Рабочий стол\А.Невский\князь 2.jpg"/>
          <p:cNvPicPr/>
          <p:nvPr/>
        </p:nvPicPr>
        <p:blipFill>
          <a:blip r:embed="rId2"/>
          <a:stretch/>
        </p:blipFill>
        <p:spPr>
          <a:xfrm>
            <a:off x="5003640" y="260280"/>
            <a:ext cx="395316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Алексей\Рабочий стол\А.Невский\орден.jpg"/>
          <p:cNvPicPr/>
          <p:nvPr/>
        </p:nvPicPr>
        <p:blipFill>
          <a:blip r:embed="rId1"/>
          <a:stretch/>
        </p:blipFill>
        <p:spPr>
          <a:xfrm>
            <a:off x="1116000" y="260280"/>
            <a:ext cx="689616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9:28:28Z</dcterms:created>
  <dc:creator>Алексей</dc:creator>
  <dc:description/>
  <dc:language>en-US</dc:language>
  <cp:lastModifiedBy>Алексей</cp:lastModifiedBy>
  <dcterms:modified xsi:type="dcterms:W3CDTF">2010-08-31T21:10:04Z</dcterms:modified>
  <cp:revision>11</cp:revision>
  <dc:subject/>
  <dc:title>Великий русский князь Александр Невский</dc:title>
</cp:coreProperties>
</file>