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E471-1F02-47D5-9554-15A344E49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BE7D-1E92-46B5-B20D-FC5B7E73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D477-D319-4A8E-9A08-A72D7E49B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6989-AF6B-4CE5-80B5-233679AC4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4B2D-9819-4F4A-92FD-AE367C4A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FF67-B427-405D-9754-8251D606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10B1-7829-4F45-BC03-3C356F19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2EB4-5A7E-4C4A-AF4A-EEAC7D4B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2B84-669C-48B6-8E4E-2967BD09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FB14-2E48-47C7-B0EC-921C0E3F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35E4-6692-4142-94CF-7DC97ED4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0907-31A7-4AB7-93F8-4F1A4DBA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4166-E3FA-4B15-A82C-FA8BFA6682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58920" y="475920"/>
            <a:ext cx="403380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Великий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русский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князь</a:t>
            </a:r>
            <a:br>
              <a:rPr sz="4800"/>
            </a:b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Александр</a:t>
            </a:r>
            <a:br>
              <a:rPr sz="6000"/>
            </a:b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Невски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Documents and Settings\Алексей\Рабочий стол\А.Невский\А.Н.2.jpg"/>
          <p:cNvPicPr/>
          <p:nvPr/>
        </p:nvPicPr>
        <p:blipFill>
          <a:blip r:embed="rId1"/>
          <a:stretch/>
        </p:blipFill>
        <p:spPr>
          <a:xfrm>
            <a:off x="539640" y="836640"/>
            <a:ext cx="41036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Святой Александр Невск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Алексей\Рабочий стол\А.Невский\святой князь.jpg"/>
          <p:cNvPicPr/>
          <p:nvPr/>
        </p:nvPicPr>
        <p:blipFill>
          <a:blip r:embed="rId1"/>
          <a:stretch/>
        </p:blipFill>
        <p:spPr>
          <a:xfrm>
            <a:off x="395280" y="1916280"/>
            <a:ext cx="3352680" cy="4359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Documents and Settings\Алексей\Рабочий стол\А.Невский\портрет 2.jpg"/>
          <p:cNvPicPr/>
          <p:nvPr/>
        </p:nvPicPr>
        <p:blipFill>
          <a:blip r:embed="rId2"/>
          <a:stretch/>
        </p:blipFill>
        <p:spPr>
          <a:xfrm>
            <a:off x="5292720" y="1989000"/>
            <a:ext cx="344160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56000" y="274320"/>
            <a:ext cx="433080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амятник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лександру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евскому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анкт-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етербург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Documents and Settings\Алексей\Рабочий стол\А.Невский\в Питере.jpg"/>
          <p:cNvPicPr/>
          <p:nvPr/>
        </p:nvPicPr>
        <p:blipFill>
          <a:blip r:embed="rId1"/>
          <a:stretch/>
        </p:blipFill>
        <p:spPr>
          <a:xfrm>
            <a:off x="539640" y="765000"/>
            <a:ext cx="360072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549000"/>
            <a:ext cx="3683160" cy="56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Памятник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великому 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князю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в Псков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Documents and Settings\Алексей\Рабочий стол\А.Невский\в Пскове.gif"/>
          <p:cNvPicPr/>
          <p:nvPr/>
        </p:nvPicPr>
        <p:blipFill>
          <a:blip r:embed="rId1"/>
          <a:stretch/>
        </p:blipFill>
        <p:spPr>
          <a:xfrm>
            <a:off x="4211640" y="260280"/>
            <a:ext cx="471492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59280" y="274320"/>
            <a:ext cx="562752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гда маленькому Александру исполнилось четыре года, его посвятили в воины. Княжича опоясали мечом и посадили на коня. В руки дали лук со стрелами. С этого дня стали его обучать воинскому искусству — умению владеть мечом, стрелять из лука, биться палицей и секирой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Documents and Settings\Алексей\Рабочий стол\А.Невский\юность.jpg"/>
          <p:cNvPicPr/>
          <p:nvPr/>
        </p:nvPicPr>
        <p:blipFill>
          <a:blip r:embed="rId1"/>
          <a:stretch/>
        </p:blipFill>
        <p:spPr>
          <a:xfrm>
            <a:off x="684360" y="1844640"/>
            <a:ext cx="219996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68000" y="3499920"/>
            <a:ext cx="8218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Юный князь учился также письменности и счету.  Александр рос серьезным и вдумчивым, он любил чтение  книг и пение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Documents and Settings\Алексей\Рабочий стол\А.Невский\кадр из фильма.jpg"/>
          <p:cNvPicPr/>
          <p:nvPr/>
        </p:nvPicPr>
        <p:blipFill>
          <a:blip r:embed="rId1"/>
          <a:stretch/>
        </p:blipFill>
        <p:spPr>
          <a:xfrm>
            <a:off x="2340000" y="404640"/>
            <a:ext cx="4405320" cy="30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Невская битв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Documents and Settings\Алексей\Рабочий стол\А.Невский\невская битва.jpg"/>
          <p:cNvPicPr/>
          <p:nvPr/>
        </p:nvPicPr>
        <p:blipFill>
          <a:blip r:embed="rId1"/>
          <a:stretch/>
        </p:blipFill>
        <p:spPr>
          <a:xfrm>
            <a:off x="250920" y="3213000"/>
            <a:ext cx="8596080" cy="3194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324000" y="126972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ас немного, а враг силен. Но не в силе Бог, а в правде! Не будем бояться врага, ибо с нами Бог!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76720" y="274320"/>
            <a:ext cx="361008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единок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иргер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Documents and Settings\Алексей\Рабочий стол\А.Невский\поединок с Биргером.jpg"/>
          <p:cNvPicPr/>
          <p:nvPr/>
        </p:nvPicPr>
        <p:blipFill>
          <a:blip r:embed="rId1"/>
          <a:stretch/>
        </p:blipFill>
        <p:spPr>
          <a:xfrm>
            <a:off x="468360" y="260280"/>
            <a:ext cx="3968640" cy="62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емецкие рыцар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Documents and Settings\Алексей\Рабочий стол\А.Невский\немецкие рыцари.jpg"/>
          <p:cNvPicPr/>
          <p:nvPr/>
        </p:nvPicPr>
        <p:blipFill>
          <a:blip r:embed="rId1"/>
          <a:stretch/>
        </p:blipFill>
        <p:spPr>
          <a:xfrm>
            <a:off x="468360" y="1916280"/>
            <a:ext cx="828684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Алексей\Рабочий стол\А.Невский\битва 3.jpg"/>
          <p:cNvPicPr/>
          <p:nvPr/>
        </p:nvPicPr>
        <p:blipFill>
          <a:blip r:embed="rId1"/>
          <a:stretch/>
        </p:blipFill>
        <p:spPr>
          <a:xfrm>
            <a:off x="250920" y="333360"/>
            <a:ext cx="4476600" cy="2954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Documents and Settings\Алексей\Рабочий стол\А.Невский\битва.jpg"/>
          <p:cNvPicPr/>
          <p:nvPr/>
        </p:nvPicPr>
        <p:blipFill>
          <a:blip r:embed="rId2"/>
          <a:stretch/>
        </p:blipFill>
        <p:spPr>
          <a:xfrm>
            <a:off x="4140360" y="3429000"/>
            <a:ext cx="476244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Алексей\Рабочий стол\А.Невский\А.Невский.jpg"/>
          <p:cNvPicPr/>
          <p:nvPr/>
        </p:nvPicPr>
        <p:blipFill>
          <a:blip r:embed="rId1"/>
          <a:stretch/>
        </p:blipFill>
        <p:spPr>
          <a:xfrm>
            <a:off x="468360" y="260280"/>
            <a:ext cx="3166920" cy="619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:\Documents and Settings\Алексей\Рабочий стол\А.Невский\князь 2.jpg"/>
          <p:cNvPicPr/>
          <p:nvPr/>
        </p:nvPicPr>
        <p:blipFill>
          <a:blip r:embed="rId2"/>
          <a:stretch/>
        </p:blipFill>
        <p:spPr>
          <a:xfrm>
            <a:off x="5003640" y="260280"/>
            <a:ext cx="395316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Алексей\Рабочий стол\А.Невский\орден.jpg"/>
          <p:cNvPicPr/>
          <p:nvPr/>
        </p:nvPicPr>
        <p:blipFill>
          <a:blip r:embed="rId1"/>
          <a:stretch/>
        </p:blipFill>
        <p:spPr>
          <a:xfrm>
            <a:off x="1116000" y="260280"/>
            <a:ext cx="6896160" cy="61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9:28:28Z</dcterms:created>
  <dc:creator>Алексей</dc:creator>
  <dc:description/>
  <dc:language>en-US</dc:language>
  <cp:lastModifiedBy>Алексей</cp:lastModifiedBy>
  <dcterms:modified xsi:type="dcterms:W3CDTF">2010-08-31T21:10:04Z</dcterms:modified>
  <cp:revision>11</cp:revision>
  <dc:subject/>
  <dc:title>Великий русский князь Александр Невский</dc:title>
</cp:coreProperties>
</file>