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BE7-3E97-4BAE-AC82-956BC626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CC7-5372-499E-8C92-394C6EC7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F36-AF9E-41F6-8BA1-2BF4642F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177-A77B-40FC-A96D-AE56B84C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4DE-53A6-494B-A5B6-E02429A4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44C-8AD6-4007-B336-A1C07C3F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851-9234-412B-9725-1C27D3F7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26B-8467-4872-87D3-0664A0B1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C68-AFA3-4B7C-B94B-531EC433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710-1023-48BD-8C3F-1C031BB6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9D1-4FED-4E64-A81A-5CFFAD79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FC50-D7EA-47EB-8F94-89A29325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354C-83AF-480E-A612-1A5D8121C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pn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1752480"/>
            <a:ext cx="6638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гей Александрович Есенин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43200" y="3200400"/>
            <a:ext cx="390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изнь и творчество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гический фин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 очередной раз пытается начать семейную жизнь, но его союз с С. А. Толстой (внучкой Л. Н. Толстого) не был счастливым. В конце ноября 1925 измученный скитальчеством и бивуачным бытом поэт попадает в психоневрологическую клини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дним из последних его произведений стала поэма «Черный человек» («Друг мой, друг мой, Я очень и очень болен...»), в которой прошедшая жизнь предстает частью ночного кошм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4912" r="2864" b="3442"/>
          <a:stretch/>
        </p:blipFill>
        <p:spPr>
          <a:xfrm>
            <a:off x="5029200" y="1828800"/>
            <a:ext cx="3657600" cy="3092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029200" y="4952880"/>
            <a:ext cx="380988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рвав курс леч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3 декабря Есенин поехал в Ленинград, где в ночь на 28 декабря в состоянии глубокой душевной депрессии в гостинице «Англетер» покончил с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00600" y="4952880"/>
          <a:ext cx="3049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952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33720" y="762120"/>
            <a:ext cx="6400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говорила роща золотая…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Blackadder ITC"/>
              </a:rPr>
              <a:t>Сергей Есе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rush Script MT"/>
              </a:rPr>
              <a:t>«…Я счастл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rush Script MT"/>
              </a:rPr>
              <a:t>В сонме бу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rush Script MT"/>
              </a:rPr>
              <a:t>Неповторимые я вынес впечатле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rush Script MT"/>
              </a:rPr>
              <a:t>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Brush Script MT"/>
              </a:rPr>
              <a:t>Сергей Есе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976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19360" y="14475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В1916 году вышла первая книга Есенина – «Раду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«Гой ты, Русь моя род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Хаты – в ризах образ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Не видать конца и края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comic"/>
              </a:rPr>
              <a:t>Только синь сосет глаза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6880" y="1600200"/>
            <a:ext cx="375912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Blackadder ITC"/>
              </a:rPr>
              <a:t>Поэт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ff"/>
                </a:solidFill>
                <a:latin typeface="Arial"/>
              </a:rPr>
              <a:t>«Родился я с песнями в травном одеяле,</a:t>
            </a:r>
            <a:br>
              <a:rPr sz="2000"/>
            </a:br>
            <a:r>
              <a:rPr b="1" i="1" lang="en-US" sz="2000" spc="-1" strike="noStrike">
                <a:solidFill>
                  <a:srgbClr val="9900ff"/>
                </a:solidFill>
                <a:latin typeface="Arial"/>
              </a:rPr>
              <a:t>Зори меня вешние в радугу свивали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одители Сергея Есенин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лександр Никитич и Татьяна Фе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м Никиты Осиповича Есенина, деда поэта, в котором родился С.А.Есе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57480" y="2106720"/>
            <a:ext cx="2438280" cy="351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2768" t="0" r="2768" b="2839"/>
          <a:stretch/>
        </p:blipFill>
        <p:spPr>
          <a:xfrm>
            <a:off x="5105520" y="4191120"/>
            <a:ext cx="25905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33240" y="3166920"/>
            <a:ext cx="7877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истопад...Взволнованные листья.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ман поэта и танцовщ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ергей Есенин и Айседора Дункан 192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0" r="6775" b="0"/>
          <a:stretch/>
        </p:blipFill>
        <p:spPr>
          <a:xfrm>
            <a:off x="914400" y="2057400"/>
            <a:ext cx="2819520" cy="1852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67080" y="2230560"/>
            <a:ext cx="4572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бытием в жизни Есенина явилась встреча с американской танцовщицей Айседорой Дункан (осень 1921), которая через полгода стала его женой. Совместное путешествие по Европе (Германия, Бельгия, Франция, Италия) и Америке (май 1922 — август 1923), сопровождавшееся шумными скандалами, эпатирующими выходками Есенина, обнажило их «взаимонепонимание», усугублявшееся и буквальным отсутствием общего языка (Есенин не владел иностранными языками, Айседора выучила несколько десятков русских слов). По возвращении в Россию они расстал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аганэ, ты моя, Шаган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381880" y="6172200"/>
          <a:ext cx="38124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6172200"/>
                    <a:ext cx="3812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«Небо – как колоко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есяц – язы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ать моя – роди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Я – большевик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4441" t="0" r="0" b="0"/>
          <a:stretch/>
        </p:blipFill>
        <p:spPr>
          <a:xfrm>
            <a:off x="5029200" y="3581280"/>
            <a:ext cx="3276720" cy="1941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0" t="0" r="4166" b="0"/>
          <a:stretch/>
        </p:blipFill>
        <p:spPr>
          <a:xfrm>
            <a:off x="685800" y="3581280"/>
            <a:ext cx="3505320" cy="1968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5791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енин выступает на открытии памятника поэту Алексею Кольцову в Москве 19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72200" y="266688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2666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 txBox="1"/>
          <p:nvPr/>
        </p:nvSpPr>
        <p:spPr>
          <a:xfrm>
            <a:off x="1523880" y="609480"/>
            <a:ext cx="6248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Коммуной вздыбленная Ру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</cp:lastModifiedBy>
  <dcterms:modified xsi:type="dcterms:W3CDTF">2005-10-06T08:03:1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