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5C4-EDA6-43B5-8477-51985B4D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311-5068-418D-B7D9-7444FC77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A79-7E8B-4863-AA06-6C22CA8A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AEF-ED96-4CE3-BBDD-5DB169DF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F75-185D-404B-8152-F99EC104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762-5FF1-46DA-8046-F3908CF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0B5-7E81-47E6-B64B-D8186FA5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720-9F73-49CB-ACFE-C0D3887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36E-44C3-4DD7-9FDE-B359EFA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4F5-93BB-42F3-8964-67E9663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713-AD5C-409F-BF77-9DD7DCA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FFB-B8ED-49A0-AE54-71A5ECA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A502-22CA-4832-9782-35E4FBA8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752480"/>
            <a:ext cx="663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ей Александрович Есени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3200400"/>
            <a:ext cx="39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и творчеств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гический фи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очередной раз пытается начать семейную жизнь, но его союз с С. А. Толстой (внучкой Л. Н. Толстого) не был счастливым. В конце ноября 1925 измученный скитальчеством и бивуачным бытом поэт попадает в психоневрологическую клин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дним из последних его произведений стала поэма «Черный человек» («Друг мой, друг мой, Я очень и очень болен...»), в которой прошедшая жизнь предстает частью ночного кошм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4912" r="2864" b="3442"/>
          <a:stretch/>
        </p:blipFill>
        <p:spPr>
          <a:xfrm>
            <a:off x="5029200" y="1828800"/>
            <a:ext cx="3657600" cy="30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29200" y="4952880"/>
            <a:ext cx="38098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рвав курс ле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3 декабря Есенин поехал в Ленинград, где в ночь на 28 декабря в состоянии глубокой душевной депрессии в гостинице «Англетер» покончил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00600" y="49528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952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3720" y="7621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оворила роща золотая…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lackadder ITC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«…Я счаст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В сонме бу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Неповторимые я вынес впечатл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Сергей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976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В1916 году вышла первая книга Есенина – «Раду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«Гой ты, Русь моя род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Хаты – в ризах образ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Не видать конца и кра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Только синь сосет глаз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6880" y="1600200"/>
            <a:ext cx="37591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Blackadder ITC"/>
              </a:rPr>
              <a:t>Поэт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«Родился я с песнями в травном одеяле,</a:t>
            </a:r>
            <a:br>
              <a:rPr sz="2000"/>
            </a:b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Зори меня вешние в радугу свивал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тели Сергея Есени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ександр Никитич и Татьян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м Никиты Осиповича Есенина, деда поэта, в котором родился С.А.Ес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7480" y="2106720"/>
            <a:ext cx="2438280" cy="351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2768" t="0" r="2768" b="2839"/>
          <a:stretch/>
        </p:blipFill>
        <p:spPr>
          <a:xfrm>
            <a:off x="5105520" y="4191120"/>
            <a:ext cx="25905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33240" y="3166920"/>
            <a:ext cx="787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стопад...Взволнованные листья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 поэта и танцовщ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ргей Есенин и Айседора Дункан 192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6775" b="0"/>
          <a:stretch/>
        </p:blipFill>
        <p:spPr>
          <a:xfrm>
            <a:off x="914400" y="2057400"/>
            <a:ext cx="2819520" cy="18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223056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ытием в жизни Есенина явилась встреча с американской танцовщицей Айседорой Дункан (осень 1921), которая через полгода стала его женой. Совместное путешествие по Европе (Германия, Бельгия, Франция, Италия) и Америке (май 1922 — август 1923), сопровождавшееся шумными скандалами, эпатирующими выходками Есенина, обнажило их «взаимонепонимание», усугублявшееся и буквальным отсутствием общего языка (Есенин не владел иностранными языками, Айседора выучила несколько десятков русских слов). По возвращении в Россию они расст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анэ, ты моя, Шаган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1880" y="6172200"/>
          <a:ext cx="38124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1722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Небо – как колоко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есяц – яз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ь моя – род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Я – большеви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4441" t="0" r="0" b="0"/>
          <a:stretch/>
        </p:blipFill>
        <p:spPr>
          <a:xfrm>
            <a:off x="5029200" y="3581280"/>
            <a:ext cx="3276720" cy="194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0" r="4166" b="0"/>
          <a:stretch/>
        </p:blipFill>
        <p:spPr>
          <a:xfrm>
            <a:off x="685800" y="3581280"/>
            <a:ext cx="3505320" cy="196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енин выступает на открытии памятника поэту Алексею Кольцову в Москве 19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72200" y="266688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2666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1523880" y="609480"/>
            <a:ext cx="624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оммуной вздыбленная 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</cp:lastModifiedBy>
  <dcterms:modified xsi:type="dcterms:W3CDTF">2005-10-06T08:03:1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