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C70-046D-4043-A3F5-7ABE7036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8821-3478-46F1-AA1A-22D2D9B9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FBB-E958-4CFD-99F2-2AAEBB33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66F8-B3D7-4AC9-9E84-67172024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F126-64A3-43B7-AA38-17AD03D3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8789-229B-4D20-BA77-067B7A76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A1CA-EE67-43A8-A99B-1877B23B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6A73-3D48-443A-A258-465AC9AA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8C08-21FA-4126-9D60-765343BD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4F56-F7EF-4A40-B6FC-56B81D56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E7AB-99AD-4834-8A86-612D7C0A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173-A516-4FB5-BC3F-63BCA514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935B-56AD-4CA5-9D43-F4D70850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9775-9273-4432-B12E-79034B22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EB4F-E6E0-44B5-BFFB-7834BF23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CD71-C1DF-486C-898D-EF1B2EEF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AD81-8251-4962-9859-FCBE10D1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9AC-CD3F-4068-A671-E1D9DA43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186D-E6D1-45DA-80CD-FCBC90E9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2DD-71D8-4FD9-B115-86A68420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27B-CA84-4A30-A590-8809176D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8EA-313C-4F15-BF4A-BBE83032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26B-C81F-49DE-94B6-A7242CEC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FCC-1674-408C-88FC-17929CAD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DB51-B45A-40B9-B9DB-CE2D9444F4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8E9F-8EC4-4BC1-913E-7178F712FC6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еоретические основы социализации личности школьника в процессе социального воспита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2132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рая школа – это хорош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ная школа – это великолепн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ребенок должен быть ещ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подготовлен к жиз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. Дью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 СОЦИАЛИЗАЦИИ ЛИЧНОСТ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крофакторы: семья, микросоциу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ституты воспитания, в том числе школа,  религиозные организ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зофакторы: тип, этнос, поселения, региональные условия, С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рофакторы: культура, страна, государство, обще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новные механизмы социализ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формационно-образова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имуляцион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ятивно-контролирующ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онно-регулирующ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дии самосоциализации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бегание наказ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рабатывание поощ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емление заслужить социальное поощ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ознание правил нравственного п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личных оцен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аботка нравственных принцип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ханизмы саморегуля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трах - защищеннос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инстинктивно-биологическая природа, корректирует деятельность индивида в отношении внешн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тыд - чес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механизм, который проявляется только в «своей»  среде и «своем» окруж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овес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 проявляется как субъективное переживание  своих действий, поступков, помыс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AM</cp:lastModifiedBy>
  <dcterms:modified xsi:type="dcterms:W3CDTF">2010-03-30T18:08:35Z</dcterms:modified>
  <cp:revision>2</cp:revision>
  <dc:subject/>
  <dc:title>PowerPoint Presentation</dc:title>
</cp:coreProperties>
</file>