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39B-FF34-4B41-88EF-9FA187F0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2B3-2FA0-4FEB-8F5F-CCC58980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5F4-9692-4BFA-A762-A883E0F6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CF1-44CF-4876-936E-6A126417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ACD2-F410-433A-B106-F8C33DF3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1881-2546-4F94-B5A0-9EE9786A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4DB6-0491-4B8D-9309-95EBDE1A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C4D5-B201-41D8-8652-2927714D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65C2-5C3B-47BB-B20A-D33C98FE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ED7C-5C88-4751-B8E0-33FA9805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5055-77E7-4AFF-860B-BA382628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188-188B-422C-914D-0720FB49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B22E-67C8-429A-8C96-B596B3CE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25F0-AE84-4E50-B9B2-A784116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2DB0-7ECB-40D4-BC6A-069A38AD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BBB7-AE9F-4776-AB36-EB13341E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3A22-04D9-4B2B-8A81-A95A43C8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05D-EF19-41AD-B7CF-D0E78F59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B13-5DC0-4543-AFE7-EF878350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D75-1417-4DD3-822E-7893B98A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E04-C686-490E-8AF6-DFC1626B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F88-B21B-49B6-8240-D669D896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6FC-B5E7-4C98-8197-098187A2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4D9-C64F-48FE-8A15-84AECA24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1202-5EE2-47CB-B62D-3F42AC31E0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2F18-D779-4FB8-850A-C13D705792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еоретические основы социализации личности школьника в процессе социального воспита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21328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рая школа – это хорош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ная школа – это великолепн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ребенок должен быть ещ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подготовлен к жиз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 Дью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 СОЦИАЛИЗАЦИИ ЛИЧНОСТ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крофакторы: семья, микросоциу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титуты воспитания, в том числе школа,  религиозные организ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зофакторы: тип, этнос, поселения, региональные условия, С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рофакторы: культура, страна, государство, обще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ые механизмы социализа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формационно-образова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имуляцион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гулятивно-контролирующ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ационно-регулирующ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дии самосоциализации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бегание на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рабатывание поощ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емление заслужить социальное поощ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ознание правил нравственного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ирование личных оцен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аботка нравственных принцип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ханизмы саморегуля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трах - защищеннос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инстинктивно-биологическая природа, корректирует деятельность индивида в отношении внешн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тыд - чес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механизм, который проявляется только в «своей»  среде и «своем» окруж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овесть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 проявляется как субъективное переживание  своих действий, поступков, помысл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AM</cp:lastModifiedBy>
  <dcterms:modified xsi:type="dcterms:W3CDTF">2010-03-30T18:08:35Z</dcterms:modified>
  <cp:revision>2</cp:revision>
  <dc:subject/>
  <dc:title>PowerPoint Presentation</dc:title>
</cp:coreProperties>
</file>