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5B1-CF3F-4A52-87A8-2D2AC258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07F-A9AB-47C7-8792-69C678A6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837-C324-45AA-BC11-855ACD03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8A4-4C33-439D-B38E-41F0C68F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2004-21C6-4741-9687-7C5DE335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2E46-34C3-4CCB-BA64-E7819891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C606-A0AE-4286-A87C-98AF9B69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20CC-1B97-43B4-BD0A-DEE33BAC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9069-3799-40FD-B1E0-66640D0D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07CF-B88E-4FF6-8513-D8BDA684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EB3D-6E38-4C60-AED1-76F500BE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091-E560-4146-81C5-DE59E65A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EC9E-C087-4A28-8341-296BE26E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2745-5AD9-47E2-B70B-80802273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7008-1210-4F23-ABA8-DEF37D2C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91D7-407F-4235-855F-AFA1CA0D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B24C-2D79-4B2B-8FEA-3BF7953E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D6F-D8AE-44D6-9A3C-2F4003DA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7A5-5625-4C8E-820C-7D5E2E3B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567-F800-471F-9FCE-749C1A3D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0EB-D05E-4DF6-AB56-6C771940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367-A136-4A66-91DE-ACE9F93A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D09-0166-43AB-A5F5-D427918F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EFA-0F52-4181-A462-9B0CA55F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DDC7-633E-4278-AE5E-DC911AA555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0B6F-6A6A-4785-AD10-CA598CAC3DC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еоретические основы социализации личности школьника в процессе социального воспита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2132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рая школа – это хорош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ная школа – это великолепн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ребенок должен быть ещ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подготовлен к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 Дью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 СОЦИАЛИЗАЦИИ ЛИЧНОСТ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крофакторы: семья, микросоциу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титуты воспитания, в том числе школа,  религиозные организ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зофакторы: тип, этнос, поселения, региональные условия, С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рофакторы: культура, страна, государство, обще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ые механизмы социализ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формационно-образова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имуляцион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ятивно-контролирующ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онно-регулирующ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дии самосоциализации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егание на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рабатывание поощ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емление заслужить социальное поощ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знание правил нравственного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личных оцен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ботка нравственных принцип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ханизмы саморегуля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трах - защищеннос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инстинктивно-биологическая природа, корректирует деятельность индивида в отношении внешн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тыд - чес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механизм, который проявляется только в «своей»  среде и «своем» окруж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вес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 проявляется как субъективное переживание  своих действий, поступков, помыс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AM</cp:lastModifiedBy>
  <dcterms:modified xsi:type="dcterms:W3CDTF">2010-03-30T18:08:35Z</dcterms:modified>
  <cp:revision>2</cp:revision>
  <dc:subject/>
  <dc:title>PowerPoint Presentation</dc:title>
</cp:coreProperties>
</file>