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AFC-FAA0-4EFF-B5BD-3DE45C45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D57-537B-4039-9A46-CDFB6E00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347-DC4D-4B71-ADA9-AB7B2C82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8DF-974D-4FDB-9F9A-9A4BCA8B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FE6-242A-4BB9-ABAD-46313F06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73F-C308-4500-B0CE-1AD9AD47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C69-4D0C-4294-BCCE-B0342FBB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EF0-2E88-4349-B991-D51834BC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AE1-2E86-44C6-A1DC-D4136837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F2E-0E1F-480E-8202-25B5559F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BF4-44AC-4692-B279-8E814EB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470-5080-4878-9894-8A119F78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D1DC-DE76-4656-A313-99F2A667D4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huv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s.park.ru/servlets/GetDocBody?guid=f8099a38-77b9-428d-bddf-7f4f8e9313ed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today.ru/uploads/2010/09/01/ss-100830-AT-01_ss_full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mamysik.ru/mambots/content/multithumb/images/b.600.600.4095.1..stories.pitanie_i_kormlenie.korm-grud.jpg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uages.35photo.ru/photos/20100415/141785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-fotki.yandex.ru/get/3300/davlarissa.1d/0_20e72_ac083e78_XL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-2008-01.photosight.ru/22/2514920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pspinfo.ru/uploads/gallery/comthumb/87/zastavki_com_3798_10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теми: «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С\т-турă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32 из 624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7701120" cy="44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6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день корова дает 160 стаканов мол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09 году ветеринары доказали, что корова, имеющая какую бы ни было кличку, дает больше молока, чем безымя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аково было наше удивление, когда мы узнали, что в одном стакане молока содержится столько необходимого нам кальция, сколько ег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сардинах или в 3-х стаканах арахиса, или  в 4-х стаканах черной фа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s0153255"/>
          <p:cNvPicPr/>
          <p:nvPr/>
        </p:nvPicPr>
        <p:blipFill>
          <a:blip r:embed="rId1"/>
          <a:stretch/>
        </p:blipFill>
        <p:spPr>
          <a:xfrm>
            <a:off x="4572000" y="765000"/>
            <a:ext cx="4113360" cy="5483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ткуда пришло слово «молоко»?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локо» - это слово имеет индоевропейскую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итовском нахо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k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молок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мецком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молок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английс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моло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о, что первичное значение этого слова – «жидк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атышс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питье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ельтском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ô- молоко буквально- «то, что выдаивается из выме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ниги"/>
          <p:cNvPicPr/>
          <p:nvPr/>
        </p:nvPicPr>
        <p:blipFill>
          <a:blip r:embed="rId1"/>
          <a:stretch/>
        </p:blipFill>
        <p:spPr>
          <a:xfrm>
            <a:off x="5148360" y="1341360"/>
            <a:ext cx="3066840" cy="4978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ое упоминание о молок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ется, что самое раннее упоминание о молоке находится в Библии. В ней есть много ссылок на молоко. Авель, сын Адама, пас овец и, вероятно, пил молоко. В Библии в предсказании Иакова, которое относится к 1700 году до н.э., написано, что зубы Иуды станут белыми от молока. Земля Ханаанская была «землей молока и меда». В 1500 году до н.э. Иов часто ссылался на сы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этих примерах мы видим, что молоко было известно задолго до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5"/>
          <p:cNvPicPr/>
          <p:nvPr/>
        </p:nvPicPr>
        <p:blipFill>
          <a:blip r:embed="rId1"/>
          <a:stretch/>
        </p:blipFill>
        <p:spPr>
          <a:xfrm>
            <a:off x="5076720" y="1484280"/>
            <a:ext cx="3544920" cy="46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фы о мол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68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ие римляне считали, ч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пи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ыл вскормлен молоком божественной козы Амалфеи и потому в качестве жертвы подносили грозному Богу именно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d0bad0bed0b7d0b0-d0b0d0bcd0b0d0bbd184d0b5d18f"/>
          <p:cNvPicPr/>
          <p:nvPr/>
        </p:nvPicPr>
        <p:blipFill>
          <a:blip r:embed="rId1"/>
          <a:stretch/>
        </p:blipFill>
        <p:spPr>
          <a:xfrm>
            <a:off x="4788000" y="1773360"/>
            <a:ext cx="4140000" cy="2958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вянская леге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762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людей спасла Мо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-то вымя у коров было на всё брюхо и молока было «как вод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возгорд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 купать в Молоке детей да и сами умывались 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 отнял у коровы вымя, но кошка упросила его оставить корове только четыре с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1230968822_tarasova"/>
          <p:cNvPicPr/>
          <p:nvPr/>
        </p:nvPicPr>
        <p:blipFill>
          <a:blip r:embed="rId2"/>
          <a:stretch/>
        </p:blipFill>
        <p:spPr>
          <a:xfrm>
            <a:off x="5651640" y="4005360"/>
            <a:ext cx="2906640" cy="2690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одные при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озу молоко киснет быстр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igtning"/>
          <p:cNvPicPr/>
          <p:nvPr/>
        </p:nvPicPr>
        <p:blipFill>
          <a:blip r:embed="rId1"/>
          <a:stretch/>
        </p:blipFill>
        <p:spPr>
          <a:xfrm>
            <a:off x="324000" y="2565360"/>
            <a:ext cx="4376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ered_-1_51"/>
          <p:cNvPicPr/>
          <p:nvPr/>
        </p:nvPicPr>
        <p:blipFill>
          <a:blip r:embed="rId2"/>
          <a:stretch/>
        </p:blipFill>
        <p:spPr>
          <a:xfrm>
            <a:off x="4716360" y="2511360"/>
            <a:ext cx="4103640" cy="3775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вы поднимают головы к небу, бьются рогами, подпрыгивают – к дожд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ые или темные коровы возглавляют стадо. Возвращающееся с пастбища – к не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ко про доении сильно пенится – к ненастной 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корова"/>
          <p:cNvPicPr/>
          <p:nvPr/>
        </p:nvPicPr>
        <p:blipFill>
          <a:blip r:embed="rId1"/>
          <a:stretch/>
        </p:blipFill>
        <p:spPr>
          <a:xfrm>
            <a:off x="250920" y="2060640"/>
            <a:ext cx="4103640" cy="3090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Ё\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н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\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ăм</a:t>
            </a:r>
            <a:r>
              <a:rPr b="0" lang="ru-RU" sz="4400" spc="-1" strike="noStrike">
                <a:solidFill>
                  <a:srgbClr val="000000"/>
                </a:solidFill>
                <a:latin typeface="Pragmatica Chv"/>
              </a:rPr>
              <a:t>ахсемп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Pragmatica Chv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\ё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лесси</a:t>
            </a:r>
            <a:r>
              <a:rPr b="0" lang="ru-RU" sz="4400" spc="-1" strike="noStrike">
                <a:solidFill>
                  <a:srgbClr val="000000"/>
                </a:solidFill>
                <a:latin typeface="Pragmatica Chv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ăнтăрти халăхсем – народы 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ăркăссем – кирг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ăмăс – ку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плě  - поле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ăмă чирě – костное забол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ÿпке –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йран – пах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йран уçла – сбивать ма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Изображение 392"/>
          <p:cNvPicPr/>
          <p:nvPr/>
        </p:nvPicPr>
        <p:blipFill>
          <a:blip r:embed="rId1"/>
          <a:stretch/>
        </p:blipFill>
        <p:spPr>
          <a:xfrm>
            <a:off x="8810640" y="0"/>
            <a:ext cx="33336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Изображение 392"/>
          <p:cNvPicPr/>
          <p:nvPr/>
        </p:nvPicPr>
        <p:blipFill>
          <a:blip r:embed="rId2"/>
          <a:stretch/>
        </p:blipFill>
        <p:spPr>
          <a:xfrm>
            <a:off x="0" y="0"/>
            <a:ext cx="3222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Картинка 90 из 2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537080" cy="299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Картинка 144 из 25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42900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Картинка 177 из 2528"/>
          <p:cNvPicPr/>
          <p:nvPr/>
        </p:nvPicPr>
        <p:blipFill>
          <a:blip r:embed="rId5"/>
          <a:stretch/>
        </p:blipFill>
        <p:spPr>
          <a:xfrm>
            <a:off x="108000" y="3213000"/>
            <a:ext cx="4140000" cy="3381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Картинка 184 из 2528"/>
          <p:cNvPicPr/>
          <p:nvPr/>
        </p:nvPicPr>
        <p:blipFill>
          <a:blip r:embed="rId6"/>
          <a:stretch/>
        </p:blipFill>
        <p:spPr>
          <a:xfrm>
            <a:off x="5076720" y="115920"/>
            <a:ext cx="3905280" cy="2933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а мěнле  ăнланнине тěрěслен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Халě  ěне сěчě мěнле вырăнта тă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ěтрен мěнле апат тума пу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ăнтăрти халăхсем мěн с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урăх  сěтěнчен мěн т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азахсемпе кăркăссем мěн с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Лаша сěтěнчен мěн т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ăмăс сывлăхшăн усăллă-и? Мěншě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Изображение 392"/>
          <p:cNvPicPr/>
          <p:nvPr/>
        </p:nvPicPr>
        <p:blipFill>
          <a:blip r:embed="rId1"/>
          <a:stretch/>
        </p:blipFill>
        <p:spPr>
          <a:xfrm>
            <a:off x="8821800" y="0"/>
            <a:ext cx="3222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Изображение 392"/>
          <p:cNvPicPr/>
          <p:nvPr/>
        </p:nvPicPr>
        <p:blipFill>
          <a:blip r:embed="rId2"/>
          <a:stretch/>
        </p:blipFill>
        <p:spPr>
          <a:xfrm>
            <a:off x="0" y="0"/>
            <a:ext cx="3222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pic>
        <p:nvPicPr>
          <p:cNvPr id="51" name="Picture 6" descr="Картинка 8 из 64000">
            <a:hlinkClick r:id="rId1"/>
          </p:cNvPr>
          <p:cNvPicPr/>
          <p:nvPr/>
        </p:nvPicPr>
        <p:blipFill>
          <a:blip r:embed="rId2"/>
          <a:stretch/>
        </p:blipFill>
        <p:spPr>
          <a:xfrm rot="21399600">
            <a:off x="107640" y="189000"/>
            <a:ext cx="5043600" cy="3162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Картинка 32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8900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Картинка 18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3357720"/>
            <a:ext cx="2950920" cy="333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Картинка 130 из 64000">
            <a:hlinkClick r:id="rId7"/>
          </p:cNvPr>
          <p:cNvPicPr/>
          <p:nvPr/>
        </p:nvPicPr>
        <p:blipFill>
          <a:blip r:embed="rId8"/>
          <a:stretch/>
        </p:blipFill>
        <p:spPr>
          <a:xfrm rot="21312600">
            <a:off x="480960" y="3631680"/>
            <a:ext cx="4810320" cy="295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9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10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1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2011320" y="232056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2125800" y="3225960"/>
            <a:ext cx="3427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3040200" y="2206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3040200" y="3654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3040200" y="3768840"/>
            <a:ext cx="4572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068720" y="2206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068720" y="2206800"/>
            <a:ext cx="6858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1674000" y="1987920"/>
            <a:ext cx="523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ăх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ăпăрч                         чăкăт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ран  кукли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1171080" y="2780280"/>
            <a:ext cx="10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ěт    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758960" y="3427920"/>
            <a:ext cx="28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ăйма                çу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йран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</p:txBody>
      </p:sp>
      <p:pic>
        <p:nvPicPr>
          <p:cNvPr id="127" name="Picture 8" descr="Изображение 392"/>
          <p:cNvPicPr/>
          <p:nvPr/>
        </p:nvPicPr>
        <p:blipFill>
          <a:blip r:embed="rId1"/>
          <a:stretch/>
        </p:blipFill>
        <p:spPr>
          <a:xfrm>
            <a:off x="0" y="2536920"/>
            <a:ext cx="203040" cy="43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Изображение 392"/>
          <p:cNvPicPr/>
          <p:nvPr/>
        </p:nvPicPr>
        <p:blipFill>
          <a:blip r:embed="rId2"/>
          <a:stretch/>
        </p:blipFill>
        <p:spPr>
          <a:xfrm>
            <a:off x="8940960" y="2536920"/>
            <a:ext cx="203040" cy="4321080"/>
          </a:xfrm>
          <a:prstGeom prst="rect">
            <a:avLst/>
          </a:prstGeom>
          <a:ln w="0">
            <a:noFill/>
          </a:ln>
        </p:spPr>
      </p:pic>
      <p:pic>
        <p:nvPicPr>
          <p:cNvPr id="129" name="WordArt 29" descr=""/>
          <p:cNvPicPr/>
          <p:nvPr/>
        </p:nvPicPr>
        <p:blipFill>
          <a:blip r:embed="rId3"/>
          <a:stretch/>
        </p:blipFill>
        <p:spPr>
          <a:xfrm>
            <a:off x="536400" y="396720"/>
            <a:ext cx="8143920" cy="138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Картинка 18 из 62444"/>
          <p:cNvPicPr/>
          <p:nvPr/>
        </p:nvPicPr>
        <p:blipFill>
          <a:blip r:embed="rId4"/>
          <a:stretch/>
        </p:blipFill>
        <p:spPr>
          <a:xfrm>
            <a:off x="5148360" y="3429000"/>
            <a:ext cx="330516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Изображение 392"/>
          <p:cNvPicPr/>
          <p:nvPr/>
        </p:nvPicPr>
        <p:blipFill>
          <a:blip r:embed="rId5"/>
          <a:stretch/>
        </p:blipFill>
        <p:spPr>
          <a:xfrm>
            <a:off x="0" y="0"/>
            <a:ext cx="203040" cy="432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Изображение 392"/>
          <p:cNvPicPr/>
          <p:nvPr/>
        </p:nvPicPr>
        <p:blipFill>
          <a:blip r:embed="rId6"/>
          <a:stretch/>
        </p:blipFill>
        <p:spPr>
          <a:xfrm>
            <a:off x="8940960" y="0"/>
            <a:ext cx="203040" cy="432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40 из 62444"/>
          <p:cNvPicPr/>
          <p:nvPr/>
        </p:nvPicPr>
        <p:blipFill>
          <a:blip r:embed="rId1"/>
          <a:stretch/>
        </p:blipFill>
        <p:spPr>
          <a:xfrm rot="297000">
            <a:off x="5796000" y="549000"/>
            <a:ext cx="2441520" cy="3073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Картинка 68 из 62444"/>
          <p:cNvPicPr/>
          <p:nvPr/>
        </p:nvPicPr>
        <p:blipFill>
          <a:blip r:embed="rId2"/>
          <a:stretch/>
        </p:blipFill>
        <p:spPr>
          <a:xfrm rot="272400">
            <a:off x="4787640" y="3716280"/>
            <a:ext cx="3863880" cy="292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Картинка 113 из 62444"/>
          <p:cNvPicPr/>
          <p:nvPr/>
        </p:nvPicPr>
        <p:blipFill>
          <a:blip r:embed="rId3"/>
          <a:stretch/>
        </p:blipFill>
        <p:spPr>
          <a:xfrm rot="21268800">
            <a:off x="1042920" y="4076280"/>
            <a:ext cx="2951280" cy="260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Картинка 181 из 62444"/>
          <p:cNvPicPr/>
          <p:nvPr/>
        </p:nvPicPr>
        <p:blipFill>
          <a:blip r:embed="rId4"/>
          <a:stretch/>
        </p:blipFill>
        <p:spPr>
          <a:xfrm rot="21217200">
            <a:off x="684360" y="259920"/>
            <a:ext cx="3744720" cy="3521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5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7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8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9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ра предложенисене тупас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рачи говорят, что козье молоко полезнее, чем к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ароды юга и сейчас доят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 старину и чуваши готовили кумы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 санатории и сейчас кумысом лечат болезни легких и костны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Овцу и козу люди начали доить раньше, чем кор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4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ложенисене анлăлатас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йран уçл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анне уйран уçл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асанне уйран уç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асанне паян уйран уç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асанне паян тутлă  уйран уçл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юратнă  асанне паян тутлă  уйран уç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4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стпа 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\ё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лес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35280" y="1343520"/>
            <a:ext cx="490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рынзăна мěн сěтěнчен тăва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Кěсре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) Ẽне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урăх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Качака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ěсрене мěнле халăх çыннисем сăва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Казахсем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 ) Кăркăссем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ушкăртсем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урте тěрěс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Уйрана мěнрен тăва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Турăхра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) Сěт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Хăймара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Кăмăспа мěнле чиртен сипле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Пÿре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)  Упке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Шăмă  чирěнч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Чěре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3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6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-151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404640"/>
            <a:ext cx="758196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\</a:t>
            </a: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с\ч\</a:t>
            </a: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м\нле выр=нта т=р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а) п\ррем\ш выр=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=) т\п выр=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б) икк\м\ш выр=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в) ним\нле выр=нта йыш=нм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ET Chuvash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С\трен м\нле апат пулма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а) тур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=) т=п=рч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б) ё</a:t>
            </a: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в) ё=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7) Качака с\ч\ м\н с\т\нчен ус=лл=р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а) к\с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=) сур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б) \н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3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6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i?id=62766027-08"/>
          <p:cNvPicPr/>
          <p:nvPr/>
        </p:nvPicPr>
        <p:blipFill>
          <a:blip r:embed="rId1"/>
          <a:stretch/>
        </p:blipFill>
        <p:spPr>
          <a:xfrm>
            <a:off x="395280" y="260280"/>
            <a:ext cx="3024360" cy="3313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i?id=36417566-03"/>
          <p:cNvPicPr/>
          <p:nvPr/>
        </p:nvPicPr>
        <p:blipFill>
          <a:blip r:embed="rId2"/>
          <a:stretch/>
        </p:blipFill>
        <p:spPr>
          <a:xfrm>
            <a:off x="4572000" y="331920"/>
            <a:ext cx="3887640" cy="352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i?id=82789100-07"/>
          <p:cNvPicPr/>
          <p:nvPr/>
        </p:nvPicPr>
        <p:blipFill>
          <a:blip r:embed="rId3"/>
          <a:stretch/>
        </p:blipFill>
        <p:spPr>
          <a:xfrm>
            <a:off x="395280" y="429264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Картинка 346 из 3838"/>
          <p:cNvPicPr/>
          <p:nvPr/>
        </p:nvPicPr>
        <p:blipFill>
          <a:blip r:embed="rId4"/>
          <a:stretch/>
        </p:blipFill>
        <p:spPr>
          <a:xfrm>
            <a:off x="3348000" y="4114800"/>
            <a:ext cx="501012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ценно молоко для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утро мы пьем мол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ерное в этом есть какой-то смыс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же польза моло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oloko-3"/>
          <p:cNvPicPr/>
          <p:nvPr/>
        </p:nvPicPr>
        <p:blipFill>
          <a:blip r:embed="rId1"/>
          <a:stretch/>
        </p:blipFill>
        <p:spPr>
          <a:xfrm>
            <a:off x="4859280" y="1844640"/>
            <a:ext cx="3211560" cy="393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ая удивительная пищ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алуй, самая удивительная пища в мире это та, которой животное кормит своих детенышей, - моло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превращает беспомощного львенка в мощного зверя. Огромный кит, как и крошечная морская свинка, вскормлен мол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нское грудное молоко – это единственная идеальная пища, защита от многих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31624-54med"/>
          <p:cNvPicPr/>
          <p:nvPr/>
        </p:nvPicPr>
        <p:blipFill>
          <a:blip r:embed="rId1"/>
          <a:stretch/>
        </p:blipFill>
        <p:spPr>
          <a:xfrm>
            <a:off x="4859280" y="1413000"/>
            <a:ext cx="3191040" cy="4795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локе есть все, что нужно малышу: в нем есть и вода, и жир, и сахар, и белок, и соли, и витам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ко богато кальцием, который усваивается из него почти на 100 %, чем не могут похвастаться други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чный белок усваивается из молока очень легко, не в пример мяс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вье молоко содержит более 20 витаминов и много микроэлементов! А без них человек просто не мож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итательных веществ, которые есть в молоке, строятся кожа, мускулы, кости, зу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_1e48f_82d727ba_XL"/>
          <p:cNvPicPr/>
          <p:nvPr/>
        </p:nvPicPr>
        <p:blipFill>
          <a:blip r:embed="rId1"/>
          <a:stretch/>
        </p:blipFill>
        <p:spPr>
          <a:xfrm>
            <a:off x="4500720" y="1197000"/>
            <a:ext cx="4643280" cy="537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вьи нов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археологическим данным, в период неолита люди еще не могли пить молоко животных – в их организме отсутствовал ген, необходимый для усвоения лактозы. Эта способность пришла к нашим предкам позже, ввиду генетической му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tallan"/>
          <p:cNvPicPr/>
          <p:nvPr/>
        </p:nvPicPr>
        <p:blipFill>
          <a:blip r:embed="rId1"/>
          <a:stretch/>
        </p:blipFill>
        <p:spPr>
          <a:xfrm>
            <a:off x="4427640" y="1341360"/>
            <a:ext cx="4248000" cy="4464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1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сей видимости, молоко животного человек впервые стал употреблять в пищу в 8-9 тысячелетии до нашей эры, когда народы, населявшие Средний Восток, сумели одомашнить овец и к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 тысячелетии на территории современной Турции люди начали пасти коров, таким образом, получив в свой рацион один из наиболее популярных современных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0_d1e1_1240c6a6_L"/>
          <p:cNvPicPr/>
          <p:nvPr/>
        </p:nvPicPr>
        <p:blipFill>
          <a:blip r:embed="rId1"/>
          <a:stretch/>
        </p:blipFill>
        <p:spPr>
          <a:xfrm>
            <a:off x="2124000" y="2492280"/>
            <a:ext cx="5219640" cy="3915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кон века люди высоко ценили целебные свойства молока. Они называли его «соком жизни», «эликсиром жиз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менитый врач Гиппократ называл молоко лекарством, Авиценна утверждал, что молоко – это лучшая пища для людей, академик Павлов называл молоко пищей, приготовленной самой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ippocrates"/>
          <p:cNvPicPr/>
          <p:nvPr/>
        </p:nvPicPr>
        <p:blipFill>
          <a:blip r:embed="rId1"/>
          <a:stretch/>
        </p:blipFill>
        <p:spPr>
          <a:xfrm>
            <a:off x="0" y="3645000"/>
            <a:ext cx="2327400" cy="321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59729_or"/>
          <p:cNvPicPr/>
          <p:nvPr/>
        </p:nvPicPr>
        <p:blipFill>
          <a:blip r:embed="rId2"/>
          <a:stretch/>
        </p:blipFill>
        <p:spPr>
          <a:xfrm>
            <a:off x="3419640" y="3716280"/>
            <a:ext cx="2376360" cy="314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st-184-1152464587-pavlov"/>
          <p:cNvPicPr/>
          <p:nvPr/>
        </p:nvPicPr>
        <p:blipFill>
          <a:blip r:embed="rId3"/>
          <a:stretch/>
        </p:blipFill>
        <p:spPr>
          <a:xfrm>
            <a:off x="6497640" y="3716280"/>
            <a:ext cx="2646360" cy="3141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красивые женщины мира использовали молоко, чтобы сохранить свою красоту  и молодость на долгие годы: царица Египта Клеопатра ежедневно принимала молочные ван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жена Нерона Поппея всегда брала  с собой в путешествие 500 ослиц, чтобы иметь возможность принимать молочные ванны, улучшающие ко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1245063801_preview"/>
          <p:cNvPicPr/>
          <p:nvPr/>
        </p:nvPicPr>
        <p:blipFill>
          <a:blip r:embed="rId1"/>
          <a:stretch/>
        </p:blipFill>
        <p:spPr>
          <a:xfrm>
            <a:off x="250920" y="3284640"/>
            <a:ext cx="3324240" cy="35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oppaea"/>
          <p:cNvPicPr/>
          <p:nvPr/>
        </p:nvPicPr>
        <p:blipFill>
          <a:blip r:embed="rId2"/>
          <a:stretch/>
        </p:blipFill>
        <p:spPr>
          <a:xfrm>
            <a:off x="5543640" y="3213000"/>
            <a:ext cx="2732040" cy="3645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22:42Z</dcterms:created>
  <dc:creator>1</dc:creator>
  <dc:description/>
  <dc:language>en-US</dc:language>
  <cp:lastModifiedBy>Admin</cp:lastModifiedBy>
  <dcterms:modified xsi:type="dcterms:W3CDTF">2011-12-06T15:18:31Z</dcterms:modified>
  <cp:revision>17</cp:revision>
  <dc:subject/>
  <dc:title>+.н. сăмахсемпе .=лесси </dc:title>
</cp:coreProperties>
</file>