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CAD-CD0F-47D5-BDCF-22BDEDB98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F61-D770-46CF-9317-779335D80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E3F-0FC6-4842-B09B-0C5AE5CD5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829-70BC-42CC-B54B-85E5557BC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8EA7-6886-430B-8515-1F7F41E1E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DABD-78A2-451F-83A7-EADFD5607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ый сл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8F1-6B3F-48C7-BB29-6263AB62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2F8-8640-404C-9E47-9F153813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EC0-45BD-4A4B-87E1-E0099AD6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7AA-B51E-4D56-A977-E96AEEC1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1B9-1880-40E9-80CF-940C6B1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843-05B3-440E-ACCD-3D99CEF3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22-A269-4474-ABB7-A827DCBA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E9A-DEB5-4269-9C7F-E25377FD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3AD-E041-4FFE-97AC-D9DF474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404-5ED7-47D8-AEBA-375D4B0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3E8-E77B-4464-9A54-97027380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68F-B50F-45F9-82A9-E5C59FF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A411-0253-4412-8F30-28DBD06E2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ест по теме: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«Литературные направл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0920" y="4869000"/>
            <a:ext cx="62578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итель: Бодренкова Наталья Никола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мназия экономического профи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ультант: Гаврыш Светлана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подаватель РЦ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классициз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916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0504"/>
          <p:cNvPicPr/>
          <p:nvPr/>
        </p:nvPicPr>
        <p:blipFill>
          <a:blip r:embed="rId2"/>
          <a:srcRect l="7386" t="5534" r="0" b="0"/>
          <a:stretch/>
        </p:blipFill>
        <p:spPr>
          <a:xfrm>
            <a:off x="3635280" y="1989000"/>
            <a:ext cx="2238480" cy="304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романтиз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700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G_0504"/>
          <p:cNvPicPr/>
          <p:nvPr/>
        </p:nvPicPr>
        <p:blipFill>
          <a:blip r:embed="rId2"/>
          <a:srcRect l="7386" t="5534" r="0" b="0"/>
          <a:stretch/>
        </p:blipFill>
        <p:spPr>
          <a:xfrm>
            <a:off x="3419640" y="1773360"/>
            <a:ext cx="2396880" cy="325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сентиментализ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700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MG_0504"/>
          <p:cNvPicPr/>
          <p:nvPr/>
        </p:nvPicPr>
        <p:blipFill>
          <a:blip r:embed="rId2"/>
          <a:stretch/>
        </p:blipFill>
        <p:spPr>
          <a:xfrm>
            <a:off x="3228840" y="1582560"/>
            <a:ext cx="2587680" cy="344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 прошел тес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Рисунок141"/>
          <p:cNvPicPr/>
          <p:nvPr/>
        </p:nvPicPr>
        <p:blipFill>
          <a:blip r:embed="rId1"/>
          <a:stretch/>
        </p:blipFill>
        <p:spPr>
          <a:xfrm>
            <a:off x="3851280" y="2997360"/>
            <a:ext cx="23526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14:30Z</dcterms:created>
  <dc:creator>Адамская</dc:creator>
  <dc:description/>
  <dc:language>en-US</dc:language>
  <cp:lastModifiedBy>Коля</cp:lastModifiedBy>
  <dcterms:modified xsi:type="dcterms:W3CDTF">2013-04-22T09:51:36Z</dcterms:modified>
  <cp:revision>9</cp:revision>
  <dc:subject/>
  <dc:title>Литературные направления</dc:title>
</cp:coreProperties>
</file>