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A9CD-3569-4608-8328-480571B978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A765-CC46-45F4-BA2C-300EBD44F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5A2C-42B0-4D4E-8DEF-D6CAD33B2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размещен вопрос и варианты от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ъектов на слайде добавлены эффекты для появления объектов на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авильные варианты (иллюстрации и надписи) настроены с помощью эффектов выхода - 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66CC-AF7C-4ECB-A3FD-3BB2CBCE4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размещен вопрос и варианты от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ъектов на слайде добавлены эффекты для появления объектов на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авильные варианты (иллюстрации и надписи) настроены с помощью эффектов выхода - 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1EC5-F260-4BE3-97AA-746BECFB6B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размещен вопрос и варианты от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ъектов на слайде добавлены эффекты для появления объектов на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авильные варианты (иллюстрации и надписи) настроены с помощью эффектов выхода - 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025A-7841-46F3-97B8-35ED9F200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ительный сл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85B-20A2-46C8-AA3B-0F85E640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546-363E-4697-B026-88170A47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C56-4C27-4D91-BA12-06FDEE88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6A3-E3E6-49D4-A8A6-EE652141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3EC-962F-4B71-B88C-AF2D9FF2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7FD-2755-4643-9DD4-F5ED7670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DCB-D6EE-413F-87AF-71D41CC7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D25-BCD2-430F-AE65-A9155F7C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43B-CFEF-45D0-9D71-F7B1CDB4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A3E-82FE-4699-B751-9521436C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1D8-7471-484A-BE8E-2810B4A4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738-D0E3-4934-B883-12B97D54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C723-0C7C-4D72-806D-3EDF4E96B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ест по теме: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«Литературные направл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0920" y="4869000"/>
            <a:ext cx="62578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авитель: Бодренкова Наталья Никола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мназия экономического профи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ультант: Гаврыш Светлана Васи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подаватель РЦ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Кто является основателем русского классициз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9440" y="5877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711240" y="58053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.А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78880" y="580536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.М. Карам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lom[1].jpg"/>
          <p:cNvPicPr/>
          <p:nvPr/>
        </p:nvPicPr>
        <p:blipFill>
          <a:blip r:embed="rId1"/>
          <a:stretch/>
        </p:blipFill>
        <p:spPr>
          <a:xfrm>
            <a:off x="179280" y="1916280"/>
            <a:ext cx="2857680" cy="324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IMG_0504"/>
          <p:cNvPicPr/>
          <p:nvPr/>
        </p:nvPicPr>
        <p:blipFill>
          <a:blip r:embed="rId2"/>
          <a:srcRect l="7386" t="5534" r="0" b="0"/>
          <a:stretch/>
        </p:blipFill>
        <p:spPr>
          <a:xfrm>
            <a:off x="3635280" y="1989000"/>
            <a:ext cx="2238480" cy="304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Карамзин"/>
          <p:cNvPicPr/>
          <p:nvPr/>
        </p:nvPicPr>
        <p:blipFill>
          <a:blip r:embed="rId3"/>
          <a:stretch/>
        </p:blipFill>
        <p:spPr>
          <a:xfrm>
            <a:off x="6300720" y="1773360"/>
            <a:ext cx="25732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Кто является основателем русского романтиз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69440" y="5877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711240" y="58053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.А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878880" y="580536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.М. Карам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lom[1].jpg"/>
          <p:cNvPicPr/>
          <p:nvPr/>
        </p:nvPicPr>
        <p:blipFill>
          <a:blip r:embed="rId1"/>
          <a:stretch/>
        </p:blipFill>
        <p:spPr>
          <a:xfrm>
            <a:off x="179280" y="1700280"/>
            <a:ext cx="2857680" cy="324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G_0504"/>
          <p:cNvPicPr/>
          <p:nvPr/>
        </p:nvPicPr>
        <p:blipFill>
          <a:blip r:embed="rId2"/>
          <a:srcRect l="7386" t="5534" r="0" b="0"/>
          <a:stretch/>
        </p:blipFill>
        <p:spPr>
          <a:xfrm>
            <a:off x="3419640" y="1773360"/>
            <a:ext cx="2396880" cy="325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Карамзин"/>
          <p:cNvPicPr/>
          <p:nvPr/>
        </p:nvPicPr>
        <p:blipFill>
          <a:blip r:embed="rId3"/>
          <a:stretch/>
        </p:blipFill>
        <p:spPr>
          <a:xfrm>
            <a:off x="6300720" y="1773360"/>
            <a:ext cx="25732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Кто является основателем русского сентиментализ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9440" y="5877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711240" y="58053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.А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78880" y="580536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.М. Карам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lom[1].jpg"/>
          <p:cNvPicPr/>
          <p:nvPr/>
        </p:nvPicPr>
        <p:blipFill>
          <a:blip r:embed="rId1"/>
          <a:stretch/>
        </p:blipFill>
        <p:spPr>
          <a:xfrm>
            <a:off x="179280" y="1700280"/>
            <a:ext cx="2857680" cy="32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IMG_0504"/>
          <p:cNvPicPr/>
          <p:nvPr/>
        </p:nvPicPr>
        <p:blipFill>
          <a:blip r:embed="rId2"/>
          <a:stretch/>
        </p:blipFill>
        <p:spPr>
          <a:xfrm>
            <a:off x="3228840" y="1582560"/>
            <a:ext cx="2587680" cy="344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Карамзин"/>
          <p:cNvPicPr/>
          <p:nvPr/>
        </p:nvPicPr>
        <p:blipFill>
          <a:blip r:embed="rId3"/>
          <a:stretch/>
        </p:blipFill>
        <p:spPr>
          <a:xfrm>
            <a:off x="6300720" y="1773360"/>
            <a:ext cx="25732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лодец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ы прошел тес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Рисунок141"/>
          <p:cNvPicPr/>
          <p:nvPr/>
        </p:nvPicPr>
        <p:blipFill>
          <a:blip r:embed="rId1"/>
          <a:stretch/>
        </p:blipFill>
        <p:spPr>
          <a:xfrm>
            <a:off x="3851280" y="2997360"/>
            <a:ext cx="23526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3:14:30Z</dcterms:created>
  <dc:creator>Адамская</dc:creator>
  <dc:description/>
  <dc:language>en-US</dc:language>
  <cp:lastModifiedBy>Коля</cp:lastModifiedBy>
  <dcterms:modified xsi:type="dcterms:W3CDTF">2013-04-22T09:51:36Z</dcterms:modified>
  <cp:revision>9</cp:revision>
  <dc:subject/>
  <dc:title>Литературные направления</dc:title>
</cp:coreProperties>
</file>