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DCD3-6CA5-4859-8851-57AD94157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A917-68D6-4E37-BA53-C2D13AE93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96B-76D8-48E8-956E-92F335666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0E4-F954-4D43-A9B1-F7EAF6560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10EA-8E0B-4BC7-9FE1-432190AD7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лайде размещен вопрос и варианты отв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ъектов на слайде добавлены эффекты для появления объектов на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авильные варианты (иллюстрации и надписи) настроены с помощью эффектов выхода -  по щел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179A-3526-4D68-A8D1-909B9C1DA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ый сл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3F9-B69D-4900-AF17-B4A77B6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125-B982-4F5C-BBAC-BE2BE632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A3F-4F60-4C4C-82A4-88B4A127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E8A-C9B7-4BFA-90EF-64196EAC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FCC-B8C2-440F-8C5E-AEAA738C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B24-7E20-4A28-A782-C077AAF3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4BFB-8975-4A4E-9F19-1AE77DC5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5AC-3134-4276-B6D2-F77EC0AF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05A-3373-4809-B913-E17B0E5E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50A-5369-4C66-822B-258985D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388-43AF-46A5-AABB-0B1DFD8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91B-2440-4555-BE98-F4AF342A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25A-C742-456A-AA4C-C1FFF6ADC4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ест по теме: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«Литературные направл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0920" y="4869000"/>
            <a:ext cx="62578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тавитель: Бодренкова Наталья Николае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мназия экономического профи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сультант: Гаврыш Светлана Васи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подаватель РЦ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классициз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916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0504"/>
          <p:cNvPicPr/>
          <p:nvPr/>
        </p:nvPicPr>
        <p:blipFill>
          <a:blip r:embed="rId2"/>
          <a:srcRect l="7386" t="5534" r="0" b="0"/>
          <a:stretch/>
        </p:blipFill>
        <p:spPr>
          <a:xfrm>
            <a:off x="3635280" y="1989000"/>
            <a:ext cx="2238480" cy="304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романтиз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700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G_0504"/>
          <p:cNvPicPr/>
          <p:nvPr/>
        </p:nvPicPr>
        <p:blipFill>
          <a:blip r:embed="rId2"/>
          <a:srcRect l="7386" t="5534" r="0" b="0"/>
          <a:stretch/>
        </p:blipFill>
        <p:spPr>
          <a:xfrm>
            <a:off x="3419640" y="1773360"/>
            <a:ext cx="2396880" cy="3259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то является основателем русского сентиментализ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9440" y="58770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.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711240" y="580536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.А. 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78880" y="580536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.М. Карам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lom[1].jpg"/>
          <p:cNvPicPr/>
          <p:nvPr/>
        </p:nvPicPr>
        <p:blipFill>
          <a:blip r:embed="rId1"/>
          <a:stretch/>
        </p:blipFill>
        <p:spPr>
          <a:xfrm>
            <a:off x="179280" y="1700280"/>
            <a:ext cx="2857680" cy="32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MG_0504"/>
          <p:cNvPicPr/>
          <p:nvPr/>
        </p:nvPicPr>
        <p:blipFill>
          <a:blip r:embed="rId2"/>
          <a:stretch/>
        </p:blipFill>
        <p:spPr>
          <a:xfrm>
            <a:off x="3228840" y="1582560"/>
            <a:ext cx="2587680" cy="344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Карамзин"/>
          <p:cNvPicPr/>
          <p:nvPr/>
        </p:nvPicPr>
        <p:blipFill>
          <a:blip r:embed="rId3"/>
          <a:stretch/>
        </p:blipFill>
        <p:spPr>
          <a:xfrm>
            <a:off x="6300720" y="1773360"/>
            <a:ext cx="25732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дец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 прошел тест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Рисунок141"/>
          <p:cNvPicPr/>
          <p:nvPr/>
        </p:nvPicPr>
        <p:blipFill>
          <a:blip r:embed="rId1"/>
          <a:stretch/>
        </p:blipFill>
        <p:spPr>
          <a:xfrm>
            <a:off x="3851280" y="2997360"/>
            <a:ext cx="23526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3:14:30Z</dcterms:created>
  <dc:creator>Адамская</dc:creator>
  <dc:description/>
  <dc:language>en-US</dc:language>
  <cp:lastModifiedBy>Коля</cp:lastModifiedBy>
  <dcterms:modified xsi:type="dcterms:W3CDTF">2013-04-22T09:51:36Z</dcterms:modified>
  <cp:revision>9</cp:revision>
  <dc:subject/>
  <dc:title>Литературные направления</dc:title>
</cp:coreProperties>
</file>