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0453-C8AD-4767-9C5D-13ACBBD7D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CC18-6B7F-4C08-9A32-F81756970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AD6F-74D7-435E-A8B6-6020AFA5F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0D1A-A4D9-4EDC-A415-3A3A689BA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FD3A-02BB-4063-9626-CC81F04AC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7520-7A5D-4996-81FA-A4870A703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4F1C-9541-4375-987F-072882708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C2A2-868A-4223-BBAA-959839D45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64D4-DA40-4335-BBC8-33C3BD89F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859C-F00A-4A7E-9F42-564F5F022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A2CE-B4D0-4BE6-A3B3-DAA513DA7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0FAB-5B1F-4B83-A347-601675784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2F7FF-4879-423F-BE45-7A0C48CC713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ahoma"/>
                <a:ea typeface="Tahoma"/>
              </a:rPr>
              <a:t>Глобальные проблемы человечеств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360" y="3316320"/>
            <a:ext cx="7921440" cy="130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«Мирное освоение Космос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971640" y="2786040"/>
            <a:ext cx="792144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Прямоугольник 9"/>
          <p:cNvSpPr/>
          <p:nvPr/>
        </p:nvSpPr>
        <p:spPr>
          <a:xfrm>
            <a:off x="2268360" y="4437000"/>
            <a:ext cx="45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TextBox 1"/>
          <p:cNvSpPr/>
          <p:nvPr/>
        </p:nvSpPr>
        <p:spPr>
          <a:xfrm>
            <a:off x="3678480" y="4724280"/>
            <a:ext cx="508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бота ученика 10-А класса Хамаде Руша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читель Шиженская Н.Н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БОУ школа №10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анкт-Петербург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24000" y="54900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Международная организация «Интерспутник» со штаб-квартирой в Москве была создана еще в начале 70-х гг. В наши дни космической связью через систему «Интерспутник» пользуются более 1000 государственных и частных компаний многих стра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5" name="Picture 6" descr="2"/>
          <p:cNvPicPr/>
          <p:nvPr/>
        </p:nvPicPr>
        <p:blipFill>
          <a:blip r:embed="rId1"/>
          <a:stretch/>
        </p:blipFill>
        <p:spPr>
          <a:xfrm>
            <a:off x="539640" y="3284640"/>
            <a:ext cx="3911760" cy="3066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3"/>
          <p:cNvPicPr/>
          <p:nvPr/>
        </p:nvPicPr>
        <p:blipFill>
          <a:blip r:embed="rId2"/>
          <a:stretch/>
        </p:blipFill>
        <p:spPr>
          <a:xfrm>
            <a:off x="5148360" y="2852640"/>
            <a:ext cx="3203640" cy="3862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492360" y="691920"/>
            <a:ext cx="511200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Продолжаются работы по созданию Международной космической станции (МКС). Ее сооружают США, Россия, Европейское космическое агентство, Япония, Канад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8" name="Picture 6" descr="Рисунок3"/>
          <p:cNvPicPr/>
          <p:nvPr/>
        </p:nvPicPr>
        <p:blipFill>
          <a:blip r:embed="rId1"/>
          <a:stretch/>
        </p:blipFill>
        <p:spPr>
          <a:xfrm>
            <a:off x="1116000" y="981000"/>
            <a:ext cx="1579680" cy="2376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Рисунок4"/>
          <p:cNvPicPr/>
          <p:nvPr/>
        </p:nvPicPr>
        <p:blipFill>
          <a:blip r:embed="rId2"/>
          <a:stretch/>
        </p:blipFill>
        <p:spPr>
          <a:xfrm>
            <a:off x="3857760" y="3286080"/>
            <a:ext cx="3557520" cy="3148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220px-ISS_on_20_August_2001"/>
          <p:cNvPicPr/>
          <p:nvPr/>
        </p:nvPicPr>
        <p:blipFill>
          <a:blip r:embed="rId3"/>
          <a:stretch/>
        </p:blipFill>
        <p:spPr>
          <a:xfrm>
            <a:off x="468360" y="3716280"/>
            <a:ext cx="2793960" cy="279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Все отчетливее проступают черты будущей космической индустрии, космической технологии, применения космических энергоресурс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2" name="Picture 5" descr="Рисунок15"/>
          <p:cNvPicPr/>
          <p:nvPr/>
        </p:nvPicPr>
        <p:blipFill>
          <a:blip r:embed="rId1"/>
          <a:stretch/>
        </p:blipFill>
        <p:spPr>
          <a:xfrm>
            <a:off x="1042920" y="3645000"/>
            <a:ext cx="2233800" cy="2222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Рисунок16"/>
          <p:cNvPicPr/>
          <p:nvPr/>
        </p:nvPicPr>
        <p:blipFill>
          <a:blip r:embed="rId2"/>
          <a:stretch/>
        </p:blipFill>
        <p:spPr>
          <a:xfrm>
            <a:off x="3643200" y="2571840"/>
            <a:ext cx="2152800" cy="2152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Рисунок156"/>
          <p:cNvPicPr/>
          <p:nvPr/>
        </p:nvPicPr>
        <p:blipFill>
          <a:blip r:embed="rId3"/>
          <a:stretch/>
        </p:blipFill>
        <p:spPr>
          <a:xfrm>
            <a:off x="6372360" y="3213000"/>
            <a:ext cx="2232000" cy="216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9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9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9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100" spc="-1" strike="noStrike">
                <a:solidFill>
                  <a:srgbClr val="ff0000"/>
                </a:solidFill>
                <a:latin typeface="Tahoma"/>
              </a:rPr>
              <a:t>Вывод</a:t>
            </a:r>
            <a:endParaRPr b="0" lang="en-US" sz="51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ким образом, если человечеством в самое ближайшее время не будут приняты эффективные меры для борьбы с космическим мусором, то космическая эпоха в истории человечества может в ближайшее время бесславно закончиться. Космическое пространство не находится под юрисдикцией какого-либо государства. Это в чистом виде международный объект охраны. Таким образом, одна из важнейших проблем, возникающих в процессе индустриального освоения космоса, состоит в определении специфических факторов допустимых границ антропогенного воздействия на окружающую среду и околоземное пространство. Нельзя не признать, что сегодня имеет место отрицательное воздействие космической техники на окружающую среду (разрушение озонового слоя, засорение атмосферы окислами металлов, углерода, азота, а ближнего космоса - частями отработанных космических летательных аппаратов). Поэтому очень важно вести изучение последствий её влияния с точки зрения эколог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24000" y="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ahoma"/>
                <a:ea typeface="Tahoma"/>
              </a:rPr>
              <a:t>Освоение космоса стало одной из важнейших международных глобальных пробле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" name="Picture 9" descr="Рисунок6"/>
          <p:cNvPicPr/>
          <p:nvPr/>
        </p:nvPicPr>
        <p:blipFill>
          <a:blip r:embed="rId1"/>
          <a:stretch/>
        </p:blipFill>
        <p:spPr>
          <a:xfrm>
            <a:off x="1116000" y="1700280"/>
            <a:ext cx="1592280" cy="4943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Рисунок7"/>
          <p:cNvPicPr/>
          <p:nvPr/>
        </p:nvPicPr>
        <p:blipFill>
          <a:blip r:embed="rId2"/>
          <a:stretch/>
        </p:blipFill>
        <p:spPr>
          <a:xfrm>
            <a:off x="5724360" y="1844640"/>
            <a:ext cx="1454400" cy="485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0920" y="189000"/>
            <a:ext cx="8358120" cy="115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ahoma"/>
                <a:ea typeface="Tahoma"/>
              </a:rPr>
              <a:t>Космос является глобальной средой, общим   достоянием человечества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920" y="1571760"/>
            <a:ext cx="335736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ahoma"/>
                <a:ea typeface="Tahoma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Теперь, когда космические программы существенно усложнились, их выполнение требует концентрации технических, экономических, интеллектуальных усилий многих стран и народ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" name="Picture 13" descr="5"/>
          <p:cNvPicPr/>
          <p:nvPr/>
        </p:nvPicPr>
        <p:blipFill>
          <a:blip r:embed="rId1"/>
          <a:stretch/>
        </p:blipFill>
        <p:spPr>
          <a:xfrm>
            <a:off x="4648320" y="2471760"/>
            <a:ext cx="4038480" cy="313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79280" y="476280"/>
            <a:ext cx="36720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Мирное освоение Космоса, предусматривающее отказ от военных программ, базируется на использовании новейших достижений науки и техники, производства и управления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" name="Picture 5" descr="Рисунок2"/>
          <p:cNvPicPr/>
          <p:nvPr/>
        </p:nvPicPr>
        <p:blipFill>
          <a:blip r:embed="rId1"/>
          <a:stretch/>
        </p:blipFill>
        <p:spPr>
          <a:xfrm>
            <a:off x="4067280" y="404640"/>
            <a:ext cx="4932360" cy="3283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96680521"/>
          <p:cNvPicPr/>
          <p:nvPr/>
        </p:nvPicPr>
        <p:blipFill>
          <a:blip r:embed="rId2"/>
          <a:stretch/>
        </p:blipFill>
        <p:spPr>
          <a:xfrm>
            <a:off x="6012000" y="4005360"/>
            <a:ext cx="2663640" cy="2552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000015"/>
          <p:cNvPicPr/>
          <p:nvPr/>
        </p:nvPicPr>
        <p:blipFill>
          <a:blip r:embed="rId3"/>
          <a:stretch/>
        </p:blipFill>
        <p:spPr>
          <a:xfrm>
            <a:off x="826920" y="4076640"/>
            <a:ext cx="4392720" cy="26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100" spc="-1" strike="noStrike">
                <a:solidFill>
                  <a:srgbClr val="ff0000"/>
                </a:solidFill>
                <a:latin typeface="Tahoma"/>
              </a:rPr>
              <a:t>Космическая проблема.</a:t>
            </a:r>
            <a:endParaRPr b="0" lang="en-US" sz="51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смос - среда для человека новая, пока еще не обжитая. Но и здесь возникла извечная проблема засорения околоземного пространства обломками космических аппаратов. Причем различают наблюдаемый и ненаблюдаемый космический мусор, количество которого неизвестно. Космический мусор появляется в процессе работы орбитальных станций и космических аппаратов, и в результате их последующей преднамеренной ликвидации. Он включает в себя  также отработавшие отделяемые элементы конструкций космических  аппаратов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" name="Picture 4" descr="1987_1234960811_full"/>
          <p:cNvPicPr/>
          <p:nvPr/>
        </p:nvPicPr>
        <p:blipFill>
          <a:blip r:embed="rId1"/>
          <a:stretch/>
        </p:blipFill>
        <p:spPr>
          <a:xfrm>
            <a:off x="826920" y="4508640"/>
            <a:ext cx="3106800" cy="2149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images"/>
          <p:cNvPicPr/>
          <p:nvPr/>
        </p:nvPicPr>
        <p:blipFill>
          <a:blip r:embed="rId2"/>
          <a:stretch/>
        </p:blipFill>
        <p:spPr>
          <a:xfrm>
            <a:off x="5219640" y="458136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72960" y="-5186160"/>
            <a:ext cx="842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9640" y="333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По современным данным в ближнем космосе находится порядка 3000 тонн космического мусора, что составляет около 1 % от массы всей верхней атмосферы выше 200 км.[4] Растущее засорение космоса представляет серьезную опасность для космических станций и пилотируемых полетов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3" name="Picture 4" descr="images (2)"/>
          <p:cNvPicPr/>
          <p:nvPr/>
        </p:nvPicPr>
        <p:blipFill>
          <a:blip r:embed="rId1"/>
          <a:stretch/>
        </p:blipFill>
        <p:spPr>
          <a:xfrm>
            <a:off x="900000" y="4437000"/>
            <a:ext cx="2543400" cy="1800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images (1)"/>
          <p:cNvPicPr/>
          <p:nvPr/>
        </p:nvPicPr>
        <p:blipFill>
          <a:blip r:embed="rId2"/>
          <a:stretch/>
        </p:blipFill>
        <p:spPr>
          <a:xfrm>
            <a:off x="5508720" y="4365720"/>
            <a:ext cx="2400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0" y="1413000"/>
            <a:ext cx="45720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Во второй половине ХХ в. обозначились два главных направления в изучении и использовании космического пространства: космическое землеведение и космическое производств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6" name="Picture 5" descr="Рисунок5"/>
          <p:cNvPicPr/>
          <p:nvPr/>
        </p:nvPicPr>
        <p:blipFill>
          <a:blip r:embed="rId1"/>
          <a:stretch/>
        </p:blipFill>
        <p:spPr>
          <a:xfrm>
            <a:off x="324000" y="981000"/>
            <a:ext cx="3886200" cy="4810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2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a5daf7"/>
                </a:solidFill>
                <a:latin typeface="Tahoma"/>
              </a:rPr>
              <a:t>Использование космической техники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403848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спользование космической техники  в системах связи существенно повысило ее эффективность, позволило связывать между собой все уголки земного шара, дало возможность широко использовать самые информативные короткие волны, на которых, в частности, работает телевидени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Picture 5" descr="55"/>
          <p:cNvPicPr/>
          <p:nvPr/>
        </p:nvPicPr>
        <p:blipFill>
          <a:blip r:embed="rId1"/>
          <a:stretch/>
        </p:blipFill>
        <p:spPr>
          <a:xfrm>
            <a:off x="6443640" y="1341360"/>
            <a:ext cx="2414520" cy="31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-5341680"/>
            <a:ext cx="13320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920" y="620640"/>
            <a:ext cx="8229600" cy="16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овые возможности для повышения качества, оперативности и надежности связи открылись с запуском искусственных спутников Земли. находясь в поле прямой радиовидимости большого числа удаленных друг от друга наземных пунктов, спутник позволяет объединить их сетью космической связи.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57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2" name="Picture 4" descr="769958965"/>
          <p:cNvPicPr/>
          <p:nvPr/>
        </p:nvPicPr>
        <p:blipFill>
          <a:blip r:embed="rId1"/>
          <a:stretch/>
        </p:blipFill>
        <p:spPr>
          <a:xfrm>
            <a:off x="826920" y="3789360"/>
            <a:ext cx="3238560" cy="2428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Peter_Hennessey_5"/>
          <p:cNvPicPr/>
          <p:nvPr/>
        </p:nvPicPr>
        <p:blipFill>
          <a:blip r:embed="rId2"/>
          <a:stretch/>
        </p:blipFill>
        <p:spPr>
          <a:xfrm>
            <a:off x="5292720" y="3573360"/>
            <a:ext cx="3036960" cy="22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7T15:28:28Z</dcterms:created>
  <dc:creator>Елена</dc:creator>
  <dc:description/>
  <dc:language>en-US</dc:language>
  <cp:lastModifiedBy>Пользователь</cp:lastModifiedBy>
  <dcterms:modified xsi:type="dcterms:W3CDTF">2013-10-01T20:25:06Z</dcterms:modified>
  <cp:revision>8</cp:revision>
  <dc:subject/>
  <dc:title>Мирное освоение космоса: новые горизонты</dc:title>
</cp:coreProperties>
</file>