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738-E910-43FB-A7D7-1A0FAEE0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E80-F457-4170-ADF6-FAF33BE9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5CA-3234-4A19-B2AE-D2ABD313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653-2757-42B7-AE65-7A2C2394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C2F-795F-4BC8-8CD7-C7864CC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DA3-8874-4021-AE25-7234997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71B-8365-464C-8BD2-7511AEDD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1D2-94A6-4A0C-B959-209EEA9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670-75C1-4CD7-AAD7-F92033B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AE3-6753-4E9F-A319-80684E2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83D-2584-4B31-9936-49120A9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E51-8B6C-4A90-BA6F-1740C3A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016-3820-4A51-A067-B3E999D840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Глобальные проблемы человече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316320"/>
            <a:ext cx="79214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«Мирное освоение Космос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786040"/>
            <a:ext cx="792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2268360" y="4437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678480" y="4724280"/>
            <a:ext cx="50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а ученика 10-А класса Хамаде Руш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Шиженская Н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БОУ школа №1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ждународная организация «Интерспутник» со штаб-квартирой в Москве была создана еще в начале 70-х гг. В наши дни космической связью через систему «Интерспутник» пользуются более 1000 государственных и частных компаний многих ст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2"/>
          <p:cNvPicPr/>
          <p:nvPr/>
        </p:nvPicPr>
        <p:blipFill>
          <a:blip r:embed="rId1"/>
          <a:stretch/>
        </p:blipFill>
        <p:spPr>
          <a:xfrm>
            <a:off x="539640" y="3284640"/>
            <a:ext cx="3911760" cy="30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"/>
          <p:cNvPicPr/>
          <p:nvPr/>
        </p:nvPicPr>
        <p:blipFill>
          <a:blip r:embed="rId2"/>
          <a:stretch/>
        </p:blipFill>
        <p:spPr>
          <a:xfrm>
            <a:off x="5148360" y="2852640"/>
            <a:ext cx="3203640" cy="38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492360" y="691920"/>
            <a:ext cx="5112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должаются работы по созданию Международной космической станции (МКС). Ее сооружают США, Россия, Европейское космическое агентство, Япония, Кана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Рисунок3"/>
          <p:cNvPicPr/>
          <p:nvPr/>
        </p:nvPicPr>
        <p:blipFill>
          <a:blip r:embed="rId1"/>
          <a:stretch/>
        </p:blipFill>
        <p:spPr>
          <a:xfrm>
            <a:off x="1116000" y="981000"/>
            <a:ext cx="157968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Рисунок4"/>
          <p:cNvPicPr/>
          <p:nvPr/>
        </p:nvPicPr>
        <p:blipFill>
          <a:blip r:embed="rId2"/>
          <a:stretch/>
        </p:blipFill>
        <p:spPr>
          <a:xfrm>
            <a:off x="3857760" y="3286080"/>
            <a:ext cx="3557520" cy="314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20px-ISS_on_20_August_2001"/>
          <p:cNvPicPr/>
          <p:nvPr/>
        </p:nvPicPr>
        <p:blipFill>
          <a:blip r:embed="rId3"/>
          <a:stretch/>
        </p:blipFill>
        <p:spPr>
          <a:xfrm>
            <a:off x="468360" y="37162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се отчетливее проступают черты будущей космической индустрии, космической технологии, применения космических энерго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Рисунок15"/>
          <p:cNvPicPr/>
          <p:nvPr/>
        </p:nvPicPr>
        <p:blipFill>
          <a:blip r:embed="rId1"/>
          <a:stretch/>
        </p:blipFill>
        <p:spPr>
          <a:xfrm>
            <a:off x="1042920" y="3645000"/>
            <a:ext cx="2233800" cy="222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Рисунок16"/>
          <p:cNvPicPr/>
          <p:nvPr/>
        </p:nvPicPr>
        <p:blipFill>
          <a:blip r:embed="rId2"/>
          <a:stretch/>
        </p:blipFill>
        <p:spPr>
          <a:xfrm>
            <a:off x="3643200" y="2571840"/>
            <a:ext cx="2152800" cy="21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Рисунок156"/>
          <p:cNvPicPr/>
          <p:nvPr/>
        </p:nvPicPr>
        <p:blipFill>
          <a:blip r:embed="rId3"/>
          <a:stretch/>
        </p:blipFill>
        <p:spPr>
          <a:xfrm>
            <a:off x="6372360" y="3213000"/>
            <a:ext cx="2232000" cy="21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ahoma"/>
              </a:rPr>
              <a:t>Вывод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если человечеством в самое ближайшее время не будут приняты эффективные меры для борьбы с космическим мусором, то космическая эпоха в истории человечества может в ближайшее время бесславно закончиться. Космическое пространство не находится под юрисдикцией какого-либо государства. Это в чистом виде международный объект охраны. Таким образом, одна из важнейших проблем, возникающих в процессе индустриального освоения космоса, состоит в определении специфических факторов допустимых границ антропогенного воздействия на окружающую среду и околоземное пространство. Нельзя не признать, что сегодня имеет место отрицательное воздействие космической техники на окружающую среду (разрушение озонового слоя, засорение атмосферы окислами металлов, углерода, азота, а ближнего космоса - частями отработанных космических летательных аппаратов). Поэтому очень важно вести изучение последствий её влияния с точки зрения эколо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своение космоса стало одной из важнейших международных глобальных проб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9" descr="Рисунок6"/>
          <p:cNvPicPr/>
          <p:nvPr/>
        </p:nvPicPr>
        <p:blipFill>
          <a:blip r:embed="rId1"/>
          <a:stretch/>
        </p:blipFill>
        <p:spPr>
          <a:xfrm>
            <a:off x="1116000" y="1700280"/>
            <a:ext cx="1592280" cy="494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Рисунок7"/>
          <p:cNvPicPr/>
          <p:nvPr/>
        </p:nvPicPr>
        <p:blipFill>
          <a:blip r:embed="rId2"/>
          <a:stretch/>
        </p:blipFill>
        <p:spPr>
          <a:xfrm>
            <a:off x="5724360" y="1844640"/>
            <a:ext cx="14544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35812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Космос является глобальной средой, общим   достоянием человечеств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571760"/>
            <a:ext cx="3357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еперь, когда космические программы существенно усложнились, их выполнение требует концентрации технических, экономических, интеллектуальных усилий многих стран и на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3" descr="5"/>
          <p:cNvPicPr/>
          <p:nvPr/>
        </p:nvPicPr>
        <p:blipFill>
          <a:blip r:embed="rId1"/>
          <a:stretch/>
        </p:blipFill>
        <p:spPr>
          <a:xfrm>
            <a:off x="4648320" y="247176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367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ирное освоение Космоса, предусматривающее отказ от военных программ, базируется на использовании новейших достижений науки и техники, производства и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Рисунок2"/>
          <p:cNvPicPr/>
          <p:nvPr/>
        </p:nvPicPr>
        <p:blipFill>
          <a:blip r:embed="rId1"/>
          <a:stretch/>
        </p:blipFill>
        <p:spPr>
          <a:xfrm>
            <a:off x="4067280" y="404640"/>
            <a:ext cx="4932360" cy="328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6680521"/>
          <p:cNvPicPr/>
          <p:nvPr/>
        </p:nvPicPr>
        <p:blipFill>
          <a:blip r:embed="rId2"/>
          <a:stretch/>
        </p:blipFill>
        <p:spPr>
          <a:xfrm>
            <a:off x="6012000" y="4005360"/>
            <a:ext cx="2663640" cy="255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015"/>
          <p:cNvPicPr/>
          <p:nvPr/>
        </p:nvPicPr>
        <p:blipFill>
          <a:blip r:embed="rId3"/>
          <a:stretch/>
        </p:blipFill>
        <p:spPr>
          <a:xfrm>
            <a:off x="826920" y="407664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ff0000"/>
                </a:solidFill>
                <a:latin typeface="Tahoma"/>
              </a:rPr>
              <a:t>Космическая проблема.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мос - среда для человека новая, пока еще не обжитая. Но и здесь возникла извечная проблема засорения околоземного пространства обломками космических аппаратов. Причем различают наблюдаемый и ненаблюдаемый космический мусор, количество которого неизвестно. Космический мусор появляется в процессе работы орбитальных станций и космических аппаратов, и в результате их последующей преднамеренной ликвидации. Он включает в себя  также отработавшие отделяемые элементы конструкций космических  аппар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987_1234960811_full"/>
          <p:cNvPicPr/>
          <p:nvPr/>
        </p:nvPicPr>
        <p:blipFill>
          <a:blip r:embed="rId1"/>
          <a:stretch/>
        </p:blipFill>
        <p:spPr>
          <a:xfrm>
            <a:off x="826920" y="4508640"/>
            <a:ext cx="310680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ages"/>
          <p:cNvPicPr/>
          <p:nvPr/>
        </p:nvPicPr>
        <p:blipFill>
          <a:blip r:embed="rId2"/>
          <a:stretch/>
        </p:blipFill>
        <p:spPr>
          <a:xfrm>
            <a:off x="5219640" y="4581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2960" y="-518616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 современным данным в ближнем космосе находится порядка 3000 тонн космического мусора, что составляет около 1 % от массы всей верхней атмосферы выше 200 км.[4] Растущее засорение космоса представляет серьезную опасность для космических станций и пилотируемых полет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images (2)"/>
          <p:cNvPicPr/>
          <p:nvPr/>
        </p:nvPicPr>
        <p:blipFill>
          <a:blip r:embed="rId1"/>
          <a:stretch/>
        </p:blipFill>
        <p:spPr>
          <a:xfrm>
            <a:off x="900000" y="4437000"/>
            <a:ext cx="25434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ages (1)"/>
          <p:cNvPicPr/>
          <p:nvPr/>
        </p:nvPicPr>
        <p:blipFill>
          <a:blip r:embed="rId2"/>
          <a:stretch/>
        </p:blipFill>
        <p:spPr>
          <a:xfrm>
            <a:off x="5508720" y="43657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572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 второй половине ХХ в. обозначились два главных направления в изучении и использовании космического пространства: космическое землеведение и космическое производ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Рисунок5"/>
          <p:cNvPicPr/>
          <p:nvPr/>
        </p:nvPicPr>
        <p:blipFill>
          <a:blip r:embed="rId1"/>
          <a:stretch/>
        </p:blipFill>
        <p:spPr>
          <a:xfrm>
            <a:off x="324000" y="981000"/>
            <a:ext cx="3886200" cy="48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daf7"/>
                </a:solidFill>
                <a:latin typeface="Tahoma"/>
              </a:rPr>
              <a:t>Использование космической техник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смической техники  в системах связи существенно повысило ее эффективность, позволило связывать между собой все уголки земного шара, дало возможность широко использовать самые информативные короткие волны, на которых, в частности, работает телевид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55"/>
          <p:cNvPicPr/>
          <p:nvPr/>
        </p:nvPicPr>
        <p:blipFill>
          <a:blip r:embed="rId1"/>
          <a:stretch/>
        </p:blipFill>
        <p:spPr>
          <a:xfrm>
            <a:off x="6443640" y="1341360"/>
            <a:ext cx="24145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-53416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вые возможности для повышения качества, оперативности и надежности связи открылись с запуском искусственных спутников Земли. находясь в поле прямой радиовидимости большого числа удаленных друг от друга наземных пунктов, спутник позволяет объединить их сетью космической связи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769958965"/>
          <p:cNvPicPr/>
          <p:nvPr/>
        </p:nvPicPr>
        <p:blipFill>
          <a:blip r:embed="rId1"/>
          <a:stretch/>
        </p:blipFill>
        <p:spPr>
          <a:xfrm>
            <a:off x="826920" y="37893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eter_Hennessey_5"/>
          <p:cNvPicPr/>
          <p:nvPr/>
        </p:nvPicPr>
        <p:blipFill>
          <a:blip r:embed="rId2"/>
          <a:stretch/>
        </p:blipFill>
        <p:spPr>
          <a:xfrm>
            <a:off x="5292720" y="3573360"/>
            <a:ext cx="30369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7T15:28:28Z</dcterms:created>
  <dc:creator>Елена</dc:creator>
  <dc:description/>
  <dc:language>en-US</dc:language>
  <cp:lastModifiedBy>Пользователь</cp:lastModifiedBy>
  <dcterms:modified xsi:type="dcterms:W3CDTF">2013-10-01T20:25:06Z</dcterms:modified>
  <cp:revision>8</cp:revision>
  <dc:subject/>
  <dc:title>Мирное освоение космоса: новые горизонты</dc:title>
</cp:coreProperties>
</file>