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83B6-485E-47C3-B414-B356A48D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AE4D-232A-408C-8EEF-EADA8D8B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904E-F708-4CA3-BDB8-6C743F0F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6034-A3F9-4CFA-AB05-B38E0498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F987-5879-4F5D-98D9-FA452EDC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EF0-8FF0-443E-9D9B-CC850D00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CCB6-16C8-40FA-8E9E-259E875B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DC70-4FAE-4DF7-8DDF-80CAB9D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11B6-B16F-4767-904D-A044AC88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00E4-86F9-4E0D-B031-70210DE6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DD6E-62FE-4860-8BE9-C0716D1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88C5-D9FB-446F-9D85-44534A4D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D15F-DAC5-4952-AB23-FA47197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C5A5-89C9-4BE3-BC23-952AC4C7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8201-A551-4E5F-BEB3-9325432E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ED11-9AE4-4FE6-8DE6-9F7B70E5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A539-E3C8-4F0E-BE61-DB701332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9F72-D06C-40F7-B777-2725B61F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3FA6-AF35-4E83-81C0-778042F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7955-0E9E-4CA4-98F4-F97FF165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CAA4-B031-4A03-A202-4EBA2E10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1D8B-FAE5-4BFF-923F-819EBFA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6F27-261C-4495-9378-26009E7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599C-4B89-43BC-8A05-D130FC18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08AE-666C-4F0D-BC28-410ACBBABA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A18B-F708-4BA0-9F7F-48FC65EDB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971640" y="54936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Электроемкость.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755640" y="2565360"/>
            <a:ext cx="727380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Конденсаторы.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50920" y="4581360"/>
            <a:ext cx="84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Энергия заряженного конденсатора.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fdef6"/>
                </a:solidFill>
                <a:latin typeface="Arial"/>
              </a:rPr>
              <a:t>Соединение конденсаторов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1934640"/>
            <a:ext cx="46432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следоват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4956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аралл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468360" y="4927680"/>
            <a:ext cx="2951280" cy="1295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5435640" y="5157720"/>
            <a:ext cx="3456000" cy="13035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 flipH="1">
            <a:off x="3058920" y="907920"/>
            <a:ext cx="86508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24360" y="981000"/>
            <a:ext cx="165564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33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508720" y="2852640"/>
            <a:ext cx="3311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067280" y="18900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3708360" cy="25653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Схема из 6 конденсаторов - 2"/>
          <p:cNvPicPr/>
          <p:nvPr/>
        </p:nvPicPr>
        <p:blipFill>
          <a:blip r:embed="rId3"/>
          <a:stretch/>
        </p:blipFill>
        <p:spPr>
          <a:xfrm>
            <a:off x="324000" y="333360"/>
            <a:ext cx="3189240" cy="36734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78520" y="332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хемы соединения конденса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Вывод формулы энергии заряженного конденсатор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1916280"/>
            <a:ext cx="0" cy="19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76360" y="191628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9640" y="2276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1280" y="2852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4360" y="35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177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0360" y="15566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77800" y="1627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q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908000" y="1628640"/>
                <a:ext cx="18720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68360" y="2781360"/>
                <a:ext cx="1513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6300720" y="2349360"/>
                <a:ext cx="201636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300720" y="4869000"/>
                <a:ext cx="1974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300720" y="3429000"/>
                <a:ext cx="2016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050920" y="3429000"/>
                <a:ext cx="12970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924360" y="3716280"/>
                <a:ext cx="1800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19640" y="4869000"/>
                <a:ext cx="18000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427640" y="1628640"/>
                <a:ext cx="66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Е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5076720" y="17791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яженность созданная одной  пласт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475920"/>
            <a:ext cx="8893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нергия конденсатора равна работе, которую совершит электрическое поле при сближении пластин конденсатора вплотную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ли равна работе по разделению положительных и отрицательных зарядов, необходимой при зарядке конденсатор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64000" y="333000"/>
            <a:ext cx="33228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ФОТОВСПЫШК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4221000"/>
            <a:ext cx="3682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КЛАВИА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384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rcRect l="0" t="13626" r="0" b="15931"/>
          <a:stretch/>
        </p:blipFill>
        <p:spPr>
          <a:xfrm>
            <a:off x="4381560" y="3860640"/>
            <a:ext cx="476244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ЭЛЕКТРОЕМКОСТЬ (С) - характеризует способность двух проводников накапливать электрический заряд.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 зависит от q и U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висит от геометрических размеров проводников, их формы, взаимного расположени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ических свойств среды между провод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0" t="0" r="65913" b="0"/>
          <a:stretch/>
        </p:blipFill>
        <p:spPr>
          <a:xfrm>
            <a:off x="0" y="404640"/>
            <a:ext cx="4032360" cy="3070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rcRect l="44479" t="0" r="0" b="0"/>
          <a:stretch/>
        </p:blipFill>
        <p:spPr>
          <a:xfrm>
            <a:off x="4067280" y="692280"/>
            <a:ext cx="507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964720" cy="5472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3419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КОНДЕНСАТОРЫ -  два проводника, разделенных слоем диэлектрика, толщина диэлектрика много меньше размеров проводника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5111640" y="2781360"/>
            <a:ext cx="4032360" cy="1888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84360" y="436788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Обозначение на электрических схемах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             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619280" y="5157720"/>
            <a:ext cx="4321080" cy="11653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79280" y="508248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Все электрическое поле сосредоточено внутри конденсатора.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Заряд конденсатора - это абсолютное значение заряда одной из обкладок конденса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667120" cy="45338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6011640" cy="48099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1908000" y="1154160"/>
            <a:ext cx="6705720" cy="53640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0" y="326880"/>
            <a:ext cx="7380360" cy="5904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395280" y="333360"/>
            <a:ext cx="76201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Виды конденсаторов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 виду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иэлектри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воздушные, слюдяные, керамические, электролитические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о форм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обкладок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плоские, сферические.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3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 величине емкост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постоянные, переменные (подстроечные)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381560" y="1844640"/>
            <a:ext cx="4762440" cy="3809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40" y="393372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денсатор переменной ем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94760" y="57340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денсатор постоянной ем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Электроемкость плоского конденсатора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46083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3:47:53Z</dcterms:created>
  <dc:creator>Борис</dc:creator>
  <dc:description/>
  <dc:language>en-US</dc:language>
  <cp:lastModifiedBy>Борис</cp:lastModifiedBy>
  <dcterms:modified xsi:type="dcterms:W3CDTF">2010-04-02T14:58:41Z</dcterms:modified>
  <cp:revision>6</cp:revision>
  <dc:subject/>
  <dc:title>Слайд 1</dc:title>
</cp:coreProperties>
</file>