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19D6-9FCF-43BE-812D-D1CE8050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1001-8C3D-4C05-A291-927F04E0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A17C-DB0A-4D5B-AC4D-69B88F78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F7C1-1575-46AB-9F08-40D8611C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FA17-F110-4D48-99D7-C41EFBCD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675D-1ADB-42C6-94A1-2F472F4F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DCD-09E1-42B9-9515-E75663F9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12BD-DD79-43C2-9B0B-C30DEF7C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180C-0B00-4B62-B8CB-9A3FABC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DB28-B1CD-42F6-8926-6424F91B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4C54-68DE-4D7B-BEC9-D63C389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138-E2F2-4B9E-8FB7-613E9D20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4FE4-494B-43EA-B293-283AD8C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A747-E175-4ED6-A235-AF0FDE46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AF4D-6261-44FC-81EA-7676922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D1FA-6E5F-4662-9047-7DFA02D3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CDC2-8914-4377-8AC6-4E7A1C9D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9637-034A-4F05-AE43-CB808F31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DB78-3B66-4202-B219-6A90FFE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DC95-35BF-4A13-B8AD-2585CA44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AE47-78A6-4277-BBB7-5D60C76E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9375-838F-41DE-B42B-B083925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453F-8C06-45DA-92AE-49C8E74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E4AF-FD3E-4FD5-92CE-BB7CF2D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D340-7103-4F1C-A8AC-B0894F271D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FC2F-CB86-4379-9A66-0C75E33E2E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971640" y="54936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лектроемкость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755640" y="2565360"/>
            <a:ext cx="727380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Конденсаторы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50920" y="4581360"/>
            <a:ext cx="84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Impact"/>
              </a:rPr>
              <a:t>Энергия заряженного конденсатора.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89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fdef6"/>
                </a:solidFill>
                <a:latin typeface="Arial"/>
              </a:rPr>
              <a:t>Соединение конденсаторов</a:t>
            </a:r>
            <a:endParaRPr b="0" lang="en-US" sz="4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934640"/>
            <a:ext cx="46432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ледоват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48320" y="193464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араллель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468360" y="4927680"/>
            <a:ext cx="2951280" cy="129528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3456000" cy="13035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 flipH="1">
            <a:off x="3058920" y="907920"/>
            <a:ext cx="865080" cy="1081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24360" y="981000"/>
            <a:ext cx="165564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324000" y="2924280"/>
            <a:ext cx="33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311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4284720" cy="24922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3708360" cy="256536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Схема из 6 конденсаторов - 2"/>
          <p:cNvPicPr/>
          <p:nvPr/>
        </p:nvPicPr>
        <p:blipFill>
          <a:blip r:embed="rId3"/>
          <a:stretch/>
        </p:blipFill>
        <p:spPr>
          <a:xfrm>
            <a:off x="324000" y="333360"/>
            <a:ext cx="3189240" cy="367344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4381560" y="304812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478520" y="3322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хемы соединения конденсато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Вывод формулы энергии заряженного конденсатор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916280"/>
            <a:ext cx="0" cy="19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76360" y="1916280"/>
            <a:ext cx="0" cy="18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9640" y="2276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852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4360" y="3500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77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0360" y="155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77800" y="1627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q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908000" y="1628640"/>
                <a:ext cx="18720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68360" y="2781360"/>
                <a:ext cx="1513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d</m:t>
                    </m:r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6300720" y="2349360"/>
                <a:ext cx="201636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6300720" y="4869000"/>
                <a:ext cx="19749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300720" y="3429000"/>
                <a:ext cx="2016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050920" y="3429000"/>
                <a:ext cx="12970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924360" y="3716280"/>
                <a:ext cx="1800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3419640" y="4869000"/>
                <a:ext cx="1800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427640" y="1628640"/>
                <a:ext cx="666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Е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5076720" y="17791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пряженность созданная одной  пласт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75920"/>
            <a:ext cx="8893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нергия конденсатора равна работе, которую совершит электрическое поле при сближении пластин конденсатора вплотную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ли равна работе по разделению положительных и отрицательных зарядов, необходимой при зарядке конденсатор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64000" y="333000"/>
            <a:ext cx="3322800" cy="18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ФОТОВСПЫШК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4221000"/>
            <a:ext cx="3682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ЛАВИА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ПЬЮ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38436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rcRect l="0" t="13626" r="0" b="15931"/>
          <a:stretch/>
        </p:blipFill>
        <p:spPr>
          <a:xfrm>
            <a:off x="4381560" y="3860640"/>
            <a:ext cx="4762440" cy="22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ЭЛЕКТРОЕМКОСТЬ (С) - характеризует способность двух проводников накапливать электрический заряд.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 зависит от q и U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висит от геометрических размеров проводников, их формы, взаимного расположения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ических свойств среды между провод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0" r="65913" b="0"/>
          <a:stretch/>
        </p:blipFill>
        <p:spPr>
          <a:xfrm>
            <a:off x="0" y="404640"/>
            <a:ext cx="4032360" cy="30704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rcRect l="44479" t="0" r="0" b="0"/>
          <a:stretch/>
        </p:blipFill>
        <p:spPr>
          <a:xfrm>
            <a:off x="4067280" y="692280"/>
            <a:ext cx="507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64720" cy="54723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3419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КОНДЕНСАТОРЫ -  два проводника, разделенных слоем диэлектрика, толщина диэлектрика много меньше размеров проводника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5111640" y="2781360"/>
            <a:ext cx="4032360" cy="1888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684360" y="4367880"/>
            <a:ext cx="611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Обозначение на электрических схемах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              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619280" y="5157720"/>
            <a:ext cx="4321080" cy="11653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79280" y="50824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Все электрическое поле сосредоточено внутри конденсатора.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Заряд конденсатора - это абсолютное значение заряда одной из обкладок конденса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667120" cy="45338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6011640" cy="480996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1908000" y="1154160"/>
            <a:ext cx="6705720" cy="53640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0" y="326880"/>
            <a:ext cx="7380360" cy="59040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76201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Виды конденсаторов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иду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диэлектрик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воздушные, слюдяные, керамические, электролитические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о форм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обкладок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лоские, сферические.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3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по величине емкост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постоянные, переменные (подстроечные)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381560" y="1844640"/>
            <a:ext cx="4762440" cy="3809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440" y="393372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ереме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794760" y="573408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денсатор постоянной ем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Электроемкость плоского конденсатора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460836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3:47:53Z</dcterms:created>
  <dc:creator>Борис</dc:creator>
  <dc:description/>
  <dc:language>en-US</dc:language>
  <cp:lastModifiedBy>Борис</cp:lastModifiedBy>
  <dcterms:modified xsi:type="dcterms:W3CDTF">2010-04-02T14:58:41Z</dcterms:modified>
  <cp:revision>6</cp:revision>
  <dc:subject/>
  <dc:title>Слайд 1</dc:title>
</cp:coreProperties>
</file>