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29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83785-647B-4ECD-B0F7-8B1FD7F0B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9F110-F64D-4AC1-AD55-92B17DAB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6337E-2951-4D80-AD96-967B472E4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AE45B-4BDB-4B20-8C76-8996D6CD3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B07F-356A-4FBE-9703-070A59AFE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EDBE-6FCE-4120-9A5F-A63CDD1B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97D3-28CB-4035-B59B-789B3AE2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2DE31-8CD7-40A0-B185-36B58325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A8C7-3CE5-4143-946F-DB2CFCBB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9C1B-62E7-48E7-BCCD-AE08F518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D25B-018F-4D51-BAF0-0AF75CE4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53C8F-DC7E-4A0E-9460-65BF2F1A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7EDCC-A9A3-42B9-AE06-4B398DDF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910A-612A-455E-841D-FAA1FB19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4562-48CB-4797-B1CB-AF99E95E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7602-4EC7-4957-BD6E-097AA12D2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5DAF-3364-4DB3-8A17-E2DA0DFB1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38950-4985-401D-A0A9-375DEA55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3C3E8-4588-44A9-9C04-8A18C480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EFBBE-926A-4E97-BEEA-BCC98BE8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B0D25-579B-4375-9B6E-537CC6A1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DA7AD-1763-4430-9469-C5A6193D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BBB1B-18B6-4730-916D-895DB938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2FEE6-D212-46AA-9BAB-D2A194B9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ABBD-BC44-40E3-A954-98B5457D42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A595-D05B-4228-905F-8FDD58D60F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971640" y="549360"/>
            <a:ext cx="7632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Impact"/>
              </a:rPr>
              <a:t>Электроемкость.</a:t>
            </a:r>
            <a:endParaRPr b="1" i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755640" y="2565360"/>
            <a:ext cx="7273800" cy="167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Impact"/>
              </a:rPr>
              <a:t>Конденсаторы.</a:t>
            </a:r>
            <a:endParaRPr b="1" i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250920" y="4581360"/>
            <a:ext cx="8424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Impact"/>
              </a:rPr>
              <a:t>Энергия заряженного конденсатора.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89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dfdef6"/>
                </a:solidFill>
                <a:latin typeface="Arial"/>
              </a:rPr>
              <a:t>Соединение конденсаторов</a:t>
            </a:r>
            <a:endParaRPr b="0" lang="en-US" sz="4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0" y="1934640"/>
            <a:ext cx="46432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следовательно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48320" y="1934640"/>
            <a:ext cx="44956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араллельно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468360" y="4927680"/>
            <a:ext cx="2951280" cy="129528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3"/>
          <a:stretch/>
        </p:blipFill>
        <p:spPr>
          <a:xfrm>
            <a:off x="5435640" y="5157720"/>
            <a:ext cx="3456000" cy="130356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 flipH="1">
            <a:off x="3058920" y="907920"/>
            <a:ext cx="865080" cy="1081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924360" y="981000"/>
            <a:ext cx="1655640" cy="863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4"/>
          <a:stretch/>
        </p:blipFill>
        <p:spPr>
          <a:xfrm>
            <a:off x="324000" y="2924280"/>
            <a:ext cx="3384360" cy="158436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5"/>
          <a:stretch/>
        </p:blipFill>
        <p:spPr>
          <a:xfrm>
            <a:off x="5508720" y="2852640"/>
            <a:ext cx="3311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4067280" y="189000"/>
            <a:ext cx="4284720" cy="249228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0" y="4292640"/>
            <a:ext cx="3708360" cy="256536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Схема из 6 конденсаторов - 2"/>
          <p:cNvPicPr/>
          <p:nvPr/>
        </p:nvPicPr>
        <p:blipFill>
          <a:blip r:embed="rId3"/>
          <a:stretch/>
        </p:blipFill>
        <p:spPr>
          <a:xfrm>
            <a:off x="324000" y="333360"/>
            <a:ext cx="3189240" cy="367344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4"/>
          <a:stretch/>
        </p:blipFill>
        <p:spPr>
          <a:xfrm>
            <a:off x="4381560" y="3048120"/>
            <a:ext cx="4762440" cy="380988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478520" y="332280"/>
            <a:ext cx="55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Схемы соединения конденсатор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Вывод формулы энергии заряженного конденсатора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68360" y="1916280"/>
            <a:ext cx="0" cy="19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476360" y="1916280"/>
            <a:ext cx="0" cy="18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9640" y="227664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11280" y="285264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84360" y="350028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85800" y="1772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80360" y="155664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477800" y="162792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q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1908000" y="1628640"/>
                <a:ext cx="187200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qd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3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2268360" y="2781360"/>
                <a:ext cx="15130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d</m:t>
                    </m:r>
                    <m:r>
                      <m:t xml:space="preserve">=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6300720" y="2349360"/>
                <a:ext cx="2016360" cy="105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qU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6300720" y="4869000"/>
                <a:ext cx="1974960" cy="13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6300720" y="3429000"/>
                <a:ext cx="201636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2050920" y="3429000"/>
                <a:ext cx="129708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3924360" y="3716280"/>
                <a:ext cx="18000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3419640" y="4869000"/>
                <a:ext cx="180000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4427640" y="1628640"/>
                <a:ext cx="666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Е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9" name=""/>
          <p:cNvSpPr/>
          <p:nvPr/>
        </p:nvSpPr>
        <p:spPr>
          <a:xfrm>
            <a:off x="5076720" y="1779120"/>
            <a:ext cx="40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пряженность созданная одной  пластин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1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0" y="475920"/>
            <a:ext cx="88930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Энергия конденсатора равна работе, которую совершит электрическое поле при сближении пластин конденсатора вплотную,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или равна работе по разделению положительных и отрицательных зарядов, необходимой при зарядке конденсатора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64000" y="333000"/>
            <a:ext cx="33228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def6"/>
                </a:solidFill>
                <a:latin typeface="Arial"/>
              </a:rPr>
              <a:t>ФОТОВСПЫШКИ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50920" y="4221000"/>
            <a:ext cx="36828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 КЛАВИАТУ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МПЬЮТ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537080" cy="338436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2"/>
          <a:srcRect l="0" t="13626" r="0" b="15931"/>
          <a:stretch/>
        </p:blipFill>
        <p:spPr>
          <a:xfrm>
            <a:off x="4381560" y="3860640"/>
            <a:ext cx="4762440" cy="22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0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60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ЭЛЕКТРОЕМКОСТЬ (С) - характеризует способность двух проводников накапливать электрический заряд.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 зависит от q и U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зависит от геометрических размеров проводников, их формы, взаимного расположения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лектрических свойств среды между проводника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" descr=""/>
          <p:cNvPicPr/>
          <p:nvPr/>
        </p:nvPicPr>
        <p:blipFill>
          <a:blip r:embed="rId1"/>
          <a:srcRect l="0" t="0" r="65913" b="0"/>
          <a:stretch/>
        </p:blipFill>
        <p:spPr>
          <a:xfrm>
            <a:off x="0" y="404640"/>
            <a:ext cx="4032360" cy="307044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2"/>
          <a:srcRect l="44479" t="0" r="0" b="0"/>
          <a:stretch/>
        </p:blipFill>
        <p:spPr>
          <a:xfrm>
            <a:off x="4067280" y="692280"/>
            <a:ext cx="507672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8964720" cy="547236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2"/>
          <a:stretch/>
        </p:blipFill>
        <p:spPr>
          <a:xfrm>
            <a:off x="1258920" y="1484280"/>
            <a:ext cx="34192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2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КОНДЕНСАТОРЫ -  два проводника, разделенных слоем диэлектрика, толщина диэлектрика много меньше размеров проводника.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5111640" y="2781360"/>
            <a:ext cx="4032360" cy="188892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684360" y="4367880"/>
            <a:ext cx="611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Обозначение на электрических схемах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                                             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3"/>
          <a:stretch/>
        </p:blipFill>
        <p:spPr>
          <a:xfrm>
            <a:off x="1619280" y="5157720"/>
            <a:ext cx="4321080" cy="11653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179280" y="5082480"/>
            <a:ext cx="89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Все электрическое поле сосредоточено внутри конденсатора.</a:t>
            </a:r>
            <a:br>
              <a:rPr sz="2400"/>
            </a:b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Заряд конденсатора - это абсолютное значение заряда одной из обкладок конденсатор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5667120" cy="453384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6011640" cy="480996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3"/>
          <a:stretch/>
        </p:blipFill>
        <p:spPr>
          <a:xfrm>
            <a:off x="1908000" y="1154160"/>
            <a:ext cx="6705720" cy="536400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4"/>
          <a:stretch/>
        </p:blipFill>
        <p:spPr>
          <a:xfrm>
            <a:off x="0" y="326880"/>
            <a:ext cx="7380360" cy="590400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5"/>
          <a:stretch/>
        </p:blipFill>
        <p:spPr>
          <a:xfrm>
            <a:off x="395280" y="333360"/>
            <a:ext cx="7620120" cy="60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Виды конденсаторов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4400"/>
            </a:br>
            <a:r>
              <a:rPr b="1" lang="ru-RU" sz="4400" spc="-1" strike="noStrike">
                <a:solidFill>
                  <a:srgbClr val="cc0099"/>
                </a:solidFill>
                <a:latin typeface="Arial"/>
              </a:rPr>
              <a:t>1</a:t>
            </a: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. 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по виду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диэлектрика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: воздушные, слюдяные, керамические, электролитические</a:t>
            </a:r>
            <a:br>
              <a:rPr sz="4400"/>
            </a:br>
            <a:r>
              <a:rPr b="1" lang="ru-RU" sz="4400" spc="-1" strike="noStrike">
                <a:solidFill>
                  <a:srgbClr val="cc0099"/>
                </a:solidFill>
                <a:latin typeface="Arial"/>
              </a:rPr>
              <a:t>2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по форме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обкладок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: плоские, сферические.</a:t>
            </a:r>
            <a:br>
              <a:rPr sz="4400"/>
            </a:br>
            <a:r>
              <a:rPr b="1" lang="ru-RU" sz="4400" spc="-1" strike="noStrike">
                <a:solidFill>
                  <a:srgbClr val="cc0099"/>
                </a:solidFill>
                <a:latin typeface="Arial"/>
              </a:rPr>
              <a:t>3.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по величине емкости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: постоянные, переменные (подстроечные)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381560" y="1844640"/>
            <a:ext cx="4762440" cy="380988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4762440" cy="380988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1440" y="3933720"/>
            <a:ext cx="53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нденсатор переменной емк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794760" y="5734080"/>
            <a:ext cx="53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нденсатор постоянной емк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3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ff"/>
                </a:solidFill>
                <a:latin typeface="Arial"/>
              </a:rPr>
              <a:t>Электроемкость плоского конденсатора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1835280" y="3284640"/>
            <a:ext cx="4608360" cy="24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2T13:47:53Z</dcterms:created>
  <dc:creator>Борис</dc:creator>
  <dc:description/>
  <dc:language>en-US</dc:language>
  <cp:lastModifiedBy>Борис</cp:lastModifiedBy>
  <dcterms:modified xsi:type="dcterms:W3CDTF">2010-04-02T14:58:41Z</dcterms:modified>
  <cp:revision>6</cp:revision>
  <dc:subject/>
  <dc:title>Слайд 1</dc:title>
</cp:coreProperties>
</file>