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155-9C90-440D-845A-D8124FEC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7A1-D77E-4DDE-98CE-37C741A5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BE3-9ABC-4FCF-864F-F060CE8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1FE-EED2-4174-88FF-D7D374DD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E26-566F-486A-B358-90F138F3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3D5-3D9B-47CA-9024-FEAA3CEA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576-4AFF-414D-8426-CFD22179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F78-E6EA-40C9-90BF-81A622C8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C4C-42DB-4502-8D3D-2CCC114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D31-4594-4710-9C35-0FDF928F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90B-0F0A-49A2-ABA7-7FA82695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7FB-F4E7-4C1E-9869-8F55C3AF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D778-7E0F-4D79-B730-60B1AEE1C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cstur.ru/pics/DOL_Morskoi/sport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sudba.net/uploads/news/i_1269469384_4baa90c877d7b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40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plakat_urok_fizkul_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s100photo1a"/>
          <p:cNvPicPr/>
          <p:nvPr/>
        </p:nvPicPr>
        <p:blipFill>
          <a:blip r:embed="rId2"/>
          <a:stretch/>
        </p:blipFill>
        <p:spPr>
          <a:xfrm>
            <a:off x="324000" y="189000"/>
            <a:ext cx="1800000" cy="1350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2700360" y="404640"/>
            <a:ext cx="62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Конкур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явление и распространение инновационного педагогического опыта в области преподавания физической культуры и формирования навыков здорового образа жизни у подрастающего поко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50920" y="2852640"/>
            <a:ext cx="331308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 на   повышение значимости занятий физической культурой и   спортом, совершенств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физического воспитания подрастающего поколения, приоб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астающе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истематическим занят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ой куль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по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79280" y="1700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Картинка 39 из 1039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2205000"/>
            <a:ext cx="52927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627280" y="333360"/>
            <a:ext cx="6337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Конкур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концепции новаторского урока по физической культуре с применением современных оздоровительных технологий, приемов, методов и средств физической культуры и спорта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ляризация профессии «преподаватель физической культуры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популяризация занятий физической культурой и спортом среди подрастающего поко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ие внедрению современных инновационных образовательных технологий в практику учебного процесса, связанного с физическим воспитанием подрастающего поколения, приобщением к систематическим занятиям физической культурой и спортом, формированием навыков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s100photo1a"/>
          <p:cNvPicPr/>
          <p:nvPr/>
        </p:nvPicPr>
        <p:blipFill>
          <a:blip r:embed="rId2"/>
          <a:stretch/>
        </p:blipFill>
        <p:spPr>
          <a:xfrm>
            <a:off x="324000" y="18900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banner"/>
          <p:cNvPicPr/>
          <p:nvPr/>
        </p:nvPicPr>
        <p:blipFill>
          <a:blip r:embed="rId3"/>
          <a:stretch/>
        </p:blipFill>
        <p:spPr>
          <a:xfrm>
            <a:off x="179280" y="3500280"/>
            <a:ext cx="2411640" cy="2411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"/>
          <p:cNvSpPr/>
          <p:nvPr/>
        </p:nvSpPr>
        <p:spPr>
          <a:xfrm>
            <a:off x="250920" y="206064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специалистов, обладающих передовым педагогическим опытом в сфере физического воспитания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2637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 творчески работающих педагогов и специалистов в сфере физического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539640" y="5013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 равных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адаптации инвалидов и организации урока в рамках программы инклюзивного образования для учащихся средних общеобразовательных учреждений разных возрастных груп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Картинка 38 из 1039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2951280"/>
            <a:ext cx="3167280" cy="2116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4246560" y="242100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еселая переменк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организации комплексных программ физических упражнений в межурочный период для учащихся средних общеобразовательных учреждений начальных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854440" y="260280"/>
            <a:ext cx="6289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минации Конкурс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граю и расту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организации игрового урока развивающей направленности для воспитанников дошкольных образовательных учреждений (содержание урока может включать подвижные, народные игры, эстафет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64000" y="0"/>
            <a:ext cx="6480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ы вместе – мы коман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организации урока, способствующего развитию чувства коллективизма и навыков работы в команде (содержание урока может включать спортивные игры, эстафеты, сочетание различных командных видов спорта, групповые и танцевальные занятия под музык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Школа чемпионо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а на выявление успешного опыта организации урока, направленного на развитие индивидуальных качеств воспитанников (двигательных, морально-волевых и других качест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рок после уроков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а на выявление успешного опыта организации урока дополнительного образования для учащихся средних общеобразовательных учреждений разных возрастных групп. Содержание урока может включать использование средств и методов одного или нескольких видов спорта, (художественной и спортивной гимнастики, плавания, легкой атлетики, различных видов единоборств и т.п.), фитнес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1253559618_DSC_6300"/>
          <p:cNvPicPr/>
          <p:nvPr/>
        </p:nvPicPr>
        <p:blipFill>
          <a:blip r:embed="rId3"/>
          <a:srcRect l="0" t="0" r="-3126" b="9020"/>
          <a:stretch/>
        </p:blipFill>
        <p:spPr>
          <a:xfrm>
            <a:off x="304920" y="3284640"/>
            <a:ext cx="200808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411280" y="18900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ами Конкурса могу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ециалисты в области физического воспитания: учителя физической культуры средних общеобразовательных учреждений, образовательных учреждений среднего профессионального образования, воспитатели по физической культуре дошкольных образовательных учреждений, преподаватели образовательных учреждений высшего профессионального образования, фитнес-тренеры (далее – конкурсанты). Конкурсант должен иметь стаж педагогической работы в сфере физической культуры, спорта или фитнеса не менее одного г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Картинка 3 из 103954"/>
          <p:cNvPicPr/>
          <p:nvPr/>
        </p:nvPicPr>
        <p:blipFill>
          <a:blip r:embed="rId3"/>
          <a:srcRect l="0" t="0" r="27185" b="0"/>
          <a:stretch/>
        </p:blipFill>
        <p:spPr>
          <a:xfrm>
            <a:off x="5292720" y="3645000"/>
            <a:ext cx="3218040" cy="295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Трофи-аэробика"/>
          <p:cNvPicPr/>
          <p:nvPr/>
        </p:nvPicPr>
        <p:blipFill>
          <a:blip r:embed="rId4"/>
          <a:srcRect l="12557" t="-553" r="3024" b="16558"/>
          <a:stretch/>
        </p:blipFill>
        <p:spPr>
          <a:xfrm>
            <a:off x="684360" y="3933720"/>
            <a:ext cx="374472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Картинка 59 из 103954"/>
          <p:cNvPicPr/>
          <p:nvPr/>
        </p:nvPicPr>
        <p:blipFill>
          <a:blip r:embed="rId3"/>
          <a:stretch/>
        </p:blipFill>
        <p:spPr>
          <a:xfrm>
            <a:off x="3564000" y="189000"/>
            <a:ext cx="255276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Картинка 75 из 103954"/>
          <p:cNvPicPr/>
          <p:nvPr/>
        </p:nvPicPr>
        <p:blipFill>
          <a:blip r:embed="rId4"/>
          <a:stretch/>
        </p:blipFill>
        <p:spPr>
          <a:xfrm>
            <a:off x="395280" y="3141720"/>
            <a:ext cx="4356000" cy="326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Картинка 105 из 103954"/>
          <p:cNvPicPr/>
          <p:nvPr/>
        </p:nvPicPr>
        <p:blipFill>
          <a:blip r:embed="rId5"/>
          <a:stretch/>
        </p:blipFill>
        <p:spPr>
          <a:xfrm>
            <a:off x="4932360" y="3664080"/>
            <a:ext cx="3833640" cy="2876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 flipV="1" rot="10800000">
            <a:off x="6521400" y="256680"/>
            <a:ext cx="237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ная раб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оит из анкеты, описания урока, видеозаписи урока, рекомендаций и фотографии конкурса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03640" y="333360"/>
            <a:ext cx="570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ки конкурсных раб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целям и задачам Конкурса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полнота представленной информации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эффективность воспитательных, образовательных и оздоровительных практик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наличие элементов педагогического новаторства и творческого подхода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уровень и степень внедрения разработки в практическую деятельность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   возможность распространения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030560" y="3645360"/>
            <a:ext cx="51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и Конкурса по решению Конкурсной комиссии получают почетные дипломы и денежное вознаграждение в размере до 50 000 руб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По итогам проведения Конкурса предполагается издание сборника, который будет содержать информацию о лучших конкурсных работах и  их авторах, которые приняли участие в Конкур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gg"/>
          <p:cNvPicPr/>
          <p:nvPr/>
        </p:nvPicPr>
        <p:blipFill>
          <a:blip r:embed="rId3"/>
          <a:stretch/>
        </p:blipFill>
        <p:spPr>
          <a:xfrm>
            <a:off x="179280" y="3645000"/>
            <a:ext cx="37450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Современный шаблон с голубым оформлением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s100photo1a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179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физ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95280" y="3573360"/>
            <a:ext cx="87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конкурсных работ и всех необходимых документов осуществ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5 апреля по 30 июня 20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по электронному адресу (документы с подписями и печатями в отсканированном виде): konkurs@fitness-aerobics.ru, либо по почте: 129090, Россия, Москва, Олимпийский проспект, д. 16, стр. 1, СК «Олимпийский», Федерация фитнес-аэробики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5564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оги Конкурса будут подведены в октябре 2010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бную информацию Вы можете найти на офици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ах Всероссийской политической парт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ДИНАЯ РОССИЯ» www.er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lesson_21_400"/>
          <p:cNvPicPr/>
          <p:nvPr/>
        </p:nvPicPr>
        <p:blipFill>
          <a:blip r:embed="rId3"/>
          <a:stretch/>
        </p:blipFill>
        <p:spPr>
          <a:xfrm>
            <a:off x="3203640" y="260280"/>
            <a:ext cx="496872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0:39:49Z</dcterms:created>
  <dc:creator>Admin</dc:creator>
  <dc:description/>
  <dc:language>en-US</dc:language>
  <cp:lastModifiedBy>ZooM</cp:lastModifiedBy>
  <dcterms:modified xsi:type="dcterms:W3CDTF">2013-12-03T20:51:50Z</dcterms:modified>
  <cp:revision>5</cp:revision>
  <dc:subject/>
  <dc:title>Слайд 1</dc:title>
</cp:coreProperties>
</file>