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807-AE2B-4130-A795-74C3F0CE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424-AC06-4B82-9C74-3AC6B76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1CD-4538-4F3C-818B-A9522549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463-190C-4C2C-B077-3BE6E6B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082-FB5D-45D0-A992-B22557E3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690-B168-4E72-8403-628E0E6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287-DAE6-47C3-AC60-34A65C34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4B3-FB65-49F3-93E5-DA5A12C1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CA8-C0E2-4644-87BF-812C3386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9DB-46EE-46AA-928F-A7D3FD93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1AB-F8EA-4D2F-8F0F-444F50A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EA8-B855-4BAA-9D63-2E06352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F874-9A9D-4D57-ADD1-DF8602BA7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cstur.ru/pics/DOL_Morskoi/sport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sudba.net/uploads/news/i_1269469384_4baa90c877d7b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40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plakat_urok_fizkul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100photo1a"/>
          <p:cNvPicPr/>
          <p:nvPr/>
        </p:nvPicPr>
        <p:blipFill>
          <a:blip r:embed="rId2"/>
          <a:stretch/>
        </p:blipFill>
        <p:spPr>
          <a:xfrm>
            <a:off x="324000" y="189000"/>
            <a:ext cx="1800000" cy="135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700360" y="40464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Конкур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явление и распространение инновационного педагогического опыта в области преподавания физической культуры и формирования навыков здорового образа жизни у подрастающего поко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0920" y="2852640"/>
            <a:ext cx="33130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 на   повышение значимости занятий физической культурой и   спортом, совершенств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физического воспитания подрастающего поколения, приоб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астающе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истематическим занят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ой куль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по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79280" y="1700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Картинка 39 из 1039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2205000"/>
            <a:ext cx="5292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627280" y="333360"/>
            <a:ext cx="6337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Кон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концепции новаторского урока по физической культуре с применением современных оздоровительных технологий, приемов, методов и средств физической культуры и спорта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изация профессии «преподаватель физической культуры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популяризация занятий физической культурой и спортом среди подрастающего поко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ие внедрению современных инновационных образовательных технологий в практику учебного процесса, связанного с физическим воспитанием подрастающего поколения, приобщением к систематическим занятиям физической культурой и спортом, формированием навыков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s100photo1a"/>
          <p:cNvPicPr/>
          <p:nvPr/>
        </p:nvPicPr>
        <p:blipFill>
          <a:blip r:embed="rId2"/>
          <a:stretch/>
        </p:blipFill>
        <p:spPr>
          <a:xfrm>
            <a:off x="324000" y="18900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banner"/>
          <p:cNvPicPr/>
          <p:nvPr/>
        </p:nvPicPr>
        <p:blipFill>
          <a:blip r:embed="rId3"/>
          <a:stretch/>
        </p:blipFill>
        <p:spPr>
          <a:xfrm>
            <a:off x="179280" y="3500280"/>
            <a:ext cx="2411640" cy="2411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250920" y="206064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специалистов, обладающих передовым педагогическим опытом в сфере физического воспитания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263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 творчески работающих педагогов и специалистов в сфере физического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539640" y="5013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 равных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адаптации инвалидов и организации урока в рамках программы инклюзивного образования для учащихся средних общеобразовательных учреждений разных возрастных груп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Картинка 38 из 1039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2951280"/>
            <a:ext cx="3167280" cy="2116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4246560" y="242100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еселая переменк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комплексных программ физических упражнений в межурочный период для учащихся средних общеобразовательных учреждений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854440" y="260280"/>
            <a:ext cx="6289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минации Конкурс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граю и раст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игрового урока развивающей направленности для воспитанников дошкольных образовательных учреждений (содержание урока может включать подвижные, народные игры, эстафе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64000" y="0"/>
            <a:ext cx="6480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ы вместе – мы коман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урока, способствующего развитию чувства коллективизма и навыков работы в команде (содержание урока может включать спортивные игры, эстафеты, сочетание различных командных видов спорта, групповые и танцевальные занятия под музык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Школа чемпионо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урока, направленного на развитие индивидуальных качеств воспитанников (двигательных, морально-волевых и других качест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рок после уроков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а на выявление успешного опыта организации урока дополнительного образования для учащихся средних общеобразовательных учреждений разных возрастных групп. Содержание урока может включать использование средств и методов одного или нескольких видов спорта, (художественной и спортивной гимнастики, плавания, легкой атлетики, различных видов единоборств и т.п.), фитнес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253559618_DSC_6300"/>
          <p:cNvPicPr/>
          <p:nvPr/>
        </p:nvPicPr>
        <p:blipFill>
          <a:blip r:embed="rId3"/>
          <a:srcRect l="0" t="0" r="-3126" b="9020"/>
          <a:stretch/>
        </p:blipFill>
        <p:spPr>
          <a:xfrm>
            <a:off x="304920" y="3284640"/>
            <a:ext cx="20080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411280" y="18900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ами Конкурса могу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ециалисты в области физического воспитания: учителя физической культуры средних общеобразовательных учреждений, образовательных учреждений среднего профессионального образования, воспитатели по физической культуре дошкольных образовательных учреждений, преподаватели образовательных учреждений высшего профессионального образования, фитнес-тренеры (далее – конкурсанты). Конкурсант должен иметь стаж педагогической работы в сфере физической культуры, спорта или фитнеса не менее одного г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Картинка 3 из 103954"/>
          <p:cNvPicPr/>
          <p:nvPr/>
        </p:nvPicPr>
        <p:blipFill>
          <a:blip r:embed="rId3"/>
          <a:srcRect l="0" t="0" r="27185" b="0"/>
          <a:stretch/>
        </p:blipFill>
        <p:spPr>
          <a:xfrm>
            <a:off x="5292720" y="3645000"/>
            <a:ext cx="3218040" cy="295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Трофи-аэробика"/>
          <p:cNvPicPr/>
          <p:nvPr/>
        </p:nvPicPr>
        <p:blipFill>
          <a:blip r:embed="rId4"/>
          <a:srcRect l="12557" t="-553" r="3024" b="16558"/>
          <a:stretch/>
        </p:blipFill>
        <p:spPr>
          <a:xfrm>
            <a:off x="684360" y="3933720"/>
            <a:ext cx="37447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Картинка 59 из 103954"/>
          <p:cNvPicPr/>
          <p:nvPr/>
        </p:nvPicPr>
        <p:blipFill>
          <a:blip r:embed="rId3"/>
          <a:stretch/>
        </p:blipFill>
        <p:spPr>
          <a:xfrm>
            <a:off x="3564000" y="189000"/>
            <a:ext cx="255276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75 из 103954"/>
          <p:cNvPicPr/>
          <p:nvPr/>
        </p:nvPicPr>
        <p:blipFill>
          <a:blip r:embed="rId4"/>
          <a:stretch/>
        </p:blipFill>
        <p:spPr>
          <a:xfrm>
            <a:off x="395280" y="3141720"/>
            <a:ext cx="4356000" cy="326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Картинка 105 из 103954"/>
          <p:cNvPicPr/>
          <p:nvPr/>
        </p:nvPicPr>
        <p:blipFill>
          <a:blip r:embed="rId5"/>
          <a:stretch/>
        </p:blipFill>
        <p:spPr>
          <a:xfrm>
            <a:off x="4932360" y="3664080"/>
            <a:ext cx="3833640" cy="2876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 flipV="1" rot="10800000">
            <a:off x="6521400" y="256680"/>
            <a:ext cx="237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ная раб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оит из анкеты, описания урока, видеозаписи урока, рекомендаций и фотографии конкурса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03640" y="333360"/>
            <a:ext cx="570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 конкурсных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целям и задачам Конкурс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полнота представленной информации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эффективность воспитательных, образовательных и оздоровительных практик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наличие элементов педагогического новаторства и творческого подход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уровень и степень внедрения разработки в практическую деятельность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возможность распространения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030560" y="3645360"/>
            <a:ext cx="51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и Конкурса по решению Конкурсной комиссии получают почетные дипломы и денежное вознаграждение в размере до 50 0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По итогам проведения Конкурса предполагается издание сборника, который будет содержать информацию о лучших конкурсных работах и  их авторах, которые приняли участие в Конкур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gg"/>
          <p:cNvPicPr/>
          <p:nvPr/>
        </p:nvPicPr>
        <p:blipFill>
          <a:blip r:embed="rId3"/>
          <a:stretch/>
        </p:blipFill>
        <p:spPr>
          <a:xfrm>
            <a:off x="179280" y="3645000"/>
            <a:ext cx="37450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95280" y="3573360"/>
            <a:ext cx="87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конкурсных работ и всех необходимых документов осущест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5 апреля по 30 июня 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по электронному адресу (документы с подписями и печатями в отсканированном виде): konkurs@fitness-aerobics.ru, либо по почте: 129090, Россия, Москва, Олимпийский проспект, д. 16, стр. 1, СК «Олимпийский», Федерация фитнес-аэробики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5564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и Конкурса будут подведены в октябре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бную информацию Вы можете найти на офиц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ах Всероссийской политической пар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ДИНАЯ РОССИЯ» www.er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lesson_21_400"/>
          <p:cNvPicPr/>
          <p:nvPr/>
        </p:nvPicPr>
        <p:blipFill>
          <a:blip r:embed="rId3"/>
          <a:stretch/>
        </p:blipFill>
        <p:spPr>
          <a:xfrm>
            <a:off x="3203640" y="260280"/>
            <a:ext cx="496872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0:39:49Z</dcterms:created>
  <dc:creator>Admin</dc:creator>
  <dc:description/>
  <dc:language>en-US</dc:language>
  <cp:lastModifiedBy>ZooM</cp:lastModifiedBy>
  <dcterms:modified xsi:type="dcterms:W3CDTF">2013-12-03T20:51:50Z</dcterms:modified>
  <cp:revision>5</cp:revision>
  <dc:subject/>
  <dc:title>Слайд 1</dc:title>
</cp:coreProperties>
</file>