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BA2-BA61-4AEE-9281-58BEFB50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FF8-5C68-422D-A7F2-9148EF5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689-30D4-47A9-82AA-FF67043B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D44-2666-4F8A-B3D8-E96974BE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17F-ADFF-4E72-8325-8B66725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C37-FAF3-4967-A282-71EA4423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D81-8F29-4D19-A4FB-C537774B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A0C-3DFC-4383-AB1E-0568A64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40F-D02E-4CEA-A1BD-0FC080E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1F6-4887-4100-AC81-6E51A3A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248-3551-4B22-A820-2E33CF6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FFA-A37F-47DF-9819-8E51E52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A1F7-4796-4903-A952-D240E4154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561080" cy="3166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French Script MT"/>
              </a:rPr>
              <a:t>Экологические проблемы</a:t>
            </a:r>
            <a:br>
              <a:rPr sz="6600"/>
            </a:br>
            <a:r>
              <a:rPr b="0" i="1" lang="ru-RU" sz="4400" spc="-1" strike="noStrike">
                <a:solidFill>
                  <a:srgbClr val="ffffff"/>
                </a:solidFill>
                <a:latin typeface="Showcard Gothic"/>
              </a:rPr>
              <a:t>Загрязнение атмосфе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6336000" cy="273672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ученица 11-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МОУ СОШ №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г. Новочеркас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Авдоничева 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2 - They Say (Explicit Version)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6480" y="-360"/>
            <a:ext cx="8507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Города с наибольшим уровнем загрязнения воздуха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9"/>
          <p:cNvSpPr/>
          <p:nvPr/>
        </p:nvSpPr>
        <p:spPr>
          <a:xfrm>
            <a:off x="0" y="515880"/>
            <a:ext cx="9144000" cy="360"/>
          </a:xfrm>
          <a:prstGeom prst="rect">
            <a:avLst/>
          </a:prstGeom>
          <a:solidFill>
            <a:srgbClr val="fff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620640"/>
          <a:ext cx="8424720" cy="6053040"/>
        </p:xfrm>
        <a:graphic>
          <a:graphicData uri="http://schemas.openxmlformats.org/drawingml/2006/table">
            <a:tbl>
              <a:tblPr/>
              <a:tblGrid>
                <a:gridCol w="1649520"/>
                <a:gridCol w="2393640"/>
                <a:gridCol w="1986120"/>
                <a:gridCol w="2395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щества, определяющи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уровень 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ор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щества, определяющи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уровень 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ор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к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сс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овочеркасс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нол, Ф, NO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вещенск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урская об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ВВ, 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Ацетальдег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ВВ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1" lang="ru-RU" sz="1400" spc="-1" strike="noStrike" baseline="-30000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, Ф, В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 -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ербур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, Ф, Фенол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Ф, В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енгин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Фенол.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ызы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ц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O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д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зр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тогор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ят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, Ф, В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С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янов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Таг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Э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S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г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знец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, 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о-Сахалин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сажа, ВВ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иль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S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</a:tbl>
          </a:graphicData>
        </a:graphic>
      </p:graphicFrame>
      <p:sp>
        <p:nvSpPr>
          <p:cNvPr id="74" name="AutoShape 950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3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пособы решения экологически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Уровень загрязнения атмосферного воздуха в городах и промышленных центрах остается недопустимо высоким. Для решения этой глобальной проблемы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- внедрить высокоэффективную технологию переработки отходов производства и потребления в полезную продук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- ликвидировать несанкционированные свал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- сократить объем вывозимых на захоронение от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жидаемый эффект снижения объема не утилизируемых отходов составит 9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ИР В НАШИХ РУК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IFDDNCAFGXTOTCAYHH8FHCA7JXDHJCALHIY9DCAARMS7NCALE8E33CAOPGF24CAJTCZMRCA7GJI2VCAKE26N2CA0Q3WIACAVX8UAACA8WJKH9CAVVGA0OCATWA16ECAYSM45ZCAZY97G2CAE0SY2H"/>
          <p:cNvPicPr/>
          <p:nvPr/>
        </p:nvPicPr>
        <p:blipFill>
          <a:blip r:embed="rId7"/>
          <a:stretch/>
        </p:blipFill>
        <p:spPr>
          <a:xfrm>
            <a:off x="3132000" y="4653000"/>
            <a:ext cx="2606760" cy="19652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http://www.nedely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http:/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ww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statistik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5 0.67876 C 0.00486 0.62353 -0.17014 0.56829 -0.24063 0.44349 C -0.31094 0.31869 -0.30781 0.03328 -0.24271 -0.07049 C -0.17795 -0.17426 0.01163 -0.19529 0.15034 -0.17888 C 0.28854 -0.16247 0.53073 -0.09268 0.58715 0.02866 C 0.64375 0.14999 0.58975 0.47862 0.48975 0.54865 C 0.38975 0.61867 0.10677 0.50635 -0.01268 0.4495 C -0.13195 0.39265 -0.20677 0.29304 -0.22656 0.20799 C -0.24618 0.12295 -0.22188 -0.02196 -0.13108 -0.06124 C -0.0408 -0.10053 0.20972 -0.06748 0.31771 -0.02727 C 0.42552 0.01294 0.50364 0.10654 0.51528 0.18026 C 0.52691 0.25399 0.46771 0.39126 0.38732 0.41553 C 0.30712 0.4398 0.11701 0.37901 0.03385 0.32586 C -0.04896 0.2727 -0.11563 0.15276 -0.11025 0.0966 C -0.10504 0.04044 -0.01268 -0.01479 0.06649 -0.01179 C 0.14531 -0.00878 0.31302 0.06679 0.36389 0.11532 C 0.4151 0.16385 0.42604 0.2764 0.37083 0.27941 C 0.31597 0.28241 0.09271 0.15923 0.03385 0.13381 E">
                                      <p:cBhvr>
                                        <p:cTn id="411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153 0.51375 C -0.00417000000000001 0.45851 -0.17882 0.40328 -0.24931 0.27848 C -0.31962 0.15368 -0.31649 -0.13174 -0.25139 -0.2355 C -0.18663 -0.33927 0.00295000000000001 -0.3603 0.14166 -0.34389 C 0.27986 -0.32748 0.52205 -0.25769 0.57847 -0.13636 C 0.63507 -0.01503 0.58107 0.31361 0.48107 0.38363 C 0.38107 0.45366 0.09809 0.34134 -0.02153 0.28449 C -0.14063 0.22764 -0.21545 0.12803 -0.23524 0.04298 C -0.25504 -0.04207 -0.23056 -0.18697 -0.13976 -0.22626 C -0.04948 -0.26555 0.20104 -0.2325 0.30903 -0.19229 C 0.41684 -0.15207 0.49496 -0.05847 0.5066 0.01525 C 0.51823 0.08874 0.45903 0.22625 0.37864 0.25052 C 0.29844 0.27478 0.10833 0.214 0.02517 0.16085 C -0.05764 0.10769 -0.12431 -0.01225 -0.11893 -0.06841 C -0.11372 -0.1248 -0.02153 -0.17981 0.05781 -0.1768 C 0.13663 -0.1738 0.30434 -0.09822 0.35521 -0.04969 C 0.40642 -0.00116 0.41736 0.11139 0.3618 0.11439 C 0.30712 0.1174 0.08403 -0.00578 0.02517 -0.0312 E">
                                      <p:cBhvr>
                                        <p:cTn id="413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Загрязнение атмосф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Источники загрязнения атмосф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Причины появления в атмосфере некоторых примесей_x000b_и типичные их концент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Влияние загрязнения атмосферы на живые организ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Антропогенные загрязнители атмосферы и связанные_x000b_с ними измен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Города с наибольшим уровнем загрязнения воздух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Способы решения экологических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mic Sans MS"/>
              </a:rPr>
              <a:t>Использованная литера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Загрязнение атмосфе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тмосферный воздух - один из важнейших жизнеобеспечивающих природных компонентов на Земле - представляет собой смесь газов и аэрозолей приземной части атмосферы, сложившуюся в ходе эволюции планеты, деятельности человека и находящуюся вне пределов жилых, производственных и иных помещений. Последние полученные обобщения подтвердили чрезвычайную значимость атмосферы в функционировании биосферы и высокую ее чувствительность к различного рода загрязнениям. Именно загрязнения приземного слоя атмосферы - это самый мощный, постоянно действующий фактор воздействия на растения, животных, микроорганизмы; на все трофические цепи и уровни; на качество жизни человека; на устойчивое функционирование экосистем и биосферы в целом. Атмосферный воздух имеет неограниченную емкость и играет роль наиболее подвижного, химически агрессивного и всепроникающего агента взаимодействия компонентов биосферы, гидросферы и литосферы вблизи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242100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грязнение атмосферы - это привнесение в атмосферу или образование в ней физико-химических соединений, агентов или веществ, обусловленное как природными, так и антропогенными факторами. Естественными источниками загрязнений атмосферного воздуха служат прежде всего вулканические выбросы, лесные и степные пожары, пыльные бури, дефляция, морские штормы и тайфуны. Эти факторы не оказывают отрицательного воздействия на природные экосистемы, за исключением широкомасштабных катастрофических природных явлений.(см. рис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030302"/>
          <p:cNvPicPr/>
          <p:nvPr/>
        </p:nvPicPr>
        <p:blipFill>
          <a:blip r:embed="rId2"/>
          <a:stretch/>
        </p:blipFill>
        <p:spPr>
          <a:xfrm>
            <a:off x="2700360" y="1557360"/>
            <a:ext cx="3660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185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5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485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350"/>
                            </p:stCondLst>
                            <p:childTnLst>
                              <p:par>
                                <p:cTn id="222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680" y="274320"/>
            <a:ext cx="82231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сточники загрязнения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Рис. 71. Источники загрязнения атмосферы"/>
          <p:cNvPicPr/>
          <p:nvPr/>
        </p:nvPicPr>
        <p:blipFill>
          <a:blip r:embed="rId2"/>
          <a:stretch/>
        </p:blipFill>
        <p:spPr>
          <a:xfrm>
            <a:off x="2124000" y="1197000"/>
            <a:ext cx="5472360" cy="4626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2411280" y="5539680"/>
            <a:ext cx="42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727272"/>
                </a:solidFill>
                <a:latin typeface="Tahoma"/>
                <a:ea typeface="Times New Roman"/>
              </a:rPr>
              <a:t>Рис. 1. Источники загрязнения атмосф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ичины появления в атмосфере некоторых примес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 типичные их концен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днако в последние десятилетия антропогенные загрязнения и воздействия на атмосферу стали преобладать над естественными как по частоте, так и по характеру, а главное, по масштабу проявления, приобретая постепенно глобальный характер. Они могут оказывать воздействие на атмосферу различным образом: непосредственно на состояние атмосферы (нагревание, изменение влажности и др.), воздействие на физико-химические свойства атмосферы (изменение состава, увеличение концентрации диоксида углерода, аэрозолей, фреонов и пр.); воздействие на свойства подстилающей поверхности (изменение величины альбедо, на систему "океан - атмосфера" и др.). К основным источникам загрязнения относят промышленные предприятия, транспорт, теплоэнергетику, сельское хозяйство и др. (см. рис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93116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и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1688p263-1"/>
          <p:cNvPicPr/>
          <p:nvPr/>
        </p:nvPicPr>
        <p:blipFill>
          <a:blip r:embed="rId2"/>
          <a:stretch/>
        </p:blipFill>
        <p:spPr>
          <a:xfrm>
            <a:off x="755640" y="981000"/>
            <a:ext cx="785016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лияние загрязнения атмосферы на живые орган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грязнение атмосферы, видимо, наиболее опасная форма загрязнения окружающей среды, так как дыхание - основа жизни любого организма. Химические вещества, проникая в ткани растения, нарушают обмен веществ, структуру листьев и побегов (рис. 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тропогенные загрязнители атмосферы и связан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 ними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ис.3.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нтропогенные загрязнители атмосферы и связанны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 ними изменен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1688p264-1"/>
          <p:cNvPicPr/>
          <p:nvPr/>
        </p:nvPicPr>
        <p:blipFill>
          <a:blip r:embed="rId2"/>
          <a:stretch/>
        </p:blipFill>
        <p:spPr>
          <a:xfrm>
            <a:off x="395280" y="2276640"/>
            <a:ext cx="8317080" cy="399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AutoShape 7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8:31:40Z</dcterms:created>
  <dc:creator>МОУ СОШ 31</dc:creator>
  <dc:description>www.school31novochek.narod.ru</dc:description>
  <dc:language>en-US</dc:language>
  <cp:lastModifiedBy>Коля</cp:lastModifiedBy>
  <dcterms:modified xsi:type="dcterms:W3CDTF">2013-03-22T14:54:13Z</dcterms:modified>
  <cp:revision>14</cp:revision>
  <dc:subject/>
  <dc:title>Загрязнение атмосфе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b000000000001024140</vt:lpwstr>
  </property>
</Properties>
</file>