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9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4B1-371A-44AC-B279-92B133A1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6E3-4621-4C02-A39F-65C530F1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B70-6D50-4949-8152-26C0F396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672-3523-45F0-B631-CA825EA0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B3A4-7E86-48A5-9230-5E065E11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0B0-FDD4-413C-AD56-3727A279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CD93-86A2-457A-905B-A8F5F77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3C5C-3D37-4D71-AD4A-B784D10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9450-8A0B-494B-9DF8-0795C9E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2912-314D-4941-9BCB-A1E52FAF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19D3-B188-4221-9F50-05873FF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6A9-34A5-410D-963C-F11569CA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48DA-6C99-448B-834A-C9E0E951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94BA-BB05-454A-8767-BC23FAE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F463-DB1F-493D-8C14-C7FD091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0E24-BAEE-43DA-BB6D-70E3FFEF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F1B7-FCBE-478D-93D0-5F14EA5C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A34-6037-4D89-8E1B-F34A2D3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CBE-3B4B-4BEA-A135-A82EF16F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336-85C4-4105-AA74-7572DC2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1DE-83EA-4ACF-A71A-F345D580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30A-53DF-41E2-89A5-50AD8569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5DC-167E-4F6C-B890-925204C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BFB-7A73-4BFA-88D9-D7D5E5D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B34-EE86-4472-8BBE-2311730FB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9E2-DBC6-4CF6-97FD-DEECDF32564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2348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Природные зоны России. </a:t>
            </a:r>
            <a:br>
              <a:rPr sz="4800"/>
            </a:br>
            <a:r>
              <a:rPr b="1" lang="ru-RU" sz="4800" spc="-1" strike="noStrike">
                <a:solidFill>
                  <a:srgbClr val="cc6600"/>
                </a:solidFill>
                <a:latin typeface="Arial Black"/>
              </a:rPr>
              <a:t>Зона пустынь.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53000"/>
            <a:ext cx="401616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природ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4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j0301252"/>
          <p:cNvPicPr/>
          <p:nvPr/>
        </p:nvPicPr>
        <p:blipFill>
          <a:blip r:embed="rId1"/>
          <a:stretch/>
        </p:blipFill>
        <p:spPr>
          <a:xfrm>
            <a:off x="6012000" y="3933720"/>
            <a:ext cx="273672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колосняк"/>
          <p:cNvPicPr/>
          <p:nvPr/>
        </p:nvPicPr>
        <p:blipFill>
          <a:blip r:embed="rId1"/>
          <a:stretch/>
        </p:blipFill>
        <p:spPr>
          <a:xfrm>
            <a:off x="684360" y="836640"/>
            <a:ext cx="3057480" cy="460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5516280"/>
            <a:ext cx="8007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осняк                   верблюжья колю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4" descr="верблюжья колючка"/>
          <p:cNvPicPr/>
          <p:nvPr/>
        </p:nvPicPr>
        <p:blipFill>
          <a:blip r:embed="rId2"/>
          <a:stretch/>
        </p:blipFill>
        <p:spPr>
          <a:xfrm>
            <a:off x="3995640" y="1700280"/>
            <a:ext cx="4537080" cy="340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кати-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9" descr="перекати-поле"/>
          <p:cNvPicPr/>
          <p:nvPr/>
        </p:nvPicPr>
        <p:blipFill>
          <a:blip r:embed="rId1"/>
          <a:stretch/>
        </p:blipFill>
        <p:spPr>
          <a:xfrm>
            <a:off x="1116000" y="692280"/>
            <a:ext cx="6913440" cy="4489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Животные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5229000"/>
            <a:ext cx="800748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рсак                                 песча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7" descr="корсак"/>
          <p:cNvPicPr/>
          <p:nvPr/>
        </p:nvPicPr>
        <p:blipFill>
          <a:blip r:embed="rId1"/>
          <a:stretch/>
        </p:blipFill>
        <p:spPr>
          <a:xfrm>
            <a:off x="468360" y="2087640"/>
            <a:ext cx="4032360" cy="292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8" descr="песчанка"/>
          <p:cNvPicPr/>
          <p:nvPr/>
        </p:nvPicPr>
        <p:blipFill>
          <a:blip r:embed="rId2"/>
          <a:stretch/>
        </p:blipFill>
        <p:spPr>
          <a:xfrm>
            <a:off x="4572000" y="2381400"/>
            <a:ext cx="4129200" cy="213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5373720"/>
            <a:ext cx="800748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ушканчик                          ушастый ё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8" descr="тушканчик"/>
          <p:cNvPicPr/>
          <p:nvPr/>
        </p:nvPicPr>
        <p:blipFill>
          <a:blip r:embed="rId1"/>
          <a:stretch/>
        </p:blipFill>
        <p:spPr>
          <a:xfrm>
            <a:off x="971640" y="1281240"/>
            <a:ext cx="3529080" cy="3392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Picture 9" descr="ушастый ёж"/>
          <p:cNvPicPr/>
          <p:nvPr/>
        </p:nvPicPr>
        <p:blipFill>
          <a:blip r:embed="rId2"/>
          <a:stretch/>
        </p:blipFill>
        <p:spPr>
          <a:xfrm>
            <a:off x="5076720" y="1197000"/>
            <a:ext cx="315144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5013000"/>
            <a:ext cx="800748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чаный                            ящериц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вчик                           круглогол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1" descr="песчаный удавчик"/>
          <p:cNvPicPr/>
          <p:nvPr/>
        </p:nvPicPr>
        <p:blipFill>
          <a:blip r:embed="rId1"/>
          <a:stretch/>
        </p:blipFill>
        <p:spPr>
          <a:xfrm>
            <a:off x="395280" y="2205000"/>
            <a:ext cx="4103640" cy="256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8" name="Picture 12" descr="ящерица"/>
          <p:cNvPicPr/>
          <p:nvPr/>
        </p:nvPicPr>
        <p:blipFill>
          <a:blip r:embed="rId2"/>
          <a:stretch/>
        </p:blipFill>
        <p:spPr>
          <a:xfrm>
            <a:off x="4643280" y="1052640"/>
            <a:ext cx="4024440" cy="31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ящурка"/>
          <p:cNvPicPr/>
          <p:nvPr/>
        </p:nvPicPr>
        <p:blipFill>
          <a:blip r:embed="rId1"/>
          <a:stretch/>
        </p:blipFill>
        <p:spPr>
          <a:xfrm>
            <a:off x="1187280" y="692280"/>
            <a:ext cx="6985080" cy="45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ая ящу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Занятия людей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62" name="Picture 4" descr="4231544"/>
          <p:cNvPicPr/>
          <p:nvPr/>
        </p:nvPicPr>
        <p:blipFill>
          <a:blip r:embed="rId1"/>
          <a:stretch/>
        </p:blipFill>
        <p:spPr>
          <a:xfrm>
            <a:off x="684360" y="1484280"/>
            <a:ext cx="2857320" cy="40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3" name="Picture 5" descr="1135948728"/>
          <p:cNvPicPr/>
          <p:nvPr/>
        </p:nvPicPr>
        <p:blipFill>
          <a:blip r:embed="rId2"/>
          <a:stretch/>
        </p:blipFill>
        <p:spPr>
          <a:xfrm>
            <a:off x="3635280" y="1773360"/>
            <a:ext cx="5197680" cy="34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Экология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5445000"/>
            <a:ext cx="800748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вязка                            слепы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перевязка"/>
          <p:cNvPicPr/>
          <p:nvPr/>
        </p:nvPicPr>
        <p:blipFill>
          <a:blip r:embed="rId1"/>
          <a:stretch/>
        </p:blipFill>
        <p:spPr>
          <a:xfrm>
            <a:off x="684360" y="1968480"/>
            <a:ext cx="3311280" cy="3106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7" name="Picture 7" descr="слепыш"/>
          <p:cNvPicPr/>
          <p:nvPr/>
        </p:nvPicPr>
        <p:blipFill>
          <a:blip r:embed="rId2"/>
          <a:stretch/>
        </p:blipFill>
        <p:spPr>
          <a:xfrm>
            <a:off x="4643280" y="1989000"/>
            <a:ext cx="3529080" cy="307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7720" y="5300280"/>
            <a:ext cx="8007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йгак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сайгак"/>
          <p:cNvPicPr/>
          <p:nvPr/>
        </p:nvPicPr>
        <p:blipFill>
          <a:blip r:embed="rId1"/>
          <a:stretch/>
        </p:blipFill>
        <p:spPr>
          <a:xfrm>
            <a:off x="971640" y="692280"/>
            <a:ext cx="4222800" cy="54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еречислите природные зоны с севера на юг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ледяная зона (Арктика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тунд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лес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степ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она пусты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j0283649"/>
          <p:cNvPicPr/>
          <p:nvPr/>
        </p:nvPicPr>
        <p:blipFill>
          <a:blip r:embed="rId1"/>
          <a:stretch/>
        </p:blipFill>
        <p:spPr>
          <a:xfrm>
            <a:off x="5508720" y="2852640"/>
            <a:ext cx="2144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Верите ли вы, что…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ой в Арктике никогда не бывает солн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ые медведи питаются пингвин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колиственный лес называется тай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пление птиц называется «птичьими рынками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дник – это человек, который сильно замерз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белых медведей рождаются зимой крошечные медвежата, которые не крупнее котя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а называют «лёгкими нашей планеты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рктике можно услышать, как кто-то разговаривает даже на расстоянии 5 к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е моря необходимо защищать от загряз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900000" y="162864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пная з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ход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ее зоны ле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859280" y="1628640"/>
            <a:ext cx="360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раст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выль, дуб, тюльпа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ынь, ос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859280" y="3357720"/>
            <a:ext cx="3600360" cy="1511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живут сайга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рый медведь, вол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слик, хомяк, дроф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овый сквор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716360" y="5084640"/>
            <a:ext cx="4032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тепи люди заним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делием, доб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755640" y="5084640"/>
            <a:ext cx="352908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то в степи холодн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ждли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900000" y="3429000"/>
            <a:ext cx="3240360" cy="1440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има в степи тепле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в лесной з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Найди и исправь ошибки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7"/>
          <p:cNvSpPr/>
          <p:nvPr/>
        </p:nvSpPr>
        <p:spPr>
          <a:xfrm>
            <a:off x="3419640" y="2565360"/>
            <a:ext cx="252072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пусты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539640" y="2565360"/>
            <a:ext cx="2305080" cy="11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6372360" y="3068640"/>
            <a:ext cx="244764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627280" y="5013360"/>
            <a:ext cx="180036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2"/>
          <p:cNvSpPr/>
          <p:nvPr/>
        </p:nvSpPr>
        <p:spPr>
          <a:xfrm>
            <a:off x="4932360" y="5013360"/>
            <a:ext cx="252108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3"/>
          <p:cNvSpPr/>
          <p:nvPr/>
        </p:nvSpPr>
        <p:spPr>
          <a:xfrm>
            <a:off x="5292720" y="907920"/>
            <a:ext cx="180036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1763640" y="620640"/>
            <a:ext cx="266400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5940360" y="3284640"/>
            <a:ext cx="503280" cy="2156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H="1" flipV="1">
            <a:off x="2771640" y="3068280"/>
            <a:ext cx="648000" cy="73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 flipV="1">
            <a:off x="3419280" y="1989000"/>
            <a:ext cx="360360" cy="64944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 flipV="1">
            <a:off x="5364000" y="1916280"/>
            <a:ext cx="5032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38"/>
          <p:cNvSpPr/>
          <p:nvPr/>
        </p:nvSpPr>
        <p:spPr>
          <a:xfrm flipH="1">
            <a:off x="3708000" y="3716280"/>
            <a:ext cx="358920" cy="129708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39"/>
          <p:cNvSpPr/>
          <p:nvPr/>
        </p:nvSpPr>
        <p:spPr>
          <a:xfrm>
            <a:off x="5292720" y="3716280"/>
            <a:ext cx="431640" cy="1368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2" descr="j0299125"/>
          <p:cNvPicPr/>
          <p:nvPr/>
        </p:nvPicPr>
        <p:blipFill>
          <a:blip r:embed="rId1"/>
          <a:stretch/>
        </p:blipFill>
        <p:spPr>
          <a:xfrm>
            <a:off x="755640" y="3933720"/>
            <a:ext cx="1451160" cy="23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положение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27640" y="1904760"/>
            <a:ext cx="441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России пустыни занимают небольшую площадь – по берегам Каспийского моря, к западу и к востоку от низовьев Волг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1904760"/>
            <a:ext cx="207828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PH05426"/>
          <p:cNvPicPr/>
          <p:nvPr/>
        </p:nvPicPr>
        <p:blipFill>
          <a:blip r:embed="rId1"/>
          <a:stretch/>
        </p:blipFill>
        <p:spPr>
          <a:xfrm>
            <a:off x="684360" y="1700280"/>
            <a:ext cx="367164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устын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сча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лини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2555640" y="1268280"/>
            <a:ext cx="108108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796000" y="1268280"/>
            <a:ext cx="1006560" cy="7207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1" descr="desert1"/>
          <p:cNvPicPr/>
          <p:nvPr/>
        </p:nvPicPr>
        <p:blipFill>
          <a:blip r:embed="rId1"/>
          <a:stretch/>
        </p:blipFill>
        <p:spPr>
          <a:xfrm>
            <a:off x="4572000" y="2852640"/>
            <a:ext cx="4105440" cy="307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12" descr="2508-2"/>
          <p:cNvPicPr/>
          <p:nvPr/>
        </p:nvPicPr>
        <p:blipFill>
          <a:blip r:embed="rId2"/>
          <a:stretch/>
        </p:blipFill>
        <p:spPr>
          <a:xfrm>
            <a:off x="468360" y="2852640"/>
            <a:ext cx="3960720" cy="3086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лимат :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то очень жаркое, поверхность земли днём нагревается до +70 градусов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чи прохладные, песок и глина быстро остываю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ень мало осадков. Порой за всё лето не бывает ни капли дожд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ения: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41" name="Picture 15" descr="14"/>
          <p:cNvPicPr/>
          <p:nvPr/>
        </p:nvPicPr>
        <p:blipFill>
          <a:blip r:embed="rId1"/>
          <a:stretch/>
        </p:blipFill>
        <p:spPr>
          <a:xfrm>
            <a:off x="395280" y="1844640"/>
            <a:ext cx="4535640" cy="33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5373720"/>
            <a:ext cx="80074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тус                  джузгу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8" descr="джузгун"/>
          <p:cNvPicPr/>
          <p:nvPr/>
        </p:nvPicPr>
        <p:blipFill>
          <a:blip r:embed="rId2"/>
          <a:stretch/>
        </p:blipFill>
        <p:spPr>
          <a:xfrm>
            <a:off x="5076720" y="1628640"/>
            <a:ext cx="3591000" cy="36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51:28Z</dcterms:created>
  <dc:creator>Татьяна</dc:creator>
  <dc:description/>
  <dc:language>en-US</dc:language>
  <cp:lastModifiedBy>Коля</cp:lastModifiedBy>
  <dcterms:modified xsi:type="dcterms:W3CDTF">2013-03-16T17:20:10Z</dcterms:modified>
  <cp:revision>14</cp:revision>
  <dc:subject/>
  <dc:title>Слайд 1</dc:title>
</cp:coreProperties>
</file>