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96F-2858-454F-969B-099235F1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DAE-D3FF-439D-AD05-66F450EA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93B-8B1C-4181-AA8F-899E7C65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E34-73BB-4ACE-9DB0-0AA894F4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CD5A-485F-4EFF-B2E3-4F1C4482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C0A2-052D-4F4F-B663-A03856AD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68FA-7595-4CC2-A5A1-AE7ED964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D735-FD41-45F7-8C56-72B1BFEA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88E1-C133-4B08-8BD8-4B0E4E4B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D1C6-346F-4A44-B869-80494043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3306-046F-4603-9245-23002C71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4942-CC31-4646-8D75-883315A7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45AC-E780-420F-B1F1-6F6F116D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DA5E-0958-4275-9393-C09C79BF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A1CE-AD5A-43A2-A53B-E4894A56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8FFB-C7A3-4155-BB19-79259CB6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DD56-5557-4CE2-BFFF-65A4A888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860-250F-4F69-9425-DCD5F824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6C2-A243-488B-99CE-708C887B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321-1542-4631-8985-02B31E6F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0AE-D98A-4024-BFC1-B88CB806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0FE-8C47-41DD-B733-B7643597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AD9-D50D-44DC-8DAC-76CED315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68D-94F6-4310-9F46-5EE52CDA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CABD-1BCE-4506-8EBA-31AC3CA046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8FA5-D650-4C9E-ABAE-43D86B0681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2348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Arial Black"/>
              </a:rPr>
              <a:t>Природные зоны России. </a:t>
            </a:r>
            <a:br>
              <a:rPr sz="4800"/>
            </a:br>
            <a:r>
              <a:rPr b="1" lang="ru-RU" sz="4800" spc="-1" strike="noStrike">
                <a:solidFill>
                  <a:srgbClr val="cc6600"/>
                </a:solidFill>
                <a:latin typeface="Arial Black"/>
              </a:rPr>
              <a:t>Зона пустынь.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53000"/>
            <a:ext cx="401616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4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j0301252"/>
          <p:cNvPicPr/>
          <p:nvPr/>
        </p:nvPicPr>
        <p:blipFill>
          <a:blip r:embed="rId1"/>
          <a:stretch/>
        </p:blipFill>
        <p:spPr>
          <a:xfrm>
            <a:off x="6012000" y="3933720"/>
            <a:ext cx="273672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колосняк"/>
          <p:cNvPicPr/>
          <p:nvPr/>
        </p:nvPicPr>
        <p:blipFill>
          <a:blip r:embed="rId1"/>
          <a:stretch/>
        </p:blipFill>
        <p:spPr>
          <a:xfrm>
            <a:off x="684360" y="836640"/>
            <a:ext cx="3057480" cy="46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5516280"/>
            <a:ext cx="80074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осняк                   верблюжья колю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4" descr="верблюжья колючка"/>
          <p:cNvPicPr/>
          <p:nvPr/>
        </p:nvPicPr>
        <p:blipFill>
          <a:blip r:embed="rId2"/>
          <a:stretch/>
        </p:blipFill>
        <p:spPr>
          <a:xfrm>
            <a:off x="3995640" y="1700280"/>
            <a:ext cx="4537080" cy="340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5229000"/>
            <a:ext cx="800748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кати-п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9" descr="перекати-поле"/>
          <p:cNvPicPr/>
          <p:nvPr/>
        </p:nvPicPr>
        <p:blipFill>
          <a:blip r:embed="rId1"/>
          <a:stretch/>
        </p:blipFill>
        <p:spPr>
          <a:xfrm>
            <a:off x="1116000" y="692280"/>
            <a:ext cx="6913440" cy="448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Животные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5229000"/>
            <a:ext cx="800748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рсак                                 песча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7" descr="корсак"/>
          <p:cNvPicPr/>
          <p:nvPr/>
        </p:nvPicPr>
        <p:blipFill>
          <a:blip r:embed="rId1"/>
          <a:stretch/>
        </p:blipFill>
        <p:spPr>
          <a:xfrm>
            <a:off x="468360" y="2087640"/>
            <a:ext cx="4032360" cy="292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8" descr="песчанка"/>
          <p:cNvPicPr/>
          <p:nvPr/>
        </p:nvPicPr>
        <p:blipFill>
          <a:blip r:embed="rId2"/>
          <a:stretch/>
        </p:blipFill>
        <p:spPr>
          <a:xfrm>
            <a:off x="4572000" y="2381400"/>
            <a:ext cx="4129200" cy="213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5373720"/>
            <a:ext cx="800748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ушканчик                          ушастый ё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тушканчик"/>
          <p:cNvPicPr/>
          <p:nvPr/>
        </p:nvPicPr>
        <p:blipFill>
          <a:blip r:embed="rId1"/>
          <a:stretch/>
        </p:blipFill>
        <p:spPr>
          <a:xfrm>
            <a:off x="971640" y="1281240"/>
            <a:ext cx="3529080" cy="339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Picture 9" descr="ушастый ёж"/>
          <p:cNvPicPr/>
          <p:nvPr/>
        </p:nvPicPr>
        <p:blipFill>
          <a:blip r:embed="rId2"/>
          <a:stretch/>
        </p:blipFill>
        <p:spPr>
          <a:xfrm>
            <a:off x="5076720" y="1197000"/>
            <a:ext cx="3151440" cy="36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5013000"/>
            <a:ext cx="800748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чаный                            ящериц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вчик                           круглогол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1" descr="песчаный удавчик"/>
          <p:cNvPicPr/>
          <p:nvPr/>
        </p:nvPicPr>
        <p:blipFill>
          <a:blip r:embed="rId1"/>
          <a:stretch/>
        </p:blipFill>
        <p:spPr>
          <a:xfrm>
            <a:off x="395280" y="2205000"/>
            <a:ext cx="4103640" cy="256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8" name="Picture 12" descr="ящерица"/>
          <p:cNvPicPr/>
          <p:nvPr/>
        </p:nvPicPr>
        <p:blipFill>
          <a:blip r:embed="rId2"/>
          <a:stretch/>
        </p:blipFill>
        <p:spPr>
          <a:xfrm>
            <a:off x="4643280" y="1052640"/>
            <a:ext cx="4024440" cy="318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ящурка"/>
          <p:cNvPicPr/>
          <p:nvPr/>
        </p:nvPicPr>
        <p:blipFill>
          <a:blip r:embed="rId1"/>
          <a:stretch/>
        </p:blipFill>
        <p:spPr>
          <a:xfrm>
            <a:off x="1187280" y="692280"/>
            <a:ext cx="6985080" cy="450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5300280"/>
            <a:ext cx="80074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страя ящу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Занятия людей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62" name="Picture 4" descr="4231544"/>
          <p:cNvPicPr/>
          <p:nvPr/>
        </p:nvPicPr>
        <p:blipFill>
          <a:blip r:embed="rId1"/>
          <a:stretch/>
        </p:blipFill>
        <p:spPr>
          <a:xfrm>
            <a:off x="684360" y="1484280"/>
            <a:ext cx="2857320" cy="40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3" name="Picture 5" descr="1135948728"/>
          <p:cNvPicPr/>
          <p:nvPr/>
        </p:nvPicPr>
        <p:blipFill>
          <a:blip r:embed="rId2"/>
          <a:stretch/>
        </p:blipFill>
        <p:spPr>
          <a:xfrm>
            <a:off x="3635280" y="1773360"/>
            <a:ext cx="5197680" cy="346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Экология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5445000"/>
            <a:ext cx="80074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вязка                            слепы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перевязка"/>
          <p:cNvPicPr/>
          <p:nvPr/>
        </p:nvPicPr>
        <p:blipFill>
          <a:blip r:embed="rId1"/>
          <a:stretch/>
        </p:blipFill>
        <p:spPr>
          <a:xfrm>
            <a:off x="684360" y="1968480"/>
            <a:ext cx="3311280" cy="3106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Picture 7" descr="слепыш"/>
          <p:cNvPicPr/>
          <p:nvPr/>
        </p:nvPicPr>
        <p:blipFill>
          <a:blip r:embed="rId2"/>
          <a:stretch/>
        </p:blipFill>
        <p:spPr>
          <a:xfrm>
            <a:off x="4643280" y="1989000"/>
            <a:ext cx="3529080" cy="3073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5300280"/>
            <a:ext cx="800748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йгак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сайгак"/>
          <p:cNvPicPr/>
          <p:nvPr/>
        </p:nvPicPr>
        <p:blipFill>
          <a:blip r:embed="rId1"/>
          <a:stretch/>
        </p:blipFill>
        <p:spPr>
          <a:xfrm>
            <a:off x="971640" y="692280"/>
            <a:ext cx="4222800" cy="547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еречислите природные зоны с севера на юг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едяная зона (Арктика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тундр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лес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степе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пусты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j0283649"/>
          <p:cNvPicPr/>
          <p:nvPr/>
        </p:nvPicPr>
        <p:blipFill>
          <a:blip r:embed="rId1"/>
          <a:stretch/>
        </p:blipFill>
        <p:spPr>
          <a:xfrm>
            <a:off x="5508720" y="2852640"/>
            <a:ext cx="2144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Верите ли вы, что…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имой в Арктике никогда не бывает солнц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ые медведи питаются пингвинам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колиственный лес называется тай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пление птиц называется «птичьими рынками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дник – это человек, который сильно замерз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белых медведей рождаются зимой крошечные медвежата, которые не крупнее котя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а называют «лёгкими нашей планеты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рктике можно услышать, как кто-то разговаривает даже на расстоянии 5 к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ые моря необходимо защищать от загрязн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900000" y="1628640"/>
            <a:ext cx="3240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пная з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ее зоны ле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859280" y="1628640"/>
            <a:ext cx="3600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епи раст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выль, дуб, тюльпа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ынь, ос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859280" y="3357720"/>
            <a:ext cx="3600360" cy="1511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епи живут сайга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ый медведь, вол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слик, хомяк, дроф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зовый скворе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716360" y="5084640"/>
            <a:ext cx="4032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епи люди заним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делием, доб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55640" y="5084640"/>
            <a:ext cx="352908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 в степи холодно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ждли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900000" y="3429000"/>
            <a:ext cx="3240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има в степи тепле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в лесной з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Найди и исправь ошибки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7"/>
          <p:cNvSpPr/>
          <p:nvPr/>
        </p:nvSpPr>
        <p:spPr>
          <a:xfrm>
            <a:off x="3419640" y="2565360"/>
            <a:ext cx="252072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усты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539640" y="2565360"/>
            <a:ext cx="230508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колог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6372360" y="3068640"/>
            <a:ext cx="244764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2627280" y="5013360"/>
            <a:ext cx="180036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ю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2"/>
          <p:cNvSpPr/>
          <p:nvPr/>
        </p:nvSpPr>
        <p:spPr>
          <a:xfrm>
            <a:off x="4932360" y="5013360"/>
            <a:ext cx="2521080" cy="107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5292720" y="907920"/>
            <a:ext cx="180036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1763640" y="620640"/>
            <a:ext cx="266400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5940360" y="3284640"/>
            <a:ext cx="503280" cy="21564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 flipV="1">
            <a:off x="2771640" y="3068280"/>
            <a:ext cx="648000" cy="73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 flipV="1">
            <a:off x="3419280" y="1989000"/>
            <a:ext cx="360360" cy="64944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 flipV="1">
            <a:off x="5364000" y="1916280"/>
            <a:ext cx="503280" cy="7207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38"/>
          <p:cNvSpPr/>
          <p:nvPr/>
        </p:nvSpPr>
        <p:spPr>
          <a:xfrm flipH="1">
            <a:off x="3708000" y="3716280"/>
            <a:ext cx="358920" cy="1297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39"/>
          <p:cNvSpPr/>
          <p:nvPr/>
        </p:nvSpPr>
        <p:spPr>
          <a:xfrm>
            <a:off x="5292720" y="3716280"/>
            <a:ext cx="431640" cy="1368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2" descr="j0299125"/>
          <p:cNvPicPr/>
          <p:nvPr/>
        </p:nvPicPr>
        <p:blipFill>
          <a:blip r:embed="rId1"/>
          <a:stretch/>
        </p:blipFill>
        <p:spPr>
          <a:xfrm>
            <a:off x="755640" y="3933720"/>
            <a:ext cx="145116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положение: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27640" y="1904760"/>
            <a:ext cx="4417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России пустыни занимают небольшую площадь – по берегам Каспийского моря, к западу и к востоку от низовьев Волг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37720" y="1904760"/>
            <a:ext cx="207828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1" descr="PH05426"/>
          <p:cNvPicPr/>
          <p:nvPr/>
        </p:nvPicPr>
        <p:blipFill>
          <a:blip r:embed="rId1"/>
          <a:stretch/>
        </p:blipFill>
        <p:spPr>
          <a:xfrm>
            <a:off x="684360" y="1700280"/>
            <a:ext cx="367164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устын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сча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лини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2555640" y="1268280"/>
            <a:ext cx="1081080" cy="7207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796000" y="1268280"/>
            <a:ext cx="1006560" cy="7207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1" descr="desert1"/>
          <p:cNvPicPr/>
          <p:nvPr/>
        </p:nvPicPr>
        <p:blipFill>
          <a:blip r:embed="rId1"/>
          <a:stretch/>
        </p:blipFill>
        <p:spPr>
          <a:xfrm>
            <a:off x="4572000" y="2852640"/>
            <a:ext cx="4105440" cy="30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7" name="Picture 12" descr="2508-2"/>
          <p:cNvPicPr/>
          <p:nvPr/>
        </p:nvPicPr>
        <p:blipFill>
          <a:blip r:embed="rId2"/>
          <a:stretch/>
        </p:blipFill>
        <p:spPr>
          <a:xfrm>
            <a:off x="468360" y="2852640"/>
            <a:ext cx="3960720" cy="308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лимат 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то очень жаркое, поверхность земли днём нагревается до +70 градусов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чи прохладные, песок и глина быстро остываю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мало осадков. Порой за всё лето не бывает ни капли дожд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тения: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41" name="Picture 15" descr="14"/>
          <p:cNvPicPr/>
          <p:nvPr/>
        </p:nvPicPr>
        <p:blipFill>
          <a:blip r:embed="rId1"/>
          <a:stretch/>
        </p:blipFill>
        <p:spPr>
          <a:xfrm>
            <a:off x="395280" y="1844640"/>
            <a:ext cx="4535640" cy="33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5373720"/>
            <a:ext cx="80074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тус                  джузгу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8" descr="джузгун"/>
          <p:cNvPicPr/>
          <p:nvPr/>
        </p:nvPicPr>
        <p:blipFill>
          <a:blip r:embed="rId2"/>
          <a:stretch/>
        </p:blipFill>
        <p:spPr>
          <a:xfrm>
            <a:off x="5076720" y="1628640"/>
            <a:ext cx="3591000" cy="36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51:28Z</dcterms:created>
  <dc:creator>Татьяна</dc:creator>
  <dc:description/>
  <dc:language>en-US</dc:language>
  <cp:lastModifiedBy>Коля</cp:lastModifiedBy>
  <dcterms:modified xsi:type="dcterms:W3CDTF">2013-03-16T17:20:10Z</dcterms:modified>
  <cp:revision>14</cp:revision>
  <dc:subject/>
  <dc:title>Слайд 1</dc:title>
</cp:coreProperties>
</file>