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6EA-43DB-4AF8-B863-3DF555FF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01A-FFD7-4399-A79B-6CC2C147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8C8-0DAC-429D-8CB0-39D24CF3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682-92DA-4B61-8D9C-353934EF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65D4-3AB0-44E7-A792-1F98EB64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EFE8-1063-485C-9D5B-1116B759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60CD-0FF7-400E-B406-3EFB9F78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E24A-F225-45DF-9C3C-DBB7635C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ED75-7482-4308-AFFF-6D0B38D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0BD8-1F2D-4355-A2B9-BC9E4249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3B24-931D-46BD-87D0-C2B5A50F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5BB-4F33-4449-8BEE-DEE3724D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C0D4-4997-4A33-9A87-8E84BA7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0BEA-2093-496C-BFA9-F69F1E5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719C-16B4-49DB-B6D0-AB08149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11D-C00D-4306-977E-95457ED5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F0A4-4882-408B-ACF1-B70CB6DA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81B-9B36-4328-B2E8-59AA28DF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172-080A-4D50-B9A2-13FA3B34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337-FA3C-4D5A-83C5-7CAEB7EF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0FE-929A-4638-945A-E6411625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23E-7687-44BF-A6FA-0D51EEDD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BA2-FBB4-4D2F-AF3F-F412CF2B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33A-B23F-4B3D-8ED0-667FE0E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6D26-09F3-4A86-96F5-B192AD1112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A92F-AB9F-4194-8982-E584BA9CE3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2348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Природные зоны России. </a:t>
            </a:r>
            <a:br>
              <a:rPr sz="4800"/>
            </a:b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Зона пустынь.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53000"/>
            <a:ext cx="401616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4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j0301252"/>
          <p:cNvPicPr/>
          <p:nvPr/>
        </p:nvPicPr>
        <p:blipFill>
          <a:blip r:embed="rId1"/>
          <a:stretch/>
        </p:blipFill>
        <p:spPr>
          <a:xfrm>
            <a:off x="6012000" y="3933720"/>
            <a:ext cx="273672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колосняк"/>
          <p:cNvPicPr/>
          <p:nvPr/>
        </p:nvPicPr>
        <p:blipFill>
          <a:blip r:embed="rId1"/>
          <a:stretch/>
        </p:blipFill>
        <p:spPr>
          <a:xfrm>
            <a:off x="684360" y="836640"/>
            <a:ext cx="3057480" cy="46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5516280"/>
            <a:ext cx="80074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осняк                   верблюжья колю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4" descr="верблюжья колючка"/>
          <p:cNvPicPr/>
          <p:nvPr/>
        </p:nvPicPr>
        <p:blipFill>
          <a:blip r:embed="rId2"/>
          <a:stretch/>
        </p:blipFill>
        <p:spPr>
          <a:xfrm>
            <a:off x="3995640" y="1700280"/>
            <a:ext cx="4537080" cy="340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5229000"/>
            <a:ext cx="80074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кати-п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9" descr="перекати-поле"/>
          <p:cNvPicPr/>
          <p:nvPr/>
        </p:nvPicPr>
        <p:blipFill>
          <a:blip r:embed="rId1"/>
          <a:stretch/>
        </p:blipFill>
        <p:spPr>
          <a:xfrm>
            <a:off x="1116000" y="692280"/>
            <a:ext cx="6913440" cy="448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Животные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5229000"/>
            <a:ext cx="80074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сак                                 песча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корсак"/>
          <p:cNvPicPr/>
          <p:nvPr/>
        </p:nvPicPr>
        <p:blipFill>
          <a:blip r:embed="rId1"/>
          <a:stretch/>
        </p:blipFill>
        <p:spPr>
          <a:xfrm>
            <a:off x="468360" y="2087640"/>
            <a:ext cx="4032360" cy="292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8" descr="песчанка"/>
          <p:cNvPicPr/>
          <p:nvPr/>
        </p:nvPicPr>
        <p:blipFill>
          <a:blip r:embed="rId2"/>
          <a:stretch/>
        </p:blipFill>
        <p:spPr>
          <a:xfrm>
            <a:off x="4572000" y="2381400"/>
            <a:ext cx="4129200" cy="213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5373720"/>
            <a:ext cx="800748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шканчик                          ушастый ё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тушканчик"/>
          <p:cNvPicPr/>
          <p:nvPr/>
        </p:nvPicPr>
        <p:blipFill>
          <a:blip r:embed="rId1"/>
          <a:stretch/>
        </p:blipFill>
        <p:spPr>
          <a:xfrm>
            <a:off x="971640" y="1281240"/>
            <a:ext cx="3529080" cy="339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Picture 9" descr="ушастый ёж"/>
          <p:cNvPicPr/>
          <p:nvPr/>
        </p:nvPicPr>
        <p:blipFill>
          <a:blip r:embed="rId2"/>
          <a:stretch/>
        </p:blipFill>
        <p:spPr>
          <a:xfrm>
            <a:off x="5076720" y="1197000"/>
            <a:ext cx="3151440" cy="36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5013000"/>
            <a:ext cx="80074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чаный                            ящериц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вчик                           круглогол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1" descr="песчаный удавчик"/>
          <p:cNvPicPr/>
          <p:nvPr/>
        </p:nvPicPr>
        <p:blipFill>
          <a:blip r:embed="rId1"/>
          <a:stretch/>
        </p:blipFill>
        <p:spPr>
          <a:xfrm>
            <a:off x="395280" y="2205000"/>
            <a:ext cx="4103640" cy="256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8" name="Picture 12" descr="ящерица"/>
          <p:cNvPicPr/>
          <p:nvPr/>
        </p:nvPicPr>
        <p:blipFill>
          <a:blip r:embed="rId2"/>
          <a:stretch/>
        </p:blipFill>
        <p:spPr>
          <a:xfrm>
            <a:off x="4643280" y="1052640"/>
            <a:ext cx="4024440" cy="318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ящурка"/>
          <p:cNvPicPr/>
          <p:nvPr/>
        </p:nvPicPr>
        <p:blipFill>
          <a:blip r:embed="rId1"/>
          <a:stretch/>
        </p:blipFill>
        <p:spPr>
          <a:xfrm>
            <a:off x="1187280" y="692280"/>
            <a:ext cx="6985080" cy="450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5300280"/>
            <a:ext cx="80074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ая ящу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Занятия людей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62" name="Picture 4" descr="4231544"/>
          <p:cNvPicPr/>
          <p:nvPr/>
        </p:nvPicPr>
        <p:blipFill>
          <a:blip r:embed="rId1"/>
          <a:stretch/>
        </p:blipFill>
        <p:spPr>
          <a:xfrm>
            <a:off x="684360" y="1484280"/>
            <a:ext cx="2857320" cy="40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3" name="Picture 5" descr="1135948728"/>
          <p:cNvPicPr/>
          <p:nvPr/>
        </p:nvPicPr>
        <p:blipFill>
          <a:blip r:embed="rId2"/>
          <a:stretch/>
        </p:blipFill>
        <p:spPr>
          <a:xfrm>
            <a:off x="3635280" y="1773360"/>
            <a:ext cx="5197680" cy="346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Экология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5445000"/>
            <a:ext cx="80074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вязка                            слепы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перевязка"/>
          <p:cNvPicPr/>
          <p:nvPr/>
        </p:nvPicPr>
        <p:blipFill>
          <a:blip r:embed="rId1"/>
          <a:stretch/>
        </p:blipFill>
        <p:spPr>
          <a:xfrm>
            <a:off x="684360" y="1968480"/>
            <a:ext cx="3311280" cy="3106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Picture 7" descr="слепыш"/>
          <p:cNvPicPr/>
          <p:nvPr/>
        </p:nvPicPr>
        <p:blipFill>
          <a:blip r:embed="rId2"/>
          <a:stretch/>
        </p:blipFill>
        <p:spPr>
          <a:xfrm>
            <a:off x="4643280" y="1989000"/>
            <a:ext cx="3529080" cy="3073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5300280"/>
            <a:ext cx="80074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йгак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сайгак"/>
          <p:cNvPicPr/>
          <p:nvPr/>
        </p:nvPicPr>
        <p:blipFill>
          <a:blip r:embed="rId1"/>
          <a:stretch/>
        </p:blipFill>
        <p:spPr>
          <a:xfrm>
            <a:off x="971640" y="692280"/>
            <a:ext cx="4222800" cy="547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еречислите природные зоны с севера на юг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едяная зона (Арктика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тунд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лес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степе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пусты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j0283649"/>
          <p:cNvPicPr/>
          <p:nvPr/>
        </p:nvPicPr>
        <p:blipFill>
          <a:blip r:embed="rId1"/>
          <a:stretch/>
        </p:blipFill>
        <p:spPr>
          <a:xfrm>
            <a:off x="5508720" y="2852640"/>
            <a:ext cx="2144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Верите ли вы, что…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имой в Арктике никогда не бывает солнц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ые медведи питаются пингвина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колиственный лес называется тай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пление птиц называется «птичьими рынками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дник – это человек, который сильно замерз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елых медведей рождаются зимой крошечные медвежата, которые не крупнее котя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а называют «лёгкими нашей планеты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рктике можно услышать, как кто-то разговаривает даже на расстоянии 5 к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ые моря необходимо защищать от загряз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900000" y="1628640"/>
            <a:ext cx="3240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пная з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ее зоны ле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859280" y="1628640"/>
            <a:ext cx="3600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епи раст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выль, дуб, тюльпа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ынь, ос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859280" y="3357720"/>
            <a:ext cx="3600360" cy="1511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епи живут сайга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ый медведь, вол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слик, хомяк, дроф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зовый скворе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716360" y="5084640"/>
            <a:ext cx="4032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епи люди заним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делием, доб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55640" y="5084640"/>
            <a:ext cx="352908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 в степи холодн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ждли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900000" y="3429000"/>
            <a:ext cx="3240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има в степи тепле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в лесной з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Найди и исправь ошибки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7"/>
          <p:cNvSpPr/>
          <p:nvPr/>
        </p:nvSpPr>
        <p:spPr>
          <a:xfrm>
            <a:off x="3419640" y="2565360"/>
            <a:ext cx="252072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усты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539640" y="2565360"/>
            <a:ext cx="230508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олог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6372360" y="3068640"/>
            <a:ext cx="244764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627280" y="5013360"/>
            <a:ext cx="180036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2"/>
          <p:cNvSpPr/>
          <p:nvPr/>
        </p:nvSpPr>
        <p:spPr>
          <a:xfrm>
            <a:off x="4932360" y="5013360"/>
            <a:ext cx="2521080" cy="10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5292720" y="907920"/>
            <a:ext cx="180036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1763640" y="620640"/>
            <a:ext cx="266400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5940360" y="3284640"/>
            <a:ext cx="503280" cy="2156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 flipV="1">
            <a:off x="2771640" y="3068280"/>
            <a:ext cx="648000" cy="73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 flipV="1">
            <a:off x="3419280" y="1989000"/>
            <a:ext cx="360360" cy="6494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 flipV="1">
            <a:off x="5364000" y="1916280"/>
            <a:ext cx="503280" cy="720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38"/>
          <p:cNvSpPr/>
          <p:nvPr/>
        </p:nvSpPr>
        <p:spPr>
          <a:xfrm flipH="1">
            <a:off x="3708000" y="3716280"/>
            <a:ext cx="358920" cy="1297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39"/>
          <p:cNvSpPr/>
          <p:nvPr/>
        </p:nvSpPr>
        <p:spPr>
          <a:xfrm>
            <a:off x="5292720" y="3716280"/>
            <a:ext cx="431640" cy="1368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2" descr="j0299125"/>
          <p:cNvPicPr/>
          <p:nvPr/>
        </p:nvPicPr>
        <p:blipFill>
          <a:blip r:embed="rId1"/>
          <a:stretch/>
        </p:blipFill>
        <p:spPr>
          <a:xfrm>
            <a:off x="755640" y="3933720"/>
            <a:ext cx="145116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положение: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27640" y="1904760"/>
            <a:ext cx="4417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России пустыни занимают небольшую площадь – по берегам Каспийского моря, к западу и к востоку от низовьев Волг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7720" y="1904760"/>
            <a:ext cx="207828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1" descr="PH05426"/>
          <p:cNvPicPr/>
          <p:nvPr/>
        </p:nvPicPr>
        <p:blipFill>
          <a:blip r:embed="rId1"/>
          <a:stretch/>
        </p:blipFill>
        <p:spPr>
          <a:xfrm>
            <a:off x="684360" y="1700280"/>
            <a:ext cx="367164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устын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сча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лини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2555640" y="1268280"/>
            <a:ext cx="1081080" cy="720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796000" y="1268280"/>
            <a:ext cx="1006560" cy="720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1" descr="desert1"/>
          <p:cNvPicPr/>
          <p:nvPr/>
        </p:nvPicPr>
        <p:blipFill>
          <a:blip r:embed="rId1"/>
          <a:stretch/>
        </p:blipFill>
        <p:spPr>
          <a:xfrm>
            <a:off x="4572000" y="2852640"/>
            <a:ext cx="4105440" cy="30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Picture 12" descr="2508-2"/>
          <p:cNvPicPr/>
          <p:nvPr/>
        </p:nvPicPr>
        <p:blipFill>
          <a:blip r:embed="rId2"/>
          <a:stretch/>
        </p:blipFill>
        <p:spPr>
          <a:xfrm>
            <a:off x="468360" y="2852640"/>
            <a:ext cx="3960720" cy="30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лимат 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то очень жаркое, поверхность земли днём нагревается до +70 градусов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чи прохладные, песок и глина быстро остываю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мало осадков. Порой за всё лето не бывает ни капли дожд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ения: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41" name="Picture 15" descr="14"/>
          <p:cNvPicPr/>
          <p:nvPr/>
        </p:nvPicPr>
        <p:blipFill>
          <a:blip r:embed="rId1"/>
          <a:stretch/>
        </p:blipFill>
        <p:spPr>
          <a:xfrm>
            <a:off x="395280" y="1844640"/>
            <a:ext cx="4535640" cy="33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5373720"/>
            <a:ext cx="80074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тус                  джузгу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8" descr="джузгун"/>
          <p:cNvPicPr/>
          <p:nvPr/>
        </p:nvPicPr>
        <p:blipFill>
          <a:blip r:embed="rId2"/>
          <a:stretch/>
        </p:blipFill>
        <p:spPr>
          <a:xfrm>
            <a:off x="5076720" y="1628640"/>
            <a:ext cx="3591000" cy="36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51:28Z</dcterms:created>
  <dc:creator>Татьяна</dc:creator>
  <dc:description/>
  <dc:language>en-US</dc:language>
  <cp:lastModifiedBy>Коля</cp:lastModifiedBy>
  <dcterms:modified xsi:type="dcterms:W3CDTF">2013-03-16T17:20:10Z</dcterms:modified>
  <cp:revision>14</cp:revision>
  <dc:subject/>
  <dc:title>Слайд 1</dc:title>
</cp:coreProperties>
</file>