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A31-8EE9-410D-A43D-7CA0C612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AF6-AA50-4334-B07E-5AAC1269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853-EB69-420B-A450-5C29B56A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BFC-8FB9-4761-9362-EA499D70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25E7-6671-422D-9140-B4188AD3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9B60-1ED8-4135-9946-C95B0585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636E-A147-4298-B8D1-C81FA9EA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CA8F-2E11-475E-8284-FF68C048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07FC-B84A-4ACB-A56A-06C3EB35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D488-1E9A-4A71-A259-576BE175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6D68-526D-4811-AC08-F02E867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A52-E94C-4974-A04A-10DE3DE5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78CD-597F-4B73-A889-D8E46533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9B98-EFBA-41DA-A4CF-F0A20527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92E7-7EFC-4DA3-954F-3EB0B7E3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3EF7-8CC2-42EC-8E1F-AC8A118E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F4DF-5A76-481F-8D24-5DA77A0B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714-AEA7-4B2F-A78A-CE309A99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01D-C017-405F-AF9E-8AAC019E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393-10EA-461B-86B8-5B885CFE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D90-CEEA-476D-BC74-36ABBC57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BB1-052B-45CA-8AFC-950E827A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A89-3E60-47AC-BF91-3360673D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8A3-CA99-4491-B1C0-B9646577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D4E5-8376-4690-A759-7C857262492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CEB6-69A4-48F5-A505-206DD3CFA02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280" y="1219320"/>
            <a:ext cx="69850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99"/>
                </a:solidFill>
                <a:latin typeface="Monotype Corsiva"/>
              </a:rPr>
              <a:t>Решение примеров по теме: «Вычитание чисел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Задание 1. Решение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501336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_x000b_заданию 2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0920" y="2276640"/>
                <a:ext cx="889308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твет: г.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941-0F1F-4878-A485-2F8EFA67DD86}" type="slidenum">
              <a:t>10</a:t>
            </a:fld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Вычислите:                               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2852640"/>
            <a:ext cx="10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494172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781360"/>
            <a:ext cx="122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4869000"/>
            <a:ext cx="432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) другой ответ 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3280" y="476280"/>
                <a:ext cx="316872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79640" y="2708280"/>
                <a:ext cx="1322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908000" y="4869000"/>
                <a:ext cx="12988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08720" y="2708280"/>
                <a:ext cx="1322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794-2DC1-4335-9772-0CED9356D842}" type="slidenum">
              <a:t>11</a:t>
            </a:fld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Молодцы! Ответ верны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заданию 3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CF5-D23D-41C8-8266-231A965DC086}" type="slidenum">
              <a:t>12</a:t>
            </a:fld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Неверно, попробуйте ещё раз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869000"/>
            <a:ext cx="262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оказать_x000b_задание 2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4653000"/>
            <a:ext cx="2808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2" action="ppaction://hlinksldjump"/>
              </a:rPr>
              <a:t>Перейти к _x000b_заданию 3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16360" y="5013360"/>
            <a:ext cx="3240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3" action="ppaction://hlinksldjump"/>
              </a:rPr>
              <a:t>Показать_x000b_решение_x000b_задания 2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ED3-C406-4F4D-B039-01EBFEF610C7}" type="slidenum">
              <a:t>13</a:t>
            </a:fld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Задание 2. Решение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_x000b_заданию 3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0" y="2133720"/>
                <a:ext cx="88200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твет: в.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672-5912-49B3-AFAE-9813EBD4F477}" type="slidenum">
              <a:t>14</a:t>
            </a:fld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7416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. Выполните действия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,56 – (5,91+7,56)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2852640"/>
            <a:ext cx="194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а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0,91;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8920" y="4941720"/>
            <a:ext cx="230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б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0,91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781360"/>
            <a:ext cx="28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10,91 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4869000"/>
            <a:ext cx="40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3" action="ppaction://hlinksldjump"/>
              </a:rPr>
              <a:t>г)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другой ответ 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30A-997F-49AF-BD3E-FBFC2B4A615C}" type="slidenum">
              <a:t>15</a:t>
            </a:fld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Молодцы! Ответ верны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заданию 4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E8F-7B04-47BE-95A2-5BDD7731951E}" type="slidenum">
              <a:t>16</a:t>
            </a:fld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Неверно, попробуйте ещё раз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7360"/>
            <a:ext cx="27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оказать_x000b_задание 3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04000" y="4724280"/>
            <a:ext cx="324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2" action="ppaction://hlinksldjump"/>
              </a:rPr>
              <a:t>Перейти к _x000b_заданию 4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724280"/>
            <a:ext cx="3240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Показать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решение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задания 3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A53-449E-4B12-9874-0DE50E8DB51C}" type="slidenum">
              <a:t>17</a:t>
            </a:fld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Задание 3. Решение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,56 – (5,91+7,56)=2,56-13,47= =2,56+(-13,47)=-(13,47-2,56)=-10,91.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твет: в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40360" y="4724280"/>
            <a:ext cx="4103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_x000b_заданию 4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8E6-3E62-4E9D-BF54-729D40553B29}" type="slidenum">
              <a:t>18</a:t>
            </a:fld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2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Найдите значение выражения: 0,45 – х – 3,8 при х = - 1,38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3500280"/>
            <a:ext cx="28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6,92; </a:t>
            </a: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4941720"/>
            <a:ext cx="252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б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4,73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27640" y="3500280"/>
            <a:ext cx="331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1,97 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501336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6666"/>
                </a:solidFill>
                <a:uFillTx/>
                <a:latin typeface="Arial"/>
                <a:hlinkClick r:id="rId3" action="ppaction://hlinksldjump"/>
              </a:rPr>
              <a:t>г)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другой ответ 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A3B-6B56-4FAE-BF66-AF83BC8BF348}" type="slidenum">
              <a:t>19</a:t>
            </a:fld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 отработка навыков вычитания чисел с одинаковыми и разными знаками;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 повторение правил сложения отрицательных чисел и чисел с разными знаками и их применение на практике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5C1-C6BF-4C60-9201-15ED7D8F9F45}" type="slidenum">
              <a:t>2</a:t>
            </a:fld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Молодцы! Ответ верны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заданию 5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1DF-AF22-4DE3-BB2E-7E096C90B0E1}" type="slidenum">
              <a:t>20</a:t>
            </a:fld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Неверно, попробуйте ещё раз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724280"/>
            <a:ext cx="284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оказать_x000b_задание 4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4653000"/>
            <a:ext cx="3240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2" action="ppaction://hlinksldjump"/>
              </a:rPr>
              <a:t>Перейти к _x000b_заданию 5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4797360"/>
            <a:ext cx="3240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Показать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решение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задания 4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0D2-A0C9-40FA-8468-F4E9BEF9B673}" type="slidenum">
              <a:t>21</a:t>
            </a:fld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85186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Задание 4. Решение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0,45 – (- 1,38) – 3,8 = 0,45+1,38-3,8= =1,83+(-3,8)=-(3,8-1,83)=-1,97.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твет: в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Перейти к 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заданию 5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659-113C-459D-915E-CA2DDECE57DB}" type="slidenum">
              <a:t>22</a:t>
            </a:fld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064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- у + 2,92 = 0,3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85264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3,22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94172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2,62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56000" y="2781360"/>
            <a:ext cx="39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2,62 ; 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4869000"/>
            <a:ext cx="396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) другой ответ 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5E7-10E0-40BF-AFB6-0FA0E37E9D35}" type="slidenum">
              <a:t>23</a:t>
            </a:fld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Молодцы! Ответ верны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4653000"/>
            <a:ext cx="504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следующему этапу урока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FE8-2BDE-4138-B1AA-ED0EB5279D86}" type="slidenum">
              <a:t>24</a:t>
            </a:fld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Неверно, попробуйте ещё раз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458136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оказать_x000b_задание 5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4653000"/>
            <a:ext cx="3889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2" action="ppaction://hlinksldjump"/>
              </a:rPr>
              <a:t>Перейти к следующему этапу урока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5013360"/>
            <a:ext cx="280836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Показать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решение</a:t>
            </a:r>
            <a:br>
              <a:rPr sz="4200"/>
            </a:b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задания 5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FE0-BE19-486D-98B4-01FD413A2736}" type="slidenum">
              <a:t>25</a:t>
            </a:fld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Задание 5. Решение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 у + 2,92 = 0,3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у=0,3-2,92;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3+(-2,92)=-(2,92-0,3)=-2,62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у=-2,62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у=2,62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твет: б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3640" y="4653000"/>
            <a:ext cx="504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Monotype Corsiva"/>
              </a:rPr>
              <a:t>Перейти к следующему этапу урока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ACC-4D9E-462D-8954-A771BFC2000B}" type="slidenum">
              <a:t>26</a:t>
            </a:fld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99"/>
                </a:solidFill>
                <a:latin typeface="Monotype Corsiva"/>
              </a:rPr>
              <a:t>Подведение итогов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155736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Times New Roman"/>
              </a:rPr>
              <a:t>1. Сформулируйте правило вычитания чисел.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Times New Roman"/>
              </a:rPr>
              <a:t>2. Сформулируйте правило сложения чисел с разными знаками.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465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Times New Roman"/>
              </a:rPr>
              <a:t>3. Сформулируйте правило сложения отрицательных чисел.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D9D-244E-4D08-A3E1-3DEC913D9592}" type="slidenum">
              <a:t>27</a:t>
            </a:fld>
          </a:p>
        </p:txBody>
      </p:sp>
    </p:spTree>
  </p:cSld>
  <p:transition spd="slow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99"/>
                </a:solidFill>
                <a:latin typeface="Monotype Corsiva"/>
              </a:rPr>
              <a:t>Домашне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1773360"/>
            <a:ext cx="82296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66"/>
                </a:solidFill>
                <a:latin typeface="Times New Roman"/>
              </a:rPr>
              <a:t>п.33-34; № 1110;</a:t>
            </a:r>
            <a:br>
              <a:rPr sz="6600"/>
            </a:br>
            <a:r>
              <a:rPr b="0" lang="ru-RU" sz="6600" spc="-1" strike="noStrike">
                <a:solidFill>
                  <a:srgbClr val="336666"/>
                </a:solidFill>
                <a:latin typeface="Times New Roman"/>
              </a:rPr>
              <a:t>№ 1109 (з-п)</a:t>
            </a:r>
            <a:br>
              <a:rPr sz="6600"/>
            </a:br>
            <a:r>
              <a:rPr b="0" lang="ru-RU" sz="5400" spc="-1" strike="noStrike">
                <a:solidFill>
                  <a:srgbClr val="336666"/>
                </a:solidFill>
                <a:latin typeface="Times New Roman"/>
              </a:rPr>
              <a:t>индивидуальные задания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CE0-FA60-4968-A7D4-9723AE082480}" type="slidenum">
              <a:t>28</a:t>
            </a:fld>
          </a:p>
        </p:txBody>
      </p:sp>
    </p:spTree>
  </p:cSld>
  <p:transition spd="slow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Georgia"/>
              </a:rPr>
              <a:t>Устный счё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00"/>
                </a:solidFill>
                <a:latin typeface="Georgia"/>
              </a:rPr>
              <a:t>Найдите  правильный  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71800">
            <a:off x="2916000" y="2491920"/>
            <a:ext cx="2447640" cy="158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4,8 + 4,8 =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242100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9,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72360" y="400536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9,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551664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8,1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5157720"/>
            <a:ext cx="914400" cy="914400"/>
          </a:xfrm>
          <a:prstGeom prst="ellipse">
            <a:avLst/>
          </a:prstGeom>
          <a:solidFill>
            <a:srgbClr val="afe1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40720" y="2637000"/>
            <a:ext cx="91440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8,1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3A5-E9B8-4260-AA63-9E6A5FEE1CF7}" type="slidenum">
              <a:t>3</a:t>
            </a:fld>
          </a:p>
        </p:txBody>
      </p:sp>
    </p:spTree>
  </p:cSld>
  <p:transition spd="slow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17 0.00417 0.0434 0.00833 0.10469 0.00856 C 0.16597 0.00879 0.31476 0.02775 0.36823 0.00209 C 0.4217 -0.02358 0.41406 -0.08994 0.42535 -0.14589 C 0.43663 -0.20185 0.44219 -0.27791 0.43646 -0.33387 C 0.43073 -0.38982 0.41684 -0.45549 0.39045 -0.48185 C 0.36406 -0.5082 0.31319 -0.5015 0.27778 -0.49248 C 0.24236 -0.48346 0.20451 -0.45595 0.17778 -0.42705 C 0.15104 -0.39815 0.1342 -0.35861 0.11736 -0.31907 E">
                                      <p:cBhvr>
                                        <p:cTn id="6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00"/>
                </a:solidFill>
                <a:latin typeface="Georgia"/>
              </a:rPr>
              <a:t>Найдите  правильный  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271800">
            <a:off x="2914560" y="2503440"/>
            <a:ext cx="2735280" cy="158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4,8 +(-4,8) =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4941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400536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551664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9,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24720" y="2276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9,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85080" y="4797360"/>
            <a:ext cx="914400" cy="935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-8,16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258-1F1E-43C8-8036-A36F9F21B7AE}" type="slidenum">
              <a:t>4</a:t>
            </a:fld>
          </a:p>
        </p:txBody>
      </p:sp>
    </p:spTree>
  </p:cSld>
  <p:transition spd="slow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9017E-007 C 0.02048 0.01272 0.04097 0.02567 0.05399 0.05272 C 0.06701 0.07977 0.07152 0.11769 0.07777 0.16277 C 0.08402 0.20786 0.10121 0.27191 0.09201 0.32324 C 0.08281 0.37457 0.06979 0.43884 0.02222 0.47121 C -0.02535 0.50358 -0.12674 0.51676 -0.19358 0.51792 C -0.26042 0.51908 -0.35278 0.51514 -0.37934 0.47769 C -0.40591 0.44023 -0.37813 0.33017 -0.35243 0.29364 C -0.32674 0.25711 -0.25018 0.28948 -0.22535 0.2578 C -0.20052 0.22613 -0.20782 0.13526 -0.20313 0.10289 E">
                                      <p:cBhvr>
                                        <p:cTn id="11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Вопрос:</a:t>
            </a:r>
            <a:br>
              <a:rPr sz="3800"/>
            </a:b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Чем отличаются данные примеры?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22100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Сформулировать правило сложения противоположных чисел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323-1EB7-4F30-905C-96602C53B840}" type="slidenum">
              <a:t>5</a:t>
            </a:fld>
          </a:p>
        </p:txBody>
      </p:sp>
    </p:spTree>
  </p:cSld>
  <p:transition spd="slow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773360"/>
            <a:ext cx="869796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Инструктаж по выполнению компьютерного тестирования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) решить задание; 2) выбрать вариант ответа; 3) щёлкнуть по номеру (номер-буква является гиперссылкой) выбранного ответа одним щелчком мыши или указать маркером интерактивной доски; 4) появится слайд с уведомлением о выполнении задания; 5) перейти к следующему заданию или вернуться к выполнению предыдущего; при необходимости посмотреть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0"/>
            <a:ext cx="8283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Monotype Corsiva"/>
              </a:rPr>
              <a:t>Компьютерное тестирование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7FB-F75C-4E28-8437-A83F0E3D5C75}" type="slidenum">
              <a:t>6</a:t>
            </a:fld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Выполните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вычитание:          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2852640"/>
            <a:ext cx="115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94172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2781360"/>
            <a:ext cx="107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) 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4869000"/>
            <a:ext cx="40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) другой ответ .</a:t>
            </a:r>
            <a:endParaRPr b="0" lang="en-US" sz="3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516720" y="1197000"/>
                <a:ext cx="187164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79640" y="2781360"/>
                <a:ext cx="11206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79640" y="4941720"/>
                <a:ext cx="10317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364000" y="2708280"/>
                <a:ext cx="10782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1D7-CECC-45B1-88C1-A18D63E380E2}" type="slidenum">
              <a:t>7</a:t>
            </a:fld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Молодцы! Ответ верны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4653000"/>
            <a:ext cx="4103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ерейти к заданию 2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B2D-6568-40B2-92E8-E8833D8F6D2E}" type="slidenum">
              <a:t>8</a:t>
            </a:fld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Неверно, попробуйте ещё раз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869000"/>
            <a:ext cx="27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1" action="ppaction://hlinksldjump"/>
              </a:rPr>
              <a:t>Показать_x000b_задание 1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75280" y="4653000"/>
            <a:ext cx="316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2" action="ppaction://hlinksldjump"/>
              </a:rPr>
              <a:t>Перейти к _x000b_заданию 2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5013360"/>
            <a:ext cx="3240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66"/>
                </a:solidFill>
                <a:uFillTx/>
                <a:latin typeface="Monotype Corsiva"/>
                <a:hlinkClick r:id="rId3" action="ppaction://hlinksldjump"/>
              </a:rPr>
              <a:t>Показать_x000b_решение_x000b_задания 1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CBB-131E-4A04-AED1-E900E762B416}" type="slidenum">
              <a:t>9</a:t>
            </a:fld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7:24:51Z</dcterms:created>
  <dc:creator>User</dc:creator>
  <dc:description/>
  <dc:language>en-US</dc:language>
  <cp:lastModifiedBy>comp2</cp:lastModifiedBy>
  <dcterms:modified xsi:type="dcterms:W3CDTF">2009-02-25T05:34:30Z</dcterms:modified>
  <cp:revision>40</cp:revision>
  <dc:subject/>
  <dc:title>Слайд 1</dc:title>
</cp:coreProperties>
</file>