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836-B63B-439C-9BCB-AE987F0A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BD5-0152-4C05-8850-01BCCFB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D07-AEA9-4CB9-8488-4C9E90A8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FCD-F47A-4237-BBE7-6D7A8597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51B3-3B80-45A0-B17C-669B4C01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3638-167F-4835-B5B7-3B2DBB7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D8B-6E2D-4E6E-9C83-46DAC7A2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CA08-6F98-4DC9-B483-34654D8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AAC2-5B69-4F9F-A479-25849038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1C9-E80E-4B1A-B67B-2C0783E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FA9E-FDA8-4494-8829-E63F606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6D3-7864-4146-BF89-1E6F7F6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2E4-4490-48D7-997E-7949B70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852-1F30-4578-BCF7-2BD0FD3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2AB-C3FB-4B03-8F94-B5A84E8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900-0500-44B1-93F4-26C8A0ED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91BB-7112-4C3C-B11D-FE5D88F8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AD-E28B-4B4B-9442-C6A91E4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5DD-F563-4848-91D9-33AEF511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6F9-32EF-49D8-BD70-1DD830C2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988-665B-4A8A-BA12-9B83B389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5D2-2808-4947-A380-BDE7484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AB2-1451-478D-93E5-D6E97F0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1E2-7F8B-4FFA-894D-B93D495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2C38-950C-46AE-8139-F7C7412D40B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100-6BF2-4F8D-B01E-7A8F0BD69CA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280" y="1219320"/>
            <a:ext cx="69850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99"/>
                </a:solidFill>
                <a:latin typeface="Monotype Corsiva"/>
              </a:rPr>
              <a:t>Решение примеров по теме: «Вычитание чисел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Задание 1. Реше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501336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0920" y="2276640"/>
                <a:ext cx="889308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твет: г.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E77-BFF7-47BE-934A-F6734B29B2E7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Вычислите:                               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852640"/>
            <a:ext cx="10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781360"/>
            <a:ext cx="122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4869000"/>
            <a:ext cx="432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3280" y="476280"/>
                <a:ext cx="3168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79640" y="2708280"/>
                <a:ext cx="1322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08000" y="4869000"/>
                <a:ext cx="1298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2708280"/>
                <a:ext cx="1322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A3D-3B59-410C-8D28-BA05F517BB94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DC5-9888-4370-8118-FC0EF7FFE3F4}" type="slidenum">
              <a:t>12</a:t>
            </a:fld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869000"/>
            <a:ext cx="262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4653000"/>
            <a:ext cx="280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5013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3" action="ppaction://hlinksldjump"/>
              </a:rPr>
              <a:t>Показать_x000b_решение_x000b_задания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87A-C1D9-406E-9CD5-6950139C51D8}" type="slidenum">
              <a:t>13</a:t>
            </a:fld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Задание 2. Реше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0" y="2133720"/>
                <a:ext cx="8820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460-6ADB-4D59-84A8-9CFA84A37BD1}" type="slidenum">
              <a:t>14</a:t>
            </a:fld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. Выполните действия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,56 – (5,91+7,56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285264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0,91;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4941720"/>
            <a:ext cx="230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0,91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78136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10,91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4869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г)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144-956B-4CDD-B7B1-0DDE55C062AD}" type="slidenum">
              <a:t>15</a:t>
            </a:fld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48A-4ABE-4688-AA68-18EE8B158D8F}" type="slidenum">
              <a:t>16</a:t>
            </a:fld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7360"/>
            <a:ext cx="27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04000" y="472428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72428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9BE-6C59-4E51-A3FF-CC1317143376}" type="slidenum">
              <a:t>17</a:t>
            </a:fld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3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,56 – (5,91+7,56)=2,56-13,47= =2,56+(-13,47)=-(13,47-2,56)=-10,91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0360" y="4724280"/>
            <a:ext cx="4103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8D9-FFD7-41CE-8AEC-65D05FC83098}" type="slidenum">
              <a:t>18</a:t>
            </a:fld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Найдите значение выражения: 0,45 – х – 3,8 при х = - 1,38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350028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6,92; </a:t>
            </a: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4941720"/>
            <a:ext cx="252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4,73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50028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1,97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501336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г)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FDB-32DF-409F-8650-08A558C81F90}" type="slidenum">
              <a:t>19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отработка навыков вычитания чисел с одинаковыми и разными знаками;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повторение правил сложения отрицательных чисел и чисел с разными знаками и их применение на практике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80D-A5B0-41CA-AA66-BCBA92F6BA9D}" type="slidenum">
              <a:t>2</a:t>
            </a:fld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7D9-F32F-4830-858A-A2F40CCEBED7}" type="slidenum">
              <a:t>20</a:t>
            </a:fld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724280"/>
            <a:ext cx="28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653000"/>
            <a:ext cx="324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4797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02A-D675-4B37-B032-64A51EB90118}" type="slidenum">
              <a:t>21</a:t>
            </a:fld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51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4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0,45 – (- 1,38) – 3,8 = 0,45+1,38-3,8= =1,83+(-3,8)=-(3,8-1,83)=-1,97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ерейти к 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F5C-D4AA-429C-B05F-6ECEE4B5E985}" type="slidenum">
              <a:t>22</a:t>
            </a:fld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064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- у + 2,92 = 0,3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85264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3,22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941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,62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781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2,62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4869000"/>
            <a:ext cx="396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0E9-DA0F-49B5-9693-8BA51C10036E}" type="slidenum">
              <a:t>23</a:t>
            </a:fld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4653000"/>
            <a:ext cx="504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403-BF42-4A6D-A991-45716318AA42}" type="slidenum">
              <a:t>24</a:t>
            </a:fld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8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653000"/>
            <a:ext cx="3889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5013360"/>
            <a:ext cx="28083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EDA-02C5-4F4C-B68D-FE4479FDCA45}" type="slidenum">
              <a:t>25</a:t>
            </a:fld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5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у + 2,92 = 0,3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у=0,3-2,92;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3+(-2,92)=-(2,92-0,3)=-2,62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у=-2,62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=2,62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б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3640" y="4653000"/>
            <a:ext cx="504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BBE-601F-4201-A863-55C90DF71052}" type="slidenum">
              <a:t>26</a:t>
            </a:fld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Monotype Corsiva"/>
              </a:rPr>
              <a:t>Подведение итогов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557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1. Сформулируйте правило вычитания чисел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2. Сформулируйте правило сложения чисел с разными знаками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65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3. Сформулируйте правило сложения отрицательных чисел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9D1-1B8C-46EF-8CF9-71F5215EE4E6}" type="slidenum">
              <a:t>27</a:t>
            </a:fld>
          </a:p>
        </p:txBody>
      </p:sp>
    </p:spTree>
  </p:cSld>
  <p:transition spd="slow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Monotype Corsiva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66"/>
                </a:solidFill>
                <a:latin typeface="Times New Roman"/>
              </a:rPr>
              <a:t>п.33-34; № 1110;</a:t>
            </a:r>
            <a:br>
              <a:rPr sz="6600"/>
            </a:br>
            <a:r>
              <a:rPr b="0" lang="ru-RU" sz="6600" spc="-1" strike="noStrike">
                <a:solidFill>
                  <a:srgbClr val="336666"/>
                </a:solidFill>
                <a:latin typeface="Times New Roman"/>
              </a:rPr>
              <a:t>№ 1109 (з-п)</a:t>
            </a:r>
            <a:br>
              <a:rPr sz="6600"/>
            </a:br>
            <a:r>
              <a:rPr b="0" lang="ru-RU" sz="5400" spc="-1" strike="noStrike">
                <a:solidFill>
                  <a:srgbClr val="336666"/>
                </a:solidFill>
                <a:latin typeface="Times New Roman"/>
              </a:rPr>
              <a:t>индивидуальные задания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BD8-502C-4C80-BCE8-94A50316CE6A}" type="slidenum">
              <a:t>28</a:t>
            </a:fld>
          </a:p>
        </p:txBody>
      </p:sp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Georgia"/>
              </a:rPr>
              <a:t>Устный счё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71800">
            <a:off x="2916000" y="2491920"/>
            <a:ext cx="244764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4,8 + 4,8 =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42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afe1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2637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AEF-2FD4-4EE3-A630-2F07588044BC}" type="slidenum">
              <a:t>3</a:t>
            </a:fld>
          </a:p>
        </p:txBody>
      </p:sp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17 0.00417 0.0434 0.00833 0.10469 0.00856 C 0.16597 0.00879 0.31476 0.02775 0.36823 0.00209 C 0.4217 -0.02358 0.41406 -0.08994 0.42535 -0.14589 C 0.43663 -0.20185 0.44219 -0.27791 0.43646 -0.33387 C 0.43073 -0.38982 0.41684 -0.45549 0.39045 -0.48185 C 0.36406 -0.5082 0.31319 -0.5015 0.27778 -0.49248 C 0.24236 -0.48346 0.20451 -0.45595 0.17778 -0.42705 C 0.15104 -0.39815 0.1342 -0.35861 0.11736 -0.31907 E">
                                      <p:cBhvr>
                                        <p:cTn id="6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271800">
            <a:off x="2914560" y="2503440"/>
            <a:ext cx="273528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4,8 +(-4,8) =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4941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22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797360"/>
            <a:ext cx="91440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432-381A-416B-A4A3-5547EDB5EBBF}" type="slidenum">
              <a:t>4</a:t>
            </a:fld>
          </a:p>
        </p:txBody>
      </p:sp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9017E-007 C 0.02048 0.01272 0.04097 0.02567 0.05399 0.05272 C 0.06701 0.07977 0.07152 0.11769 0.07777 0.16277 C 0.08402 0.20786 0.10121 0.27191 0.09201 0.32324 C 0.08281 0.37457 0.06979 0.43884 0.02222 0.47121 C -0.02535 0.50358 -0.12674 0.51676 -0.19358 0.51792 C -0.26042 0.51908 -0.35278 0.51514 -0.37934 0.47769 C -0.40591 0.44023 -0.37813 0.33017 -0.35243 0.29364 C -0.32674 0.25711 -0.25018 0.28948 -0.22535 0.2578 C -0.20052 0.22613 -0.20782 0.13526 -0.20313 0.10289 E">
                                      <p:cBhvr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Вопрос:</a:t>
            </a:r>
            <a:br>
              <a:rPr sz="3800"/>
            </a:b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Чем отличаются данные примеры?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22100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Сформулировать правило сложения противоположных чисел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089-9014-4C75-8711-E3C5946D9A30}" type="slidenum">
              <a:t>5</a:t>
            </a:fld>
          </a:p>
        </p:txBody>
      </p:sp>
    </p:spTree>
  </p:cSld>
  <p:transition spd="slow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773360"/>
            <a:ext cx="869796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Инструктаж по выполнению компьютерного тестирован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) решить задание; 2) выбрать вариант ответа; 3) щёлкнуть по номеру (номер-буква является гиперссылкой) выбранного ответа одним щелчком мыши или указать маркером интерактивной доски; 4) появится слайд с уведомлением о выполнении задания; 5) перейти к следующему заданию или вернуться к выполнению предыдущего; при необходимости посмотреть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0"/>
            <a:ext cx="8283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Monotype Corsiva"/>
              </a:rPr>
              <a:t>Компьютерное тестирование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411-C6B5-41AA-A911-3E1AB88B1511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Выполните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вычитание:         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852640"/>
            <a:ext cx="11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2781360"/>
            <a:ext cx="107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4869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516720" y="1197000"/>
                <a:ext cx="18716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79640" y="2781360"/>
                <a:ext cx="11206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79640" y="4941720"/>
                <a:ext cx="1031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64000" y="2708280"/>
                <a:ext cx="1078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DF7-3451-4C03-9121-8D4547594DEB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7F8-33A4-418D-AF41-DD37458C5601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69000"/>
            <a:ext cx="27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1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75280" y="4653000"/>
            <a:ext cx="316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013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3" action="ppaction://hlinksldjump"/>
              </a:rPr>
              <a:t>Показать_x000b_решение_x000b_задания 1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93A-AC8E-4273-98B7-662D8D3BA3BE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4:51Z</dcterms:created>
  <dc:creator>User</dc:creator>
  <dc:description/>
  <dc:language>en-US</dc:language>
  <cp:lastModifiedBy>comp2</cp:lastModifiedBy>
  <dcterms:modified xsi:type="dcterms:W3CDTF">2009-02-25T05:34:30Z</dcterms:modified>
  <cp:revision>40</cp:revision>
  <dc:subject/>
  <dc:title>Слайд 1</dc:title>
</cp:coreProperties>
</file>