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DA0-82E5-467B-A84F-AF9F2695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A6C-577C-446F-A436-BCF74C5B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C1E-E238-4078-BA89-A9B858E8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CA7-D528-4622-989A-6E0C182E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F4E-A555-41BA-AD94-EA827619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5AC-DAC6-419D-864F-EB84F6F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E7F-AA91-4008-8EEB-F7F85D95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9F9-3DEB-4FAF-BC58-9C3BB62C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2E0-BCC9-45AC-A9C4-DCED2AC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41D-4B79-49CB-9C5E-12FCCFA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A97-D171-406B-B2A8-C2F11128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309-3374-4A9A-AB07-906A87A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2C2F-3C62-41D3-8D3C-E93C1C232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пля"/>
          <p:cNvPicPr/>
          <p:nvPr/>
        </p:nvPicPr>
        <p:blipFill>
          <a:blip r:embed="rId1"/>
          <a:stretch/>
        </p:blipFill>
        <p:spPr>
          <a:xfrm rot="19041600">
            <a:off x="6877080" y="3141360"/>
            <a:ext cx="44136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8"/>
          <p:cNvGraphicFramePr/>
          <p:nvPr/>
        </p:nvGraphicFramePr>
        <p:xfrm>
          <a:off x="5245200" y="-171360"/>
          <a:ext cx="3898800" cy="39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5200" y="-171360"/>
                    <a:ext cx="3898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WordArt 5"/>
          <p:cNvSpPr txBox="1"/>
          <p:nvPr/>
        </p:nvSpPr>
        <p:spPr>
          <a:xfrm>
            <a:off x="468360" y="2060640"/>
            <a:ext cx="821520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екрет успеха вампирской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 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аги 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тефани Майер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AutoShape 10">
            <a:hlinkClick r:id="" action="ppaction://hlinkshowjump?jump=nextslide"/>
          </p:cNvPr>
          <p:cNvSpPr/>
          <p:nvPr/>
        </p:nvSpPr>
        <p:spPr>
          <a:xfrm>
            <a:off x="8244000" y="602136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" action="ppaction://hlinkshowjump?jump=previousslide"/>
          </p:cNvPr>
          <p:cNvSpPr/>
          <p:nvPr/>
        </p:nvSpPr>
        <p:spPr>
          <a:xfrm>
            <a:off x="745164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2232E-006 C 0.00382 0.02036 -0.00642 -0.02637 0.02257 0.08166 C 0.03455 0.10294 0.03525 0.17997 0.03108 0.21583 C 0.03056 0.21953 0.02795 0.23965 0.02049 0.24428 C 0.01476 0.24844 0.0191 0.26787 0.0125 0.27134 C 0.00695 0.28152 0.01077 0.30142 0.0125 0.31321 C 0.01424 0.32501 0.02153 0.32755 0.02257 0.34143 C 0.02448 0.34976 0.02361 0.37845 0.01927 0.39626 C 0.01719 0.41546 0.01302 0.43234 0.01025 0.45501 C 0.00677 0.47838 0.00816 0.51492 0.00243 0.53297 C 0.00035 0.55633 -0.00156 0.58432 -0.00225 0.59473 E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x_2778eb6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981000"/>
            <a:ext cx="7058160" cy="5646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4"/>
          <p:cNvSpPr txBox="1"/>
          <p:nvPr/>
        </p:nvSpPr>
        <p:spPr>
          <a:xfrm>
            <a:off x="468360" y="26028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ungsuh"/>
              </a:rPr>
              <a:t>А знаете ли вы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ungsuh"/>
              <a:ea typeface="Gungsuh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58920" y="98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умерки» входят в 5 самых часто запрашиваемых фильмов в Интернете, соглас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24000" y="17730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а официальных трейлера к фильму, согласно онлайн-сервисам Youtube, MySpace и другим, были просмотрены более 15 миллионов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258920" y="27079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ая книга серии «Рассвет», выпущенная 2 августа, была продана в количестве 1,3 миллиона экземпляров в первые 24 ча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95280" y="3499920"/>
            <a:ext cx="86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и семи недель после выпуска «Рассвета» все четыре книги серии входили в 5 самых покупаемых книг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332000" y="4291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апреля 2009 года 18 актеров из «Сумерек» входили в 30 самых часто запрашиваемых знаменитостей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68360" y="515772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ер решила описать некоторые события и с точки зрения возлюбленного Беллы — вампира Эдварда Каллена. Роман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night Su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«Солнце полуночи») уже был наполовину написан, однако в августе 2008 г. черновик первой части просочился в Интернет. В результате Майер отложила окончание книги на неопределенны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перо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52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апы"/>
          <p:cNvPicPr/>
          <p:nvPr/>
        </p:nvPicPr>
        <p:blipFill>
          <a:blip r:embed="rId2"/>
          <a:stretch/>
        </p:blipFill>
        <p:spPr>
          <a:xfrm>
            <a:off x="250920" y="115920"/>
            <a:ext cx="2450880" cy="32893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2"/>
          <p:cNvSpPr txBox="1"/>
          <p:nvPr/>
        </p:nvSpPr>
        <p:spPr>
          <a:xfrm rot="19845000">
            <a:off x="899640" y="3141720"/>
            <a:ext cx="736920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Запретный плод сладок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128" name="AutoShape 14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7460" y="10800"/>
                </a:moveTo>
                <a:lnTo>
                  <a:pt x="21473" y="3794"/>
                </a:lnTo>
                <a:lnTo>
                  <a:pt x="21473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2128 C 0.06146 -0.02683 0.06319 -0.034 0.06719 -0.03724 C 0.0717 -0.03562 0.08316 -0.01943 0.08576 -0.00948 C 0.08611 -0.00208 0.07969 0.01573 0.08264 0.02198 C 0.08871 0.02753 0.096 0.02684 0.1033 0.02753 C 0.11719 0.03285 0.11562 0.07449 0.10243 0.08073 C 0.09496 0.0775 0.09583 0.05992 0.10034 0.05182 C 0.10416 0.03794 0.12239 0.00324 0.12534 -0.00277 C 0.13055 -0.0037 0.1283 0.04002 0.13142 0.0465 C 0.13559 0.05043 0.1467 0.03193 0.15017 0.02013 C 0.15069 0.00555 0.14861 -0.01041 0.15225 -0.02405 C 0.15677 -0.03123 0.17031 -0.02382 0.17708 -0.02128 C 0.18229 -0.0111 0.18489 -0.01203 0.19271 -0.00832 C 0.19583 -0.0155 0.19462 -0.05852 0.19583 -0.06454 C 0.20034 -0.05968 0.21441 0.02337 0.21979 0.02198 C 0.22257 0.00671 0.22569 -0.0613 0.22864 -0.0724 C 0.23403 -0.08212 0.2467 -0.04163 0.25191 -0.03724 C 0.25555 -0.04094 0.25573 -0.05598 0.2592 -0.06592 C 0.2651 -0.07494 0.27899 -0.0872 0.28715 -0.0916 C 0.29409 -0.0872 0.30139 -0.08767 0.30798 -0.09368 C 0.31371 -0.10016 0.31545 -0.1256 0.32153 -0.13046 C 0.32916 -0.12815 0.33663 -0.12445 0.34427 -0.12237 C 0.35989 -0.12329 0.36215 -0.11774 0.3651 -0.1337 C 0.3658 -0.14596 0.3651 -0.16007 0.37552 -0.16377 C 0.3842 -0.16285 0.39132 -0.16169 0.39948 -0.15776 C 0.40139 -0.15845 0.40364 -0.15776 0.40555 -0.15961 C 0.40642 -0.16007 0.40625 -0.16215 0.40659 -0.16377 C 0.40868 -0.17048 0.41059 -0.17673 0.4118 -0.18413 C 0.41215 -0.19084 0.4125 -0.19731 0.41284 -0.20379 C 0.41319 -0.20819 0.41232 -0.21304 0.41389 -0.21698 C 0.41493 -0.21975 0.41805 -0.21374 0.42014 -0.21258 C 0.42378 -0.22739 0.4375 -0.21304 0.446 -0.22114 C 0.44878 -0.22669 0.45382 -0.2297 0.45833 -0.23271 C 0.4625 -0.23571 0.46528 -0.23941 0.46892 -0.24288 C 0.47083 -0.2445 0.47378 -0.24543 0.47621 -0.24705 C 0.47899 -0.24658 0.48194 -0.2445 0.48455 -0.24566 C 0.48559 -0.24612 0.48333 -0.2482 0.48333 -0.24982 C 0.48333 -0.25422 0.48732 -0.2607 0.48871 -0.26463 C 0.49583 -0.26116 0.50121 -0.26116 0.5092 -0.26 C 0.51041 -0.26046 0.51146 -0.26185 0.5125 -0.26139 C 0.51389 -0.26116 0.51475 -0.25723 0.51562 -0.25838 C 0.51701 -0.26046 0.51545 -0.26486 0.51666 -0.2674 C 0.51875 -0.2711 0.525 -0.27643 0.525 -0.2755 C 0.52812 -0.28429 0.52916 -0.28961 0.53107 -0.29748 C 0.53159 -0.30025 0.53333 -0.30603 0.53333 -0.3058 C 0.53038 -0.31806 0.52569 -0.31691 0.53819 -0.31482 C 0.54062 -0.31621 0.54236 -0.31853 0.54462 -0.31922 C 0.54982 -0.32061 0.55573 -0.31691 0.56024 -0.32061 C 0.56232 -0.32223 0.55399 -0.32662 0.55399 -0.32593 C 0.55503 -0.32662 0.55659 -0.32662 0.55712 -0.32801 C 0.55764 -0.32963 0.55295 -0.34027 0.55208 -0.34189 C 0.57031 -0.34305 0.57899 -0.33287 0.58298 -0.35207 C 0.58993 -0.34906 0.5967 -0.34466 0.60399 -0.34189 C 0.60503 -0.34305 0.60573 -0.34466 0.60694 -0.3449 C 0.60989 -0.34582 0.61337 -0.33911 0.60694 -0.34767 C 0.61146 -0.34883 0.61614 -0.34767 0.62048 -0.34906 C 0.62222 -0.35022 0.62309 -0.35623 0.62344 -0.35808 C 0.62587 -0.36433 0.63159 -0.37381 0.63594 -0.37774 C 0.64045 -0.37589 0.64253 -0.37219 0.64635 -0.36918 C 0.64739 -0.36803 0.65278 -0.36595 0.65486 -0.36502 C 0.64618 -0.37612 0.65243 -0.36595 0.67135 -0.37104 C 0.67239 -0.37104 0.67778 -0.37798 0.67864 -0.37936 C 0.68073 -0.38838 0.68142 -0.39787 0.68281 -0.40666 C 0.68316 -0.40967 0.68281 -0.41267 0.68385 -0.41499 C 0.68437 -0.41637 0.68576 -0.41637 0.68698 -0.41707 C 0.70434 -0.41568 0.71354 -0.41406 0.73055 -0.41499 C 0.73125 -0.41938 0.73246 -0.42308 0.73264 -0.42678 C 0.73333 -0.44228 0.72639 -0.47444 0.74201 -0.47999 C 0.74861 -0.47814 0.75312 -0.47374 0.75955 -0.47166 C 0.76094 -0.47004 0.76215 -0.46796 0.76389 -0.46703 C 0.7651 -0.46634 0.76684 -0.4668 0.76788 -0.46541 C 0.76944 -0.46403 0.76962 -0.46148 0.771 -0.46009 C 0.77344 -0.45755 0.77934 -0.45408 0.77934 -0.45385 C 0.78715 -0.45755 0.78264 -0.47189 0.78038 -0.47999 C 0.78177 -0.49155 0.78264 -0.49086 0.7908 -0.49294 C 0.79444 -0.49618 0.79323 -0.4941 0.79496 -0.49849 E">
                                      <p:cBhvr>
                                        <p:cTn id="24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694 -0.44598 L 0.63368 0.17303 E">
                                      <p:cBhvr>
                                        <p:cTn id="24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547280" y="2349360"/>
            <a:ext cx="589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 ученица 7 Г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гимназии имени академика Н.Г. Басова при В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956720" y="6093000"/>
            <a:ext cx="898200" cy="576000"/>
          </a:xfrm>
          <a:custGeom>
            <a:avLst/>
            <a:gdLst>
              <a:gd name="textAreaLeft" fmla="*/ 37080 w 898200"/>
              <a:gd name="textAreaRight" fmla="*/ 861120 w 8982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3675" h="21600">
                <a:moveTo>
                  <a:pt x="0" y="0"/>
                </a:moveTo>
                <a:lnTo>
                  <a:pt x="33675" y="0"/>
                </a:lnTo>
                <a:lnTo>
                  <a:pt x="33675" y="21600"/>
                </a:lnTo>
                <a:lnTo>
                  <a:pt x="0" y="21600"/>
                </a:lnTo>
                <a:close/>
              </a:path>
              <a:path fill="lightenLess" w="33675" h="21600">
                <a:moveTo>
                  <a:pt x="0" y="0"/>
                </a:moveTo>
                <a:lnTo>
                  <a:pt x="33675" y="0"/>
                </a:lnTo>
                <a:lnTo>
                  <a:pt x="32275" y="1400"/>
                </a:lnTo>
                <a:lnTo>
                  <a:pt x="1400" y="1400"/>
                </a:lnTo>
                <a:close/>
              </a:path>
              <a:path fill="darken" w="33675" h="21600">
                <a:moveTo>
                  <a:pt x="33675" y="0"/>
                </a:moveTo>
                <a:lnTo>
                  <a:pt x="33675" y="21600"/>
                </a:lnTo>
                <a:lnTo>
                  <a:pt x="32275" y="20200"/>
                </a:lnTo>
                <a:lnTo>
                  <a:pt x="32275" y="1400"/>
                </a:lnTo>
                <a:close/>
              </a:path>
              <a:path fill="darkenLess" w="33675" h="21600">
                <a:moveTo>
                  <a:pt x="33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75" y="20200"/>
                </a:lnTo>
                <a:close/>
              </a:path>
              <a:path fill="lighten" w="33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75" h="21600">
                <a:moveTo>
                  <a:pt x="13339" y="10800"/>
                </a:moveTo>
                <a:lnTo>
                  <a:pt x="23844" y="3794"/>
                </a:lnTo>
                <a:lnTo>
                  <a:pt x="23844" y="17806"/>
                </a:lnTo>
                <a:close/>
              </a:path>
              <a:path fill="darken" w="33675" h="21600">
                <a:moveTo>
                  <a:pt x="9831" y="3794"/>
                </a:moveTo>
                <a:lnTo>
                  <a:pt x="11493" y="3794"/>
                </a:lnTo>
                <a:lnTo>
                  <a:pt x="11493" y="17806"/>
                </a:lnTo>
                <a:lnTo>
                  <a:pt x="983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майер"/>
          <p:cNvPicPr/>
          <p:nvPr/>
        </p:nvPicPr>
        <p:blipFill>
          <a:blip r:embed="rId1"/>
          <a:stretch/>
        </p:blipFill>
        <p:spPr>
          <a:xfrm>
            <a:off x="0" y="0"/>
            <a:ext cx="448308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5003640" y="11592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Немного биографии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572000" y="8643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ни Майер — современная американская писательница. Родилась в 1973 г. в Хартфорде, штат Коннектикут. Росла в Финиксе, штат Аризона, вместе с двумя сестрами и тремя братьями. Будущего мужа Кристиана встретила еще в подростковом возрасте и сочеталась с ним браком в 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95 г. закончила Университет имени Бригама Янга в штате Юта, получив степень бакалавра по специальности «Английский язык». В годы учебы много и с увлечением чит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йер — мать троих детей и прихожанка Церкви Иисуса Христа святых последних дней (мормоны). Среди ее любимых писателей Орсон Скотт Кард, Джейн Остин, Уильям Шекспир, Шарлота Бронте, Дафна Дюморье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x_81b85598 copy"/>
          <p:cNvPicPr/>
          <p:nvPr/>
        </p:nvPicPr>
        <p:blipFill>
          <a:blip r:embed="rId1"/>
          <a:stretch/>
        </p:blipFill>
        <p:spPr>
          <a:xfrm>
            <a:off x="971640" y="-171360"/>
            <a:ext cx="7200720" cy="720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95280" y="-2292840"/>
            <a:ext cx="85694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фани Майер придумала сказочную историю любви обычной смертной девушки и вампира. Миллионы поклонников во всем мире, очарованные ее Сумеречной Сагой постоянно задают вопросы Стефани о том, как родилась эта ист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оем официальном сайте Стефани так описывает созд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ligt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Меня постоянно спрашивают о том, как ко мне пришла идея о «Сумерках». Я хорошо помню этот момент: это началось 2 июня 2003 года. Я проснулась от очень яркого сна: на лугу среди леса вели беседу двое молодых людей. Одной из них была обычная девушка, а вторым - фантастически красивый молодой человек и он был вампиром. Молодые люди были влюблены друг в друга, но у них была проблема, которая заключалась в том, что вампир, несмотря на искренние чувства к своей возлюбленной, жаждет испить ее крови …… Я была столь заинтригована историей этой безымянной пары, что боялась забыть этот сон и записала свое видение, называя героев “он” и “она”. Я начала со сцены на лугу и дописала ее до конца. После этого возвратилась к началу и писала, пока части не сложились в одно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месяца спустя я придумала имена для своих героев. Для моего вампира я решила использовать имя, которое когда-то считали романтичным - Эдвард. Для героини я никак не могла придумать имя. Так как я провела с ней достаточно много времени и полюбила как свою дочь, поэтому и дала ей имя, которое приготовила для своей дочери, но которой у меня так и не было - Изабе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исках места обитания для своих героев я исследовала на карте самые дождливые области США. В результате я нашла небольшой городок, окруженный лесом в штате Вашинг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это время, я буквально слышала Беллу и Эдварда, они просто не замолкали , даже во сне. Поэтому я ставила ноутбук ночью у кровати, чтобы иметь возможность быстро записать сюжет. После того, как я закончила «Сумерки», я стала писать эпилоги, очень много эпилогов… В конечном счете, я поняла, что не готова отпустить моих героев и начала писать продол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старшая сестра Эмили предложила мне издать Сумерки. Но публикация оказалась очень тяжелым процессом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9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539640" y="299736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ман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умерки», предназначенный в первую очередь для подростковой аудитории, вышел в США осенью 2005 г. и имел оглушительный успех (пятое место в национальном списке бестселле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95280" y="3500280"/>
            <a:ext cx="49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дый следующий год Майер выпускала по одному сиквелу — «Новолуние»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343240" y="43657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тмение»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070520" y="501336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Рассвет» 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11280" y="3716280"/>
            <a:ext cx="467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книги в книгу рассказчицей неизменно оставалась юная Белла Свон, однако в четвертом томе Майер предоставила голос и ее другу, Джейку Блэ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4"/>
          <p:cNvGraphicFramePr/>
          <p:nvPr/>
        </p:nvGraphicFramePr>
        <p:xfrm>
          <a:off x="2484360" y="620640"/>
          <a:ext cx="10591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620640"/>
                    <a:ext cx="10591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5"/>
          <p:cNvGraphicFramePr/>
          <p:nvPr/>
        </p:nvGraphicFramePr>
        <p:xfrm>
          <a:off x="4140360" y="1125360"/>
          <a:ext cx="108396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125360"/>
                    <a:ext cx="10839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6"/>
          <p:cNvGraphicFramePr/>
          <p:nvPr/>
        </p:nvGraphicFramePr>
        <p:xfrm>
          <a:off x="5724360" y="2349360"/>
          <a:ext cx="107640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349360"/>
                    <a:ext cx="10764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7"/>
          <p:cNvGraphicFramePr/>
          <p:nvPr/>
        </p:nvGraphicFramePr>
        <p:xfrm>
          <a:off x="7380360" y="4005360"/>
          <a:ext cx="1108080" cy="15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0360" y="4005360"/>
                    <a:ext cx="1108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AutoShape 18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x_75209c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395280" y="549000"/>
            <a:ext cx="81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смотря на смешанные отзывы в прессе, книги Майер приобрели среди молодежной аудитории культовый статус и были переведены на 20 языков, включая и русский (издательство А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851280" y="2565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унете уже появилось несколько фэн-сайтов, посвященных вселенной «Сумер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5280" y="4941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лько в США продано свыше 8 миллионов экземпляров книг Стефани Май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книги1"/>
          <p:cNvPicPr/>
          <p:nvPr/>
        </p:nvPicPr>
        <p:blipFill>
          <a:blip r:embed="rId2"/>
          <a:stretch/>
        </p:blipFill>
        <p:spPr>
          <a:xfrm>
            <a:off x="468360" y="2060640"/>
            <a:ext cx="2819520" cy="2104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1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фильм"/>
          <p:cNvPicPr/>
          <p:nvPr/>
        </p:nvPicPr>
        <p:blipFill>
          <a:blip r:embed="rId1"/>
          <a:stretch/>
        </p:blipFill>
        <p:spPr>
          <a:xfrm>
            <a:off x="826920" y="189000"/>
            <a:ext cx="7452000" cy="46576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684360" y="4941720"/>
            <a:ext cx="7991280" cy="14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Уже экранизированы два романа цикла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"Сумеречная сага". В настоящее время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идут активные съёмки оставшихся частей.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539640" y="4941720"/>
            <a:ext cx="8064720" cy="151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21 ноября 2008 г. вышла в прокат экранизация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"Сумерек", которой заранее можно было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предсказать кассовый успех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81" name="AutoShape 8">
            <a:hlinkClick r:id="" action="ppaction://hlinkshowjump?jump=nextslide"/>
          </p:cNvPr>
          <p:cNvSpPr/>
          <p:nvPr/>
        </p:nvSpPr>
        <p:spPr>
          <a:xfrm>
            <a:off x="8604360" y="4365720"/>
            <a:ext cx="539640" cy="4302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7090" h="21600">
                <a:moveTo>
                  <a:pt x="0" y="0"/>
                </a:moveTo>
                <a:lnTo>
                  <a:pt x="27090" y="0"/>
                </a:lnTo>
                <a:lnTo>
                  <a:pt x="27090" y="21600"/>
                </a:lnTo>
                <a:lnTo>
                  <a:pt x="0" y="21600"/>
                </a:lnTo>
                <a:close/>
              </a:path>
              <a:path fill="lightenLess" w="27090" h="21600">
                <a:moveTo>
                  <a:pt x="0" y="0"/>
                </a:moveTo>
                <a:lnTo>
                  <a:pt x="27090" y="0"/>
                </a:lnTo>
                <a:lnTo>
                  <a:pt x="25690" y="1400"/>
                </a:lnTo>
                <a:lnTo>
                  <a:pt x="1400" y="1400"/>
                </a:lnTo>
                <a:close/>
              </a:path>
              <a:path fill="darken" w="27090" h="21600">
                <a:moveTo>
                  <a:pt x="27090" y="0"/>
                </a:moveTo>
                <a:lnTo>
                  <a:pt x="27090" y="21600"/>
                </a:lnTo>
                <a:lnTo>
                  <a:pt x="25690" y="20200"/>
                </a:lnTo>
                <a:lnTo>
                  <a:pt x="25690" y="1400"/>
                </a:lnTo>
                <a:close/>
              </a:path>
              <a:path fill="darkenLess" w="27090" h="21600">
                <a:moveTo>
                  <a:pt x="27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90" y="20200"/>
                </a:lnTo>
                <a:close/>
              </a:path>
              <a:path fill="lighten" w="27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90" h="21600">
                <a:moveTo>
                  <a:pt x="6539" y="3794"/>
                </a:moveTo>
                <a:lnTo>
                  <a:pt x="20552" y="10800"/>
                </a:lnTo>
                <a:lnTo>
                  <a:pt x="6539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" action="ppaction://hlinkshowjump?jump=previousslide"/>
          </p:cNvPr>
          <p:cNvSpPr/>
          <p:nvPr/>
        </p:nvSpPr>
        <p:spPr>
          <a:xfrm>
            <a:off x="179280" y="43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7460" y="10800"/>
                </a:moveTo>
                <a:lnTo>
                  <a:pt x="21473" y="3794"/>
                </a:lnTo>
                <a:lnTo>
                  <a:pt x="21473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кино copy"/>
          <p:cNvPicPr/>
          <p:nvPr/>
        </p:nvPicPr>
        <p:blipFill>
          <a:blip r:embed="rId1"/>
          <a:stretch/>
        </p:blipFill>
        <p:spPr>
          <a:xfrm>
            <a:off x="0" y="0"/>
            <a:ext cx="6303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кино copy"/>
          <p:cNvPicPr/>
          <p:nvPr/>
        </p:nvPicPr>
        <p:blipFill>
          <a:blip r:embed="rId2"/>
          <a:stretch/>
        </p:blipFill>
        <p:spPr>
          <a:xfrm>
            <a:off x="8513640" y="0"/>
            <a:ext cx="630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киноаппарат.wav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kinopoisk"/>
          <p:cNvPicPr/>
          <p:nvPr/>
        </p:nvPicPr>
        <p:blipFill>
          <a:blip r:embed="rId4"/>
          <a:stretch/>
        </p:blipFill>
        <p:spPr>
          <a:xfrm>
            <a:off x="611280" y="1341360"/>
            <a:ext cx="7921440" cy="444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wilight 292 _12__0001"/>
          <p:cNvPicPr/>
          <p:nvPr/>
        </p:nvPicPr>
        <p:blipFill>
          <a:blip r:embed="rId5"/>
          <a:stretch/>
        </p:blipFill>
        <p:spPr>
          <a:xfrm>
            <a:off x="611280" y="1700280"/>
            <a:ext cx="7921440" cy="336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7" descr="kinopoisk"/>
          <p:cNvPicPr/>
          <p:nvPr/>
        </p:nvPicPr>
        <p:blipFill>
          <a:blip r:embed="rId6"/>
          <a:stretch/>
        </p:blipFill>
        <p:spPr>
          <a:xfrm>
            <a:off x="611280" y="907920"/>
            <a:ext cx="7993080" cy="5135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kinopoisk"/>
          <p:cNvPicPr/>
          <p:nvPr/>
        </p:nvPicPr>
        <p:blipFill>
          <a:blip r:embed="rId7"/>
          <a:stretch/>
        </p:blipFill>
        <p:spPr>
          <a:xfrm>
            <a:off x="611280" y="692280"/>
            <a:ext cx="7921440" cy="50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9" descr="x_28e2b33a"/>
          <p:cNvPicPr/>
          <p:nvPr/>
        </p:nvPicPr>
        <p:blipFill>
          <a:blip r:embed="rId8"/>
          <a:stretch/>
        </p:blipFill>
        <p:spPr>
          <a:xfrm>
            <a:off x="611280" y="1125360"/>
            <a:ext cx="7993080" cy="532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x_5d61c970"/>
          <p:cNvPicPr/>
          <p:nvPr/>
        </p:nvPicPr>
        <p:blipFill>
          <a:blip r:embed="rId9"/>
          <a:stretch/>
        </p:blipFill>
        <p:spPr>
          <a:xfrm>
            <a:off x="611280" y="765000"/>
            <a:ext cx="7921440" cy="537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x_d65c8632"/>
          <p:cNvPicPr/>
          <p:nvPr/>
        </p:nvPicPr>
        <p:blipFill>
          <a:blip r:embed="rId10"/>
          <a:stretch/>
        </p:blipFill>
        <p:spPr>
          <a:xfrm>
            <a:off x="611280" y="741240"/>
            <a:ext cx="7921440" cy="528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2" descr="x_d0259512"/>
          <p:cNvPicPr/>
          <p:nvPr/>
        </p:nvPicPr>
        <p:blipFill>
          <a:blip r:embed="rId11"/>
          <a:stretch/>
        </p:blipFill>
        <p:spPr>
          <a:xfrm>
            <a:off x="611280" y="2349360"/>
            <a:ext cx="7921440" cy="33703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3">
            <a:hlinkClick r:id="" action="ppaction://hlinkshowjump?jump=nextslide"/>
          </p:cNvPr>
          <p:cNvSpPr/>
          <p:nvPr/>
        </p:nvSpPr>
        <p:spPr>
          <a:xfrm>
            <a:off x="7885080" y="630864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3794"/>
                </a:moveTo>
                <a:lnTo>
                  <a:pt x="21368" y="10800"/>
                </a:lnTo>
                <a:lnTo>
                  <a:pt x="7355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4">
            <a:hlinkClick r:id="" action="ppaction://hlinkshowjump?jump=previousslide"/>
          </p:cNvPr>
          <p:cNvSpPr/>
          <p:nvPr/>
        </p:nvSpPr>
        <p:spPr>
          <a:xfrm>
            <a:off x="7308720" y="6308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animClr clrSpc="rgb">
                                      <p:cBhvr>
                                        <p:cTn id="114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set>
                                      <p:cBhvr>
                                        <p:cTn id="115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animClr clrSpc="rgb">
                                      <p:cBhvr>
                                        <p:cTn id="119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set>
                                      <p:cBhvr>
                                        <p:cTn id="120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8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8">
                                  <p:stCondLst>
                                    <p:cond delay="29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8">
                                  <p:stCondLst>
                                    <p:cond delay="35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8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8" descr="x_da063dec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>
            <a:off x="684360" y="549360"/>
            <a:ext cx="8038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крет счастливой удачи Стефани Майер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900000" y="1341360"/>
            <a:ext cx="75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е впечатление – отличное, книги написаны классно, захватывают сразу! Такое своеобразное сочетание фантастики и любовного романа, чего я совершенно не ожидала… Изначально, по фильму к тому же, у меня было ожидание, что книга относится к фантастике. Но, по всей видимости (первая книга, по крайней мере) – это чисто любовный роман! Это было так неожиданно, так как я любовными романами очень редко интерес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900000" y="3429360"/>
            <a:ext cx="727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! В последующих книгах «Новолуние», «Затмение» и «Рассвет» фантастическая сторона гораздо больше раскрыта. Хотя от этого романтическая сторона ничего не теряет. Сюжет держит в напряжении, события разворачиваются непредсказуемо, и всегда идут к счастливому завершению. Стефани Майер создала свой мир, и он интересен тем, что в нем есть и известные факты о вампирах и мире сверхъестественного (насколько их можно назвать фактами), и кардинальные отличия. Всё это привлекает, заинтересовывает и увлека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0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7" descr="капля"/>
          <p:cNvPicPr/>
          <p:nvPr/>
        </p:nvPicPr>
        <p:blipFill>
          <a:blip r:embed="rId1"/>
          <a:stretch/>
        </p:blipFill>
        <p:spPr>
          <a:xfrm rot="18471600">
            <a:off x="8100000" y="550080"/>
            <a:ext cx="25704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16"/>
          <p:cNvGraphicFramePr/>
          <p:nvPr/>
        </p:nvGraphicFramePr>
        <p:xfrm>
          <a:off x="7308720" y="0"/>
          <a:ext cx="182736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0"/>
                    <a:ext cx="182736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WordArt 9"/>
          <p:cNvSpPr txBox="1"/>
          <p:nvPr/>
        </p:nvSpPr>
        <p:spPr>
          <a:xfrm>
            <a:off x="826920" y="115920"/>
            <a:ext cx="540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зывы читателе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11280" y="1558800"/>
            <a:ext cx="772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Я считаю, что Стефани Майер, придумав сюжет для книги «Сумерки» вытащила свою козырную карту. Она заняла ту нишу, которая давно требовала своего заполнения. Много ли вы знаете произведений о любви между вампиром и простым человеком? Хотя такой сюжет напрашивался давно. Все устали от тупых кровожадных кровопийц, одержимых только жаждой кро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ажем «спасибо» Стефании Майер, что ей удалось перекинуть некий мостик между этой пропастью и показать, что между вампиром и простой смертной может быть простая и яркая страсть. И Стефании Майер не ошиблась! Публика этого давно ждала! Об это говорит и бешеный успех ее книг и сумасшедшая популярность фильма «Сумерки». Нас, дорогие девушки, всегда тянуло на плохих мальчиков, и вампиры (тем более красивые и утонченные) не являются исключением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29440" y="112536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Супер! Читала на одном дыхани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131280" y="206064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От А до Я влюблена в эту книгу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69440" y="2997360"/>
            <a:ext cx="77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Книга о невозможной любви, которую превратили  в возможну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135960" y="40053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Стефани Майер – гений вампирской готи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973440" y="537372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Продолжение фаны ждут просто как Бог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684360" y="2421000"/>
            <a:ext cx="74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йчас эти книги очень популярны, многие их уже прочитали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зывов так же не мало, так что предлагаю Вам самим с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 этом произведении свое мнение. Так что если вы еще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ли, присоединяйте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>
            <a:hlinkClick r:id="" action="ppaction://hlinkshowjump?jump=previousslide"/>
          </p:cNvPr>
          <p:cNvSpPr/>
          <p:nvPr/>
        </p:nvSpPr>
        <p:spPr>
          <a:xfrm>
            <a:off x="752472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25 0.05459 C -0.02743 0.08466 -0.03768 0.01573 -0.00868 0.17742 C -0.0033 0.20726 0.0059 0.20865 0.00729 0.24242 C 0.00746 0.26902 -0.00504 0.30673 -0.00799 0.3368 C -0.00851 0.34258 -0.0033 0.41545 -0.01077 0.42262 C -0.0165 0.42863 -0.01216 0.45847 -0.01875 0.46333 C -0.02431 0.47883 -0.02049 0.50844 -0.01875 0.52625 C -0.01702 0.54429 -0.01025 0.55054 -0.00868 0.56928 C -0.00677 0.58015 -0.00782 0.60976 -0.0099 0.63821 C -0.01007 0.66713 -0.00903 0.70506 -0.0099 0.74323 C -0.01337 0.77839 -0.0092 0.83923 -0.01493 0.86699 C -0.01702 0.90169 -0.03282 0.93523 -0.03351 0.95234 E">
                                      <p:cBhvr>
                                        <p:cTn id="16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9:06:12Z</dcterms:created>
  <dc:creator>Admin</dc:creator>
  <dc:description/>
  <dc:language>en-US</dc:language>
  <cp:lastModifiedBy>Пользователь</cp:lastModifiedBy>
  <dcterms:modified xsi:type="dcterms:W3CDTF">2013-07-26T15:48:19Z</dcterms:modified>
  <cp:revision>30</cp:revision>
  <dc:subject/>
  <dc:title>Слайд 1</dc:title>
</cp:coreProperties>
</file>