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713-8C8B-444F-9154-30ABB4C0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70E-52EE-4A24-AFCD-A3B0A18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7FA-34D6-41ED-9C21-D9F2BD16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42F-93D3-49AB-AF58-4D851F79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9C2-E358-4414-AE87-7C1644EB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B35-EA05-413B-B6BD-74B93D6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51D-A8AF-4425-BBF3-DA2F2876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7F2-D234-4793-B89F-15E6512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9DB-DA53-452D-918C-FFD4A73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C5C-4E9A-4983-9D63-F3B759F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275-72FF-4FF9-9E83-4CBF944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583-AEA7-41C1-952B-E1E361A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C13A-4FD2-48EE-B583-72E6642C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’s afraid of sp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8160" y="1763640"/>
            <a:ext cx="127656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53240" y="1600200"/>
            <a:ext cx="16272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sn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7440" y="1600200"/>
            <a:ext cx="163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d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5200" y="1600200"/>
            <a:ext cx="3281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1720" y="1600200"/>
            <a:ext cx="2909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 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5960" y="1600200"/>
            <a:ext cx="32814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afraid o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50040" y="1884240"/>
            <a:ext cx="2435040" cy="16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349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Ahead-3, unit 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рабатываем употребление констр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afraid of … / I am not afraid of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268 школы Невского района Даниловой С.Д. по материалам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ov</cp:lastModifiedBy>
  <dcterms:modified xsi:type="dcterms:W3CDTF">2009-11-27T20:3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