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84F9-3A61-43E7-93E0-97B14DE7C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F22D-3BC8-4BBE-82B0-3B4C947E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9F40-0E31-4499-9CB5-83F278080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7CD1-4298-4DDE-87D9-7AD39A27E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CFD5-52EF-4400-B392-E0D22546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3C46-C316-4940-90CA-04E7F806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9342-BABA-4659-9E8C-3335000F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9E4D-DFF7-44FF-ACF3-92B55716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DEF4-414C-427D-BAFD-453A5A56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16A6-8CEB-4333-BA40-7EA1784A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298D-3510-4306-948C-25A72BB7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2352-86A8-4AA6-B848-22F8B7A8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E013-43AA-41BF-9A6D-8A5B1BEBF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she afraid o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’s afraid of sp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38160" y="1763640"/>
            <a:ext cx="1276560" cy="1857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853240" y="1600200"/>
            <a:ext cx="1627200" cy="21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she afraid o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is afraid of m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14400" y="1763640"/>
            <a:ext cx="1324080" cy="1857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300640" y="1600200"/>
            <a:ext cx="273204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she afraid o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is afraid of snak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05520" y="1763640"/>
            <a:ext cx="1324080" cy="1857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657440" y="1600200"/>
            <a:ext cx="16365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he afraid o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is afraid of the da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19440" y="1763640"/>
            <a:ext cx="1314360" cy="1857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he afraid o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is afraid of the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05520" y="1763640"/>
            <a:ext cx="1324080" cy="1857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835200" y="1600200"/>
            <a:ext cx="328104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he afraid o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is afraid of do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819440" y="1763640"/>
            <a:ext cx="1314360" cy="1857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211720" y="1600200"/>
            <a:ext cx="29098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you  afraid o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025960" y="1600200"/>
            <a:ext cx="3281400" cy="218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655640" y="3938760"/>
            <a:ext cx="1641600" cy="2187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I’m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afraid of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450040" y="1884240"/>
            <a:ext cx="2435040" cy="1616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492880" y="3938760"/>
            <a:ext cx="2349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и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y Ahead-3, unit 1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трабатываем употребление конструк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am afraid of … / I am not afraid of …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я подготовлена учителем 268 школы Невского района Даниловой С.Д. по материалам интерн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nilov</cp:lastModifiedBy>
  <dcterms:modified xsi:type="dcterms:W3CDTF">2009-11-27T20:32:2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