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E40-59F3-44AC-BC0B-BA6646CB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57E-E40C-46AF-BAC7-013876D7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A02-3430-47B4-899E-114CA500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974-A83F-49D9-A1CA-C75B6F75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B89-2A57-4683-8912-64422BF5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39C-4C8D-49CE-94EA-2DEF97BD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DDD-DEFF-4170-B6A2-0E635E5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DF0-3C3B-4B0B-BB55-F1A00CAE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40F-224C-4141-84B6-A19A69F1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E1D-B5E7-430C-828C-DA368C56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0B6-622D-408C-801F-09D4E35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C67-9F94-49D4-A1A2-D0C7FC2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DADF-7F10-46D2-AB14-4A4EA1EF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’s afraid of sp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8160" y="1763640"/>
            <a:ext cx="1276560" cy="185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53240" y="1600200"/>
            <a:ext cx="16272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fraid of sn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57440" y="1600200"/>
            <a:ext cx="1636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d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th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05520" y="1763640"/>
            <a:ext cx="1324080" cy="1857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5200" y="1600200"/>
            <a:ext cx="3281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afraid of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19440" y="1763640"/>
            <a:ext cx="131436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211720" y="1600200"/>
            <a:ext cx="2909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you  afraid 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5960" y="1600200"/>
            <a:ext cx="32814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afraid of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50040" y="1884240"/>
            <a:ext cx="2435040" cy="1616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92880" y="3938760"/>
            <a:ext cx="2349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 Ahead-3, unit 1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рабатываем употребление констру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afraid of … / I am not afraid of 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268 школы Невского района Даниловой С.Д. по материалам интерн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lov</cp:lastModifiedBy>
  <dcterms:modified xsi:type="dcterms:W3CDTF">2009-11-27T20:3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