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375-341F-462B-95B7-8B39543B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186-6AF2-41A7-B498-A618804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4A5-B574-4B07-9B51-A4AA87DC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E28-48A4-4C99-8507-5CBD8BA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592-0655-4F28-B1E6-F1E92A8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ED6-9E60-46A6-9713-BC600F4D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187-ECB9-4727-88F2-539CF5D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7E8-B8CC-429C-A88B-7909B116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167-CC48-422F-AAC6-4DCD31B9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260-FD47-417B-895C-1C89E11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52C-331F-42C8-AB76-D1ADB16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935-1B7C-48EB-8C06-F138F3D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953-CB35-4E32-B0CC-82607884B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иже приводится серия упражнений, выполнение которых вы можете начать где и когда угодно.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, что вам потребуется – это всего несколько минут времени и ваше желание сохранить молодость и красо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мы предлагаем 10 основных примеров упражнений. Если у вас нет времени, чтобы выполнить их все, вы можете выбрать несколько и включить их в ваш обычный распорядок дн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выполнении каждого упражнения важно, чтобы вы осознавали, какие мышцы задействованы. Понимание правильной работы мышц гораздо важнее многократного повторения упражнений. Использование гантелей весом 0,5 –1,0 кг обеспечит дополнительную нагрузку и будет способствовать скорейшему сжиганию жира. При выполнении упражнения на подъем бедер гантели можно положить на но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пробуйте выполнять эту тренировку как минимум 2 месяца. Мы уверены, что через 2 месяца количество жировых  отложений на вашем теле уменьшится, а обмен веществ ускорится. Это означает, что ваш организм трансформировался и начал сжигать больше калорий естественным образом. Это изменение будет эффективно поддерживаться в сочетании с диетой RHEOLE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 тем, как приступить к занятиям, измерьте ваши размеры и массу тела. Чтобы заметить измене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е измерения каждую 1-2 недели. Проверяйте, как ваше тело постепенно становится гармоничным, вместо резкого сбрасывания веса за короткое врем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ff"/>
                </a:solidFill>
                <a:latin typeface="Arial"/>
              </a:rPr>
              <a:t>Идеальное тело и более здоровый образ жизни от RHEOLE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537000" cy="65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556000" y="1219320"/>
            <a:ext cx="40510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Object 6" descr=""/>
          <p:cNvPicPr/>
          <p:nvPr/>
        </p:nvPicPr>
        <p:blipFill>
          <a:blip r:embed="rId3"/>
          <a:stretch/>
        </p:blipFill>
        <p:spPr>
          <a:xfrm>
            <a:off x="3962520" y="1828800"/>
            <a:ext cx="13078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9  Подъем беде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374920" cy="317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533520" y="1066680"/>
            <a:ext cx="708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поможет сделать вашу линию беде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ивой и одновременно придать форму внутренней стороне бе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609480" y="1828800"/>
            <a:ext cx="5639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ьте на полу, выпрямив спину. Возьмитесь за спинку стула или полку, чтобы поддерживать равновесие. Оттяните подбородок слегка в сторону.. Опустите пл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тяните колено назад примерно на 15 см, чтобы почувствовать, как напряглись мышцы бедра. Цель этого упражнения – не бить ногой назад. Пользуйтесь мышцами бедра, чтобы оттягивать но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едленно поднимите ногу на счет 1-2-3 и опустите ее с той же скор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Повторите другой но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33520" y="4648320"/>
            <a:ext cx="81532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омендовано 10 повторений каждой ногой. Знали ли вы, что достаточно просто ходить, поддерживая правильную осанку, чтобы помочь выработать красивую линию бедер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ваша спина согнута, бедро тянется вниз. Чтобы избежать отложений жира на бедрах, держите спину прямой и быстро ходите широкими шаг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райтесь использовать любую возможность в вашей повседневной жизни для того, чтобы достичь в упражнениях наилучши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10 Расслаблени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708200" cy="1152360"/>
          </a:xfrm>
          <a:prstGeom prst="rect">
            <a:avLst/>
          </a:prstGeom>
          <a:ln w="0">
            <a:noFill/>
          </a:ln>
        </p:spPr>
      </p:pic>
      <p:pic>
        <p:nvPicPr>
          <p:cNvPr id="97" name="Object 6" descr=""/>
          <p:cNvPicPr/>
          <p:nvPr/>
        </p:nvPicPr>
        <p:blipFill>
          <a:blip r:embed="rId2"/>
          <a:stretch/>
        </p:blipFill>
        <p:spPr>
          <a:xfrm>
            <a:off x="8077320" y="2438280"/>
            <a:ext cx="544320" cy="10033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8" descr=""/>
          <p:cNvPicPr/>
          <p:nvPr/>
        </p:nvPicPr>
        <p:blipFill>
          <a:blip r:embed="rId3"/>
          <a:stretch/>
        </p:blipFill>
        <p:spPr>
          <a:xfrm>
            <a:off x="6629400" y="2895480"/>
            <a:ext cx="961920" cy="130824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0" descr=""/>
          <p:cNvPicPr/>
          <p:nvPr/>
        </p:nvPicPr>
        <p:blipFill>
          <a:blip r:embed="rId4"/>
          <a:stretch/>
        </p:blipFill>
        <p:spPr>
          <a:xfrm>
            <a:off x="7772400" y="3886200"/>
            <a:ext cx="1089000" cy="1246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457200" y="990720"/>
            <a:ext cx="64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тяжение помогает оздоровлению кровообращения по всему вашему телу. В то же время оно помогает вам чувствовать себя свежее и спокойнее. Давайте рассмотрим основные и эффективные движения, которые помогут вам чувствовать себя отдохнувш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85800" y="1905120"/>
            <a:ext cx="5791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ьте на пол, расставив ноги на 10-15 с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гните верхнюю часть туловища вперед, расслабьтесь и потрясите руками. Слегка согните колени, и пусть стресс и усталость покидают вас с каждым дви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Разогните верхнюю часть туловища вверх, начиная с талии, спины, груди, плеч и ше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Разведите руки в стороны и затем поднимите их вверх. С поднятыми руками вытянитесь всем телом вверх на полную длину. Вытяните руки и все тело. Поднимитесь на нос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Медленно опустите руки по бокам, согните кисти и как бы толкните воздух вокруг вас. Особое внимание уделите лопаткам и сп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8600" y="541008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вы нагибаетесь вперед, постарайтесь опустить и расслабить шею, плечи и спину. Вы почувствуете, как ваше тело становится легким. Постарайтесь повторить последовательность движений 10 раз. Чтобы поддерживать свое тело и дух здоровыми, важно каждый день давать телу возможность почувствовать себя легк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1)  Ходьба на месте</a:t>
            </a:r>
            <a:br>
              <a:rPr sz="1800"/>
            </a:b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для начин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можно выполнять одновременно с просмотром телевизора и т.п. Вы не переутомитесь. Просто попробуйте делать это упражнение в общей сложности 20-25 минут в день, разбив его на несколько приемов. Скоро вы заметите, что ваш обмен веществ ускорился, а выносливость увелич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5410080" y="2057400"/>
            <a:ext cx="2590920" cy="2233440"/>
            <a:chOff x="5410080" y="2057400"/>
            <a:chExt cx="2590920" cy="2233440"/>
          </a:xfrm>
        </p:grpSpPr>
        <p:pic>
          <p:nvPicPr>
            <p:cNvPr id="48" name="Picture 5" descr="exercise1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25210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6"/>
            <p:cNvSpPr/>
            <p:nvPr/>
          </p:nvSpPr>
          <p:spPr>
            <a:xfrm>
              <a:off x="7010280" y="4230360"/>
              <a:ext cx="990720" cy="60120"/>
            </a:xfrm>
            <a:prstGeom prst="rect">
              <a:avLst/>
            </a:pr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457200" y="2057400"/>
            <a:ext cx="4114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станьте, выпрямив сп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бедитесь, что вы сохраняете правильную вертикальную осанку, подбородок оттяните назад, а плечи опустите вниз. Это будет основная позиция перед началом тренир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днимите ногу, согнув ее в кол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но на 90 град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Во время ходьбы двигайте ру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5181480" y="42670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яйте свою осанку в зеркале! Распространенная ошибка – недостаточно высокое поднимание ног. Вы поднимаете ноги до 90 граду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57200" y="5105520"/>
            <a:ext cx="792468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ьный темп для сжигания жира - 40 шагов (правой- левой) за 1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тренировка была более эффективной, убедитесь, что вы правильно выполняете движения руками и ног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ыполнении упражнения важно следить, чтобы хорошо растягивались мышцы бедер и чтобы участвовали мышцы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2) Ходьба на месте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усложненный вариант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можно выполнять одновременно с просмотром телевизора и т.п. Упражнение очень эффективно для тех, кто хочет улучшить форму ног. Оно способствует похудению бедер и делает ноги более привлекат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771560" cy="2792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609480" y="2133720"/>
            <a:ext cx="5639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ньте, выпрямив сп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едитесь, что вы сохраняете правильную вертикальную осанку, подбородок оттяните назад, а плечи опустите вн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днимите ногу, согнув ее в колене примерно на 90 град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Медленно распрямите ногу в колене до120 градусов. Оттягивайте носок. Выполняйте движение медленно, чтобы чувствовать работу мышц живота, мышц спины и мышц бе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57200" y="495288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ьный темп для сжигания жира – 25 шагов  (правой-левой) в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е эффективно для получения красивых ног, коленей и бедер, с дополнительным влиянием на нижнюю часть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ыбрасывайте ноги быстрым движением, двигайтесь медленно, обращая внимание на правильную работу основных мыш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3  </a:t>
            </a: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Бег трусц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хорошее упражнение для тех, кто стремится быстро получить результаты. Выполняйте это упражнение 15-20 минут в день, разбив это время на несколько прием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делю вы заметите прилив энергии и будете меньше уставать при прогулках на улиц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212920" cy="2527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914400" y="2133720"/>
            <a:ext cx="5486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станьт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рямив сп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едитесь, что вы сохраняете правильную вертикальную осанку, подбородок оттяните назад. Расслабьтесь и опустите плечи вни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Бегите трусцой, оставаясь на месте – не двигаясь ни назад, ни вперед. Поднимайте ноги легко, на высоту ступни 10 см от пола. Не топайте ногами, ступайте пла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62120" y="5181480"/>
            <a:ext cx="754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ьный темп для сжигания жира – 75 шагов (правой- левой ногой) в мину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упражнение было эффективным, сконцентрируйтесь на работе мышц бедер и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бедитесь, что шагаете плав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4 Нижняя часть жив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нем упражнения с придания формы нижней части жив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546280" cy="3670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304920" y="2057400"/>
            <a:ext cx="57909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 Лягте на пол, желательно на мягкую поверхность или на коврик. Поднимите ноги вверх под углом 90 градусов. Руки расположите так, чтобы вам удобно было зафиксировать положение туловища – вдоль туловища по бокам или за головой. В случае необходимости можно согнуть кол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Очень медленно тяните ноги вверх к потолку. Важно делать это движение медленно, чтобы почувствовать работу мышц нижней части живо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0880" y="4800600"/>
            <a:ext cx="792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онцентрируйте свое внимание на мышцах нижней части живота, и поднимайте ноги вверх, используя эти мышцы. Это очень сложное упражнение  высокого уровня, но в то же время оно очень эффективно, действительно укрепляет мышцы нижней части живота и способствует сжиганию ж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ть это упражнение порядка 10 раз очень сложно. В то же время это доказывает, насколько оно эффективно для ва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Средняя часть живота (придаем форму животу с боков от пупка)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4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831680" cy="418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09480" y="914400"/>
            <a:ext cx="5639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работать над мышцами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ффективность этого упражнения очень зависит от скорости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2133720"/>
            <a:ext cx="5867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те на пол, согнув ноги в коленях. Желательно на мягкую поверхность или на коврик. Раскиньте руки в стороны, чтобы удерживать туловище неподвиж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Медленно опустите нижнюю часть тела вправо. Опускайте ноги медленно, на выдохе. Не опускайте ноги на пол, держа их на в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На вдохе поднимите ноги в исходное положение, а затем опустите их влево.  Опускайте ноги так же медленно, на выдох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541008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райтесь сделать 10 повторов.  Обращайте внимание на движение мышц живота. Выполняйте упражнение не за счет движения ног, а за счет работы боковых мышц тулов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6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Тал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4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440000" cy="4442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838080"/>
            <a:ext cx="61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пражнении 5 мы работали над небольшой нижней частью тал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 поработаем над резко очерченной талие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62120" y="1676520"/>
            <a:ext cx="58672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ьмите гантель в одну руку и встаньте прямо, выпрямив спину.  Ноги поставьте примерно на ширину плеч.  Вес гантели примерно  1 кг, в зависимости от вашей физической подготовки. Можете заменить гантель любым грузом, который вы легко удержива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На выдохе наклонитесь, сокращая мышцы талии со стороны руки с гантел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На вдохе выпрямитесь в исходное положение. Повторите движение из пункта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Для симметрии выполните упражнение в друг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33520" y="4648320"/>
            <a:ext cx="6324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райтесь сделать 10 повторов.  Сейчас мы тренируем мышцы, которыми редко пользуемся в повседневной жизни. Поэтому ежедневное выполнение этого упражнения очень скоро подарит вам сексуальную талию красивой фор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ротяжении всего упражнения старайтесь держать нижнюю часть тела неподвиж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7772400" y="43434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кращайте эти мышцы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620120" y="51055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ите вниз примерно на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7  Спина </a:t>
            </a:r>
            <a:br>
              <a:rPr sz="2000"/>
            </a:b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подготовите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4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270160" cy="3498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380880" y="1371600"/>
            <a:ext cx="586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ами не можем увидеть себя со спины. Однако именно она выдает наш возраст. Худая спина придает очень молодой вид и освежает. Помните, что окружающие люди не все время смотрят на вас 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33520" y="243828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те на пол лицом вниз. Руки согните и положите по бокам, ладони примерно на уровне пле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Поднимите голову, плечи, а затем грудь по направлению к потолку, не опираясь на р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Обопритесь на руки и задержите верхнюю часть тела на весу. Нижняя часть тела лежит на по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Начиная с талии, медленно опустите верхнюю часть тела на пол. Продолжайте опускать грудь, плечи, а затем гол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09480" y="5181480"/>
            <a:ext cx="8229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упражнение укрепляет мышцы спины, груди и рук.  Это легкое упражнение, которое могут выполнять все. Изменяя прогиб в спине, вы можете растягивать мышцы спины для придания привлекательности вашей спин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8  Спина и бедра </a:t>
            </a: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средний уровень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упражнение кажется простым, но очень полезно для улучшения формы спины и бедер. В то же время оно эффективно для мышц рук и жив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400800" y="1676520"/>
            <a:ext cx="2374920" cy="2641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838080" y="259092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те на пол лицом вниз. Руки согните и положите по бокам, ладони примерно на уровне пле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 Ладони, локти и пальцы ног остаются на полу. Поднимитесь до прямого положения, чтобы плечи были на уровне пальцев ног, и задержитесь в этом положении на 5 секунд. Сконцентрируйтесь на работе мышц спины и бедер. Используйте мышцы спины и живота, чтобы сохранять все тело строго в горизонтальном полож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09480" y="548640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ите, чтобы ваша спина была прямой, а колени не касались пола. Как только вы сможете удерживаться в этом положении 5 секунд, попробуйте удержаться подольше и стремитесь делать 3 подхода по 10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08:39Z</dcterms:created>
  <dc:creator>Elena Troufanova</dc:creator>
  <dc:description/>
  <dc:language>en-US</dc:language>
  <cp:lastModifiedBy>ZooM</cp:lastModifiedBy>
  <dcterms:modified xsi:type="dcterms:W3CDTF">2013-12-03T20:51:26Z</dcterms:modified>
  <cp:revision>141</cp:revision>
  <dc:subject/>
  <dc:title>Физические упраж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000207f6000400038000</vt:lpwstr>
  </property>
  <property fmtid="{D5CDD505-2E9C-101B-9397-08002B2CF9AE}" pid="3" name="Version">
    <vt:r8>1</vt:r8>
  </property>
</Properties>
</file>