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3A06-5EE0-4E48-B19B-6C05FA946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44C4-B2CE-46FD-A48B-306888B9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139E-53C0-4F98-95F2-1D82EA193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5A7E-0A5C-4FDB-AE87-859E232D0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5038-9154-4921-B960-69C1DBDE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E42F-EAF1-4B08-B875-7869D82B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AE73-2E8E-482C-93BD-861CC5EF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083E-C322-4521-A41D-35C2DAB2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9389-3C31-451B-9F9C-3907E157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3495-5346-4C0F-94D9-8A1B0BA5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2A60-0928-47D9-AA61-AA56F01E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A956-8BAA-4D56-8BDE-E247B409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1FE1-C5E2-4A70-959B-79D2A0BE88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999720"/>
            <a:ext cx="77439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000000"/>
                </a:solidFill>
                <a:latin typeface="Calibri"/>
              </a:rPr>
              <a:t>АНТРОПОЦЕНТРИЗМ И НАТУРОЦЕНТРИЗМ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57480" y="4285800"/>
            <a:ext cx="3857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4245120" y="6215040"/>
            <a:ext cx="9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Спасибо за внимание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Содержимое 3" descr=""/>
          <p:cNvPicPr/>
          <p:nvPr/>
        </p:nvPicPr>
        <p:blipFill>
          <a:blip r:embed="rId2"/>
          <a:stretch/>
        </p:blipFill>
        <p:spPr>
          <a:xfrm>
            <a:off x="450720" y="341280"/>
            <a:ext cx="824256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АНТРОПОЦЕНТРИЗ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14264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 философии под антропоцентризмом понимается воззрение, согласно которому человек есть центр и высшая цель мирозда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leonardo.jpg"/>
          <p:cNvPicPr/>
          <p:nvPr/>
        </p:nvPicPr>
        <p:blipFill>
          <a:blip r:embed="rId1"/>
          <a:stretch/>
        </p:blipFill>
        <p:spPr>
          <a:xfrm>
            <a:off x="5286240" y="2428920"/>
            <a:ext cx="3714840" cy="4000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8" name="Прямоугольник 4"/>
          <p:cNvSpPr/>
          <p:nvPr/>
        </p:nvSpPr>
        <p:spPr>
          <a:xfrm>
            <a:off x="500040" y="3214800"/>
            <a:ext cx="4214880" cy="2837160"/>
          </a:xfrm>
          <a:prstGeom prst="rect">
            <a:avLst/>
          </a:prstGeom>
          <a:solidFill>
            <a:srgbClr val="ffff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оначальники современной науки и рационалистически ориентированного гуманизма видели в природе машину, рассматривали ее всего лишь как особой сложности механизм. Они обосновали доминирующее и в наши дни убеждение, что люди благодаря науке и практическому умению могут и должны «сделаться хозяевами и господами природ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>
                  <a:alpha val="44313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Антропоцентристский взгляд – концепция христианской морали (по Б. Каллиотту – специалисту в данной области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42560" y="1999800"/>
            <a:ext cx="4429080" cy="4429080"/>
          </a:xfrm>
          <a:prstGeom prst="rect">
            <a:avLst/>
          </a:prstGeom>
          <a:solidFill>
            <a:srgbClr val="ffffff">
              <a:alpha val="75000"/>
            </a:srgbClr>
          </a:solidFill>
          <a:ln w="5724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26"/>
              </a:spcBef>
              <a:buClr>
                <a:srgbClr val="1e1c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 - царство священного и таинственного - олицетворяет природу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26"/>
              </a:spcBef>
              <a:buClr>
                <a:srgbClr val="1e1c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создан по образу и подобию Божьему и тем самым обособлен от всей остальной природы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26"/>
              </a:spcBef>
              <a:buClr>
                <a:srgbClr val="26262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 предоставил человеку управление природным миром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26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 заповедал человеку размножаться и покорять природу. Богоподобие человека является основанием для него считать себя высшей ценностью. Поскольку природные объекты лишены богоподобия, они считаются морально несовершенными. В лучшем случае за ними признается инструментальная ценность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26262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циональная жизнь - гарант существования природы; неразумные вещи существуют лишь в качестве средства для поддер­жания наделенного разумом челове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c3d69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c3d69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4" descr="1227624102Sotvorenie.jpg"/>
          <p:cNvPicPr/>
          <p:nvPr/>
        </p:nvPicPr>
        <p:blipFill>
          <a:blip r:embed="rId2"/>
          <a:stretch/>
        </p:blipFill>
        <p:spPr>
          <a:xfrm>
            <a:off x="4694400" y="2120760"/>
            <a:ext cx="432720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4" descr="49809486_1255364429_007.jpg"/>
          <p:cNvPicPr/>
          <p:nvPr/>
        </p:nvPicPr>
        <p:blipFill>
          <a:blip r:embed="rId2"/>
          <a:stretch/>
        </p:blipFill>
        <p:spPr>
          <a:xfrm>
            <a:off x="142920" y="2928960"/>
            <a:ext cx="3429000" cy="36432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23b"/>
                </a:solidFill>
                <a:latin typeface="Calibri"/>
              </a:rPr>
              <a:t>ВЫВОДЫ ИЗ ПОЛОЖЕНИЙ КАЛЛИОТТА</a:t>
            </a:r>
            <a:r>
              <a:rPr b="1" lang="en-US" sz="4000" spc="-1" strike="noStrike">
                <a:solidFill>
                  <a:srgbClr val="00823b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356920" y="1500120"/>
            <a:ext cx="4000680" cy="4286160"/>
          </a:xfrm>
          <a:prstGeom prst="rect">
            <a:avLst/>
          </a:prstGeom>
          <a:solidFill>
            <a:srgbClr val="e6b9b8">
              <a:alpha val="52000"/>
            </a:srgbClr>
          </a:solidFill>
          <a:ln w="114480">
            <a:solidFill>
              <a:srgbClr val="d99694">
                <a:alpha val="92000"/>
              </a:srgbClr>
            </a:solidFill>
            <a:miter/>
          </a:ln>
        </p:spPr>
        <p:txBody>
          <a:bodyPr anchor="t">
            <a:normAutofit/>
          </a:bodyPr>
          <a:p>
            <a:pPr marL="343080" indent="4572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ти положения хорошо иллюстрируют позицию, заявляющую об особой роли человека в мире, его главенствующем значении для природы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 принципе они составили основу для современных взглядов людей технократического общества на природу, экологию и необходимость осуществлять природоохранительную работ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знается, что ресурсы не являются неисчерпаемыми, что человек должен думать не только о сиюминутных нуждах, но и о последующих поколениях. Он, конечно, обязан наносить как можно меньше вреда природе, однако исходить при этом лишь из понятия своего благ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3" descr="02.jpg"/>
          <p:cNvPicPr/>
          <p:nvPr/>
        </p:nvPicPr>
        <p:blipFill>
          <a:blip r:embed="rId3"/>
          <a:stretch/>
        </p:blipFill>
        <p:spPr>
          <a:xfrm>
            <a:off x="6424560" y="1279440"/>
            <a:ext cx="251136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НАТУРОЦЕНТРИЗ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85560"/>
            <a:ext cx="4043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атуроцентрическое  направление выделяется довольно условно, тем не менее первые наброски такого подхода можно найти как в религиозных системах, например, в комплексе даостско-буддистского миропонимания. Основу такого подхода составляет вера в добродетель смирения не только отдельного человека, но и человечества в цело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3" descr="01ry7.jpg"/>
          <p:cNvPicPr/>
          <p:nvPr/>
        </p:nvPicPr>
        <p:blipFill>
          <a:blip r:embed="rId2"/>
          <a:stretch/>
        </p:blipFill>
        <p:spPr>
          <a:xfrm>
            <a:off x="4572000" y="1285920"/>
            <a:ext cx="4357800" cy="5429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онцепции натуроцентриз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5640" y="1642680"/>
            <a:ext cx="6643800" cy="1857240"/>
          </a:xfrm>
          <a:prstGeom prst="rect">
            <a:avLst/>
          </a:prstGeom>
          <a:solidFill>
            <a:srgbClr val="d99694">
              <a:alpha val="5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деи Франциска Ассизского, сформулировавшего альтернативный взгляд на природу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ера в добродетель смирения не только отдельного человека, но и человечества в целом. Святой Франциск как бы низводит человека с его трона монархического господства над каждой тварью и устанавливает демократию между всеми формами жизн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4" descr="francesco2.jpg"/>
          <p:cNvPicPr/>
          <p:nvPr/>
        </p:nvPicPr>
        <p:blipFill>
          <a:blip r:embed="rId2"/>
          <a:stretch/>
        </p:blipFill>
        <p:spPr>
          <a:xfrm>
            <a:off x="285840" y="1500120"/>
            <a:ext cx="2009520" cy="2914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2" name="Прямоугольник 5"/>
          <p:cNvSpPr/>
          <p:nvPr/>
        </p:nvSpPr>
        <p:spPr>
          <a:xfrm>
            <a:off x="214200" y="4500720"/>
            <a:ext cx="5072040" cy="2288520"/>
          </a:xfrm>
          <a:prstGeom prst="rect">
            <a:avLst/>
          </a:prstGeom>
          <a:solidFill>
            <a:srgbClr val="d99694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Примером такого подхода являются также «универсально-космические» этические концепции, предписывающие моральный статус всему живому,</a:t>
            </a: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сентиментальное поклонение природе, ее романтизация. Природа сама по себе в ее первозданном виде объявляется предметом благоговейного покло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6" descr="254.jpg"/>
          <p:cNvPicPr/>
          <p:nvPr/>
        </p:nvPicPr>
        <p:blipFill>
          <a:blip r:embed="rId3"/>
          <a:stretch/>
        </p:blipFill>
        <p:spPr>
          <a:xfrm>
            <a:off x="5143680" y="3929040"/>
            <a:ext cx="3786120" cy="278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42960" y="1428480"/>
            <a:ext cx="8229600" cy="5072040"/>
          </a:xfrm>
          <a:prstGeom prst="rect">
            <a:avLst/>
          </a:prstGeom>
          <a:solidFill>
            <a:srgbClr val="f2dcdb">
              <a:alpha val="4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 логике подобной дихотомии развивается анализ двух основных способов существования человека: обладания и бытия, осуществляемый Э. Фроммом в книге «Иметь или быть». В качестве иллюстрации, показывающей различие между этими двумя формами существования, Э.Фромм приводит два стихотворения. Первое принадлежит перу английского поэта XIX в. Теннисон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Возросший средь руин цветок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Тебя из трещин древних извлекаю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Ты предо мною весь - вот корень, стебелек, здесь, на моей ладон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Ты мал, цветок, но если бы я понял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Что есть твой корень, стебелек, и в чем вся суть твоя, цветок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Тогда я Бога суть и человека суть познал б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втором второго стихотворения является японский поэт XVII в. Бас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Внимательно вглядись!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Цветы «пастушьей сумки»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Увидишь под плетнем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аким образом, если в первом случае человек срывает цветок, хотя и делает попытку оправдать этот поступок тем, что этот цветок может помочь ему проникнуть в суть природы Бога и человека, сам цветок обрекается на смерть, становится жертвой проявленного таким образом интереса к нему. Во втором же случае у человека нет желания сорвать его, он даже не дотрагивается до цветка, а только вглядывается в нег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785880" y="214200"/>
            <a:ext cx="7715160" cy="1191240"/>
          </a:xfrm>
          <a:prstGeom prst="rect">
            <a:avLst/>
          </a:prstGeom>
          <a:solidFill>
            <a:srgbClr val="f2dcdb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ВЯЗЬ АНТРОПОЦЕНТРИЗМА И НАТУРОЦЕНТР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3cddd">
              <a:alpha val="54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Уже сегодня в ряде нормативных документов находит отражение реализация идеи гармонии человека с природой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дходить к природе с точки зрения интересов всего человечества, при этом имея в виду не только интересы нынешнего поколения, но и грядущих поколений люде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являть заботливость, бережливость и разумность по отношению ко всем природным ресурсам, сводить к минимуму вред, наносимый живым творениям природы и всем други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читается экологически целесообразным формировать у населения субъектное отношение к природе субъектно-этического типа. Такой тип отношения характеризуется личностной установкой на партнерское взаимодействие с природными существами, включением их в сферу действия этических нор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07:48:48Z</dcterms:created>
  <dc:creator>Admin</dc:creator>
  <dc:description/>
  <dc:language>en-US</dc:language>
  <cp:lastModifiedBy>Admin</cp:lastModifiedBy>
  <dcterms:modified xsi:type="dcterms:W3CDTF">2011-06-18T11:42:32Z</dcterms:modified>
  <cp:revision>27</cp:revision>
  <dc:subject/>
  <dc:title>Антропоцентризм и натуроцентризм</dc:title>
</cp:coreProperties>
</file>