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04C-E69E-40C0-AD8D-3EE4070535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0950-AC62-4F0B-8658-052A5307B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869-E96B-4449-BB81-E22DA5F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9E9-7D48-4845-A503-FFB2AA83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320-1036-4973-B8BE-40677523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C8A-A9EA-4441-A7FA-32539190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B21C-AADD-4A6E-BB32-762E2B32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1140-441E-495E-A801-9350F518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AE48-9556-4179-B7C9-D0901CFD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684B-C8A8-4DCA-AF8B-267B7699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9E5D-24A6-4ECC-B5A1-EF14FBE7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F937-7465-4E71-A05A-7E3B140C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3045-240C-4800-B0BD-5710CA3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93B-680C-4A67-BE93-A0BAFCE3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6A05-BEA1-4333-B3DF-EFB8532D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1F12-368B-428E-9FA9-F1434D9B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684B-1E06-47AB-9CB4-22CD2EF9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8751-D3C2-4FA7-8153-D548DFC8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5C00-FDB7-4E9B-9053-86DE7BDA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7B3-2C9F-48E3-8B84-C634251F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AFA-F289-4A40-92B0-78E859C4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4FD-4EE2-4E1C-AEF5-F1A74F5F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129-D231-4C7E-B983-AB64603E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28F-57CF-4616-9B20-5833E4F4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32A-990C-4C7D-97C2-AC3D0A3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198-D050-4F40-9070-D6ECAAE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1B59-72A7-428C-9281-2BFFA4A8D7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9C56-F70E-439C-AF36-A763F29E4E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80755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ван Иванович Шишкин - выдающийся живописец-пейзажист, воспевший красоту русского л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шишкин"/>
          <p:cNvPicPr/>
          <p:nvPr/>
        </p:nvPicPr>
        <p:blipFill>
          <a:blip r:embed="rId1"/>
          <a:stretch/>
        </p:blipFill>
        <p:spPr>
          <a:xfrm>
            <a:off x="285840" y="2071800"/>
            <a:ext cx="3857400" cy="450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7280" y="2361960"/>
            <a:ext cx="4103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ШИШКИН Иван Иванович (13 (25) января 1832, Елабуга, ныне Татарстан — 8 (20) марта 1898, Петербург), русский художник. Выдающийся мастер пейзажа, органически соединил в своей живописи и графике черты романтизма и реал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Полдень в окрестностях Москв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F:\мне\полдень....jpg"/>
          <p:cNvPicPr/>
          <p:nvPr/>
        </p:nvPicPr>
        <p:blipFill>
          <a:blip r:embed="rId1"/>
          <a:stretch/>
        </p:blipFill>
        <p:spPr>
          <a:xfrm>
            <a:off x="4786200" y="1000080"/>
            <a:ext cx="4357800" cy="58579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5"/>
          <p:cNvSpPr/>
          <p:nvPr/>
        </p:nvSpPr>
        <p:spPr>
          <a:xfrm>
            <a:off x="0" y="1071720"/>
            <a:ext cx="4572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ейзаж не характерен для творчества Шишк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0" y="1928880"/>
            <a:ext cx="4572000" cy="2014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</a:rPr>
              <a:t>Небо на картине огромно, необозримо и занимает большую часть композиции.  Оно наполнено серебристо-пепельными облаками, сквозь которые пробивается радостный солнечный свет. Именно небо, чистое и великое, является в «Полдне» главным объектом изоб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0" y="4214880"/>
            <a:ext cx="4572000" cy="2288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Во всей картине видится умиротворенность, устойчивость сельского бытия с извечно повторяющимся кругом времен года и крестьянских работ. По своим изобразительным особенностям картина «Полдень» занимает особое место в творчестве художника, являясь одним из лучших его произве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Рож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C:\Documents and Settings\Наталия Андреевна\Рабочий стол\Безымянный.bmp"/>
          <p:cNvPicPr/>
          <p:nvPr/>
        </p:nvPicPr>
        <p:blipFill>
          <a:blip r:embed="rId1"/>
          <a:stretch/>
        </p:blipFill>
        <p:spPr>
          <a:xfrm>
            <a:off x="285840" y="642960"/>
            <a:ext cx="86439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0"/>
          <p:cNvSpPr/>
          <p:nvPr/>
        </p:nvSpPr>
        <p:spPr>
          <a:xfrm>
            <a:off x="2286000" y="4857840"/>
            <a:ext cx="414324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ё рожь кругом, как степь живая,</a:t>
            </a:r>
            <a:br>
              <a:rPr sz="1800"/>
            </a:b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и за́мков, ни морей, ни гор…</a:t>
            </a:r>
            <a:br>
              <a:rPr sz="1800"/>
            </a:b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асибо, сторона родная,</a:t>
            </a:r>
            <a:br>
              <a:rPr sz="1800"/>
            </a:b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 твой врачующий простор!</a:t>
            </a: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. А. Некрасо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4572000" y="642960"/>
            <a:ext cx="457200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33993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Ширь безбрежная. От края до края золотятся хлеба. Сосны – великаны как бы застыли на страже, охраняя покой этой доброй хлебородной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14200" y="571680"/>
            <a:ext cx="4143600" cy="1739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"Рожь" – это песня земле, симфония на тему самого существенного земного блага. Рожь – это хлеб, символ жизни и конкретное деяние рук человеческих, природная благо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Солнечный день. Мерикюль» 189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F:\мне\Солнечн.бор.Мерикюль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785880"/>
            <a:ext cx="871560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ртина выполнена Шишкиным в очень интересной гамме светло-зеленых и желтых тонов. Она изображает ветхий домик-землянку на берегу ру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F:\Шишкин\39450.jpg"/>
          <p:cNvPicPr/>
          <p:nvPr/>
        </p:nvPicPr>
        <p:blipFill>
          <a:blip r:embed="rId1"/>
          <a:stretch/>
        </p:blipFill>
        <p:spPr>
          <a:xfrm>
            <a:off x="4643280" y="357120"/>
            <a:ext cx="4286520" cy="628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Наталия Андреевна\Рабочий стол\Безымянный2.bmp"/>
          <p:cNvPicPr/>
          <p:nvPr/>
        </p:nvPicPr>
        <p:blipFill>
          <a:blip r:embed="rId2"/>
          <a:stretch/>
        </p:blipFill>
        <p:spPr>
          <a:xfrm>
            <a:off x="285840" y="428760"/>
            <a:ext cx="4143240" cy="6215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1357200" y="146160"/>
            <a:ext cx="671508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ртинах «Солнечный день. Береза»» 1894г.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овая рощ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 1896 г.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удожник добился необычайно-декоративного эффекта, создав образ возвышенного, сверкающего, лучезарн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«На севере диком…» 188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F:\Шишкин\0007-007-Na-severe-dikom.jpg"/>
          <p:cNvPicPr/>
          <p:nvPr/>
        </p:nvPicPr>
        <p:blipFill>
          <a:blip r:embed="rId1"/>
          <a:stretch/>
        </p:blipFill>
        <p:spPr>
          <a:xfrm>
            <a:off x="5715000" y="714240"/>
            <a:ext cx="3429000" cy="61437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14200" y="714240"/>
            <a:ext cx="5429520" cy="1739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иночество...    На скале, среди снега и тьмы, одиноко стоит могучая сосна. Наперекор лютым морозам, ветрам и снегам, она растёт там, где ничто расти не может. Кажется,  нет такой силы, которая может её свалить, обломить, согнуть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7120" y="2571840"/>
            <a:ext cx="492912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 достоинством возвышается могучее, гордое дерево и тяжёлый, сверкающий снег, схожий с богато украшенной ризой священника, прогибает нижние ветки почти до земл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357120" y="4025880"/>
            <a:ext cx="5072040" cy="2770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жется, что сосна смотрит на Луну. Она освещает мрачное ущелье, тёмно-грозовые безбрежные дали, облака, серебрит снег на сосне и вокруг.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Снег не чисто белый. Мастерство художника показало множество оттенков снега. А на макушке сосны снег схож с облаками и они будто беседуют между собой. Полное замороженное безмолвие. Кажется тьма тяжелее света, она сгущается и оседает в пропасти. Лишь одинокая сосна- «мечтательница», грезит о другом, светлом и радостном мир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Шишкин\0007-007-Na-severe-dikom.jpg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4071960" y="500040"/>
            <a:ext cx="47862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хаил Юрьевич Лермонтов 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"Сосна", 1843.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евере диком стоит одиноко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олой вершине сосна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дремлет, качаясь, и снегом сыпучи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ета, как ризой, она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нится ей все, что в пустыне далекой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м крае, где солнца восход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а и грустна на утесе горюче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красная пальма растет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3929040" y="4357800"/>
            <a:ext cx="507204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стихотворение Михаила Юрьевича Лермонтова было выбрано Иваном Ивановичем Шишкиным для иллюстрации собрания сочинений, которое готовилось к выпуску в свет и приурочивалось к 50-летию со дня гибели поэ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57120" y="285480"/>
            <a:ext cx="4143600" cy="6072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.Успенск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Шишкин – великорусский талант по преимуществу, талант  уравновешенный, спокойный и, так сказать, сознательный. Он не только чувствует, но и изучает. Вглядитесь в любое произведение Шишкина, и вы будете поражены изумительным знанием каждого дерева, каждой травки, каждой морщины коры, изгиба ветвей... Но это не холодное изучение, в котором упрекают великорусов. Без искренней любви нельзя дойти до такого точного знания: наскучило и приелось бы. Нет, Шишкин жил своими деревьями и травами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43280" y="440640"/>
            <a:ext cx="4286520" cy="265428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Ман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Его изобразительное изъяснение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 прямое и непосредственное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 нельзя считать лишенным своей философии, своего волнения и восторга, своей подпочвы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4857840" y="3857760"/>
            <a:ext cx="3929040" cy="237996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В.Васнец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орни ваши так глубоко и накрепко вросли в почву родного искусства , что их никем и никогда оттуда не выкорчев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F:\Шишкин\3603c98df50e.jpg"/>
          <p:cNvPicPr/>
          <p:nvPr/>
        </p:nvPicPr>
        <p:blipFill>
          <a:blip r:embed="rId1"/>
          <a:stretch/>
        </p:blipFill>
        <p:spPr>
          <a:xfrm>
            <a:off x="192888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2361960"/>
            <a:ext cx="6357960" cy="42814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временники называли его «царем леса». Характерны и названия картин Шишкина: «Сосновый бор», «Лесные дали», «Дорога в лесу», «Дождь в дубовом лесу», самая известная - «Утро в сосновом лес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отна его отличаются солнечностью, ясностью, радостью, в них он раскрывает поэтические черты русской природы. Картина «Корабельная роща» - последняя работа художника (1898). Смерть его наступила внезапно, во время работы над новой карти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sh01053i"/>
          <p:cNvPicPr/>
          <p:nvPr/>
        </p:nvPicPr>
        <p:blipFill>
          <a:blip r:embed="rId1"/>
          <a:stretch/>
        </p:blipFill>
        <p:spPr>
          <a:xfrm>
            <a:off x="6786720" y="1214280"/>
            <a:ext cx="2066760" cy="214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sh01051i"/>
          <p:cNvPicPr/>
          <p:nvPr/>
        </p:nvPicPr>
        <p:blipFill>
          <a:blip r:embed="rId2"/>
          <a:stretch/>
        </p:blipFill>
        <p:spPr>
          <a:xfrm>
            <a:off x="6786720" y="3857760"/>
            <a:ext cx="2066760" cy="212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sh01056i"/>
          <p:cNvPicPr/>
          <p:nvPr/>
        </p:nvPicPr>
        <p:blipFill>
          <a:blip r:embed="rId3"/>
          <a:stretch/>
        </p:blipFill>
        <p:spPr>
          <a:xfrm>
            <a:off x="500040" y="214200"/>
            <a:ext cx="2946600" cy="20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Documents and Settings\Наталия Андреевна\Рабочий стол\Безымянный.bmp"/>
          <p:cNvPicPr/>
          <p:nvPr/>
        </p:nvPicPr>
        <p:blipFill>
          <a:blip r:embed="rId4"/>
          <a:stretch/>
        </p:blipFill>
        <p:spPr>
          <a:xfrm>
            <a:off x="3571920" y="214200"/>
            <a:ext cx="307188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Courier New"/>
              </a:rPr>
              <a:t>«Сосновый б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сосновый бор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500280" y="1143000"/>
            <a:ext cx="5500800" cy="5500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85840" y="1382400"/>
            <a:ext cx="3143160" cy="5092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ван Крамской, очень ценивший творчество художника, писал об этой работе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Calibri"/>
              </a:rPr>
              <a:t>«Шишкин нас просто изумляет своими познаниями . И когда он перед натурой, то точно в своей стихии, Шишкин-это «человек школа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Courier New"/>
              </a:rPr>
              <a:t>«Дождь в дубовом лес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дождь в сосновом бору"/>
          <p:cNvPicPr/>
          <p:nvPr/>
        </p:nvPicPr>
        <p:blipFill>
          <a:blip r:embed="rId1"/>
          <a:stretch/>
        </p:blipFill>
        <p:spPr>
          <a:xfrm>
            <a:off x="3500280" y="1928880"/>
            <a:ext cx="5500800" cy="4714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214200" y="717840"/>
            <a:ext cx="8429760" cy="1008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сюжете картины мы видим трех путников. Закрадывается мысль, что вдали, на втором плане, в глубину леса уходит сам художник. Шишкин в этой работе выступил как виртуозный исполнитель в станковой живо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214200" y="1857240"/>
            <a:ext cx="3000600" cy="3143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стинную ценность этого произведения составляет прекрасно выраженное состояние природы: начавшийся мелкий, моросящий дождь; мокрые, скользкие тропинки; серо-водянистый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142920" y="5072040"/>
            <a:ext cx="3286080" cy="1618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лотно передает влажность лесного воздуха, запах мхов и травы, пение птиц, тишину и по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Утро в сосновом лесу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C:\Documents and Settings\Наталия Андреевна\Рабочий стол\Шишкин\Безымянный.bmp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6"/>
          <p:cNvSpPr/>
          <p:nvPr/>
        </p:nvSpPr>
        <p:spPr>
          <a:xfrm>
            <a:off x="214200" y="642960"/>
            <a:ext cx="89298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тмотивом прославленной картины 1889 года является туман в сосновом л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0" y="1500120"/>
            <a:ext cx="4572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нной ценностью произведения явилось прекрасно выраженное состоя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5643720" y="3165480"/>
            <a:ext cx="3500280" cy="366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просто глухой сосновый лес, а именно утро в лесу с его еще не рассеявшимся туманом, с легко порозовевшими вершинами громадных сосен, холодными тенями в чащ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уется глубина оврага, глушь. Присутствие медвежьего семейства, расположившегося на краю этого оврага, порождает у зрителя ощущение отдаленности и глухости дикого лес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Корабельная роща» - последняя работа художника (1898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14200" y="4500720"/>
            <a:ext cx="3071880" cy="2014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Эта картина - художественное завещание мастера, торжественный финал той эпопеи леса, что он увлеченно писал на протяжении всей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214200" y="1643040"/>
            <a:ext cx="3071880" cy="2014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онументальная картина  - последний торжественный образ леса, символизирующий богатырскую силу русской природ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F:\мне\Корабельная роща.jpg"/>
          <p:cNvPicPr/>
          <p:nvPr/>
        </p:nvPicPr>
        <p:blipFill>
          <a:blip r:embed="rId1"/>
          <a:stretch/>
        </p:blipFill>
        <p:spPr>
          <a:xfrm>
            <a:off x="3500280" y="1285920"/>
            <a:ext cx="5643720" cy="55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285840" y="214200"/>
            <a:ext cx="8358120" cy="1983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На полотне представлен типично русский лесной пейзаж с поднявшейся могучей стеной густого хвойного бора. Опушка его буквально купается в лучах благодатного летнего солнца. Его ослепительный свет не только позолотил кроны деревьев, но и, зажигая трепетное сияние бликов, проник в глубь леса. Прогретой до самого дна кажется и вода железистого ручья, вытекающего из-за деревьев. Пронизана светом и каждая песчинка обнажившейся почвы его русла.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Картина сразу покоряет национальными особенностями русского пейзажа – величавой своей красотой, силой и креп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:\мне\Корабельная роща.jpg"/>
          <p:cNvPicPr/>
          <p:nvPr/>
        </p:nvPicPr>
        <p:blipFill>
          <a:blip r:embed="rId1"/>
          <a:stretch/>
        </p:blipFill>
        <p:spPr>
          <a:xfrm>
            <a:off x="2357280" y="2286000"/>
            <a:ext cx="45720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Дубовая роща» 1887 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F:\мне\Дубовая роща.jpg"/>
          <p:cNvPicPr/>
          <p:nvPr/>
        </p:nvPicPr>
        <p:blipFill>
          <a:blip r:embed="rId1"/>
          <a:stretch/>
        </p:blipFill>
        <p:spPr>
          <a:xfrm>
            <a:off x="3357720" y="857160"/>
            <a:ext cx="557208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142920" y="785880"/>
            <a:ext cx="3071880" cy="5551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ы словно читаем «историю» дубов, этих «персонажей», подобных героям произведений бытового жан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ы рассматриваем их изогнутые ветви и кору, покрытую трещинами. Поляна оживает в разнообразии травяного покрова; она естественно сливается с дальним планом, а впереди выписаны четко различимые травы и цв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«Зима» 189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F:\мне\Зима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0" y="500040"/>
            <a:ext cx="91440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сюжете  полотна все сковано морозом и погружено в тень, лишь в глубине холста лучик солнца освещает небольшую поляну, слегка оттененную в нем розоватым цветом .От этих проблесков снег на земле и ветвях стройных сосен кажется сверкающе  голубым. Птичка на ветке огромного  дерева делает картину жи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5:18:39Z</dcterms:created>
  <dc:creator>~  Лиза  ~</dc:creator>
  <dc:description/>
  <dc:language>en-US</dc:language>
  <cp:lastModifiedBy>Наталья Андреевна</cp:lastModifiedBy>
  <dcterms:modified xsi:type="dcterms:W3CDTF">2011-01-20T04:39:33Z</dcterms:modified>
  <cp:revision>56</cp:revision>
  <dc:subject/>
  <dc:title>СОЧИНЕНИЕ-ОПИСАНИЕ ПО КАРТИНЕ И. И. ШИШКИНА «КОРАБЕЛЬНАЯ РОЩА»</dc:title>
</cp:coreProperties>
</file>