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817-B0A7-4687-80EC-9BB20269BD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059F-47AD-40A8-A496-47BBBAED8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2FA-92EE-4B58-A014-4B7A5336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106-D530-4264-AA90-AE2137EF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D66-84FA-4090-BB05-30BE6FCC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24D-984F-4E2C-A4FF-E826A5D4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DE85-8335-4BB1-A754-0A27289F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0EE-A2CD-4F98-A213-5478690D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679-8599-48F1-B2CB-DAC03366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A17D-F592-463E-88F9-728696B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59A4-091E-4C45-A0F4-E7074B6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1444-26D7-424C-99D0-0E729CB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BE56-29F1-4B2C-B610-6A0095E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F50-8A47-454E-BF85-A55AE16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2DFE-0D94-4DF1-87CD-D780E72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DD9A-8363-4F25-8214-967505C4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46B-6F1D-4F42-93F6-9E0CA06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71CA-4072-42E8-A67C-3F29B20D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E86B-4A6A-414F-AE39-D972F7AE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4A5-4FED-4723-B76F-71E337D7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6D9-F1F6-4576-AFEF-1390D7A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A2E-D245-422B-80C3-BAF9E05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915-7023-439E-89F6-50EA2C82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B94-5AAE-411B-AD05-A89B3FCC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BD0-DF79-4EF9-84CD-CD57977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248-66BA-4EF0-8516-5FC2873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73A4-BCA1-403F-AFE1-47224975A9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AAEB-D994-4D63-94E7-50FEABF236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80755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ван Иванович Шишкин - выдающийся живописец-пейзажист, воспевший красоту русск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шишкин"/>
          <p:cNvPicPr/>
          <p:nvPr/>
        </p:nvPicPr>
        <p:blipFill>
          <a:blip r:embed="rId1"/>
          <a:stretch/>
        </p:blipFill>
        <p:spPr>
          <a:xfrm>
            <a:off x="285840" y="2071800"/>
            <a:ext cx="3857400" cy="4500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ШИШКИН Иван Иванович (13 (25) января 1832, Елабуга, ныне Татарстан — 8 (20) марта 1898, Петербург), русский художник. Выдающийся мастер пейзажа, органически соединил в своей живописи и графике черты романтизма и реал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Полдень в окрестностях Москв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мне\полдень....jpg"/>
          <p:cNvPicPr/>
          <p:nvPr/>
        </p:nvPicPr>
        <p:blipFill>
          <a:blip r:embed="rId1"/>
          <a:stretch/>
        </p:blipFill>
        <p:spPr>
          <a:xfrm>
            <a:off x="4786200" y="1000080"/>
            <a:ext cx="4357800" cy="58579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5"/>
          <p:cNvSpPr/>
          <p:nvPr/>
        </p:nvSpPr>
        <p:spPr>
          <a:xfrm>
            <a:off x="0" y="1071720"/>
            <a:ext cx="4572000" cy="642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ейзаж не характерен для творчества Шишк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0" y="1928880"/>
            <a:ext cx="457200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Небо на картине огромно, необозримо и занимает большую часть композиции.  Оно наполнено серебристо-пепельными облаками, сквозь которые пробивается радостный солнечный свет. Именно небо, чистое и великое, является в «Полдне» главным объектом из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0" y="4214880"/>
            <a:ext cx="4572000" cy="2288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Во всей картине видится умиротворенность, устойчивость сельского бытия с извечно повторяющимся кругом времен года и крестьянских работ. По своим изобразительным особенностям картина «Полдень» занимает особое место в творчестве художника, являясь одним из лучших его произве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Рож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C:\Documents and Settings\Наталия Андреевна\Рабочий стол\Безымянный.bmp"/>
          <p:cNvPicPr/>
          <p:nvPr/>
        </p:nvPicPr>
        <p:blipFill>
          <a:blip r:embed="rId1"/>
          <a:stretch/>
        </p:blipFill>
        <p:spPr>
          <a:xfrm>
            <a:off x="285840" y="642960"/>
            <a:ext cx="8643960" cy="6000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10"/>
          <p:cNvSpPr/>
          <p:nvPr/>
        </p:nvSpPr>
        <p:spPr>
          <a:xfrm>
            <a:off x="2286000" y="4857840"/>
            <a:ext cx="414324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ё рожь кругом, как степь жив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и за́мков, ни морей, ни гор…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пасибо, сторона родная,</a:t>
            </a:r>
            <a:br>
              <a:rPr sz="1800"/>
            </a:br>
            <a:r>
              <a:rPr b="1" i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 твой врачующий простор!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. А. Некрасов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4572000" y="642960"/>
            <a:ext cx="457200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33993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Ширь безбрежная. От края до края золотятся хлеба. Сосны – великаны как бы застыли на страже, охраняя покой этой доброй хлебородной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14200" y="571680"/>
            <a:ext cx="4143600" cy="1739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"Рожь" – это песня земле, симфония на тему самого существенного земного блага. Рожь – это хлеб, символ жизни и конкретное деяние рук человеческих, природная благо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Солнечный день. Мерикюль» 189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F:\мне\Солнечн.бор.Мерикюль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785880"/>
            <a:ext cx="87156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артина выполнена Шишкиным в очень интересной гамме светло-зеленых и желтых тонов. Она изображает ветхий домик-землянку на берегу ру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:\Шишкин\39450.jpg"/>
          <p:cNvPicPr/>
          <p:nvPr/>
        </p:nvPicPr>
        <p:blipFill>
          <a:blip r:embed="rId1"/>
          <a:stretch/>
        </p:blipFill>
        <p:spPr>
          <a:xfrm>
            <a:off x="4643280" y="357120"/>
            <a:ext cx="4286520" cy="628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Наталия Андреевна\Рабочий стол\Безымянный2.bmp"/>
          <p:cNvPicPr/>
          <p:nvPr/>
        </p:nvPicPr>
        <p:blipFill>
          <a:blip r:embed="rId2"/>
          <a:stretch/>
        </p:blipFill>
        <p:spPr>
          <a:xfrm>
            <a:off x="285840" y="428760"/>
            <a:ext cx="4143240" cy="6215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357200" y="146160"/>
            <a:ext cx="6715080" cy="916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ртинах «Солнечный день. Береза»» 1894г.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овая р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 1896 г.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удожник добился необычайно-декоративного эффекта, создав образ возвышенного, сверкающего, лучезар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«На севере диком…» 188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5715000" y="714240"/>
            <a:ext cx="3429000" cy="6143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14200" y="714240"/>
            <a:ext cx="5429520" cy="1739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очество...    На скале, среди снега и тьмы, одиноко стоит могучая сосна. Наперекор лютым морозам, ветрам и снегам, она растёт там, где ничто расти не может. Кажется,  нет такой силы, которая может её свалить, обломить, согнут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2571840"/>
            <a:ext cx="492912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С достоинством возвышается могучее, гордое дерево и тяжёлый, сверкающий снег, схожий с богато украшенной ризой священника, прогибает нижние ветки почти до земл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357120" y="4025880"/>
            <a:ext cx="5072040" cy="2770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жется, что сосна смотрит на Луну. Она освещает мрачное ущелье, тёмно-грозовые безбрежные дали, облака, серебрит снег на сосне и вокруг.</a:t>
            </a:r>
            <a:br>
              <a:rPr sz="1600"/>
            </a:br>
            <a:r>
              <a:rPr b="0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 Снег не чисто белый. Мастерство художника показало множество оттенков снега. А на макушке сосны снег схож с облаками и они будто беседуют между собой. Полное замороженное безмолвие. Кажется тьма тяжелее света, она сгущается и оседает в пропасти. Лишь одинокая сосна- «мечтательница», грезит о другом, светлом и радостном мир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Шишкин\0007-007-Na-severe-dikom.jpg"/>
          <p:cNvPicPr/>
          <p:nvPr/>
        </p:nvPicPr>
        <p:blipFill>
          <a:blip r:embed="rId1"/>
          <a:stretch/>
        </p:blipFill>
        <p:spPr>
          <a:xfrm>
            <a:off x="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4"/>
          <p:cNvSpPr/>
          <p:nvPr/>
        </p:nvSpPr>
        <p:spPr>
          <a:xfrm>
            <a:off x="4071960" y="500040"/>
            <a:ext cx="478620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ихаил Юрьевич Лермонтов 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"Сосна", 1843.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олой вершине сосна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ета, как ризой, он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крае, где солнца восход,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красная пальма растет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929040" y="4357800"/>
            <a:ext cx="50720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тихотворение Михаила Юрьевича Лермонтова было выбрано Иваном Ивановичем Шишкиным для иллюстрации собрания сочинений, которое готовилось к выпуску в свет и приурочивалось к 50-летию со дня гибели поэ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57120" y="285480"/>
            <a:ext cx="4143600" cy="60721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.Успенск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Шишкин – великорусский талант по преимуществу, талант  уравновешенный, спокойный и, так сказать, сознательный. Он не только чувствует, но и изучает. Вглядитесь в любое произведение Шишкина, и вы будете поражены изумительным знанием каждого дерева, каждой травки, каждой морщины коры, изгиба ветвей... Но это не холодное изучение, в котором упрекают великорусов. Без искренней любви нельзя дойти до такого точного знания: наскучило и приелось бы. Нет, Шишкин жил своими деревьями и травами»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3280" y="440640"/>
            <a:ext cx="4286520" cy="265428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Ман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Его изобразительное изъяснени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прямое и непосредственное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–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 нельзя считать лишенным своей философии, своего волнения и восторга, своей подпочвы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70c0"/>
                </a:solidFill>
                <a:latin typeface="Georgi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4857840" y="3857760"/>
            <a:ext cx="3929040" cy="2379960"/>
          </a:xfrm>
          <a:prstGeom prst="rect">
            <a:avLst/>
          </a:prstGeom>
          <a:solidFill>
            <a:srgbClr val="b9cde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В.Васнец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орни ваши так глубоко и накрепко вросли в почву родного искусства , что их никем и никогда оттуда не выкорчев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F:\Шишкин\3603c98df50e.jpg"/>
          <p:cNvPicPr/>
          <p:nvPr/>
        </p:nvPicPr>
        <p:blipFill>
          <a:blip r:embed="rId1"/>
          <a:stretch/>
        </p:blipFill>
        <p:spPr>
          <a:xfrm>
            <a:off x="192888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2361960"/>
            <a:ext cx="6357960" cy="42814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временники называли его «царем леса». Характерны и названия картин Шишкина: «Сосновый бор», «Лесные дали», «Дорога в лесу», «Дождь в дубовом лесу», самая известная - «Утро в сосновом лес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тна его отличаются солнечностью, ясностью, радостью, в них он раскрывает поэтические черты русской природы. Картина «Корабельная роща» - последняя работа художника (1898). Смерть его наступила внезапно, во время работы над новой карти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sh01053i"/>
          <p:cNvPicPr/>
          <p:nvPr/>
        </p:nvPicPr>
        <p:blipFill>
          <a:blip r:embed="rId1"/>
          <a:stretch/>
        </p:blipFill>
        <p:spPr>
          <a:xfrm>
            <a:off x="6786720" y="1214280"/>
            <a:ext cx="2066760" cy="214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sh01051i"/>
          <p:cNvPicPr/>
          <p:nvPr/>
        </p:nvPicPr>
        <p:blipFill>
          <a:blip r:embed="rId2"/>
          <a:stretch/>
        </p:blipFill>
        <p:spPr>
          <a:xfrm>
            <a:off x="6786720" y="3857760"/>
            <a:ext cx="206676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h01056i"/>
          <p:cNvPicPr/>
          <p:nvPr/>
        </p:nvPicPr>
        <p:blipFill>
          <a:blip r:embed="rId3"/>
          <a:stretch/>
        </p:blipFill>
        <p:spPr>
          <a:xfrm>
            <a:off x="500040" y="214200"/>
            <a:ext cx="2946600" cy="20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Documents and Settings\Наталия Андреевна\Рабочий стол\Безымянный.bmp"/>
          <p:cNvPicPr/>
          <p:nvPr/>
        </p:nvPicPr>
        <p:blipFill>
          <a:blip r:embed="rId4"/>
          <a:stretch/>
        </p:blipFill>
        <p:spPr>
          <a:xfrm>
            <a:off x="3571920" y="214200"/>
            <a:ext cx="307188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Courier New"/>
              </a:rPr>
              <a:t>«Сосновый б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сосновый бор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500280" y="1143000"/>
            <a:ext cx="5500800" cy="5500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85840" y="1382400"/>
            <a:ext cx="3143160" cy="5092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ван Крамской, очень ценивший творчество художника, писал об этой работе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Calibri"/>
              </a:rPr>
              <a:t>«Шишкин нас просто изумляет своими познаниями . И когда он перед натурой, то точно в своей стихии, Шишкин-это «человек школа»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Courier New"/>
              </a:rPr>
              <a:t>«Дождь в дубовом лес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дождь в сосновом бору"/>
          <p:cNvPicPr/>
          <p:nvPr/>
        </p:nvPicPr>
        <p:blipFill>
          <a:blip r:embed="rId1"/>
          <a:stretch/>
        </p:blipFill>
        <p:spPr>
          <a:xfrm>
            <a:off x="3500280" y="1928880"/>
            <a:ext cx="5500800" cy="471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14200" y="717840"/>
            <a:ext cx="842976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сюжете картины мы видим трех путников. Закрадывается мысль, что вдали, на втором плане, в глубину леса уходит сам художник. Шишкин в этой работе выступил как виртуозный исполнитель в станковой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214200" y="1857240"/>
            <a:ext cx="3000600" cy="3143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Истинную ценность этого произведения составляет прекрасно выраженное состояние природы: начавшийся мелкий, моросящий дождь; мокрые, скользкие тропинки; серо-водянистый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42920" y="5072040"/>
            <a:ext cx="328608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лотно передает влажность лесного воздуха, запах мхов и травы, пение птиц, тишину и по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Утро в сосновом лесу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6" descr="C:\Documents and Settings\Наталия Андреевна\Рабочий стол\Шишкин\Безымянный.bmp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6"/>
          <p:cNvSpPr/>
          <p:nvPr/>
        </p:nvSpPr>
        <p:spPr>
          <a:xfrm>
            <a:off x="214200" y="642960"/>
            <a:ext cx="89298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тмотивом прославленной картины 1889 года является туман в сосновом лес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7"/>
          <p:cNvSpPr/>
          <p:nvPr/>
        </p:nvSpPr>
        <p:spPr>
          <a:xfrm>
            <a:off x="0" y="1500120"/>
            <a:ext cx="4572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ной ценностью произведения явилось прекрасно выраженное состояние прир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>
            <a:off x="5643720" y="3165480"/>
            <a:ext cx="3500280" cy="3660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просто глухой сосновый лес, а именно утро в лесу с его еще не рассеявшимся туманом, с легко порозовевшими вершинами громадных сосен, холодными тенями в чащ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ся глубина оврага, глушь. Присутствие медвежьего семейства, расположившегося на краю этого оврага, порождает у зрителя ощущение отдаленности и глухости дикого лес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Корабельная роща» - последняя работа художника (1898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14200" y="450072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Эта картина - художественное завещание мастера, торжественный финал той эпопеи леса, что он увлеченно писал на протяжении всей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214200" y="1643040"/>
            <a:ext cx="3071880" cy="2014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онументальная картина  - последний торжественный образ леса, символизирующий богатырскую силу русской природ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3500280" y="1285920"/>
            <a:ext cx="5643720" cy="55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285840" y="214200"/>
            <a:ext cx="8358120" cy="1983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а полотне представлен типично русский лесной пейзаж с поднявшейся могучей стеной густого хвойного бора. Опушка его буквально купается в лучах благодатного летнего солнца. Его ослепительный свет не только позолотил кроны деревьев, но и, зажигая трепетное сияние бликов, проник в глубь леса. Прогретой до самого дна кажется и вода железистого ручья, вытекающего из-за деревьев. Пронизана светом и каждая песчинка обнажившейся почвы его русла.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Картина сразу покоряет национальными особенностями русского пейзажа – величавой своей красотой, силой и креп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:\мне\Корабельная роща.jpg"/>
          <p:cNvPicPr/>
          <p:nvPr/>
        </p:nvPicPr>
        <p:blipFill>
          <a:blip r:embed="rId1"/>
          <a:stretch/>
        </p:blipFill>
        <p:spPr>
          <a:xfrm>
            <a:off x="2357280" y="228600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Дубовая роща» 1887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F:\мне\Дубовая роща.jpg"/>
          <p:cNvPicPr/>
          <p:nvPr/>
        </p:nvPicPr>
        <p:blipFill>
          <a:blip r:embed="rId1"/>
          <a:stretch/>
        </p:blipFill>
        <p:spPr>
          <a:xfrm>
            <a:off x="3357720" y="857160"/>
            <a:ext cx="557208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3"/>
          <p:cNvSpPr/>
          <p:nvPr/>
        </p:nvSpPr>
        <p:spPr>
          <a:xfrm>
            <a:off x="142920" y="785880"/>
            <a:ext cx="3071880" cy="5551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ы словно читаем «историю» дубов, этих «персонажей», подобных героям произведений бытового жан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рассматриваем их изогнутые ветви и кору, покрытую трещинами. Поляна оживает в разнообразии травяного покрова; она естественно сливается с дальним планом, а впереди выписаны четко различимые травы и цв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«Зима» 189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F:\мне\Зима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0" y="500040"/>
            <a:ext cx="9144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сюжете  полотна все сковано морозом и погружено в тень, лишь в глубине холста лучик солнца освещает небольшую поляну, слегка оттененную в нем розоватым цветом .От этих проблесков снег на земле и ветвях стройных сосен кажется сверкающе  голубым. Птичка на ветке огромного  дерева делает картину жи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5:18:39Z</dcterms:created>
  <dc:creator>~  Лиза  ~</dc:creator>
  <dc:description/>
  <dc:language>en-US</dc:language>
  <cp:lastModifiedBy>Наталья Андреевна</cp:lastModifiedBy>
  <dcterms:modified xsi:type="dcterms:W3CDTF">2011-01-20T04:39:33Z</dcterms:modified>
  <cp:revision>56</cp:revision>
  <dc:subject/>
  <dc:title>СОЧИНЕНИЕ-ОПИСАНИЕ ПО КАРТИНЕ И. И. ШИШКИНА «КОРАБЕЛЬНАЯ РОЩА»</dc:title>
</cp:coreProperties>
</file>