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D85E-8586-497C-99E4-DFC883632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CDC0-5E87-4065-AC8B-FDF1EE6C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1E4E-3448-47BD-B181-36EB4AB20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58F4-2FB3-4A56-8398-D3427DD92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5550-3255-4699-9FC5-58D5ABC8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2D67-3EE3-4B90-A91D-2F133FBD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1DB7-E5AA-4073-A186-F07368D0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B138-4726-43DD-8B95-689E981D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A4E0-ABCD-4622-81AF-D205A1F1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2D51-9DE4-4F5A-892E-337D559D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AA4D-D7FD-46EF-8869-BD2E4198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E9D8-F73C-4F75-B6B7-0DAED104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4C61-4F79-4BE1-BDB7-63A37119E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tranamasterov.ru/blog/2?page=2" TargetMode="External"/><Relationship Id="rId3" Type="http://schemas.openxmlformats.org/officeDocument/2006/relationships/hyperlink" Target="http://stranamasterov.ru/blog/2?page=2" TargetMode="External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280" y="1125360"/>
            <a:ext cx="496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стрекоз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492280"/>
            <a:ext cx="79916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Работу выполн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учитель первой квалификационной катег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Кравченко Лидия Григор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797360"/>
            <a:ext cx="994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игами модульное: Стрекозы. Бума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Татьяна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Просня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день один модуль в середине. Туловище готов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1360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перь приступай к сборке левого крыла. Тебе понадобится 8 модулей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едини 2 модуля, вставляя один уголок в один карман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741708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должай присоединять модули таким образ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1360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ледний (слева) модуль вставь двумя уголками в два кармана. Одно левое крыло готово. Сделай ещё одно такое же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4360" y="2492280"/>
            <a:ext cx="806436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делай также 2 правых крыла, собирая модули в другую сторон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3534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хвоста возьми 5 модулей одного цвета и 5 другого. Соединяй модули таким образом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7993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бери хвост, чередуя цвета, и слегка выгни его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280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зьми 2 модуля для усов. Накрути модули на стержень от шариковой ручки, чтобы завить их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792144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ступай к сборке стрекозы. Надень каждое крыло на держате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3516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соедини хвост, захватив все 4 уголка. Вставь закрученные усы в модули первого ряда. Стрекоза готова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835344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Мастер-класс Оригами модульное: Стрекозы Бумага Отдых"/>
          <p:cNvPicPr/>
          <p:nvPr/>
        </p:nvPicPr>
        <p:blipFill>
          <a:blip r:embed="rId1"/>
          <a:stretch/>
        </p:blipFill>
        <p:spPr>
          <a:xfrm>
            <a:off x="0" y="106200"/>
            <a:ext cx="9144000" cy="67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торой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более экономичного варианта понадобится всего 43 модул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ылья можно сделать плоскими, вставляя 2 уголка в 2 кармана. Для крыльев возьми 4 раза по 6 модулей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7848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бери туловище из 9-и модулей таким образ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80643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хвоста возьми 8 модулей. Хвост и усы выполняются так же, как в предыдущем варианте стрекозы. Собери стрекозу аналогично предыдущему варианту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19280" y="2781360"/>
            <a:ext cx="61214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58920" y="476280"/>
            <a:ext cx="65484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2803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вы хотите познакомиться с техникой модульного оригами, но у вас нет времени, чтобы сложить 500 модулей, начните с менее трудоёмких моделей. Для этих стрекозок понадобится всего 43—63 модуля. Можно склеить объёмную аппликацию со стрекозами, сделать подвеску-мобиль, смастерить игрушки для малышей или для украшения новогодней ёл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ервый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стрекозы с пышными крыльями понадобится 63 моду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туловища такой стрекозы понадобится 19 модулей. Цвета модулей можно выбрать по своему вкусу. Я использовала 8 оранжевых и 11 жёлтых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едини 2 модуля таким образом. Сделай 2 такие заготовки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067280" y="4221000"/>
            <a:ext cx="324000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692280"/>
            <a:ext cx="814716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ставь 2 заготовки рядом и присоедини к ним 3 модуля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55450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боковые карманы последнего ряда вставь по одному модулю. Это будут держатели для крыльев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32000" y="2276640"/>
            <a:ext cx="58323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76500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исоедини ещё 2 модуля, выполнив 4-й ряд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049800" cy="50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день 3 модуля таким образом, чтобы все выступающие уголки 3-го и 4-го рядов оказались в карманах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590544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день 2 модуля в 5-м ряду, захватив все уголки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5614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9:10:03Z</dcterms:created>
  <dc:creator>Admin</dc:creator>
  <dc:description/>
  <dc:language>en-US</dc:language>
  <cp:lastModifiedBy>Admin</cp:lastModifiedBy>
  <dcterms:modified xsi:type="dcterms:W3CDTF">2010-10-02T13:36:40Z</dcterms:modified>
  <cp:revision>5</cp:revision>
  <dc:subject/>
  <dc:title>Слайд 1</dc:title>
</cp:coreProperties>
</file>