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6BB-5473-4AD9-AA56-373B015F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39C-9726-42F9-93B9-6A117AB4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2CD-7110-44F2-9595-4F3D146D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82F-C3D3-4CE6-B340-E655A184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D90-F9E3-4FFD-AB99-7936AAE2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257-865D-4D45-BC16-B550922D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1E3-B1EA-4C1C-976C-473AF090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5A7-8C43-4133-9749-55A78918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044-C0B0-463B-9053-7B703E5E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149-66FC-4022-A858-61B2EDB5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632-BDD6-4D6D-9C46-E475F253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F9F-F509-41EB-B69B-6B2BB187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B689-43CC-4B90-BF56-32330F3E1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ranamasterov.ru/blog/2?page=2" TargetMode="External"/><Relationship Id="rId3" Type="http://schemas.openxmlformats.org/officeDocument/2006/relationships/hyperlink" Target="http://stranamasterov.ru/blog/2?page=2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1125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492280"/>
            <a:ext cx="7991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учитель первой квалификационной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Кравченко Лидия Григо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797360"/>
            <a:ext cx="994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гами модульное: Стрекозы. Бум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атьяна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осня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ень один модуль в середине. Туловище гото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приступай к сборке левого крыла. Тебе понадобится 8 модулей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и 2 модуля, вставляя один уголок в один карман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417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ай присоединять модули таким образ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дний (слева) модуль вставь двумя уголками в два кармана. Одно левое крыло готово. Сделай ещё одно такое же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8064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делай также 2 правых крыла, собирая модули в другую сторо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хвоста возьми 5 модулей одного цвета и 5 другого. Соединяй модули таким образом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93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ери хвост, чередуя цвета, и слегка выгни его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ьми 2 модуля для усов. Накрути модули на стержень от шариковой ручки, чтобы завить их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1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тупай к сборке стрекозы. Надень каждое крыло на держа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оедини хвост, захватив все 4 уголка. Вставь закрученные усы в модули первого ряда. Стрекоза готов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53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Мастер-класс Оригами модульное: Стрекозы Бумага Отдых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торой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более экономичного варианта понадобится всего 43 моду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можно сделать плоскими, вставляя 2 уголка в 2 кармана. Для крыльев возьми 4 раза по 6 модулей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84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ери туловище из 9-и модулей таким образ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хвоста возьми 8 модулей. Хвост и усы выполняются так же, как в предыдущем варианте стрекозы. Собери стрекозу аналогично предыдущему варианту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5484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 хотите познакомиться с техникой модульного оригами, но у вас нет времени, чтобы сложить 500 модулей, начните с менее трудоёмких моделей. Для этих стрекозок понадобится всего 43—63 модуля. Можно склеить объёмную аппликацию со стрекозами, сделать подвеску-мобиль, смастерить игрушки для малышей или для украшения новогодней ёл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вый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трекозы с пышными крыльями понадобится 63 моду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уловища такой стрекозы понадобится 19 модулей. Цвета модулей можно выбрать по своему вкусу. Я использовала 8 оранжевых и 11 жёлтых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и 2 модуля таким образом. Сделай 2 такие заготовки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67280" y="4221000"/>
            <a:ext cx="3240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тавь 2 заготовки рядом и присоедини к ним 3 модуля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54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боковые карманы последнего ряда вставь по одному модулю. Это будут держатели для крыльев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5832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765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соедини ещё 2 модуля, выполнив 4-й ряд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0498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ень 3 модуля таким образом, чтобы все выступающие уголки 3-го и 4-го рядов оказались в карманах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59054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ень 2 модуля в 5-м ряду, захватив все уголки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10:03Z</dcterms:created>
  <dc:creator>Admin</dc:creator>
  <dc:description/>
  <dc:language>en-US</dc:language>
  <cp:lastModifiedBy>Admin</cp:lastModifiedBy>
  <dcterms:modified xsi:type="dcterms:W3CDTF">2010-10-02T13:36:40Z</dcterms:modified>
  <cp:revision>5</cp:revision>
  <dc:subject/>
  <dc:title>Слайд 1</dc:title>
</cp:coreProperties>
</file>