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17F9-535F-49C9-A10B-89784250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357-1A7D-4001-A0C3-83D36C7A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BD11-C501-4F9C-9857-4FE96227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582-D809-48EF-B0D0-DB63696F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D148-3DF0-4063-B75E-8F03D685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B98C-6DC8-4933-9627-091FB227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D92-3C52-4D89-90D1-A982B0CA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66E0-B1CE-4287-B504-AC852483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1518-48AE-4823-8420-3F7B5A1E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C6E8-7ED9-4A82-8590-BB775854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181-3D89-450D-97DE-401C937D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4827-FCF4-4433-BB0F-C65737AC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DFD5-8C7D-444F-A47C-4FFAC712C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tranamasterov.ru/blog/2?page=2" TargetMode="External"/><Relationship Id="rId3" Type="http://schemas.openxmlformats.org/officeDocument/2006/relationships/hyperlink" Target="http://stranamasterov.ru/blog/2?page=2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112536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стрекоз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492280"/>
            <a:ext cx="7991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Работу 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учитель первой квалификационной 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Кравченко Лидия Григо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797360"/>
            <a:ext cx="994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игами модульное: Стрекозы. Бум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атьяна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осня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ень один модуль в середине. Туловище гото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36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перь приступай к сборке левого крыла. Тебе понадобится 8 модулей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едини 2 модуля, вставляя один уголок в один карман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4170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олжай присоединять модули таким образ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36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дний (слева) модуль вставь двумя уголками в два кармана. Одно левое крыло готово. Сделай ещё одно такое же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80643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делай также 2 правых крыла, собирая модули в другую сторо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353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хвоста возьми 5 модулей одного цвета и 5 другого. Соединяй модули таким образом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7993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бери хвост, чередуя цвета, и слегка выгни его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ьми 2 модуля для усов. Накрути модули на стержень от шариковой ручки, чтобы завить их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9214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ступай к сборке стрекозы. Надень каждое крыло на держате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3516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соедини хвост, захватив все 4 уголка. Вставь закрученные усы в модули первого ряда. Стрекоза готова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35344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Мастер-класс Оригами модульное: Стрекозы Бумага Отдых"/>
          <p:cNvPicPr/>
          <p:nvPr/>
        </p:nvPicPr>
        <p:blipFill>
          <a:blip r:embed="rId1"/>
          <a:stretch/>
        </p:blipFill>
        <p:spPr>
          <a:xfrm>
            <a:off x="0" y="106200"/>
            <a:ext cx="914400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торой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более экономичного варианта понадобится всего 43 моду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ылья можно сделать плоскими, вставляя 2 уголка в 2 кармана. Для крыльев возьми 4 раза по 6 модулей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848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бери туловище из 9-и модулей таким образ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8064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хвоста возьми 8 модулей. Хвост и усы выполняются так же, как в предыдущем варианте стрекозы. Собери стрекозу аналогично предыдущему варианту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6121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5484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ы хотите познакомиться с техникой модульного оригами, но у вас нет времени, чтобы сложить 500 модулей, начните с менее трудоёмких моделей. Для этих стрекозок понадобится всего 43—63 модуля. Можно склеить объёмную аппликацию со стрекозами, сделать подвеску-мобиль, смастерить игрушки для малышей или для украшения новогодней ёл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вый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стрекозы с пышными крыльями понадобится 63 моду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туловища такой стрекозы понадобится 19 модулей. Цвета модулей можно выбрать по своему вкусу. Я использовала 8 оранжевых и 11 жёлтых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едини 2 модуля таким образом. Сделай 2 такие заготовки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067280" y="4221000"/>
            <a:ext cx="32400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1471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ставь 2 заготовки рядом и присоедини к ним 3 модуля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545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боковые карманы последнего ряда вставь по одному модулю. Это будут держатели для крыльев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32000" y="2276640"/>
            <a:ext cx="5832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765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соедини ещё 2 модуля, выполнив 4-й ряд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04980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ень 3 модуля таким образом, чтобы все выступающие уголки 3-го и 4-го рядов оказались в карманах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59054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ень 2 модуля в 5-м ряду, захватив все уголки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561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10:03Z</dcterms:created>
  <dc:creator>Admin</dc:creator>
  <dc:description/>
  <dc:language>en-US</dc:language>
  <cp:lastModifiedBy>Admin</cp:lastModifiedBy>
  <dcterms:modified xsi:type="dcterms:W3CDTF">2010-10-02T13:36:40Z</dcterms:modified>
  <cp:revision>5</cp:revision>
  <dc:subject/>
  <dc:title>Слайд 1</dc:title>
</cp:coreProperties>
</file>