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18B-C034-423B-9519-8FE22489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42E-480D-4E6C-9067-9DBA1971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173-AA99-467D-AC33-00937AD0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B40-BE69-40B6-B3FE-4C6A6009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3486-560C-4D19-9D62-B3E9A79A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AF23-13C1-4502-921E-3541E48F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B7A3-0E47-4381-9085-FAC93688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7FD-29B1-40F0-9EF4-67386000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DE30-EE61-4447-9659-41A748F4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54B2-6695-4F4E-8843-EEAA931B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A873-427B-41AD-B591-E18D43E6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B4E-3C10-4ADB-A261-C1E22516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4434-602C-4DC4-8EBB-97F0274D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D66D-E58F-41FA-83C5-A1EE23F9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E4D4-2AA2-4C34-884A-E574F4C7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258B-C9E2-4D0B-83C1-8D7DBD93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640A-8D23-44A9-A032-7B2E6742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39C5-9FC6-442F-9902-D0581027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A936-38E8-4CF6-8801-D3153D8C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90F3-A8E9-4C12-8080-D0C63662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5BEC-F4A0-43EF-82E6-29F385AA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E30A-C7E9-4AA2-9270-E64820A6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4C7-525B-4B78-9174-B281D0B4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3A41-5186-41CA-B513-6979222B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D4D1-E629-461A-8C66-F1E7C5A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42AF-E6E6-4A76-AF6F-CDBE7036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CD2D-03E8-4325-9719-EDBDCFD1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CD42-0729-455B-A3BD-D9E4F83E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DBEE-9FB8-479A-A65C-26ACF82B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C939-467C-440D-A5E1-EC42C13B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64CD-9D1C-45E0-9164-98096E28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90B4-42F6-4555-9580-F3BADAF4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6B55-E0FF-4CC5-BCCF-6F3E1F2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155-0C0B-4B3E-AB7D-19E5BFB2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F087-30CA-44F1-B442-7E1BDD79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8C20-A6C2-415C-8107-4403E75E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7D88-0BB2-4A41-938A-CBBDE871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8ABE-3B8C-43AF-ACCF-56CDA8A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05AF2-E779-4DA8-A0D4-246DEF8B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A2AFA-7891-48C6-8935-B62DD179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B8976-E856-458C-B08E-55CD06FE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9004-B19A-4846-B629-31BE140E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3492-C1B4-4316-96EB-C89975D8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C6B-E9F2-43D0-8234-82428660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5EA-C81A-4D3E-978F-C256712B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263-257A-4F7E-A4E0-892934A8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E6B-D185-4D4C-834F-935D7643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2B7-87D7-460D-B469-77A79EC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955F-F16C-427C-8B89-D0593FC3C1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D860-D238-4B49-B211-2D8F89CCFB5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986-397D-4EA1-A364-955794692AA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AA49-85C9-46B8-88E5-396A6C88C5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49160" y="1047600"/>
            <a:ext cx="8229600" cy="1543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ма: Отношения между людь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7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49160" y="420840"/>
            <a:ext cx="7656480" cy="1158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58920" y="162864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Цель: оптимизация внутригрупповых отношений в класс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адачи: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знавательны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понятия «межличностные отношения», «симпатия», «антипатия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накомство с видами межличностными отношениям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оспитательны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дружеских, уважительных отношений между членами детского коллектив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Развивающи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представления о культуре межличностных отношений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доровьесберегающи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стремления поддерживать друг друга, оказывать взаимную помощь, уважать и заботиться о членах коллектив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оздание на уроке комфортную, доброжелательную атмосфер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умения находить положительные качества в окружающи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едполагаемый результа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представления учащихся о системе взаимоотношений в коллективе, обществ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лучшение межличностных отношений в школьном коллектив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76440" y="-1633680"/>
            <a:ext cx="8480160" cy="3267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585120" cy="3938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такое чувства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ие чувства ты можешь назват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такое взаимопонимани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добиться взаимопонимани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годня на уроке мы будем говорить о межличностных отношения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76440" y="-652320"/>
            <a:ext cx="7613640" cy="174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4000" y="1125360"/>
            <a:ext cx="71276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- Какие виды межличностных отношений вы знаете? (заполнение схемы вместе с учителем)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ffff"/>
                </a:solidFill>
                <a:uFillTx/>
                <a:latin typeface="Constantia"/>
              </a:rPr>
              <a:t>Межличностные отношения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Знакомство                       Приятельские              Товарищеские            Дружеские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Личные                     Деловые 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Что лежит в основе взаимоотношений? (чувства)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Какие положительные вы можете назвать? Отрицательные?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Положительные чувства вызывают симпатию людей, отрицательные – антипатию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Какими качествами должны обладать люди, с которыми вам хочется общаться?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Игра «Комплимент». Учащиеся по цепочке должны сделать комплимент или сказать что-нибудь хорошее о своем однокласснике (однокласснице). Учитель выступает в роли координатора, обращая внимание на то, чтобы все учащиеся услышали комплимент в свой адрес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Какие чувства вы испытали, услышав добрые слова в свой адрес? Какие чувства вы испытали, произнося добрые слова? Какой вывод вы можете сделать после окончания игры?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Учитель , в случае затруднения учащихся, выводит их на «золотое правило нравственности»: «Поступай с другими так, как ты хочешь, чтобы поступали с тобой»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06" name="Прямая со стрелкой 4"/>
          <p:cNvCxnSpPr/>
          <p:nvPr/>
        </p:nvCxnSpPr>
        <p:spPr>
          <a:xfrm flipH="1">
            <a:off x="1763280" y="1989000"/>
            <a:ext cx="172944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Прямая со стрелкой 6"/>
          <p:cNvCxnSpPr/>
          <p:nvPr/>
        </p:nvCxnSpPr>
        <p:spPr>
          <a:xfrm flipH="1">
            <a:off x="3347640" y="2060640"/>
            <a:ext cx="14472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Прямая со стрелкой 10"/>
          <p:cNvCxnSpPr/>
          <p:nvPr/>
        </p:nvCxnSpPr>
        <p:spPr>
          <a:xfrm>
            <a:off x="4932360" y="1988640"/>
            <a:ext cx="720000" cy="288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Прямая со стрелкой 12"/>
          <p:cNvCxnSpPr/>
          <p:nvPr/>
        </p:nvCxnSpPr>
        <p:spPr>
          <a:xfrm flipH="1">
            <a:off x="3347280" y="1988640"/>
            <a:ext cx="361080" cy="793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0" name="Прямая со стрелкой 14"/>
          <p:cNvCxnSpPr/>
          <p:nvPr/>
        </p:nvCxnSpPr>
        <p:spPr>
          <a:xfrm>
            <a:off x="3851280" y="1988640"/>
            <a:ext cx="434160" cy="793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1" name="Прямая со стрелкой 16"/>
          <p:cNvCxnSpPr/>
          <p:nvPr/>
        </p:nvCxnSpPr>
        <p:spPr>
          <a:xfrm>
            <a:off x="4500360" y="1988640"/>
            <a:ext cx="216360" cy="288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03360" y="219240"/>
            <a:ext cx="8192880" cy="1036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404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еще, кроме слов, важно для общения между людьми? (эмоции, мимика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пробуем разгадать эмоции, которые вы видите на рисунк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учебник стр. 35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5" descr="http://png.kiev.ua/uploads/posts/2009-09/1254121186_yemocii.jpg"/>
          <p:cNvPicPr/>
          <p:nvPr/>
        </p:nvPicPr>
        <p:blipFill>
          <a:blip r:embed="rId2"/>
          <a:stretch/>
        </p:blipFill>
        <p:spPr>
          <a:xfrm>
            <a:off x="4500720" y="2928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676440" y="219240"/>
            <a:ext cx="8192880" cy="10364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32000" y="1341360"/>
            <a:ext cx="6624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чем состоят основные особенности межличностных отношени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такое взаимопонимание? Как добиться его в отношениях между  людьми? Что притягивает и отталкивает людей в межличностных отношениях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676440" y="152280"/>
            <a:ext cx="8259480" cy="1036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31640" y="169992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длагается на выбор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писать мини-сочинение «Мой друг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обрать свои любимые стихи о дружбе и любви, объяснить, чем они вам нравятс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1:49:12Z</dcterms:created>
  <dc:creator>Валентина</dc:creator>
  <dc:description/>
  <dc:language>en-US</dc:language>
  <cp:lastModifiedBy>Плотникова З.Л.</cp:lastModifiedBy>
  <dcterms:modified xsi:type="dcterms:W3CDTF">2011-11-24T06:22:08Z</dcterms:modified>
  <cp:revision>10</cp:revision>
  <dc:subject/>
  <dc:title>Урок обществознания</dc:title>
</cp:coreProperties>
</file>