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617-1C31-4AF8-A87E-4A78B86F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F10-855B-463F-B615-E973D189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D09-B3EC-4EF9-9211-9958EC1E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8D9-931D-47ED-BD7F-4ED89BBB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EA1B-F188-4C91-BA8A-A321C549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E4F7-16FA-43D7-8398-F9FE8770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7796-0093-4EEB-B33A-D72AD12B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C712-CA86-40EE-834D-47E5A0CA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9383-34A3-4D3C-A79A-7D1A8541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AB53-1C6B-46F2-8680-B849F249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1C70-0F23-4FE4-AC69-643501F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A0A-EDDE-4D78-86B6-59A043F4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158F-B8E0-4BFB-8281-EA33BEF7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7BB6-04AB-45D6-B6DE-AEE4C48A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E330-38FC-416B-AE2D-6EA59A5D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5BBB-E183-4474-A41A-85A28B3E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1F02-4706-4B99-908E-91481B91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DAA3-ECD0-454B-8725-FB8D2431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A067-671B-423B-AF4A-01937076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A13E7-F45C-4760-A04B-B4B58B90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0672-2CA6-4EE4-95B6-0B07B2E0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5F54-44AB-4D8C-8980-D6537B2C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F43-EC4E-4AC4-AFDA-2221F623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7ECC-66FD-4291-A492-C38CB2B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5670-6975-4BBA-AF74-450FCD8C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A3EC-83AB-4CDD-B1AC-12CA7E4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79D1-7319-47BA-A5E5-DD4B6E03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A7080-9FEA-4535-AF8D-3C22F205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5851F-E06B-4406-AA83-40E1BA1B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B8E3-1944-40DA-B601-69A71BBD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0FB2A-4D28-4419-AC2D-6707E792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FDDF6-F8D7-498D-BD76-9F8F7B70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1B9C-D55D-4508-ABA1-13791209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067-017B-42A0-B29F-0F81782B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5D3C9-24D8-417D-ABF7-9ECEA285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65CB-5F1C-4242-BA33-2850F37B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8A0E3-E2F1-42B9-99D3-3ED71988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9BD33-BFBD-4A1E-855D-98A22774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B2D4-7CE4-4E0C-839F-4145EE9E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DA424-60D7-4F5A-BBBD-41FA16D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EC56-595F-4CCD-8EF8-F7AB3844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5D07-A192-4F3E-BDF9-D5BEBF2B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92DCA-140A-4E0B-AAC8-739A3DB4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77C-EF9D-4CEE-9AB8-1B5EE132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7BC-D58B-4ED2-9076-7A7DA340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929-3CD2-4C5E-B5F5-059513BE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868-5FBD-48CE-B173-6B7E8BF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968-663B-46F6-A58F-A63424EA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6309-CE01-4C43-9756-969706C22D1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389B-E482-4FFD-BB51-143CF0D1436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EB6D-D69A-4C7A-811A-4D5CDD6BFE4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BFDD-8924-4BE1-974F-60D067DD59C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49160" y="1047600"/>
            <a:ext cx="8229600" cy="1543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ма: Отношения между людь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7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49160" y="420840"/>
            <a:ext cx="7656480" cy="1158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58920" y="1628640"/>
            <a:ext cx="6408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Цель: оптимизация внутригрупповых отношений в классе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адачи: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ознавательные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понятия «межличностные отношения», «симпатия», «антипатия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накомство с видами межличностными отношениям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оспитательные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дружеских, уважительных отношений между членами детского коллектив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Развивающие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представления о культуре межличностных отношений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доровьесберегающие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стремления поддерживать друг друга, оказывать взаимную помощь, уважать и заботиться о членах коллектив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оздание на уроке комфортную, доброжелательную атмосфер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умения находить положительные качества в окружающи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едполагаемый результа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представления учащихся о системе взаимоотношений в коллективе, обществ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лучшение межличностных отношений в школьном коллектив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76440" y="-1633680"/>
            <a:ext cx="8480160" cy="3267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585120" cy="3938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такое чувства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ие чувства ты можешь назват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такое взаимопонимани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добиться взаимопонимани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годня на уроке мы будем говорить о межличностных отношения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676440" y="-652320"/>
            <a:ext cx="7613640" cy="174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4000" y="1125360"/>
            <a:ext cx="71276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- Какие виды межличностных отношений вы знаете? (заполнение схемы вместе с учителем)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ffff"/>
                </a:solidFill>
                <a:uFillTx/>
                <a:latin typeface="Constantia"/>
              </a:rPr>
              <a:t>Межличностные отношения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Знакомство                       Приятельские              Товарищеские            Дружеские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Личные                     Деловые 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Что лежит в основе взаимоотношений? (чувства)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Какие положительные вы можете назвать? Отрицательные?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Положительные чувства вызывают симпатию людей, отрицательные – антипатию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Какими качествами должны обладать люди, с которыми вам хочется общаться?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Игра «Комплимент». Учащиеся по цепочке должны сделать комплимент или сказать что-нибудь хорошее о своем однокласснике (однокласснице). Учитель выступает в роли координатора, обращая внимание на то, чтобы все учащиеся услышали комплимент в свой адрес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Какие чувства вы испытали, услышав добрые слова в свой адрес? Какие чувства вы испытали, произнося добрые слова? Какой вывод вы можете сделать после окончания игры?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Учитель , в случае затруднения учащихся, выводит их на «золотое правило нравственности»: «Поступай с другими так, как ты хочешь, чтобы поступали с тобой»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06" name="Прямая со стрелкой 4"/>
          <p:cNvCxnSpPr/>
          <p:nvPr/>
        </p:nvCxnSpPr>
        <p:spPr>
          <a:xfrm flipH="1">
            <a:off x="1763280" y="1989000"/>
            <a:ext cx="1729440" cy="21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Прямая со стрелкой 6"/>
          <p:cNvCxnSpPr/>
          <p:nvPr/>
        </p:nvCxnSpPr>
        <p:spPr>
          <a:xfrm flipH="1">
            <a:off x="3347640" y="2060640"/>
            <a:ext cx="144720" cy="21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Прямая со стрелкой 10"/>
          <p:cNvCxnSpPr/>
          <p:nvPr/>
        </p:nvCxnSpPr>
        <p:spPr>
          <a:xfrm>
            <a:off x="4932360" y="1988640"/>
            <a:ext cx="720000" cy="288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Прямая со стрелкой 12"/>
          <p:cNvCxnSpPr/>
          <p:nvPr/>
        </p:nvCxnSpPr>
        <p:spPr>
          <a:xfrm flipH="1">
            <a:off x="3347280" y="1988640"/>
            <a:ext cx="361080" cy="793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0" name="Прямая со стрелкой 14"/>
          <p:cNvCxnSpPr/>
          <p:nvPr/>
        </p:nvCxnSpPr>
        <p:spPr>
          <a:xfrm>
            <a:off x="3851280" y="1988640"/>
            <a:ext cx="434160" cy="793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1" name="Прямая со стрелкой 16"/>
          <p:cNvCxnSpPr/>
          <p:nvPr/>
        </p:nvCxnSpPr>
        <p:spPr>
          <a:xfrm>
            <a:off x="4500360" y="1988640"/>
            <a:ext cx="216360" cy="288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603360" y="219240"/>
            <a:ext cx="8192880" cy="1036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404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еще, кроме слов, важно для общения между людьми? (эмоции, мимика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пробуем разгадать эмоции, которые вы видите на рисунк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учебник стр. 35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5" descr="http://png.kiev.ua/uploads/posts/2009-09/1254121186_yemocii.jpg"/>
          <p:cNvPicPr/>
          <p:nvPr/>
        </p:nvPicPr>
        <p:blipFill>
          <a:blip r:embed="rId2"/>
          <a:stretch/>
        </p:blipFill>
        <p:spPr>
          <a:xfrm>
            <a:off x="4500720" y="29289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676440" y="219240"/>
            <a:ext cx="8192880" cy="10364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32000" y="1341360"/>
            <a:ext cx="6624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чем состоят основные особенности межличностных отношени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такое взаимопонимание? Как добиться его в отношениях между  людьми? Что притягивает и отталкивает людей в межличностных отношениях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676440" y="152280"/>
            <a:ext cx="8259480" cy="1036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31640" y="1699920"/>
            <a:ext cx="65530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длагается на выбор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писать мини-сочинение «Мой друг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обрать свои любимые стихи о дружбе и любви, объяснить, чем они вам нравятс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1:49:12Z</dcterms:created>
  <dc:creator>Валентина</dc:creator>
  <dc:description/>
  <dc:language>en-US</dc:language>
  <cp:lastModifiedBy>Плотникова З.Л.</cp:lastModifiedBy>
  <dcterms:modified xsi:type="dcterms:W3CDTF">2011-11-24T06:22:08Z</dcterms:modified>
  <cp:revision>10</cp:revision>
  <dc:subject/>
  <dc:title>Урок обществознания</dc:title>
</cp:coreProperties>
</file>