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2CA7-D186-473E-9605-E652E3E1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4D5E-CB50-4538-88EE-47EBD75C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DEC9-8365-42BA-8452-DE86C53D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DACF-77B6-45E5-BBF0-AD6CA249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F4FC-74CD-4FC2-87C2-B8185BB9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BFE7-A592-497B-9BE2-6A880FD6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08F2-ACF6-482B-9005-8A995313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515C-1F53-4553-90F3-35D56D1B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7FAE-3B2C-4D35-93B2-75906E08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ACAC-E44A-47B9-9B35-969F3AA0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6CD3-5E63-4369-92BC-AB6523AA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5288-6EE5-41E0-BEF4-3FC1FD37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E65E-5449-4C8E-BA0A-21FCBC80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72C1-FCBF-470C-A5A6-F8CB7299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1B21-03D4-471E-B794-E8814A7E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86BB-3EAB-40FB-AC0A-18D15C7C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A7BD-78BC-430B-B701-FF8B01FC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19186-92D2-4B95-A818-32A60D13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C7F93-BBF9-44AF-AE9D-DEA3E06D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1D967-A837-4F88-875F-C5CDC46A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A3156-24A1-4A0B-A632-A840F7B4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8DB74-0980-4698-852C-92DAF9B6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457A-FEA6-4623-B408-4DEE939B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58F25-0EB5-4937-9DBD-67E5940B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4E377-FB2A-4731-8A80-A91D4054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9AA7A-354F-4AC6-A99F-5AFF99E2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FE7C5-6CE5-4AA8-BC65-8BA9EFAA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26C88-6EC9-484A-82ED-4C5FF824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AFE15-12EE-4A17-A138-2491540C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B6E34-64EE-4A55-8B7C-3FF3B6AA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7A5B3-5E23-4181-8EEC-C569F042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757D6-AD54-4959-830D-34ACD63E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965FF-1D81-41DD-A49F-A8557A5D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F6DD-3F4E-4D0F-8B9B-B7EC9CCC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36494-E823-4795-96A3-422008C3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D791D-2AB0-46EE-91A6-676CFCEA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E0134-BEDF-48BC-A7EF-56325CF4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C5D31-FD84-422E-A1E2-3194C00F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CA4F5-F714-4077-81E9-7B4F4825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9B91E-4BD9-4F8A-8C6E-2BE5967A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0FC20-EA2D-45AE-945B-32B2D35E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2956A-4215-4E71-A7AC-7C639380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11676-8A58-49B6-9084-97C7DBEA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0AA3-8B41-417B-9DEE-8C88B853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1E7B-957B-4052-A11E-E7CD96D3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740B-20D1-413B-9819-CCFDE233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EFEB-582F-4424-A586-C8A62CDA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9B38-AED7-4724-82FF-D04810D1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2F08-CD3E-4535-BA2F-55E5A7E8187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B5B4-4ED3-4265-9F6C-3E431D2DDA0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6615-A9C7-42DF-9DBC-7BB9D115C03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97B9-F133-4DEC-BBB7-0CE06EEB3AB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749160" y="1047600"/>
            <a:ext cx="8229600" cy="1543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ема: Отношения между людь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7 клас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749160" y="420840"/>
            <a:ext cx="7656480" cy="11588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58920" y="1628640"/>
            <a:ext cx="6408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Цель: оптимизация внутригрупповых отношений в классе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Задачи: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Познавательные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Формирование понятия «межличностные отношения», «симпатия», «антипатия»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Знакомство с видами межличностными отношениями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Воспитательные: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Формирование дружеских, уважительных отношений между членами детского коллектива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Развивающие: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Формирование представления о культуре межличностных отношений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Здоровьесберегающие: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Формирование стремления поддерживать друг друга, оказывать взаимную помощь, уважать и заботиться о членах коллектива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Создание на уроке комфортную, доброжелательную атмосферу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nstantia"/>
              </a:rPr>
              <a:t>Формирование умения находить положительные качества в окружающих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едполагаемый результа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ормирование представления учащихся о системе взаимоотношений в коллективе, обществ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лучшение межличностных отношений в школьном коллектив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676440" y="-1633680"/>
            <a:ext cx="8480160" cy="3267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1700280"/>
            <a:ext cx="6585120" cy="3938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то такое чувства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ие чувства ты можешь назвать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то такое взаимопонимание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к добиться взаимопонимание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годня на уроке мы будем говорить о межличностных отношения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1680" indent="-5716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676440" y="-652320"/>
            <a:ext cx="7613640" cy="1742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4000" y="1125360"/>
            <a:ext cx="71276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- Какие виды межличностных отношений вы знаете? (заполнение схемы вместе с учителем)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ffffff"/>
                </a:solidFill>
                <a:uFillTx/>
                <a:latin typeface="Constantia"/>
              </a:rPr>
              <a:t>Межличностные отношения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Знакомство                       Приятельские              Товарищеские            Дружеские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</a:t>
            </a: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Личные                     Деловые 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Что лежит в основе взаимоотношений? (чувства)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Какие положительные вы можете назвать? Отрицательные?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Положительные чувства вызывают симпатию людей, отрицательные – антипатию.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Какими качествами должны обладать люди, с которыми вам хочется общаться?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Игра «Комплимент». Учащиеся по цепочке должны сделать комплимент или сказать что-нибудь хорошее о своем однокласснике (однокласснице). Учитель выступает в роли координатора, обращая внимание на то, чтобы все учащиеся услышали комплимент в свой адрес.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Какие чувства вы испытали, услышав добрые слова в свой адрес? Какие чувства вы испытали, произнося добрые слова? Какой вывод вы можете сделать после окончания игры?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onstantia"/>
              </a:rPr>
              <a:t>Учитель , в случае затруднения учащихся, выводит их на «золотое правило нравственности»: «Поступай с другими так, как ты хочешь, чтобы поступали с тобой».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206" name="Прямая со стрелкой 4"/>
          <p:cNvCxnSpPr/>
          <p:nvPr/>
        </p:nvCxnSpPr>
        <p:spPr>
          <a:xfrm flipH="1">
            <a:off x="1763280" y="1989000"/>
            <a:ext cx="1729440" cy="216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7" name="Прямая со стрелкой 6"/>
          <p:cNvCxnSpPr/>
          <p:nvPr/>
        </p:nvCxnSpPr>
        <p:spPr>
          <a:xfrm flipH="1">
            <a:off x="3347640" y="2060640"/>
            <a:ext cx="144720" cy="2167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8" name="Прямая со стрелкой 10"/>
          <p:cNvCxnSpPr/>
          <p:nvPr/>
        </p:nvCxnSpPr>
        <p:spPr>
          <a:xfrm>
            <a:off x="4932360" y="1988640"/>
            <a:ext cx="720000" cy="2883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9" name="Прямая со стрелкой 12"/>
          <p:cNvCxnSpPr/>
          <p:nvPr/>
        </p:nvCxnSpPr>
        <p:spPr>
          <a:xfrm flipH="1">
            <a:off x="3347280" y="1988640"/>
            <a:ext cx="361080" cy="793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0" name="Прямая со стрелкой 14"/>
          <p:cNvCxnSpPr/>
          <p:nvPr/>
        </p:nvCxnSpPr>
        <p:spPr>
          <a:xfrm>
            <a:off x="3851280" y="1988640"/>
            <a:ext cx="434160" cy="793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11" name="Прямая со стрелкой 16"/>
          <p:cNvCxnSpPr/>
          <p:nvPr/>
        </p:nvCxnSpPr>
        <p:spPr>
          <a:xfrm>
            <a:off x="4500360" y="1988640"/>
            <a:ext cx="216360" cy="2883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603360" y="219240"/>
            <a:ext cx="8192880" cy="10364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371600" y="1197000"/>
            <a:ext cx="64404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то еще, кроме слов, важно для общения между людьми? (эмоции, мимика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пробуем разгадать эмоции, которые вы видите на рисунк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учебник стр. 35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Picture 5" descr="http://png.kiev.ua/uploads/posts/2009-09/1254121186_yemocii.jpg"/>
          <p:cNvPicPr/>
          <p:nvPr/>
        </p:nvPicPr>
        <p:blipFill>
          <a:blip r:embed="rId2"/>
          <a:stretch/>
        </p:blipFill>
        <p:spPr>
          <a:xfrm>
            <a:off x="4500720" y="29289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676440" y="219240"/>
            <a:ext cx="8192880" cy="10364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332000" y="1341360"/>
            <a:ext cx="6624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чем состоят основные особенности межличностных отношений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то такое взаимопонимание? Как добиться его в отношениях между  людьми? Что притягивает и отталкивает людей в межличностных отношениях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676440" y="152280"/>
            <a:ext cx="8259480" cy="10368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331640" y="1699920"/>
            <a:ext cx="6553080" cy="4032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едлагается на выбор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писать мини-сочинение «Мой друг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добрать свои любимые стихи о дружбе и любви, объяснить, чем они вам нравятс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1:49:12Z</dcterms:created>
  <dc:creator>Валентина</dc:creator>
  <dc:description/>
  <dc:language>en-US</dc:language>
  <cp:lastModifiedBy>Плотникова З.Л.</cp:lastModifiedBy>
  <dcterms:modified xsi:type="dcterms:W3CDTF">2011-11-24T06:22:08Z</dcterms:modified>
  <cp:revision>10</cp:revision>
  <dc:subject/>
  <dc:title>Урок обществознания</dc:title>
</cp:coreProperties>
</file>