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473C-F727-44CE-852E-26A2BDFE0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EF3-F125-46C4-8873-CCC98BDB0A83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261C-04CB-4E86-998A-35F67D1F5840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C788-1A31-4518-B4AA-FA6143368F92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74F4-D85F-4A3C-B772-C7FBAF22C898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8CA9-DD30-4706-9523-E7F07AAC1C83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3DE4-80D9-4816-BA0A-345BCB5EF970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5FC2-2D51-4D0F-95CC-9A689FA40D31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8391-BBE5-4CAA-BEDF-C8C4745F11E7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993-7AEF-435E-B894-E823ECC8BEBB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74D5-52AF-4F1F-A1B7-A8AC36EDF06A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AF1A-060E-40BA-A933-0BD0517BE83C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DDFC-7ACB-4233-B6CB-5959F4A4E690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F131-C74A-4517-A226-AD0DCD466E5F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2CD0-78C6-4069-A75C-7F36A58CBBE8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00EF-B041-40AF-AAF7-749AEF7FB949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7B17-BD99-4A8B-93F2-90F7DE630976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FE3B-F7C7-4C28-8A97-0944142882EC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4E44-87D0-4533-ABE1-6B04E19270BC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153F-553B-4236-907C-F11591025BFD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1390-9A70-4E64-BBCA-467BDF9BA4B3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8C6C-F464-4997-8BD2-7EB8914EF313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1B81-D4E7-4A9B-A461-AA511BC51C55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C0E4-F486-49AB-B515-825F402F0137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6F86-7F74-49E7-81B7-C9F37988ACE2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3259-1C52-4413-B2C9-CC6135E24EB7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D509-53C7-4FA6-A735-0FE1326D89D2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64AC-B442-4B7F-B2EB-B58B50292C88}" type="slidenum">
              <a:rPr b="0" lang="ru-RU" sz="12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34B-70AA-410C-8E7B-42D29824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809-AB9C-42BC-A0F0-9E8F0C87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D95-E8F7-4E2C-8461-CA002F66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BB83-FE99-4609-B787-521EE100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112B-E49C-466D-8AB2-276F4C51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1DF8-818E-4D2C-9EEC-DAA57A3F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716C-0094-43BC-8D0C-756CDEFF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D2CE-5A47-404F-A715-74DAB92D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9DA7-193A-4FBC-88CD-B81B713E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17F7-DA93-40E5-850C-34FB0279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7D10-D691-487B-A873-8AC5760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178-D873-4201-AB98-5C618389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A728-CD49-40C7-B8D7-81D30B4A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F67C-12F0-4F42-AE28-29F3BFE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B9D1-3412-4AFE-8864-76B878B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E656-DA3B-46AE-B72C-19F18EB5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74D0-AC56-4915-97AD-D194E0B8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56CAF-3BC8-41E2-8F77-4E2FF730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3768-4917-4C9B-AEDC-F7067C47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486B9-4B61-4914-AAFD-A8789D01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ADC9-00B8-4F27-9ADB-AF69ACDC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40D1-9229-4A50-B263-6090320E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4E4-D56A-4C57-B4DA-777C3926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8DC1-8666-422C-92F3-656AC28C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EA79-3F68-48D7-BA9E-D8F312A3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869B-0C6B-488A-B144-0D300034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71C3-F46B-4AB9-89A7-8099109F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908E-570C-47E6-9AB9-A60521C0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C579C-A8B0-4915-B6BD-26A296CA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4DDF-535E-4586-A5A1-4D623323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ABFE2-EC29-411F-9172-7A673DE5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AE1D-824D-42B0-BBF1-A9B16F50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662C-F74B-4537-860C-FFFBE9EB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2D4-9447-4A8A-BC84-AA0FA34E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E126-BFBA-4825-B2DB-D130A8D3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5A7B-561A-4A46-9F18-83B5EA72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7F96-44E6-4BF4-A340-AA0C65F5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67D73-3145-4EAC-AB4E-5A72AB25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2E47-5E57-4594-B39E-3E71CC33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1455-7182-4CFF-AB98-967A0D1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0761-699E-40F9-A816-F74FDD49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45E43-5BD5-4130-9D3D-F73CE05A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2DEE4-E646-4F3F-8818-E65160ED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BF8AD-4751-4499-9BDC-6E837A3A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8CE-BCA4-4F4D-A674-9CC2991F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9EA5-671B-46C4-A891-57BDF911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D706D-91BD-47F8-B30D-E9FF1BF6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060D5-D9E7-43B1-8B77-F7F5B3F7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966C-A986-47F9-BF99-428DDD70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8E1A-04EC-412C-96AA-0414A7E3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7B2B-AEA8-4370-B755-75E49BB2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99A6-2227-4D23-8351-276575AA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29664-D1E5-4534-901D-496674F6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CC36-FFF6-4335-88C7-98A72C64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281E-81C0-42BA-9EBD-7C47BB8D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785-8251-45BA-A124-F1F6E259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92D3C-0AEE-4F02-B91C-2CF75FF4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F5271-9C7C-47C4-91DF-5E74632D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6A0D-451C-4BA5-B90E-DDC8207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0134F-C94C-4C4D-A06E-7AA02C8D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0607F-EC54-4D78-A138-DDF22899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2E266-E487-4E81-9576-F6E86BB7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2353-B50A-47B5-B307-E014A534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191BB-26D8-4397-9BB5-6E6283DD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A6351-DFBD-41BB-B3B6-F6D1F24A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C04B4-1522-42AF-9677-C76A73A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45E1-6C45-42E7-8796-9AFC4E48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CA104-0404-4171-B929-0482D086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7D47A-2082-4928-91C7-3F467285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FFCC-294D-42CD-8397-4F223B06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9CC4-3534-4BB0-9F82-FE94C48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D2A-374F-4C5E-8159-36907F07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e2e2c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D42C-66B5-4AC0-A125-B5A6207C70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52"/>
              </a:gs>
              <a:gs pos="50000">
                <a:srgbClr val="dddd9c"/>
              </a:gs>
              <a:gs pos="100000">
                <a:srgbClr val="8a8a52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e2e2c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33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3A6C-8EDE-47DF-B34C-1BAC9EAFF3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e2e2c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ED3E-87ED-49F9-9E4F-6F5CE20B88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8548-8A0C-462D-AD43-61039C9201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923F-9504-4439-A4E9-345E9BB725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e2e2c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a7a774"/>
              </a:gs>
              <a:gs pos="100000">
                <a:srgbClr val="e0e0b2"/>
              </a:gs>
            </a:gsLst>
            <a:lin ang="16200000"/>
          </a:gradFill>
          <a:ln cap="rnd" w="3240">
            <a:solidFill>
              <a:srgbClr val="95956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0033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cccc9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cccc9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3300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330033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00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E620-83A8-4679-A4E9-54D943D4A2C3}" type="slidenum">
              <a:rPr b="0" lang="en-US" sz="1000" spc="-1" strike="noStrike">
                <a:solidFill>
                  <a:srgbClr val="33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3.xml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4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86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87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288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057400" y="2438280"/>
            <a:ext cx="4686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исленность и воспроизводство населен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енажёр и проверочный тест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114800" y="4952880"/>
            <a:ext cx="36482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довкина Галина Петровна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 географии МБОУ "СОШ №3"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.Дальнереченск</a:t>
            </a:r>
            <a:endParaRPr b="0" i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1781280" cy="157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2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2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28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 каком из высказываний содержится информация о воспроизводстве населения:</a:t>
            </a:r>
            <a:r>
              <a:rPr b="1" lang="en-US" sz="2800" spc="-1" strike="noStrike">
                <a:solidFill>
                  <a:srgbClr val="50505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330033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9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 многих странах Европы смертность на каждую тысячу жителей превышает рождаемость, в результате чего численность населения снижается?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0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2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3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4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результате гражданской войны в Либерии были вынуждены покинуть места обитания  500 тыс.человек.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5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настоящее время на долю развивающихся стран приходится 4/5 всего ежегодного прироста городских жителей в мире.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6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России, в странах зарубежной Европы, Северной Америки показатель экономически активного населения превышает среднемировой -45%.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7" name="Oval 16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8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39" name="Oval 18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0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1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4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4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4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47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из перечисленных стран доля неграмотных среди лиц старше 15 лет наименьшая?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8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т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4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5" name="AutoShape 15"/>
          <p:cNvSpPr/>
          <p:nvPr/>
        </p:nvSpPr>
        <p:spPr>
          <a:xfrm>
            <a:off x="1143000" y="5029200"/>
            <a:ext cx="72388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и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6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0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706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730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62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66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каком из высказывании содержится информация о воспроизводстве населения?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838080" y="1371600"/>
            <a:ext cx="7272360" cy="708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целом по России, городское население моложе сельского.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8" name="Oval 9"/>
          <p:cNvSpPr/>
          <p:nvPr/>
        </p:nvSpPr>
        <p:spPr>
          <a:xfrm>
            <a:off x="30492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9" name="Oval 10"/>
          <p:cNvSpPr/>
          <p:nvPr/>
        </p:nvSpPr>
        <p:spPr>
          <a:xfrm>
            <a:off x="38088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0" name="Oval 11"/>
          <p:cNvSpPr/>
          <p:nvPr/>
        </p:nvSpPr>
        <p:spPr>
          <a:xfrm>
            <a:off x="30492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30492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2" name="AutoShape 13"/>
          <p:cNvSpPr/>
          <p:nvPr/>
        </p:nvSpPr>
        <p:spPr>
          <a:xfrm>
            <a:off x="990720" y="2590920"/>
            <a:ext cx="7424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ная полоса расселения, занимающая 1/3 территории России, сосредотачивает 93% населения страны.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3" name="AutoShape 14"/>
          <p:cNvSpPr/>
          <p:nvPr/>
        </p:nvSpPr>
        <p:spPr>
          <a:xfrm>
            <a:off x="838080" y="3809880"/>
            <a:ext cx="746784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 в Росси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 тыс. жителей рождалось около 50 человек, а умирало 35 человек.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>
            <a:off x="838080" y="5334120"/>
            <a:ext cx="75009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следние годы массовыми стали сезонные переселения горожан в сельскую местность.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5" name="Oval 16"/>
          <p:cNvSpPr/>
          <p:nvPr/>
        </p:nvSpPr>
        <p:spPr>
          <a:xfrm>
            <a:off x="8381880" y="1447920"/>
            <a:ext cx="360360" cy="5331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6" name="Oval 17"/>
          <p:cNvSpPr/>
          <p:nvPr/>
        </p:nvSpPr>
        <p:spPr>
          <a:xfrm>
            <a:off x="8458200" y="274320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7" name="Oval 18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8" name="Oval 19"/>
          <p:cNvSpPr/>
          <p:nvPr/>
        </p:nvSpPr>
        <p:spPr>
          <a:xfrm>
            <a:off x="838188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79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779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827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851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85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из перечисленных стран самая низкая рождаем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6" name="AutoShape 8"/>
          <p:cNvSpPr/>
          <p:nvPr/>
        </p:nvSpPr>
        <p:spPr>
          <a:xfrm>
            <a:off x="106668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вейт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2" name="AutoShape 14"/>
          <p:cNvSpPr/>
          <p:nvPr/>
        </p:nvSpPr>
        <p:spPr>
          <a:xfrm>
            <a:off x="106668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или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6" name="Oval 18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99" name="Rectangle 21"/>
          <p:cNvSpPr/>
          <p:nvPr/>
        </p:nvSpPr>
        <p:spPr>
          <a:xfrm>
            <a:off x="1297440" y="525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Как ты оцениваешь свою работу 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на тренажёре?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01" name="AutoShape 5">
            <a:hlinkClick r:id="rId2" action="ppaction://hlinksldjump"/>
          </p:cNvPr>
          <p:cNvSpPr/>
          <p:nvPr/>
        </p:nvSpPr>
        <p:spPr>
          <a:xfrm>
            <a:off x="1295280" y="1882800"/>
            <a:ext cx="69343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Знания отличные! Перехожу к тесту!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02" name="AutoShape 6">
            <a:hlinkClick r:id="rId3" action="ppaction://hlinksldjump"/>
          </p:cNvPr>
          <p:cNvSpPr/>
          <p:nvPr/>
        </p:nvSpPr>
        <p:spPr>
          <a:xfrm>
            <a:off x="1295280" y="3330720"/>
            <a:ext cx="7010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Было много ошибок, необходимо поработать с правилом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03" name="AutoShape 8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pSp>
        <p:nvGrpSpPr>
          <p:cNvPr id="504" name="Group 9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05" name="Line 10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6" name="Line 11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4"/>
          <p:cNvGrpSpPr/>
          <p:nvPr/>
        </p:nvGrpSpPr>
        <p:grpSpPr>
          <a:xfrm>
            <a:off x="130320" y="76320"/>
            <a:ext cx="8937000" cy="6668640"/>
            <a:chOff x="130320" y="76320"/>
            <a:chExt cx="8937000" cy="6668640"/>
          </a:xfrm>
        </p:grpSpPr>
        <p:sp>
          <p:nvSpPr>
            <p:cNvPr id="510" name="Line 5"/>
            <p:cNvSpPr/>
            <p:nvPr/>
          </p:nvSpPr>
          <p:spPr>
            <a:xfrm>
              <a:off x="130320" y="76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11" name="Line 6"/>
            <p:cNvSpPr/>
            <p:nvPr/>
          </p:nvSpPr>
          <p:spPr>
            <a:xfrm>
              <a:off x="130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12" name="Line 7"/>
            <p:cNvSpPr/>
            <p:nvPr/>
          </p:nvSpPr>
          <p:spPr>
            <a:xfrm>
              <a:off x="130320" y="674496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13" name="Line 8"/>
            <p:cNvSpPr/>
            <p:nvPr/>
          </p:nvSpPr>
          <p:spPr>
            <a:xfrm>
              <a:off x="9067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14" name="Rectangle 9"/>
          <p:cNvSpPr/>
          <p:nvPr/>
        </p:nvSpPr>
        <p:spPr>
          <a:xfrm>
            <a:off x="274680" y="16524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тестом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380880" y="91440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Проверочный тест состоит из 10 заданий. Каждое задание имеет 4 варианта ответа, один из которых - правильный.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2. Прежде чем нажимать переключатель, хорошо подумай, потому что, ответив, ты перейдёшь к следующему вопросу и не сможешь внести изменения в свой ответ.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3. Чтобы узнать свой результат, нажми на кнопку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«Результат». </a:t>
            </a: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Ты увидишь общее число верных ответов, отметку за тест и таблицу результатов по каждому вопросу.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4. Ты можешь просмотреть свои ошибки, нажав на соответствующую кнопку. Переход от слайда к слайду в режиме просмотра ошибок важно производить по кнопкам в нижнем правом углу слайда. 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33"/>
                </a:solidFill>
                <a:latin typeface="Arial"/>
              </a:rPr>
              <a:t>5. Если хочешь повторить тест, то обнули результат (кнопка «Сброс результатов») и нажми на кнопку «Повторить тест».  </a:t>
            </a: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16" name="AutoShape 14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517" name="Picture 4" descr="C:\Documents and Settings\User\Мои документы\Мои рисунки\Разное\Рисунок14.emf"/>
          <p:cNvPicPr/>
          <p:nvPr/>
        </p:nvPicPr>
        <p:blipFill>
          <a:blip r:embed="rId2"/>
          <a:stretch/>
        </p:blipFill>
        <p:spPr>
          <a:xfrm>
            <a:off x="76320" y="152280"/>
            <a:ext cx="990360" cy="8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1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2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2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2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23" name="Rectangle 7"/>
          <p:cNvSpPr/>
          <p:nvPr/>
        </p:nvSpPr>
        <p:spPr>
          <a:xfrm>
            <a:off x="228600" y="228600"/>
            <a:ext cx="84787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Численность населения Земли в настоящее время составляет примерно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4" name="AutoShape 8"/>
          <p:cNvSpPr/>
          <p:nvPr/>
        </p:nvSpPr>
        <p:spPr>
          <a:xfrm>
            <a:off x="914400" y="1143000"/>
            <a:ext cx="7391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"/>
              </a:rPr>
              <a:t>7 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80880" y="5181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29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5 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0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4 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1" name="AutoShape 17"/>
          <p:cNvSpPr/>
          <p:nvPr/>
        </p:nvSpPr>
        <p:spPr>
          <a:xfrm>
            <a:off x="914400" y="4952880"/>
            <a:ext cx="73152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3млрд.чел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3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4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5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36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9" dur="indefinite" restart="never" nodeType="tmRoot">
          <p:childTnLst>
            <p:seq>
              <p:cTn id="980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8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8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9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4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1005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0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1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1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3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3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4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6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6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3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3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4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4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42" name="AutoShape 8"/>
          <p:cNvSpPr/>
          <p:nvPr/>
        </p:nvSpPr>
        <p:spPr>
          <a:xfrm>
            <a:off x="990720" y="51055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57200" y="3124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457200" y="1981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7" name="AutoShape 13"/>
          <p:cNvSpPr/>
          <p:nvPr/>
        </p:nvSpPr>
        <p:spPr>
          <a:xfrm>
            <a:off x="990720" y="274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онез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49" name="AutoShape 15"/>
          <p:cNvSpPr/>
          <p:nvPr/>
        </p:nvSpPr>
        <p:spPr>
          <a:xfrm>
            <a:off x="990720" y="1676520"/>
            <a:ext cx="7272360" cy="78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0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1" name="Oval 18"/>
          <p:cNvSpPr/>
          <p:nvPr/>
        </p:nvSpPr>
        <p:spPr>
          <a:xfrm>
            <a:off x="8458200" y="304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2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3" name="Oval 20"/>
          <p:cNvSpPr/>
          <p:nvPr/>
        </p:nvSpPr>
        <p:spPr>
          <a:xfrm>
            <a:off x="8458200" y="1905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8775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В какой из перечисленных стран численность населения наибольшая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76" dur="indefinite" restart="never" nodeType="tmRoot">
          <p:childTnLst>
            <p:seq>
              <p:cTn id="1077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8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9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0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1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126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13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1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5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6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5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5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5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61" name="Rectangle 7"/>
          <p:cNvSpPr/>
          <p:nvPr/>
        </p:nvSpPr>
        <p:spPr>
          <a:xfrm>
            <a:off x="457200" y="380880"/>
            <a:ext cx="84027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В какой из перечисленных стран осуществляется активная государственная политика, направленная на стимулирование рождаемости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838080" y="4343400"/>
            <a:ext cx="72723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анция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3" name="Oval 9"/>
          <p:cNvSpPr/>
          <p:nvPr/>
        </p:nvSpPr>
        <p:spPr>
          <a:xfrm>
            <a:off x="380880" y="4495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304920" y="3505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5" name="Oval 11"/>
          <p:cNvSpPr/>
          <p:nvPr/>
        </p:nvSpPr>
        <p:spPr>
          <a:xfrm>
            <a:off x="380880" y="5410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6" name="Oval 12"/>
          <p:cNvSpPr/>
          <p:nvPr/>
        </p:nvSpPr>
        <p:spPr>
          <a:xfrm>
            <a:off x="380880" y="2286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838080" y="335268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в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8" name="AutoShape 14"/>
          <p:cNvSpPr/>
          <p:nvPr/>
        </p:nvSpPr>
        <p:spPr>
          <a:xfrm>
            <a:off x="914400" y="5410080"/>
            <a:ext cx="727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е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69" name="AutoShape 15"/>
          <p:cNvSpPr/>
          <p:nvPr/>
        </p:nvSpPr>
        <p:spPr>
          <a:xfrm>
            <a:off x="838080" y="2209680"/>
            <a:ext cx="727236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жир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1" name="Oval 18"/>
          <p:cNvSpPr/>
          <p:nvPr/>
        </p:nvSpPr>
        <p:spPr>
          <a:xfrm>
            <a:off x="8381880" y="3505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2" name="Oval 19"/>
          <p:cNvSpPr/>
          <p:nvPr/>
        </p:nvSpPr>
        <p:spPr>
          <a:xfrm>
            <a:off x="8458200" y="4495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3" name="Oval 20"/>
          <p:cNvSpPr/>
          <p:nvPr/>
        </p:nvSpPr>
        <p:spPr>
          <a:xfrm>
            <a:off x="8305920" y="2286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73" dur="indefinite" restart="never" nodeType="tmRoot">
          <p:childTnLst>
            <p:seq>
              <p:cTn id="1174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175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8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8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4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0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0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0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1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2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3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6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247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5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6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7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7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7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7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80" name="Rectangle 7"/>
          <p:cNvSpPr/>
          <p:nvPr/>
        </p:nvSpPr>
        <p:spPr>
          <a:xfrm>
            <a:off x="228600" y="228600"/>
            <a:ext cx="847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Для какой из перечисленных стран характерен наибольший естественный прирост населения (на 1 тыс. жителей)?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гер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3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6" name="AutoShape 13"/>
          <p:cNvSpPr/>
          <p:nvPr/>
        </p:nvSpPr>
        <p:spPr>
          <a:xfrm>
            <a:off x="990720" y="3886200"/>
            <a:ext cx="70866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ьш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7" name="AutoShape 14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нада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0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1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9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70" dur="indefinite" restart="never" nodeType="tmRoot">
          <p:childTnLst>
            <p:seq>
              <p:cTn id="1271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272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7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7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8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28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5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296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0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5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9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320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2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2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3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9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3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344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5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3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293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94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228600" y="228600"/>
            <a:ext cx="8610480" cy="4909320"/>
          </a:xfrm>
          <a:prstGeom prst="rect">
            <a:avLst/>
          </a:prstGeom>
          <a:solidFill>
            <a:srgbClr val="f3f3ea"/>
          </a:solidFill>
          <a:ln w="9360">
            <a:solidFill>
              <a:srgbClr val="cccc9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орогой друг!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Его первый уровень представляет собой тренажёр, с помощью которого ты можешь вспомнить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у правления и типы стран современного мира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и усовершенствовать свои умения и навыки.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торой уровень – проверочный тест по теме   за который ты получишь отметку.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адеемся, что эти занятия помогут тебе успешн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ершенствовать знания по географии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Желаем удачи!</a:t>
            </a: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  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8" name="AutoShape 10">
            <a:hlinkClick r:id="rId2" action="ppaction://hlinksldjump"/>
          </p:cNvPr>
          <p:cNvSpPr/>
          <p:nvPr/>
        </p:nvSpPr>
        <p:spPr>
          <a:xfrm>
            <a:off x="1066680" y="6019920"/>
            <a:ext cx="350532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ерейти к тренажёру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9" name="AutoShape 11">
            <a:hlinkClick r:id="rId3" action="ppaction://hlinksldjump"/>
          </p:cNvPr>
          <p:cNvSpPr/>
          <p:nvPr/>
        </p:nvSpPr>
        <p:spPr>
          <a:xfrm>
            <a:off x="5029200" y="6019920"/>
            <a:ext cx="335268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ерейти к тесту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9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9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9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59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599" name="Rectangle 7"/>
          <p:cNvSpPr/>
          <p:nvPr/>
        </p:nvSpPr>
        <p:spPr>
          <a:xfrm>
            <a:off x="228600" y="152280"/>
            <a:ext cx="8478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В каком из высказываний содержится информация о процессе воспроизводства населения?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Решающее воздействие на рождаемость, смертность, естественный прирост оказывают социально-экономические условия жизни людей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1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 среднем в мире к экономически активному населению можно отнести около 49% всего населения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6" name="AutoShape 14"/>
          <p:cNvSpPr/>
          <p:nvPr/>
        </p:nvSpPr>
        <p:spPr>
          <a:xfrm>
            <a:off x="990720" y="4952880"/>
            <a:ext cx="72723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В 1990 г. в мире было около 960 млн. неграмотных, с тех пор общее число неграмотных сократилось на 100 млн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7" name="AutoShape 15"/>
          <p:cNvSpPr/>
          <p:nvPr/>
        </p:nvSpPr>
        <p:spPr>
          <a:xfrm>
            <a:off x="992160" y="990720"/>
            <a:ext cx="727236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Численность населения — один из важных факторов развития любой страны и всего человечества.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67" dur="indefinite" restart="never" nodeType="tmRoot">
          <p:childTnLst>
            <p:seq>
              <p:cTn id="1368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369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7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8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8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393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39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0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0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2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417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42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2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6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0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441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4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5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0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1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1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1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18" name="Rectangle 7"/>
          <p:cNvSpPr/>
          <p:nvPr/>
        </p:nvSpPr>
        <p:spPr>
          <a:xfrm>
            <a:off x="0" y="380880"/>
            <a:ext cx="89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19" name="AutoShape 8"/>
          <p:cNvSpPr/>
          <p:nvPr/>
        </p:nvSpPr>
        <p:spPr>
          <a:xfrm>
            <a:off x="1066680" y="2666880"/>
            <a:ext cx="701064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фр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0" name="Oval 9"/>
          <p:cNvSpPr/>
          <p:nvPr/>
        </p:nvSpPr>
        <p:spPr>
          <a:xfrm>
            <a:off x="380880" y="2895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1" name="Oval 10"/>
          <p:cNvSpPr/>
          <p:nvPr/>
        </p:nvSpPr>
        <p:spPr>
          <a:xfrm>
            <a:off x="457200" y="4495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457200" y="56386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457200" y="1219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>
            <a:off x="990720" y="4114800"/>
            <a:ext cx="70866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тинская Амер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5" name="AutoShape 14"/>
          <p:cNvSpPr/>
          <p:nvPr/>
        </p:nvSpPr>
        <p:spPr>
          <a:xfrm>
            <a:off x="990720" y="5257800"/>
            <a:ext cx="70866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6" name="AutoShape 15"/>
          <p:cNvSpPr/>
          <p:nvPr/>
        </p:nvSpPr>
        <p:spPr>
          <a:xfrm>
            <a:off x="914400" y="914400"/>
            <a:ext cx="693432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рубежная Аз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845820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8381880" y="4419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8458200" y="1219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152280" y="-45000"/>
            <a:ext cx="8686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Определите регион, который концентрирует более половины населения Земли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64" dur="indefinite" restart="never" nodeType="tmRoot">
          <p:childTnLst>
            <p:seq>
              <p:cTn id="146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466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7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7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9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490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4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4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9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3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514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51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2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2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2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3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7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538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5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4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4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7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3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3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3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38" name="AutoShape 8"/>
          <p:cNvSpPr/>
          <p:nvPr/>
        </p:nvSpPr>
        <p:spPr>
          <a:xfrm>
            <a:off x="990720" y="3733920"/>
            <a:ext cx="727236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 и Бангладеш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9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0" name="Oval 10"/>
          <p:cNvSpPr/>
          <p:nvPr/>
        </p:nvSpPr>
        <p:spPr>
          <a:xfrm>
            <a:off x="457200" y="2895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1" name="Oval 11"/>
          <p:cNvSpPr/>
          <p:nvPr/>
        </p:nvSpPr>
        <p:spPr>
          <a:xfrm>
            <a:off x="457200" y="556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2" name="Oval 12"/>
          <p:cNvSpPr/>
          <p:nvPr/>
        </p:nvSpPr>
        <p:spPr>
          <a:xfrm>
            <a:off x="457200" y="1828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3" name="AutoShape 13"/>
          <p:cNvSpPr/>
          <p:nvPr/>
        </p:nvSpPr>
        <p:spPr>
          <a:xfrm>
            <a:off x="914400" y="2590920"/>
            <a:ext cx="7391520" cy="1066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нгладеш и Герма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>
            <a:off x="990720" y="5105520"/>
            <a:ext cx="72723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ксика и 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5" name="AutoShape 15"/>
          <p:cNvSpPr/>
          <p:nvPr/>
        </p:nvSpPr>
        <p:spPr>
          <a:xfrm>
            <a:off x="990720" y="1219320"/>
            <a:ext cx="727236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ия и Мекс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8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9" name="Oval 20"/>
          <p:cNvSpPr/>
          <p:nvPr/>
        </p:nvSpPr>
        <p:spPr>
          <a:xfrm>
            <a:off x="8458200" y="175248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1" name="Rectangle 23"/>
          <p:cNvSpPr/>
          <p:nvPr/>
        </p:nvSpPr>
        <p:spPr>
          <a:xfrm>
            <a:off x="609480" y="390600"/>
            <a:ext cx="79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ерите две страны, которые входят в десятку мировых лидеров по численности населения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61" dur="indefinite" restart="never" nodeType="tmRoot">
          <p:childTnLst>
            <p:seq>
              <p:cTn id="156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156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6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7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2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6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1587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59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6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0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1611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61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2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0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4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1635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63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4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4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57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Укажите страну с самым высоким показателем естественного прироста населения:</a:t>
            </a:r>
            <a:r>
              <a:rPr b="1" lang="en-US" sz="2000" spc="-1" strike="noStrike">
                <a:solidFill>
                  <a:srgbClr val="50505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990720" y="29718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гол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>
            <a:off x="457200" y="3124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>
            <a:off x="457200" y="4267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457200" y="213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>
            <a:off x="990720" y="4038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гар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1066680" y="1752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ргентин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6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8458200" y="4267080"/>
            <a:ext cx="360360" cy="53352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8" name="Oval 19"/>
          <p:cNvSpPr/>
          <p:nvPr/>
        </p:nvSpPr>
        <p:spPr>
          <a:xfrm flipV="1">
            <a:off x="8458200" y="3124080"/>
            <a:ext cx="360360" cy="60984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8458200" y="198108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58" dur="indefinite" restart="never" nodeType="tmRoot">
          <p:childTnLst>
            <p:seq>
              <p:cTn id="1659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660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66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7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3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684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6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9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9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3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7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708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1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7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1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732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3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3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1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7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7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76" name="Rectangle 7"/>
          <p:cNvSpPr/>
          <p:nvPr/>
        </p:nvSpPr>
        <p:spPr>
          <a:xfrm>
            <a:off x="228600" y="228600"/>
            <a:ext cx="84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их трёх из перечисленных стран ожидаемая продолжительность жизни населения наибольшая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7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обритания, Франция, Финлянд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2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рмания, Австрия, 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3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ША, Австралия, Мекс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4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ликобритания, Индия, Венесуэл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5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6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7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8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89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755" dur="indefinite" restart="never" nodeType="tmRoot">
          <p:childTnLst>
            <p:seq>
              <p:cTn id="1756" restart="whenNotActive" nodeType="interactiveSeq" fill="hold">
                <p:stCondLst>
                  <p:cond evt="onClick">
                    <p:tgtEl>
                      <p:spTgt spid="678"/>
                    </p:tgtEl>
                  </p:cond>
                </p:stCondLst>
                <p:childTnLst>
                  <p:par>
                    <p:cTn id="1757" fill="hold">
                      <p:stCondLst>
                        <p:cond evt="onClick">
                          <p:tgtEl>
                            <p:spTgt spid="678"/>
                          </p:tgtEl>
                        </p:cond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7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6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7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3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0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1781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8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9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9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4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805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80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1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1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1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4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8" restart="whenNotActive" nodeType="interactiveSeq" fill="hold">
                <p:stCondLst>
                  <p:cond evt="onClick">
                    <p:tgtEl>
                      <p:spTgt spid="681"/>
                    </p:tgtEl>
                  </p:cond>
                </p:stCondLst>
                <p:childTnLst>
                  <p:par>
                    <p:cTn id="1829" fill="hold">
                      <p:stCondLst>
                        <p:cond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83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3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3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8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9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9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9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69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695" name="Rectangle 7"/>
          <p:cNvSpPr/>
          <p:nvPr/>
        </p:nvSpPr>
        <p:spPr>
          <a:xfrm>
            <a:off x="228600" y="228600"/>
            <a:ext cx="847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Arial"/>
              </a:rPr>
              <a:t>Укажите пару стран с самым низким показателем естественного прироста населения:</a:t>
            </a:r>
            <a:r>
              <a:rPr b="1" lang="en-US" sz="2000" spc="-1" strike="noStrike">
                <a:solidFill>
                  <a:srgbClr val="50505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6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ьгия и Швейцария 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9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рия и Иран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914400" y="3886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ивия и Алжир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фганистан и  Малайз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4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5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6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7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08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52" dur="indefinite" restart="never" nodeType="tmRoot">
          <p:childTnLst>
            <p:seq>
              <p:cTn id="1853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1854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85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6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6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6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3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7" restart="whenNotActive" nodeType="interactiveSeq" fill="hold">
                <p:stCondLst>
                  <p:cond evt="onClick">
                    <p:tgtEl>
                      <p:spTgt spid="698"/>
                    </p:tgtEl>
                  </p:cond>
                </p:stCondLst>
                <p:childTnLst>
                  <p:par>
                    <p:cTn id="1878" fill="hold">
                      <p:stCondLst>
                        <p:cond evt="onClick">
                          <p:tgtEl>
                            <p:spTgt spid="698"/>
                          </p:tgtEl>
                        </p:cond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8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8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9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4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7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5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906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1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8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1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5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1926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9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3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3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9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2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4"/>
          <p:cNvGrpSpPr/>
          <p:nvPr/>
        </p:nvGrpSpPr>
        <p:grpSpPr>
          <a:xfrm>
            <a:off x="79200" y="100080"/>
            <a:ext cx="8937360" cy="6668640"/>
            <a:chOff x="79200" y="100080"/>
            <a:chExt cx="8937360" cy="6668640"/>
          </a:xfrm>
        </p:grpSpPr>
        <p:sp>
          <p:nvSpPr>
            <p:cNvPr id="710" name="Line 5"/>
            <p:cNvSpPr/>
            <p:nvPr/>
          </p:nvSpPr>
          <p:spPr>
            <a:xfrm>
              <a:off x="79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11" name="Line 6"/>
            <p:cNvSpPr/>
            <p:nvPr/>
          </p:nvSpPr>
          <p:spPr>
            <a:xfrm>
              <a:off x="79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12" name="Line 7"/>
            <p:cNvSpPr/>
            <p:nvPr/>
          </p:nvSpPr>
          <p:spPr>
            <a:xfrm>
              <a:off x="79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13" name="Line 8"/>
            <p:cNvSpPr/>
            <p:nvPr/>
          </p:nvSpPr>
          <p:spPr>
            <a:xfrm>
              <a:off x="9016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714" name="Rectangle 9"/>
          <p:cNvSpPr/>
          <p:nvPr/>
        </p:nvSpPr>
        <p:spPr>
          <a:xfrm>
            <a:off x="36036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Подведём итоги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5" name="Rectangle 11"/>
          <p:cNvSpPr/>
          <p:nvPr/>
        </p:nvSpPr>
        <p:spPr>
          <a:xfrm>
            <a:off x="533520" y="914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Верных ответов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6" name="Rectangle 13"/>
          <p:cNvSpPr/>
          <p:nvPr/>
        </p:nvSpPr>
        <p:spPr>
          <a:xfrm>
            <a:off x="6400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Times New Roman"/>
              </a:rPr>
              <a:t>Отметка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7" name="AutoShape 100">
            <a:hlinkClick r:id="rId2" action="ppaction://hlinksldjump"/>
          </p:cNvPr>
          <p:cNvSpPr/>
          <p:nvPr/>
        </p:nvSpPr>
        <p:spPr>
          <a:xfrm>
            <a:off x="3276720" y="5181480"/>
            <a:ext cx="2590560" cy="47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Просмотр ошибок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8" name="Rectangle 183"/>
          <p:cNvSpPr/>
          <p:nvPr/>
        </p:nvSpPr>
        <p:spPr>
          <a:xfrm>
            <a:off x="7140600" y="3886200"/>
            <a:ext cx="86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9" name="Rectangle 184"/>
          <p:cNvSpPr/>
          <p:nvPr/>
        </p:nvSpPr>
        <p:spPr>
          <a:xfrm>
            <a:off x="650700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0" name="Rectangle 185"/>
          <p:cNvSpPr/>
          <p:nvPr/>
        </p:nvSpPr>
        <p:spPr>
          <a:xfrm>
            <a:off x="587520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1" name="Rectangle 186"/>
          <p:cNvSpPr/>
          <p:nvPr/>
        </p:nvSpPr>
        <p:spPr>
          <a:xfrm>
            <a:off x="524196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2" name="Rectangle 187"/>
          <p:cNvSpPr/>
          <p:nvPr/>
        </p:nvSpPr>
        <p:spPr>
          <a:xfrm>
            <a:off x="46101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3" name="Rectangle 188"/>
          <p:cNvSpPr/>
          <p:nvPr/>
        </p:nvSpPr>
        <p:spPr>
          <a:xfrm>
            <a:off x="39783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4" name="Rectangle 189"/>
          <p:cNvSpPr/>
          <p:nvPr/>
        </p:nvSpPr>
        <p:spPr>
          <a:xfrm>
            <a:off x="3344760" y="3886200"/>
            <a:ext cx="63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5" name="Rectangle 190"/>
          <p:cNvSpPr/>
          <p:nvPr/>
        </p:nvSpPr>
        <p:spPr>
          <a:xfrm>
            <a:off x="271296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6" name="Rectangle 191"/>
          <p:cNvSpPr/>
          <p:nvPr/>
        </p:nvSpPr>
        <p:spPr>
          <a:xfrm>
            <a:off x="2079720" y="3886200"/>
            <a:ext cx="633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7" name="Rectangle 192"/>
          <p:cNvSpPr/>
          <p:nvPr/>
        </p:nvSpPr>
        <p:spPr>
          <a:xfrm>
            <a:off x="1447920" y="3886200"/>
            <a:ext cx="63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8" name="Rectangle 193">
            <a:hlinkClick r:id="rId3" action="ppaction://hlinksldjump"/>
          </p:cNvPr>
          <p:cNvSpPr/>
          <p:nvPr/>
        </p:nvSpPr>
        <p:spPr>
          <a:xfrm>
            <a:off x="7140600" y="3276720"/>
            <a:ext cx="86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9" name="Rectangle 194">
            <a:hlinkClick r:id="rId4" action="ppaction://hlinksldjump"/>
          </p:cNvPr>
          <p:cNvSpPr/>
          <p:nvPr/>
        </p:nvSpPr>
        <p:spPr>
          <a:xfrm>
            <a:off x="650700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0" name="Rectangle 195">
            <a:hlinkClick r:id="rId5" action="ppaction://hlinksldjump"/>
          </p:cNvPr>
          <p:cNvSpPr/>
          <p:nvPr/>
        </p:nvSpPr>
        <p:spPr>
          <a:xfrm>
            <a:off x="587520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1" name="Rectangle 196">
            <a:hlinkClick r:id="rId6" action="ppaction://hlinksldjump"/>
          </p:cNvPr>
          <p:cNvSpPr/>
          <p:nvPr/>
        </p:nvSpPr>
        <p:spPr>
          <a:xfrm>
            <a:off x="524196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2" name="Rectangle 197"/>
          <p:cNvSpPr/>
          <p:nvPr/>
        </p:nvSpPr>
        <p:spPr>
          <a:xfrm>
            <a:off x="46101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3" name="Rectangle 198"/>
          <p:cNvSpPr/>
          <p:nvPr/>
        </p:nvSpPr>
        <p:spPr>
          <a:xfrm>
            <a:off x="39783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4" name="Rectangle 199"/>
          <p:cNvSpPr/>
          <p:nvPr/>
        </p:nvSpPr>
        <p:spPr>
          <a:xfrm>
            <a:off x="3344760" y="3276720"/>
            <a:ext cx="63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5" name="Rectangle 200"/>
          <p:cNvSpPr/>
          <p:nvPr/>
        </p:nvSpPr>
        <p:spPr>
          <a:xfrm>
            <a:off x="271296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6" name="Rectangle 201"/>
          <p:cNvSpPr/>
          <p:nvPr/>
        </p:nvSpPr>
        <p:spPr>
          <a:xfrm>
            <a:off x="2079720" y="3276720"/>
            <a:ext cx="633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7" name="Rectangle 202"/>
          <p:cNvSpPr/>
          <p:nvPr/>
        </p:nvSpPr>
        <p:spPr>
          <a:xfrm>
            <a:off x="1447920" y="3276720"/>
            <a:ext cx="63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8" name="Line 203"/>
          <p:cNvSpPr/>
          <p:nvPr/>
        </p:nvSpPr>
        <p:spPr>
          <a:xfrm>
            <a:off x="1447920" y="3276720"/>
            <a:ext cx="6553080" cy="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39" name="Line 204"/>
          <p:cNvSpPr/>
          <p:nvPr/>
        </p:nvSpPr>
        <p:spPr>
          <a:xfrm>
            <a:off x="1447920" y="3886200"/>
            <a:ext cx="6553080" cy="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0" name="Line 205"/>
          <p:cNvSpPr/>
          <p:nvPr/>
        </p:nvSpPr>
        <p:spPr>
          <a:xfrm>
            <a:off x="1447920" y="4876920"/>
            <a:ext cx="6553080" cy="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1" name="Line 206"/>
          <p:cNvSpPr/>
          <p:nvPr/>
        </p:nvSpPr>
        <p:spPr>
          <a:xfrm>
            <a:off x="1447920" y="3276720"/>
            <a:ext cx="0" cy="160020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2" name="Line 207"/>
          <p:cNvSpPr/>
          <p:nvPr/>
        </p:nvSpPr>
        <p:spPr>
          <a:xfrm>
            <a:off x="207972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3" name="Line 208"/>
          <p:cNvSpPr/>
          <p:nvPr/>
        </p:nvSpPr>
        <p:spPr>
          <a:xfrm>
            <a:off x="27129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4" name="Line 209"/>
          <p:cNvSpPr/>
          <p:nvPr/>
        </p:nvSpPr>
        <p:spPr>
          <a:xfrm>
            <a:off x="33447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5" name="Line 210"/>
          <p:cNvSpPr/>
          <p:nvPr/>
        </p:nvSpPr>
        <p:spPr>
          <a:xfrm>
            <a:off x="39783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6" name="Line 211"/>
          <p:cNvSpPr/>
          <p:nvPr/>
        </p:nvSpPr>
        <p:spPr>
          <a:xfrm>
            <a:off x="46101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7" name="Line 212"/>
          <p:cNvSpPr/>
          <p:nvPr/>
        </p:nvSpPr>
        <p:spPr>
          <a:xfrm>
            <a:off x="524196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8" name="Line 213"/>
          <p:cNvSpPr/>
          <p:nvPr/>
        </p:nvSpPr>
        <p:spPr>
          <a:xfrm>
            <a:off x="587520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49" name="Line 214"/>
          <p:cNvSpPr/>
          <p:nvPr/>
        </p:nvSpPr>
        <p:spPr>
          <a:xfrm>
            <a:off x="650700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0" name="Line 215"/>
          <p:cNvSpPr/>
          <p:nvPr/>
        </p:nvSpPr>
        <p:spPr>
          <a:xfrm>
            <a:off x="7140600" y="3276720"/>
            <a:ext cx="0" cy="1600200"/>
          </a:xfrm>
          <a:prstGeom prst="line">
            <a:avLst/>
          </a:prstGeom>
          <a:ln w="1260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1" name="Line 216"/>
          <p:cNvSpPr/>
          <p:nvPr/>
        </p:nvSpPr>
        <p:spPr>
          <a:xfrm>
            <a:off x="8001000" y="3276720"/>
            <a:ext cx="0" cy="1600200"/>
          </a:xfrm>
          <a:prstGeom prst="line">
            <a:avLst/>
          </a:prstGeom>
          <a:ln cap="sq"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447920" y="2666880"/>
          <a:ext cx="6561000" cy="517680"/>
        </p:xfrm>
        <a:graphic>
          <a:graphicData uri="http://schemas.openxmlformats.org/drawingml/2006/table">
            <a:tbl>
              <a:tblPr/>
              <a:tblGrid>
                <a:gridCol w="650880"/>
                <a:gridCol w="609480"/>
                <a:gridCol w="635040"/>
                <a:gridCol w="663480"/>
                <a:gridCol w="609480"/>
                <a:gridCol w="635040"/>
                <a:gridCol w="636840"/>
                <a:gridCol w="622080"/>
                <a:gridCol w="636840"/>
                <a:gridCol w="86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576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33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0033"/>
                      </a:solidFill>
                    </a:lnL>
                    <a:lnR w="13680">
                      <a:solidFill>
                        <a:srgbClr val="330033"/>
                      </a:solidFill>
                    </a:lnR>
                    <a:lnT w="13680">
                      <a:solidFill>
                        <a:srgbClr val="330033"/>
                      </a:solidFill>
                    </a:lnT>
                    <a:lnB w="13680">
                      <a:solidFill>
                        <a:srgbClr val="33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4"/>
          <p:cNvGrpSpPr/>
          <p:nvPr/>
        </p:nvGrpSpPr>
        <p:grpSpPr>
          <a:xfrm>
            <a:off x="206280" y="189000"/>
            <a:ext cx="8937360" cy="6668640"/>
            <a:chOff x="206280" y="189000"/>
            <a:chExt cx="8937360" cy="6668640"/>
          </a:xfrm>
        </p:grpSpPr>
        <p:sp>
          <p:nvSpPr>
            <p:cNvPr id="754" name="Line 5"/>
            <p:cNvSpPr/>
            <p:nvPr/>
          </p:nvSpPr>
          <p:spPr>
            <a:xfrm>
              <a:off x="206280" y="18900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55" name="Line 6"/>
            <p:cNvSpPr/>
            <p:nvPr/>
          </p:nvSpPr>
          <p:spPr>
            <a:xfrm>
              <a:off x="206280" y="18900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56" name="Line 7"/>
            <p:cNvSpPr/>
            <p:nvPr/>
          </p:nvSpPr>
          <p:spPr>
            <a:xfrm>
              <a:off x="206280" y="685764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757" name="Line 8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758" name="Прямоугольник 9"/>
          <p:cNvSpPr/>
          <p:nvPr/>
        </p:nvSpPr>
        <p:spPr>
          <a:xfrm>
            <a:off x="914400" y="380880"/>
            <a:ext cx="7238880" cy="609840"/>
          </a:xfrm>
          <a:prstGeom prst="rect">
            <a:avLst/>
          </a:prstGeom>
          <a:solidFill>
            <a:srgbClr val="e2e2ca"/>
          </a:solidFill>
          <a:ln w="55080">
            <a:solidFill>
              <a:srgbClr val="a6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Lucida Sans Unicode"/>
              </a:rPr>
              <a:t>Литература: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9" name="Прямоугольник 10"/>
          <p:cNvSpPr/>
          <p:nvPr/>
        </p:nvSpPr>
        <p:spPr>
          <a:xfrm>
            <a:off x="838080" y="1447920"/>
            <a:ext cx="6934320" cy="24382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70c0"/>
                </a:solidFill>
                <a:uFillTx/>
                <a:latin typeface="Lucida Sans Unicode"/>
              </a:rPr>
              <a:t>http://it-n.ru/communities.aspx?cat_no=130742&amp;tmpl=com</a:t>
            </a:r>
            <a:r>
              <a:rPr b="0" lang="ru-RU" sz="1800" spc="-1" strike="noStrike" u="sng">
                <a:solidFill>
                  <a:srgbClr val="0070c0"/>
                </a:solidFill>
                <a:uFillTx/>
                <a:latin typeface="Lucida Sans Unicode"/>
              </a:rPr>
              <a:t> Захарова Т.А., Байдакова 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  <a:p>
            <a:pPr marL="457200" indent="-457200">
              <a:buClr>
                <a:srgbClr val="33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ЕГЭ-2011. 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Lucida Sans Unicode"/>
              </a:rPr>
              <a:t>Т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иповые экзаменационные варианты под редакцией В.В.Барабанова. М., Национальное образование,  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Lucida Sans Unicode"/>
              </a:rPr>
              <a:t>201</a:t>
            </a:r>
            <a:r>
              <a:rPr b="0" lang="ru-RU" sz="1800" spc="-1" strike="noStrike" u="sng">
                <a:solidFill>
                  <a:srgbClr val="330033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760" name="Рисунок 5" descr=""/>
          <p:cNvPicPr/>
          <p:nvPr/>
        </p:nvPicPr>
        <p:blipFill>
          <a:blip r:embed="rId2"/>
          <a:stretch/>
        </p:blipFill>
        <p:spPr>
          <a:xfrm>
            <a:off x="304920" y="4440240"/>
            <a:ext cx="1904760" cy="2112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0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0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05" name="Rectangle 9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0033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2. Если ты выбрал правильный ответ, появится    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«плюс»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3. Если ты выбрал неверный ответ, появится </a:t>
            </a:r>
            <a:r>
              <a:rPr b="0" lang="en-US" sz="2400" spc="-1" strike="noStrike">
                <a:solidFill>
                  <a:srgbClr val="ff0000"/>
                </a:solidFill>
                <a:latin typeface="Lucida Sans Unicode"/>
              </a:rPr>
              <a:t>«минус»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Lucida Sans Unicode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7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10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11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12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13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14" name="AutoShape 10"/>
          <p:cNvSpPr/>
          <p:nvPr/>
        </p:nvSpPr>
        <p:spPr>
          <a:xfrm>
            <a:off x="914400" y="1371600"/>
            <a:ext cx="7348680" cy="116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ранция</a:t>
            </a:r>
            <a:r>
              <a:rPr b="1" i="1" lang="en-US" sz="32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380880" y="1752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6" name="Oval 12"/>
          <p:cNvSpPr/>
          <p:nvPr/>
        </p:nvSpPr>
        <p:spPr>
          <a:xfrm>
            <a:off x="380880" y="3276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304920" y="4648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457200" y="60199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19" name="AutoShape 17"/>
          <p:cNvSpPr/>
          <p:nvPr/>
        </p:nvSpPr>
        <p:spPr>
          <a:xfrm>
            <a:off x="990720" y="29718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лжир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0" name="AutoShape 18"/>
          <p:cNvSpPr/>
          <p:nvPr/>
        </p:nvSpPr>
        <p:spPr>
          <a:xfrm>
            <a:off x="914400" y="42670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нго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1" name="AutoShape 19"/>
          <p:cNvSpPr/>
          <p:nvPr/>
        </p:nvSpPr>
        <p:spPr>
          <a:xfrm>
            <a:off x="990720" y="55627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замбик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2" name="Oval 22"/>
          <p:cNvSpPr/>
          <p:nvPr/>
        </p:nvSpPr>
        <p:spPr>
          <a:xfrm>
            <a:off x="8458200" y="4724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3" name="Oval 23"/>
          <p:cNvSpPr/>
          <p:nvPr/>
        </p:nvSpPr>
        <p:spPr>
          <a:xfrm>
            <a:off x="8458200" y="3429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4" name="Oval 24"/>
          <p:cNvSpPr/>
          <p:nvPr/>
        </p:nvSpPr>
        <p:spPr>
          <a:xfrm>
            <a:off x="8458200" y="1828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5" name="Oval 25"/>
          <p:cNvSpPr/>
          <p:nvPr/>
        </p:nvSpPr>
        <p:spPr>
          <a:xfrm>
            <a:off x="8458200" y="57913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6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2760" y="163440"/>
            <a:ext cx="8702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ажите страну с самым низким показателем естественного  прироста населения: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29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30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32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33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лгария и  Швец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4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5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6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7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я и  Польша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9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зилия и Мексика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0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ермания и Великобрита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1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2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3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4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5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2760" y="163440"/>
            <a:ext cx="87026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кажите пару  стран с самыми высокими показателями естественного  прироста населения: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8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50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51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52" name="Rectangle 9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их трёх из перечисленных стран ожидаемая продолжительность жизни населения наибольшая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3" name="AutoShape 10"/>
          <p:cNvSpPr/>
          <p:nvPr/>
        </p:nvSpPr>
        <p:spPr>
          <a:xfrm>
            <a:off x="1143000" y="2362320"/>
            <a:ext cx="70102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кистан, Сирия и Колумбия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4" name="Oval 11"/>
          <p:cNvSpPr/>
          <p:nvPr/>
        </p:nvSpPr>
        <p:spPr>
          <a:xfrm>
            <a:off x="457200" y="2438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5" name="Oval 12"/>
          <p:cNvSpPr/>
          <p:nvPr/>
        </p:nvSpPr>
        <p:spPr>
          <a:xfrm>
            <a:off x="457200" y="34290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457200" y="42670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7" name="Oval 14"/>
          <p:cNvSpPr/>
          <p:nvPr/>
        </p:nvSpPr>
        <p:spPr>
          <a:xfrm>
            <a:off x="457200" y="5257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8" name="AutoShape 17"/>
          <p:cNvSpPr/>
          <p:nvPr/>
        </p:nvSpPr>
        <p:spPr>
          <a:xfrm>
            <a:off x="1066680" y="3352680"/>
            <a:ext cx="704376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, Великобритания и Австрия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1066680" y="4191120"/>
            <a:ext cx="7045560" cy="38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ьянма, Таиланд и Непал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0" name="AutoShape 19"/>
          <p:cNvSpPr/>
          <p:nvPr/>
        </p:nvSpPr>
        <p:spPr>
          <a:xfrm>
            <a:off x="1143000" y="5105520"/>
            <a:ext cx="7120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дия, Мексика и Германия</a:t>
            </a:r>
            <a:endParaRPr b="0" lang="en-US" sz="2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1" name="Oval 22"/>
          <p:cNvSpPr/>
          <p:nvPr/>
        </p:nvSpPr>
        <p:spPr>
          <a:xfrm>
            <a:off x="8534520" y="2362320"/>
            <a:ext cx="304560" cy="38088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2" name="Oval 23"/>
          <p:cNvSpPr/>
          <p:nvPr/>
        </p:nvSpPr>
        <p:spPr>
          <a:xfrm>
            <a:off x="8534520" y="4343400"/>
            <a:ext cx="38088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3" name="Oval 24"/>
          <p:cNvSpPr/>
          <p:nvPr/>
        </p:nvSpPr>
        <p:spPr>
          <a:xfrm>
            <a:off x="8458200" y="3352680"/>
            <a:ext cx="360360" cy="45720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4" name="Oval 25"/>
          <p:cNvSpPr/>
          <p:nvPr/>
        </p:nvSpPr>
        <p:spPr>
          <a:xfrm>
            <a:off x="8534520" y="5257800"/>
            <a:ext cx="360360" cy="38088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5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"/>
          <p:cNvGrpSpPr/>
          <p:nvPr/>
        </p:nvGrpSpPr>
        <p:grpSpPr>
          <a:xfrm>
            <a:off x="206280" y="0"/>
            <a:ext cx="8937360" cy="6668640"/>
            <a:chOff x="206280" y="0"/>
            <a:chExt cx="8937360" cy="6668640"/>
          </a:xfrm>
        </p:grpSpPr>
        <p:sp>
          <p:nvSpPr>
            <p:cNvPr id="367" name="Line 5"/>
            <p:cNvSpPr/>
            <p:nvPr/>
          </p:nvSpPr>
          <p:spPr>
            <a:xfrm>
              <a:off x="206280" y="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206280" y="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206280" y="666864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9143640" y="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71" name="Rectangle 9"/>
          <p:cNvSpPr/>
          <p:nvPr/>
        </p:nvSpPr>
        <p:spPr>
          <a:xfrm>
            <a:off x="380880" y="228600"/>
            <a:ext cx="8479080" cy="70380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мая высокая смертность среди регионов мира наблюдается:</a:t>
            </a: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2" name="AutoShape 10"/>
          <p:cNvSpPr/>
          <p:nvPr/>
        </p:nvSpPr>
        <p:spPr>
          <a:xfrm>
            <a:off x="992160" y="1600200"/>
            <a:ext cx="7272360" cy="67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рубежной Азии</a:t>
            </a:r>
            <a:endParaRPr b="0" lang="en-US" sz="40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3" name="Oval 11"/>
          <p:cNvSpPr/>
          <p:nvPr/>
        </p:nvSpPr>
        <p:spPr>
          <a:xfrm>
            <a:off x="380880" y="1828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Зарубежной Европе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Латинской Америке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9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Африке</a:t>
            </a: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0" name="Oval 22"/>
          <p:cNvSpPr/>
          <p:nvPr/>
        </p:nvSpPr>
        <p:spPr>
          <a:xfrm>
            <a:off x="8458200" y="1752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1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2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3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8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8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8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390" name="AutoShape 8"/>
          <p:cNvSpPr/>
          <p:nvPr/>
        </p:nvSpPr>
        <p:spPr>
          <a:xfrm>
            <a:off x="106668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990720" y="2590920"/>
            <a:ext cx="72388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вец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990720" y="3581280"/>
            <a:ext cx="727236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гер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99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228600"/>
            <a:ext cx="84582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лите страну с самым высоким показателем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тественного  прироста населения 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0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0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  <p:sp>
          <p:nvSpPr>
            <p:cNvPr id="40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33"/>
                </a:solidFill>
                <a:latin typeface="Arial"/>
              </a:endParaRPr>
            </a:p>
          </p:txBody>
        </p:sp>
      </p:grpSp>
      <p:sp>
        <p:nvSpPr>
          <p:cNvPr id="409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solidFill>
            <a:srgbClr val="ffffe1"/>
          </a:solidFill>
          <a:ln w="5508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505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 какой из перечисленных стран показатель младенческой смертности наибольший?</a:t>
            </a:r>
            <a:endParaRPr b="0" lang="en-US" sz="24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99072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5" name="AutoShape 13"/>
          <p:cNvSpPr/>
          <p:nvPr/>
        </p:nvSpPr>
        <p:spPr>
          <a:xfrm>
            <a:off x="99072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6" name="AutoShape 14"/>
          <p:cNvSpPr/>
          <p:nvPr/>
        </p:nvSpPr>
        <p:spPr>
          <a:xfrm>
            <a:off x="914400" y="3733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урц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7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1"/>
              </a:gs>
              <a:gs pos="100000">
                <a:srgbClr val="dbdbc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endParaRPr b="0" lang="en-US" sz="3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8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9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0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1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e1"/>
          </a:solidFill>
          <a:ln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2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33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0033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e1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Жидовкина Г.П.</dc:creator>
  <dc:description/>
  <cp:keywords>воспроизводство</cp:keywords>
  <dc:language>en-US</dc:language>
  <cp:lastModifiedBy>Владелец</cp:lastModifiedBy>
  <dcterms:modified xsi:type="dcterms:W3CDTF">2012-08-16T12:24:10Z</dcterms:modified>
  <cp:revision>72</cp:revision>
  <dc:subject>Численность и воспроизводство населения мир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