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33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7B56-C705-448F-A3B4-2828ADB90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1470-9B2F-4487-AA90-FD2FCF5421DD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6831-8C76-4D92-8A3F-89523826F31A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E521-BD4E-471F-B389-EC0D472CA29C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6125-98BC-4617-904D-B2A6A0F9000B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E33D-921A-4ACC-8AF3-4994C7A80F47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DE37-512F-40DC-91C6-98BB6C12E955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4809-93BB-49F2-9907-4CC0C37FE28A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5D6F-92B3-436A-AE7B-E3C41CE00E30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93FA-81E9-4DAE-8917-50467094A22F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2BE9-0E17-4104-B482-11F428FCE486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C328-FEB2-4DB7-8985-23799B837E59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A662-0F8A-4AEE-81FA-2B0929F14FA2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7EBE-0400-4F01-89EB-295D90AF0B97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DD88-01EE-4BB1-8C6A-D6D403C29AA8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AB36-0984-44CF-8777-12E88A414A67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7879-E9BD-4FD8-9854-A453588402C4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751B-470F-4DA7-B3EA-CB1546636FF1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815C-0262-4E3F-AF9A-80C3DA9659E1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FD56-2C5F-4D88-A456-583E344BA7C6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FBFB-B8EF-4C19-A4F3-247A78D44123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A6DA-921B-45EF-A46D-974E4FC6E2CE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E21E-438F-4A67-A205-3E2177418AB5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03A8-EAA7-4EEB-B967-CC8FD6F84AFC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EAD9-F914-404E-9C1A-AA03976401F6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E47D-F263-473F-9576-E50489E7F538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BC64-072A-449E-BE11-22044340D5B0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CB84-141C-4A5A-8A78-1654FA512C95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5F24-A8C1-494C-9EF7-8F652672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684E-DE64-4CA7-A9D3-B73D72F7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FA3-F11D-4552-BE14-F3FB9E3F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1FDC-425E-4BCD-A85B-B07BC6D3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C600-42B7-4651-8A33-9D37F101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CFA2-A845-42CD-BD8F-2E6D0118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557D-27A0-4266-8AF2-9595151E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FE35-ED50-4349-9D24-147B1D31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62C3-664D-4597-A074-542CF29F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9976-E42C-4D8F-BC4D-E7030213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20B8-F9B0-4118-ABCB-A3790A7C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975-D3EC-46F8-98DE-7CE6977D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B567-E886-4DD3-AA0A-9B3530E4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2105-2369-447C-A5C3-4697CCBD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E596-C60D-4A28-A61E-9C904223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608A-50F2-41CA-9500-0B7AF490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8CFA-AF34-4271-93F7-D58079E0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B447E-2868-4164-A7D4-E706D984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9EA43-85B4-458F-B86A-9708515F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320F6-3518-4B41-878F-7F7F76D2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DB43-A584-4610-B02F-2B692013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4BD34-0E71-4196-B4A6-0A1A994B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49B-85CB-4B4E-8628-F361840A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4B218-1CC6-4DCF-A8C9-27D52CD8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FBB9-C833-4615-8EFD-CC254FB0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7F0D4-4E7E-4CEF-B3C6-5B45A116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07F38-20DE-4235-A851-AB2E32EF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4D581-96EC-4765-82C4-74C30847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9DE83-295B-411E-8D5C-11F2D39B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D64AC-5DCA-4F36-957D-1FA8A21A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12D99-A05F-4852-B402-7E62C430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C052B-FF8A-46F2-889A-E84F69FE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5AB50-DD8F-4FF4-989E-253BB731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9032-F1F9-428D-A7BB-EFA0BE2E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24644-BF12-4EE3-8F59-3A8686D1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CD4C8-2CA0-4E07-BF0E-13C208C1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37AC6-7EB0-4352-871F-D9D2B297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1173F-2CB3-45FF-9911-E00B4921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5AA3D-B58A-427C-BB9D-C8775A0F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D5064-A13C-4EB9-A75C-18A605C3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1713A-9C1A-40B4-A2F4-6219E1E1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C3C25-C1D9-4B54-95EA-4E803343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275DB-2562-465F-A598-8AD0C417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F318E-8145-4311-A9EC-BB7F268E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BE6-2755-4655-891A-56973D87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2D61E-A979-40B6-B5A5-F16A8674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92C2D-8630-4F1C-8630-774126BD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6DF92-DCA1-45A8-9131-782D088A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71ED8-16E4-45C3-B980-26E0DF9B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F8D0A-0E13-402F-B905-2976014D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92022-7071-4CE5-941B-83495780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67983-A94B-4927-B5D7-F2D7C889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8378F-331D-4F12-A877-232CF4B2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9A7CB-147A-4046-9960-71601EC3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18B2A-561E-4F5B-AF66-87219409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2C48-968B-491D-A8A0-83A7788C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4AEC5-14C3-4D15-BA96-AAAFF7FC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0259E-937E-469B-B7F7-F7F1504C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89784-B179-4B93-959B-1BFFFDCC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803B5-7D97-4E98-870C-ECAA2C19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BD12C-229C-4E2F-931F-A276038D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1D53A-9748-4F43-A300-AA810335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B6C39-DA3F-4BC8-9199-3C9AF9F2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29C8D-62B8-4C55-97F0-3CB4A8E5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80F90-062D-4C7E-9389-91195E4D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4D5C5-B72A-4E90-8EAD-8DA52322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C99-479F-465D-B819-8787DA50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A51A5-3FC0-4669-8853-B1D96BE3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8EC3E-07E5-424B-AE8F-10F950CF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4DE6A-B07A-4E7F-9E94-AC4974F2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8872-F7C1-491A-AF0F-C7F097D3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B109-D5F8-4686-A268-28D59ECF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e2e2c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3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ccc9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ccc9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4568-C06B-4228-9CDC-E01C1B1A9F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52"/>
              </a:gs>
              <a:gs pos="50000">
                <a:srgbClr val="dddd9c"/>
              </a:gs>
              <a:gs pos="100000">
                <a:srgbClr val="8a8a52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e2e2c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33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3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ccc9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ccc9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1B40-59AB-48BE-8C88-2B4AC71D9C1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e2e2c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7a774"/>
              </a:gs>
              <a:gs pos="100000">
                <a:srgbClr val="e0e0b2"/>
              </a:gs>
            </a:gsLst>
            <a:lin ang="16200000"/>
          </a:gradFill>
          <a:ln cap="rnd" w="3240">
            <a:solidFill>
              <a:srgbClr val="95956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7a774"/>
              </a:gs>
              <a:gs pos="100000">
                <a:srgbClr val="e0e0b2"/>
              </a:gs>
            </a:gsLst>
            <a:lin ang="16200000"/>
          </a:gradFill>
          <a:ln cap="rnd" w="3240">
            <a:solidFill>
              <a:srgbClr val="95956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3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ccc9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ccc9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9285-987A-45D9-A806-C238C860A6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3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ccc9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ccc9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B16D-5914-4058-83FB-90ED66246D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3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ccc9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ccc9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E553-A55B-47C5-BAAD-94FE1E62A0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e2e2c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7a774"/>
              </a:gs>
              <a:gs pos="100000">
                <a:srgbClr val="e0e0b2"/>
              </a:gs>
            </a:gsLst>
            <a:lin ang="16200000"/>
          </a:gradFill>
          <a:ln cap="rnd" w="3240">
            <a:solidFill>
              <a:srgbClr val="95956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7a774"/>
              </a:gs>
              <a:gs pos="100000">
                <a:srgbClr val="e0e0b2"/>
              </a:gs>
            </a:gsLst>
            <a:lin ang="16200000"/>
          </a:gradFill>
          <a:ln cap="rnd" w="3240">
            <a:solidFill>
              <a:srgbClr val="95956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3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ccc9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ccc9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00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E886-FC15-4DDE-92B5-98CD46C988E9}" type="slidenum">
              <a:rPr b="0" lang="en-US" sz="10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" Target="slide23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84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285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286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287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288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057400" y="2438280"/>
            <a:ext cx="4686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исленность и воспроизводство населени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енажёр и проверочный тест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114800" y="4952880"/>
            <a:ext cx="3648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довкина Галина Петровна</a:t>
            </a:r>
            <a:endParaRPr b="0" i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итель географии МБОУ "СОШ №3"</a:t>
            </a:r>
            <a:endParaRPr b="0" i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.Дальнереченск</a:t>
            </a:r>
            <a:endParaRPr b="0" i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1781280" cy="1579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2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2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2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2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428" name="Rectangle 7"/>
          <p:cNvSpPr/>
          <p:nvPr/>
        </p:nvSpPr>
        <p:spPr>
          <a:xfrm>
            <a:off x="228600" y="228600"/>
            <a:ext cx="8478720" cy="88632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В каком из высказываний содержится информация о воспроизводстве населения:</a:t>
            </a:r>
            <a:r>
              <a:rPr b="1" lang="en-US" sz="2800" spc="-1" strike="noStrike">
                <a:solidFill>
                  <a:srgbClr val="50505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330033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29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 многих странах Европы смертность на каждую тысячу жителей превышает рождаемость, в результате чего численность населения снижается?</a:t>
            </a:r>
            <a:endParaRPr b="0" lang="en-US" sz="1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0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2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3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4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результате гражданской войны в Либерии были вынуждены покинуть места обитания  500 тыс.человек.</a:t>
            </a:r>
            <a:endParaRPr b="0" lang="en-US" sz="1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5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настоящее время на долю развивающихся стран приходится 4/5 всего ежегодного прироста городских жителей в мире.</a:t>
            </a:r>
            <a:endParaRPr b="0" lang="en-US" sz="1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6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России, в странах зарубежной Европы, Северной Америки показатель экономически активного населения превышает среднемировой -45%.</a:t>
            </a:r>
            <a:endParaRPr b="0" lang="en-US" sz="1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7" name="Oval 16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8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9" name="Oval 18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40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41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4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4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4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4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447" name="Rectangle 7"/>
          <p:cNvSpPr/>
          <p:nvPr/>
        </p:nvSpPr>
        <p:spPr>
          <a:xfrm>
            <a:off x="228600" y="228600"/>
            <a:ext cx="8478720" cy="82548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й из перечисленных стран доля неграмотных среди лиц старше 15 лет наименьшая?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48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в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49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2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3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тв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4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азилия 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5" name="AutoShape 15"/>
          <p:cNvSpPr/>
          <p:nvPr/>
        </p:nvSpPr>
        <p:spPr>
          <a:xfrm>
            <a:off x="1143000" y="5029200"/>
            <a:ext cx="72388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лив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6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7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8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9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60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462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63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64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65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466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каком из высказывании содержится информация о воспроизводстве населения?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67" name="AutoShape 8"/>
          <p:cNvSpPr/>
          <p:nvPr/>
        </p:nvSpPr>
        <p:spPr>
          <a:xfrm>
            <a:off x="838080" y="1371600"/>
            <a:ext cx="7272360" cy="708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целом по России, городское население моложе сельского.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68" name="Oval 9"/>
          <p:cNvSpPr/>
          <p:nvPr/>
        </p:nvSpPr>
        <p:spPr>
          <a:xfrm>
            <a:off x="304920" y="16002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69" name="Oval 10"/>
          <p:cNvSpPr/>
          <p:nvPr/>
        </p:nvSpPr>
        <p:spPr>
          <a:xfrm>
            <a:off x="380880" y="28195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0" name="Oval 11"/>
          <p:cNvSpPr/>
          <p:nvPr/>
        </p:nvSpPr>
        <p:spPr>
          <a:xfrm>
            <a:off x="304920" y="4114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1" name="Oval 12"/>
          <p:cNvSpPr/>
          <p:nvPr/>
        </p:nvSpPr>
        <p:spPr>
          <a:xfrm>
            <a:off x="304920" y="5562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2" name="AutoShape 13"/>
          <p:cNvSpPr/>
          <p:nvPr/>
        </p:nvSpPr>
        <p:spPr>
          <a:xfrm>
            <a:off x="990720" y="2590920"/>
            <a:ext cx="7424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лавная полоса расселения, занимающая 1/3 территории России, сосредотачивает 93% населения страны.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3" name="AutoShape 14"/>
          <p:cNvSpPr/>
          <p:nvPr/>
        </p:nvSpPr>
        <p:spPr>
          <a:xfrm>
            <a:off x="838080" y="3809880"/>
            <a:ext cx="746784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онц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а в Росси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1 тыс. жителей рождалось около 50 человек, а умирало 35 человек. 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4" name="AutoShape 15"/>
          <p:cNvSpPr/>
          <p:nvPr/>
        </p:nvSpPr>
        <p:spPr>
          <a:xfrm>
            <a:off x="838080" y="5334120"/>
            <a:ext cx="750096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следние годы массовыми стали сезонные переселения горожан в сельскую местность. 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5" name="Oval 16"/>
          <p:cNvSpPr/>
          <p:nvPr/>
        </p:nvSpPr>
        <p:spPr>
          <a:xfrm>
            <a:off x="8381880" y="1447920"/>
            <a:ext cx="360360" cy="5331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6" name="Oval 17"/>
          <p:cNvSpPr/>
          <p:nvPr/>
        </p:nvSpPr>
        <p:spPr>
          <a:xfrm>
            <a:off x="8458200" y="2743200"/>
            <a:ext cx="360360" cy="45720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7" name="Oval 18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8" name="Oval 19"/>
          <p:cNvSpPr/>
          <p:nvPr/>
        </p:nvSpPr>
        <p:spPr>
          <a:xfrm>
            <a:off x="8381880" y="5562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9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8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8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8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8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485" name="Rectangle 7"/>
          <p:cNvSpPr/>
          <p:nvPr/>
        </p:nvSpPr>
        <p:spPr>
          <a:xfrm>
            <a:off x="228600" y="228600"/>
            <a:ext cx="8478720" cy="82548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й из перечисленных стран самая низкая рождаемост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86" name="AutoShape 8"/>
          <p:cNvSpPr/>
          <p:nvPr/>
        </p:nvSpPr>
        <p:spPr>
          <a:xfrm>
            <a:off x="106668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д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8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8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вейт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2" name="AutoShape 14"/>
          <p:cNvSpPr/>
          <p:nvPr/>
        </p:nvSpPr>
        <p:spPr>
          <a:xfrm>
            <a:off x="106668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или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3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4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6" name="Oval 18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9" name="Rectangle 21"/>
          <p:cNvSpPr/>
          <p:nvPr/>
        </p:nvSpPr>
        <p:spPr>
          <a:xfrm>
            <a:off x="1297440" y="5257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4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01" name="AutoShape 5">
            <a:hlinkClick r:id="rId2" action="ppaction://hlinksldjump"/>
          </p:cNvPr>
          <p:cNvSpPr/>
          <p:nvPr/>
        </p:nvSpPr>
        <p:spPr>
          <a:xfrm>
            <a:off x="1295280" y="1882800"/>
            <a:ext cx="69343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Знания отличные! Перехожу к тесту!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02" name="AutoShape 6">
            <a:hlinkClick r:id="rId3" action="ppaction://hlinksldjump"/>
          </p:cNvPr>
          <p:cNvSpPr/>
          <p:nvPr/>
        </p:nvSpPr>
        <p:spPr>
          <a:xfrm>
            <a:off x="1295280" y="3330720"/>
            <a:ext cx="7010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03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grpSp>
        <p:nvGrpSpPr>
          <p:cNvPr id="504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05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06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07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08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510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11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12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13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514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33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33"/>
                </a:solidFill>
                <a:latin typeface="Arial"/>
              </a:rPr>
              <a:t>2. Прежде чем нажимать переключатель,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33"/>
                </a:solidFill>
                <a:latin typeface="Arial"/>
              </a:rPr>
              <a:t>3. Чтобы узнать свой результат, нажми на кнопку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«Результат». </a:t>
            </a:r>
            <a:r>
              <a:rPr b="0" lang="en-US" sz="2200" spc="-1" strike="noStrike">
                <a:solidFill>
                  <a:srgbClr val="330033"/>
                </a:solidFill>
                <a:latin typeface="Arial"/>
              </a:rPr>
              <a:t>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33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33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16" name="AutoShape 14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517" name="Picture 4" descr="C:\Documents and Settings\User\Мои документы\Мои рисунки\Разное\Рисунок14.emf"/>
          <p:cNvPicPr/>
          <p:nvPr/>
        </p:nvPicPr>
        <p:blipFill>
          <a:blip r:embed="rId2"/>
          <a:stretch/>
        </p:blipFill>
        <p:spPr>
          <a:xfrm>
            <a:off x="76320" y="152280"/>
            <a:ext cx="990360" cy="88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1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2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2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2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523" name="Rectangle 7"/>
          <p:cNvSpPr/>
          <p:nvPr/>
        </p:nvSpPr>
        <p:spPr>
          <a:xfrm>
            <a:off x="228600" y="228600"/>
            <a:ext cx="84787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Численность населения Земли в настоящее время составляет примерно: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24" name="AutoShape 8"/>
          <p:cNvSpPr/>
          <p:nvPr/>
        </p:nvSpPr>
        <p:spPr>
          <a:xfrm>
            <a:off x="914400" y="1143000"/>
            <a:ext cx="7391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Arial"/>
              </a:rPr>
              <a:t>7 млрд.чел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25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2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27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28" name="Oval 12"/>
          <p:cNvSpPr/>
          <p:nvPr/>
        </p:nvSpPr>
        <p:spPr>
          <a:xfrm>
            <a:off x="380880" y="5181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29" name="AutoShape 15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"/>
              </a:rPr>
              <a:t>5 млрд.чел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30" name="AutoShape 16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"/>
              </a:rPr>
              <a:t>4 млрд.чел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31" name="AutoShape 17"/>
          <p:cNvSpPr/>
          <p:nvPr/>
        </p:nvSpPr>
        <p:spPr>
          <a:xfrm>
            <a:off x="914400" y="4952880"/>
            <a:ext cx="7315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"/>
              </a:rPr>
              <a:t>3млрд.чел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32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33" name="Oval 21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34" name="Oval 22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35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36" name="Oval 24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9" dur="indefinite" restart="never" nodeType="tmRoot">
          <p:childTnLst>
            <p:seq>
              <p:cTn id="980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981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8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8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9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9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0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4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005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00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1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1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4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033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3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4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2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053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05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6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6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6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3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3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4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4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542" name="AutoShape 8"/>
          <p:cNvSpPr/>
          <p:nvPr/>
        </p:nvSpPr>
        <p:spPr>
          <a:xfrm>
            <a:off x="990720" y="51055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43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44" name="Oval 10"/>
          <p:cNvSpPr/>
          <p:nvPr/>
        </p:nvSpPr>
        <p:spPr>
          <a:xfrm>
            <a:off x="457200" y="31240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46" name="Oval 12"/>
          <p:cNvSpPr/>
          <p:nvPr/>
        </p:nvSpPr>
        <p:spPr>
          <a:xfrm>
            <a:off x="457200" y="19810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47" name="AutoShape 13"/>
          <p:cNvSpPr/>
          <p:nvPr/>
        </p:nvSpPr>
        <p:spPr>
          <a:xfrm>
            <a:off x="990720" y="274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донез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пон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49" name="AutoShape 15"/>
          <p:cNvSpPr/>
          <p:nvPr/>
        </p:nvSpPr>
        <p:spPr>
          <a:xfrm>
            <a:off x="990720" y="1676520"/>
            <a:ext cx="7272360" cy="78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ази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50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51" name="Oval 18"/>
          <p:cNvSpPr/>
          <p:nvPr/>
        </p:nvSpPr>
        <p:spPr>
          <a:xfrm>
            <a:off x="8458200" y="3048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52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53" name="Oval 20"/>
          <p:cNvSpPr/>
          <p:nvPr/>
        </p:nvSpPr>
        <p:spPr>
          <a:xfrm>
            <a:off x="8458200" y="1905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5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304920"/>
            <a:ext cx="8775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В какой из перечисленных стран численность населения наибольшая?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76" dur="indefinite" restart="never" nodeType="tmRoot">
          <p:childTnLst>
            <p:seq>
              <p:cTn id="1077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8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8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9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7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1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1102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1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0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1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1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1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126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13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5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9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150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15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5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6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5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5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5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6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561" name="Rectangle 7"/>
          <p:cNvSpPr/>
          <p:nvPr/>
        </p:nvSpPr>
        <p:spPr>
          <a:xfrm>
            <a:off x="457200" y="380880"/>
            <a:ext cx="8402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В какой из перечисленных стран осуществляется активная государственная политика, направленная на стимулирование рождаемости?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2" name="AutoShape 8"/>
          <p:cNvSpPr/>
          <p:nvPr/>
        </p:nvSpPr>
        <p:spPr>
          <a:xfrm>
            <a:off x="838080" y="4343400"/>
            <a:ext cx="727236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ранция 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3" name="Oval 9"/>
          <p:cNvSpPr/>
          <p:nvPr/>
        </p:nvSpPr>
        <p:spPr>
          <a:xfrm>
            <a:off x="380880" y="44956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4" name="Oval 10"/>
          <p:cNvSpPr/>
          <p:nvPr/>
        </p:nvSpPr>
        <p:spPr>
          <a:xfrm>
            <a:off x="304920" y="35053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5" name="Oval 11"/>
          <p:cNvSpPr/>
          <p:nvPr/>
        </p:nvSpPr>
        <p:spPr>
          <a:xfrm>
            <a:off x="380880" y="54100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6" name="Oval 12"/>
          <p:cNvSpPr/>
          <p:nvPr/>
        </p:nvSpPr>
        <p:spPr>
          <a:xfrm>
            <a:off x="380880" y="22860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7" name="AutoShape 13"/>
          <p:cNvSpPr/>
          <p:nvPr/>
        </p:nvSpPr>
        <p:spPr>
          <a:xfrm>
            <a:off x="838080" y="3352680"/>
            <a:ext cx="7272360" cy="6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в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8" name="AutoShape 14"/>
          <p:cNvSpPr/>
          <p:nvPr/>
        </p:nvSpPr>
        <p:spPr>
          <a:xfrm>
            <a:off x="914400" y="5410080"/>
            <a:ext cx="7272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ен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9" name="AutoShape 15"/>
          <p:cNvSpPr/>
          <p:nvPr/>
        </p:nvSpPr>
        <p:spPr>
          <a:xfrm>
            <a:off x="838080" y="2209680"/>
            <a:ext cx="7272360" cy="55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жир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70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71" name="Oval 18"/>
          <p:cNvSpPr/>
          <p:nvPr/>
        </p:nvSpPr>
        <p:spPr>
          <a:xfrm>
            <a:off x="8381880" y="35053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72" name="Oval 19"/>
          <p:cNvSpPr/>
          <p:nvPr/>
        </p:nvSpPr>
        <p:spPr>
          <a:xfrm>
            <a:off x="8458200" y="44956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73" name="Oval 20"/>
          <p:cNvSpPr/>
          <p:nvPr/>
        </p:nvSpPr>
        <p:spPr>
          <a:xfrm>
            <a:off x="8305920" y="22860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7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73" dur="indefinite" restart="never" nodeType="tmRoot">
          <p:childTnLst>
            <p:seq>
              <p:cTn id="1174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175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8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8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8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4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8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199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20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0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0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1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2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223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22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3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6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1247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25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5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6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3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6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7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7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7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7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580" name="Rectangle 7"/>
          <p:cNvSpPr/>
          <p:nvPr/>
        </p:nvSpPr>
        <p:spPr>
          <a:xfrm>
            <a:off x="228600" y="228600"/>
            <a:ext cx="847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ля какой из перечисленных стран характерен наибольший естественный прирост населения (на 1 тыс. жителей)?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1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игер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2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3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4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5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6" name="AutoShape 13"/>
          <p:cNvSpPr/>
          <p:nvPr/>
        </p:nvSpPr>
        <p:spPr>
          <a:xfrm>
            <a:off x="990720" y="3886200"/>
            <a:ext cx="70866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ьш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7" name="AutoShape 14"/>
          <p:cNvSpPr/>
          <p:nvPr/>
        </p:nvSpPr>
        <p:spPr>
          <a:xfrm>
            <a:off x="990720" y="5029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нада 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8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та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9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90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91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92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93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70" dur="indefinite" restart="never" nodeType="tmRoot">
          <p:childTnLst>
            <p:seq>
              <p:cTn id="1271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272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7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7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8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8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5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296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30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0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0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0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5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9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320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32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2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3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3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9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3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344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34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5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5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5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3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293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294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295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296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297" name="Text Box 9"/>
          <p:cNvSpPr/>
          <p:nvPr/>
        </p:nvSpPr>
        <p:spPr>
          <a:xfrm>
            <a:off x="228600" y="228600"/>
            <a:ext cx="8610480" cy="4909320"/>
          </a:xfrm>
          <a:prstGeom prst="rect">
            <a:avLst/>
          </a:prstGeom>
          <a:solidFill>
            <a:srgbClr val="f3f3ea"/>
          </a:solidFill>
          <a:ln w="9360">
            <a:solidFill>
              <a:srgbClr val="cccc9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Дорогой друг!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Его первый уровень представляет собой тренажёр, с помощью которого ты можешь вспомнить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рму правления и типы стран современного мира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 и усовершенствовать свои умения и навыки. 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Второй уровень – проверочный тест по теме   за который ты получишь отметку. 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Надеемся, что эти занятия помогут тебе успешн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вершенствовать знания по географии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Желаем удачи!</a:t>
            </a:r>
            <a:r>
              <a:rPr b="0" lang="en-US" sz="2400" spc="-1" strike="noStrike">
                <a:solidFill>
                  <a:srgbClr val="330033"/>
                </a:solidFill>
                <a:latin typeface="Lucida Sans Unicode"/>
              </a:rPr>
              <a:t>   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98" name="AutoShape 10">
            <a:hlinkClick r:id="rId2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99" name="AutoShape 11">
            <a:hlinkClick r:id="rId3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9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9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9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9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599" name="Rectangle 7"/>
          <p:cNvSpPr/>
          <p:nvPr/>
        </p:nvSpPr>
        <p:spPr>
          <a:xfrm>
            <a:off x="228600" y="152280"/>
            <a:ext cx="8478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В каком из высказываний содержится информация о процессе воспроизводства населения?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0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Решающее воздействие на рождаемость, смертность, естественный прирост оказывают социально-экономические условия жизни людей.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1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5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В среднем в мире к экономически активному населению можно отнести около 49% всего населения.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6" name="AutoShape 14"/>
          <p:cNvSpPr/>
          <p:nvPr/>
        </p:nvSpPr>
        <p:spPr>
          <a:xfrm>
            <a:off x="990720" y="4952880"/>
            <a:ext cx="727236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В 1990 г. в мире было около 960 млн. неграмотных, с тех пор общее число неграмотных сократилось на 100 млн.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7" name="AutoShape 15"/>
          <p:cNvSpPr/>
          <p:nvPr/>
        </p:nvSpPr>
        <p:spPr>
          <a:xfrm>
            <a:off x="992160" y="990720"/>
            <a:ext cx="727236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Численность населения — один из важных факторов развития любой страны и всего человечества.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8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9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11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12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67" dur="indefinite" restart="never" nodeType="tmRoot">
          <p:childTnLst>
            <p:seq>
              <p:cTn id="1368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369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7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7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7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8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8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2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393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39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0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0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0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9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2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6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417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421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2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3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6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0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441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4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4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5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5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7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0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1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1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1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1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618" name="Rectangle 7"/>
          <p:cNvSpPr/>
          <p:nvPr/>
        </p:nvSpPr>
        <p:spPr>
          <a:xfrm>
            <a:off x="0" y="380880"/>
            <a:ext cx="89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19" name="AutoShape 8"/>
          <p:cNvSpPr/>
          <p:nvPr/>
        </p:nvSpPr>
        <p:spPr>
          <a:xfrm>
            <a:off x="1066680" y="2666880"/>
            <a:ext cx="701064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0" name="Oval 9"/>
          <p:cNvSpPr/>
          <p:nvPr/>
        </p:nvSpPr>
        <p:spPr>
          <a:xfrm>
            <a:off x="380880" y="2895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1" name="Oval 10"/>
          <p:cNvSpPr/>
          <p:nvPr/>
        </p:nvSpPr>
        <p:spPr>
          <a:xfrm>
            <a:off x="457200" y="44956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2" name="Oval 11"/>
          <p:cNvSpPr/>
          <p:nvPr/>
        </p:nvSpPr>
        <p:spPr>
          <a:xfrm>
            <a:off x="457200" y="56386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3" name="Oval 12"/>
          <p:cNvSpPr/>
          <p:nvPr/>
        </p:nvSpPr>
        <p:spPr>
          <a:xfrm>
            <a:off x="457200" y="12193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4" name="AutoShape 13"/>
          <p:cNvSpPr/>
          <p:nvPr/>
        </p:nvSpPr>
        <p:spPr>
          <a:xfrm>
            <a:off x="990720" y="4114800"/>
            <a:ext cx="70866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тинская Америк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5" name="AutoShape 14"/>
          <p:cNvSpPr/>
          <p:nvPr/>
        </p:nvSpPr>
        <p:spPr>
          <a:xfrm>
            <a:off x="990720" y="5257800"/>
            <a:ext cx="70866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6" name="AutoShape 15"/>
          <p:cNvSpPr/>
          <p:nvPr/>
        </p:nvSpPr>
        <p:spPr>
          <a:xfrm>
            <a:off x="914400" y="914400"/>
            <a:ext cx="693432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рубежная Аз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8458200" y="5562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8381880" y="4419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8458200" y="12193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3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32" name="Rectangle 22"/>
          <p:cNvSpPr/>
          <p:nvPr/>
        </p:nvSpPr>
        <p:spPr>
          <a:xfrm>
            <a:off x="152280" y="-45000"/>
            <a:ext cx="8686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Определите регион, который концентрирует более половины населения Земли: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64" dur="indefinite" restart="never" nodeType="tmRoot">
          <p:childTnLst>
            <p:seq>
              <p:cTn id="1465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466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7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7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7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5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9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490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4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9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0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0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6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9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3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514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518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2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2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2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0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3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7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538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54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4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4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5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4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7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3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3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3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3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638" name="AutoShape 8"/>
          <p:cNvSpPr/>
          <p:nvPr/>
        </p:nvSpPr>
        <p:spPr>
          <a:xfrm>
            <a:off x="990720" y="3733920"/>
            <a:ext cx="727236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азилия и Бангладеш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39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0" name="Oval 10"/>
          <p:cNvSpPr/>
          <p:nvPr/>
        </p:nvSpPr>
        <p:spPr>
          <a:xfrm>
            <a:off x="457200" y="2895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1" name="Oval 11"/>
          <p:cNvSpPr/>
          <p:nvPr/>
        </p:nvSpPr>
        <p:spPr>
          <a:xfrm>
            <a:off x="457200" y="5562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2" name="Oval 12"/>
          <p:cNvSpPr/>
          <p:nvPr/>
        </p:nvSpPr>
        <p:spPr>
          <a:xfrm>
            <a:off x="457200" y="1828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3" name="AutoShape 13"/>
          <p:cNvSpPr/>
          <p:nvPr/>
        </p:nvSpPr>
        <p:spPr>
          <a:xfrm>
            <a:off x="914400" y="2590920"/>
            <a:ext cx="7391520" cy="1066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нгладеш и Герман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4" name="AutoShape 14"/>
          <p:cNvSpPr/>
          <p:nvPr/>
        </p:nvSpPr>
        <p:spPr>
          <a:xfrm>
            <a:off x="990720" y="5105520"/>
            <a:ext cx="72723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ксика и Брази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5" name="AutoShape 15"/>
          <p:cNvSpPr/>
          <p:nvPr/>
        </p:nvSpPr>
        <p:spPr>
          <a:xfrm>
            <a:off x="990720" y="1219320"/>
            <a:ext cx="727236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рмания и Мексик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6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7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8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9" name="Oval 20"/>
          <p:cNvSpPr/>
          <p:nvPr/>
        </p:nvSpPr>
        <p:spPr>
          <a:xfrm>
            <a:off x="8458200" y="1752480"/>
            <a:ext cx="360360" cy="45720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5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51" name="Rectangle 23"/>
          <p:cNvSpPr/>
          <p:nvPr/>
        </p:nvSpPr>
        <p:spPr>
          <a:xfrm>
            <a:off x="609480" y="390600"/>
            <a:ext cx="79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ерите две страны, которые входят в десятку мировых лидеров по численности населения: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61" dur="indefinite" restart="never" nodeType="tmRoot">
          <p:childTnLst>
            <p:seq>
              <p:cTn id="1562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563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6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7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7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9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2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6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587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59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9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0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3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6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0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611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4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61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1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2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7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0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4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635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63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4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4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4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1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4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5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5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5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5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657" name="Rectangle 7"/>
          <p:cNvSpPr/>
          <p:nvPr/>
        </p:nvSpPr>
        <p:spPr>
          <a:xfrm>
            <a:off x="228600" y="228600"/>
            <a:ext cx="8478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Укажите страну с самым высоким показателем естественного прироста населения:</a:t>
            </a:r>
            <a:r>
              <a:rPr b="1" lang="en-US" sz="2000" spc="-1" strike="noStrike">
                <a:solidFill>
                  <a:srgbClr val="50505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58" name="AutoShape 8"/>
          <p:cNvSpPr/>
          <p:nvPr/>
        </p:nvSpPr>
        <p:spPr>
          <a:xfrm>
            <a:off x="990720" y="29718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гол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59" name="Oval 9"/>
          <p:cNvSpPr/>
          <p:nvPr/>
        </p:nvSpPr>
        <p:spPr>
          <a:xfrm>
            <a:off x="457200" y="31240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0" name="Oval 10"/>
          <p:cNvSpPr/>
          <p:nvPr/>
        </p:nvSpPr>
        <p:spPr>
          <a:xfrm>
            <a:off x="457200" y="42670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1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2" name="Oval 12"/>
          <p:cNvSpPr/>
          <p:nvPr/>
        </p:nvSpPr>
        <p:spPr>
          <a:xfrm>
            <a:off x="457200" y="213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3" name="AutoShape 13"/>
          <p:cNvSpPr/>
          <p:nvPr/>
        </p:nvSpPr>
        <p:spPr>
          <a:xfrm>
            <a:off x="990720" y="40384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лгар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4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5" name="AutoShape 15"/>
          <p:cNvSpPr/>
          <p:nvPr/>
        </p:nvSpPr>
        <p:spPr>
          <a:xfrm>
            <a:off x="1066680" y="17524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ргентин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6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7" name="Oval 18"/>
          <p:cNvSpPr/>
          <p:nvPr/>
        </p:nvSpPr>
        <p:spPr>
          <a:xfrm>
            <a:off x="8458200" y="4267080"/>
            <a:ext cx="360360" cy="53352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8" name="Oval 19"/>
          <p:cNvSpPr/>
          <p:nvPr/>
        </p:nvSpPr>
        <p:spPr>
          <a:xfrm flipV="1">
            <a:off x="8458200" y="3124080"/>
            <a:ext cx="360360" cy="60984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9" name="Oval 20"/>
          <p:cNvSpPr/>
          <p:nvPr/>
        </p:nvSpPr>
        <p:spPr>
          <a:xfrm>
            <a:off x="8458200" y="1981080"/>
            <a:ext cx="360360" cy="45720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7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58" dur="indefinite" restart="never" nodeType="tmRoot">
          <p:childTnLst>
            <p:seq>
              <p:cTn id="1659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1660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6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6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7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7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6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9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3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684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68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9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9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0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3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7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1708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71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1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1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2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4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7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1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1732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73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3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4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1" dur="5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7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7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676" name="Rectangle 7"/>
          <p:cNvSpPr/>
          <p:nvPr/>
        </p:nvSpPr>
        <p:spPr>
          <a:xfrm>
            <a:off x="228600" y="228600"/>
            <a:ext cx="84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их трёх из перечисленных стран ожидаемая продолжительность жизни населения наибольшая?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77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ликобритания, Франция, Финлянд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78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7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0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1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2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рмания, Австрия, Брази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3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ША, Австралия, Мексик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4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ликобритания, Индия, Венесуэл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5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6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7" name="Oval 19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8" name="Oval 2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9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55" dur="indefinite" restart="never" nodeType="tmRoot">
          <p:childTnLst>
            <p:seq>
              <p:cTn id="1756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1757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6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6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7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3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6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0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1781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78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8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9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9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0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4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1805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80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1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1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1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1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4" dur="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8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829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83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3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3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4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5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8" dur="5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9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9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9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9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695" name="Rectangle 7"/>
          <p:cNvSpPr/>
          <p:nvPr/>
        </p:nvSpPr>
        <p:spPr>
          <a:xfrm>
            <a:off x="228600" y="228600"/>
            <a:ext cx="8478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ажите пару стран с самым низким показателем естественного прироста населения:</a:t>
            </a:r>
            <a:r>
              <a:rPr b="1" lang="en-US" sz="2000" spc="-1" strike="noStrike">
                <a:solidFill>
                  <a:srgbClr val="50505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96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льгия и Швейцария 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97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9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9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0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рия и Иран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2" name="AutoShape 14"/>
          <p:cNvSpPr/>
          <p:nvPr/>
        </p:nvSpPr>
        <p:spPr>
          <a:xfrm>
            <a:off x="914400" y="3886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ливия и Алжир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3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фганистан и  Малайз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4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5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6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7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8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52" dur="indefinite" restart="never" nodeType="tmRoot">
          <p:childTnLst>
            <p:seq>
              <p:cTn id="1853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1854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6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6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6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3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7" restart="whenNotActive" nodeType="interactiveSeq" fill="hold">
                <p:stCondLst>
                  <p:cond evt="onClick">
                    <p:tgtEl>
                      <p:spTgt spid="698"/>
                    </p:tgtEl>
                  </p:cond>
                </p:stCondLst>
                <p:childTnLst>
                  <p:par>
                    <p:cTn id="1878" fill="hold">
                      <p:stCondLst>
                        <p:cond evt="onClick">
                          <p:tgtEl>
                            <p:spTgt spid="698"/>
                          </p:tgtEl>
                        </p:cond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88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8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9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4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7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1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1902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5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906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90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91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91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8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1" dur="5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5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1926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93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93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93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93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2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5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710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711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712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713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714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15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16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17" name="AutoShape 100">
            <a:hlinkClick r:id="rId2" action="ppaction://hlinksldjump"/>
          </p:cNvPr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18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19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0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1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2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3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4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5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6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7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8" name="Rectangle 193">
            <a:hlinkClick r:id="rId3" action="ppaction://hlinksldjump"/>
          </p:cNvPr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9" name="Rectangle 194">
            <a:hlinkClick r:id="rId4" action="ppaction://hlinksldjump"/>
          </p:cNvPr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0" name="Rectangle 195">
            <a:hlinkClick r:id="rId5" action="ppaction://hlinksldjump"/>
          </p:cNvPr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1" name="Rectangle 196">
            <a:hlinkClick r:id="rId6" action="ppaction://hlinksldjump"/>
          </p:cNvPr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2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3" name="Rectangle 198"/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4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5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6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7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8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9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0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1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2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3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4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5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6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7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8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9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50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51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1368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4"/>
          <p:cNvGrpSpPr/>
          <p:nvPr/>
        </p:nvGrpSpPr>
        <p:grpSpPr>
          <a:xfrm>
            <a:off x="206280" y="189000"/>
            <a:ext cx="8937360" cy="6668640"/>
            <a:chOff x="206280" y="189000"/>
            <a:chExt cx="8937360" cy="6668640"/>
          </a:xfrm>
        </p:grpSpPr>
        <p:sp>
          <p:nvSpPr>
            <p:cNvPr id="754" name="Line 5"/>
            <p:cNvSpPr/>
            <p:nvPr/>
          </p:nvSpPr>
          <p:spPr>
            <a:xfrm>
              <a:off x="206280" y="18900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755" name="Line 6"/>
            <p:cNvSpPr/>
            <p:nvPr/>
          </p:nvSpPr>
          <p:spPr>
            <a:xfrm>
              <a:off x="206280" y="18900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756" name="Line 7"/>
            <p:cNvSpPr/>
            <p:nvPr/>
          </p:nvSpPr>
          <p:spPr>
            <a:xfrm>
              <a:off x="206280" y="685764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757" name="Line 8"/>
            <p:cNvSpPr/>
            <p:nvPr/>
          </p:nvSpPr>
          <p:spPr>
            <a:xfrm>
              <a:off x="9143640" y="18900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758" name="Прямоугольник 9"/>
          <p:cNvSpPr/>
          <p:nvPr/>
        </p:nvSpPr>
        <p:spPr>
          <a:xfrm>
            <a:off x="914400" y="380880"/>
            <a:ext cx="7238880" cy="609840"/>
          </a:xfrm>
          <a:prstGeom prst="rect">
            <a:avLst/>
          </a:prstGeom>
          <a:solidFill>
            <a:srgbClr val="e2e2ca"/>
          </a:solidFill>
          <a:ln w="55080">
            <a:solidFill>
              <a:srgbClr val="a6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Lucida Sans Unicode"/>
              </a:rPr>
              <a:t>Литература:</a:t>
            </a:r>
            <a:endParaRPr b="0" lang="en-US" sz="4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59" name="Прямоугольник 10"/>
          <p:cNvSpPr/>
          <p:nvPr/>
        </p:nvSpPr>
        <p:spPr>
          <a:xfrm>
            <a:off x="838080" y="1447920"/>
            <a:ext cx="6934320" cy="243828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70c0"/>
                </a:solidFill>
                <a:uFillTx/>
                <a:latin typeface="Lucida Sans Unicode"/>
              </a:rPr>
              <a:t>http://it-n.ru/communities.aspx?cat_no=130742&amp;tmpl=com</a:t>
            </a:r>
            <a:r>
              <a:rPr b="0" lang="ru-RU" sz="1800" spc="-1" strike="noStrike" u="sng">
                <a:solidFill>
                  <a:srgbClr val="0070c0"/>
                </a:solidFill>
                <a:uFillTx/>
                <a:latin typeface="Lucida Sans Unicode"/>
              </a:rPr>
              <a:t> Захарова Т.А., Байдакова 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 marL="457200" indent="-457200">
              <a:buClr>
                <a:srgbClr val="33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0033"/>
                </a:solidFill>
                <a:uFillTx/>
                <a:latin typeface="Arial"/>
              </a:rPr>
              <a:t>ЕГЭ-2011. </a:t>
            </a:r>
            <a:r>
              <a:rPr b="0" lang="ru-RU" sz="1800" spc="-1" strike="noStrike" u="sng">
                <a:solidFill>
                  <a:srgbClr val="330033"/>
                </a:solidFill>
                <a:uFillTx/>
                <a:latin typeface="Lucida Sans Unicode"/>
              </a:rPr>
              <a:t>Т</a:t>
            </a:r>
            <a:r>
              <a:rPr b="0" lang="ru-RU" sz="1800" spc="-1" strike="noStrike" u="sng">
                <a:solidFill>
                  <a:srgbClr val="330033"/>
                </a:solidFill>
                <a:uFillTx/>
                <a:latin typeface="Arial"/>
              </a:rPr>
              <a:t>иповые экзаменационные варианты под редакцией В.В.Барабанова. М., Национальное образование,  </a:t>
            </a:r>
            <a:r>
              <a:rPr b="0" lang="ru-RU" sz="1800" spc="-1" strike="noStrike" u="sng">
                <a:solidFill>
                  <a:srgbClr val="330033"/>
                </a:solidFill>
                <a:uFillTx/>
                <a:latin typeface="Lucida Sans Unicode"/>
              </a:rPr>
              <a:t>201</a:t>
            </a:r>
            <a:r>
              <a:rPr b="0" lang="ru-RU" sz="1800" spc="-1" strike="noStrike" u="sng">
                <a:solidFill>
                  <a:srgbClr val="330033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760" name="Рисунок 5" descr=""/>
          <p:cNvPicPr/>
          <p:nvPr/>
        </p:nvPicPr>
        <p:blipFill>
          <a:blip r:embed="rId2"/>
          <a:stretch/>
        </p:blipFill>
        <p:spPr>
          <a:xfrm>
            <a:off x="304920" y="4440240"/>
            <a:ext cx="1904760" cy="2112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01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02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03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04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305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228600" y="1219320"/>
            <a:ext cx="8458200" cy="375156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0033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Lucida Sans Unicode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Lucida Sans Unicode"/>
              </a:rPr>
              <a:t>2. Если ты выбрал правильный ответ, появится     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«плюс».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Lucida Sans Unicode"/>
              </a:rPr>
              <a:t>3. Если ты выбрал неверный ответ, появится 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«минус».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Lucida Sans Unicode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07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08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елаю удачи!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10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11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12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13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314" name="AutoShape 10"/>
          <p:cNvSpPr/>
          <p:nvPr/>
        </p:nvSpPr>
        <p:spPr>
          <a:xfrm>
            <a:off x="914400" y="1371600"/>
            <a:ext cx="7348680" cy="116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ранция</a:t>
            </a:r>
            <a:r>
              <a:rPr b="1" i="1" lang="en-US" sz="32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380880" y="1752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16" name="Oval 12"/>
          <p:cNvSpPr/>
          <p:nvPr/>
        </p:nvSpPr>
        <p:spPr>
          <a:xfrm>
            <a:off x="380880" y="3276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304920" y="46483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457200" y="60199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19" name="AutoShape 17"/>
          <p:cNvSpPr/>
          <p:nvPr/>
        </p:nvSpPr>
        <p:spPr>
          <a:xfrm>
            <a:off x="990720" y="29718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жир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0" name="AutoShape 18"/>
          <p:cNvSpPr/>
          <p:nvPr/>
        </p:nvSpPr>
        <p:spPr>
          <a:xfrm>
            <a:off x="914400" y="42670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нго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1" name="AutoShape 19"/>
          <p:cNvSpPr/>
          <p:nvPr/>
        </p:nvSpPr>
        <p:spPr>
          <a:xfrm>
            <a:off x="990720" y="55627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замбик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2" name="Oval 22"/>
          <p:cNvSpPr/>
          <p:nvPr/>
        </p:nvSpPr>
        <p:spPr>
          <a:xfrm>
            <a:off x="8458200" y="4724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3" name="Oval 23"/>
          <p:cNvSpPr/>
          <p:nvPr/>
        </p:nvSpPr>
        <p:spPr>
          <a:xfrm>
            <a:off x="8458200" y="34290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4" name="Oval 24"/>
          <p:cNvSpPr/>
          <p:nvPr/>
        </p:nvSpPr>
        <p:spPr>
          <a:xfrm>
            <a:off x="8458200" y="1828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5" name="Oval 25"/>
          <p:cNvSpPr/>
          <p:nvPr/>
        </p:nvSpPr>
        <p:spPr>
          <a:xfrm>
            <a:off x="8458200" y="57913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6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2760" y="163440"/>
            <a:ext cx="87026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ажите страну с самым низким показателем естественного  прироста населения: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29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30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31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32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333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лгария и  Швец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4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5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6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7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8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сия и  Польша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9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разилия и Мексик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0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ермания и Великобритан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1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2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3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4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5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2760" y="163440"/>
            <a:ext cx="8702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кажите пару  стран с самыми высокими показателями естественного  прироста населения: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48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49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50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51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352" name="Rectangle 9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их трёх из перечисленных стран ожидаемая продолжительность жизни населения наибольшая?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3" name="AutoShape 10"/>
          <p:cNvSpPr/>
          <p:nvPr/>
        </p:nvSpPr>
        <p:spPr>
          <a:xfrm>
            <a:off x="1143000" y="2362320"/>
            <a:ext cx="70102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кистан, Сирия и Колумбия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4" name="Oval 11"/>
          <p:cNvSpPr/>
          <p:nvPr/>
        </p:nvSpPr>
        <p:spPr>
          <a:xfrm>
            <a:off x="457200" y="2438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5" name="Oval 12"/>
          <p:cNvSpPr/>
          <p:nvPr/>
        </p:nvSpPr>
        <p:spPr>
          <a:xfrm>
            <a:off x="457200" y="34290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6" name="Oval 13"/>
          <p:cNvSpPr/>
          <p:nvPr/>
        </p:nvSpPr>
        <p:spPr>
          <a:xfrm>
            <a:off x="457200" y="42670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7" name="Oval 14"/>
          <p:cNvSpPr/>
          <p:nvPr/>
        </p:nvSpPr>
        <p:spPr>
          <a:xfrm>
            <a:off x="457200" y="5257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8" name="AutoShape 17"/>
          <p:cNvSpPr/>
          <p:nvPr/>
        </p:nvSpPr>
        <p:spPr>
          <a:xfrm>
            <a:off x="1066680" y="3352680"/>
            <a:ext cx="704376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пония, Великобритания и Австрия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1066680" y="4191120"/>
            <a:ext cx="7045560" cy="38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ьянма, Таиланд и Непал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60" name="AutoShape 19"/>
          <p:cNvSpPr/>
          <p:nvPr/>
        </p:nvSpPr>
        <p:spPr>
          <a:xfrm>
            <a:off x="1143000" y="5105520"/>
            <a:ext cx="71200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дия, Мексика и Германия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61" name="Oval 22"/>
          <p:cNvSpPr/>
          <p:nvPr/>
        </p:nvSpPr>
        <p:spPr>
          <a:xfrm>
            <a:off x="8534520" y="2362320"/>
            <a:ext cx="304560" cy="38088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62" name="Oval 23"/>
          <p:cNvSpPr/>
          <p:nvPr/>
        </p:nvSpPr>
        <p:spPr>
          <a:xfrm>
            <a:off x="8534520" y="4343400"/>
            <a:ext cx="380880" cy="45720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63" name="Oval 24"/>
          <p:cNvSpPr/>
          <p:nvPr/>
        </p:nvSpPr>
        <p:spPr>
          <a:xfrm>
            <a:off x="8458200" y="3352680"/>
            <a:ext cx="360360" cy="45720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64" name="Oval 25"/>
          <p:cNvSpPr/>
          <p:nvPr/>
        </p:nvSpPr>
        <p:spPr>
          <a:xfrm>
            <a:off x="8534520" y="5257800"/>
            <a:ext cx="360360" cy="38088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65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"/>
          <p:cNvGrpSpPr/>
          <p:nvPr/>
        </p:nvGrpSpPr>
        <p:grpSpPr>
          <a:xfrm>
            <a:off x="206280" y="0"/>
            <a:ext cx="8937360" cy="6668640"/>
            <a:chOff x="206280" y="0"/>
            <a:chExt cx="8937360" cy="6668640"/>
          </a:xfrm>
        </p:grpSpPr>
        <p:sp>
          <p:nvSpPr>
            <p:cNvPr id="367" name="Line 5"/>
            <p:cNvSpPr/>
            <p:nvPr/>
          </p:nvSpPr>
          <p:spPr>
            <a:xfrm>
              <a:off x="206280" y="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68" name="Line 6"/>
            <p:cNvSpPr/>
            <p:nvPr/>
          </p:nvSpPr>
          <p:spPr>
            <a:xfrm>
              <a:off x="206280" y="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69" name="Line 7"/>
            <p:cNvSpPr/>
            <p:nvPr/>
          </p:nvSpPr>
          <p:spPr>
            <a:xfrm>
              <a:off x="206280" y="666864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>
              <a:off x="9143640" y="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371" name="Rectangle 9"/>
          <p:cNvSpPr/>
          <p:nvPr/>
        </p:nvSpPr>
        <p:spPr>
          <a:xfrm>
            <a:off x="380880" y="228600"/>
            <a:ext cx="8479080" cy="70380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мая высокая смертность среди регионов мира наблюдается: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2" name="AutoShape 10"/>
          <p:cNvSpPr/>
          <p:nvPr/>
        </p:nvSpPr>
        <p:spPr>
          <a:xfrm>
            <a:off x="992160" y="1600200"/>
            <a:ext cx="727236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рубежной Азии</a:t>
            </a:r>
            <a:endParaRPr b="0" lang="en-US" sz="4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3" name="Oval 11"/>
          <p:cNvSpPr/>
          <p:nvPr/>
        </p:nvSpPr>
        <p:spPr>
          <a:xfrm>
            <a:off x="380880" y="1828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4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5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6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7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Зарубежной Европе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8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Латинской Америке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9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Африке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80" name="Oval 22"/>
          <p:cNvSpPr/>
          <p:nvPr/>
        </p:nvSpPr>
        <p:spPr>
          <a:xfrm>
            <a:off x="8458200" y="1752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81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82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83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84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86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88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390" name="AutoShape 8"/>
          <p:cNvSpPr/>
          <p:nvPr/>
        </p:nvSpPr>
        <p:spPr>
          <a:xfrm>
            <a:off x="106668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та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1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4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5" name="AutoShape 13"/>
          <p:cNvSpPr/>
          <p:nvPr/>
        </p:nvSpPr>
        <p:spPr>
          <a:xfrm>
            <a:off x="990720" y="2590920"/>
            <a:ext cx="72388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вец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6" name="AutoShape 14"/>
          <p:cNvSpPr/>
          <p:nvPr/>
        </p:nvSpPr>
        <p:spPr>
          <a:xfrm>
            <a:off x="990720" y="3581280"/>
            <a:ext cx="727236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игер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7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пон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8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9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00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01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02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228600"/>
            <a:ext cx="8458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делите страну с самым высоким показателем 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тественного  прироста населения 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0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0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0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0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409" name="Rectangle 7"/>
          <p:cNvSpPr/>
          <p:nvPr/>
        </p:nvSpPr>
        <p:spPr>
          <a:xfrm>
            <a:off x="228600" y="228600"/>
            <a:ext cx="8478720" cy="82548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505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В какой из перечисленных стран показатель младенческой смертности наибольший?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0" name="AutoShape 8"/>
          <p:cNvSpPr/>
          <p:nvPr/>
        </p:nvSpPr>
        <p:spPr>
          <a:xfrm>
            <a:off x="990720" y="1295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ази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1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4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5" name="AutoShape 13"/>
          <p:cNvSpPr/>
          <p:nvPr/>
        </p:nvSpPr>
        <p:spPr>
          <a:xfrm>
            <a:off x="990720" y="2590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фиоп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6" name="AutoShape 14"/>
          <p:cNvSpPr/>
          <p:nvPr/>
        </p:nvSpPr>
        <p:spPr>
          <a:xfrm>
            <a:off x="914400" y="3733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урц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7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ази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8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9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20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21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22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Жидовкина Г.П.</dc:creator>
  <dc:description/>
  <cp:keywords>воспроизводство</cp:keywords>
  <dc:language>en-US</dc:language>
  <cp:lastModifiedBy>Владелец</cp:lastModifiedBy>
  <dcterms:modified xsi:type="dcterms:W3CDTF">2012-08-16T12:24:10Z</dcterms:modified>
  <cp:revision>72</cp:revision>
  <dc:subject>Численность и воспроизводство населения мира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