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6ECF-508A-4D8A-A4D8-65B8BE32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2C15-D379-46F5-9589-E14C7885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9AAB-2CA4-4A36-9E64-1FD3CB5D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E9F6-8324-428B-A676-9FBEF837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4CB-EF48-45AF-B26D-63F90721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D48-A52A-4CD9-AA7F-C23FD471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6CE-DE49-481F-9748-1CF2901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44C1-4B43-4A23-B441-4AA7B87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B32-6B33-4869-ABAC-A224AD28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C464-2711-4A9C-9CE2-60D329C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AA62-38BE-4BED-A433-5CC7401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A052-0740-4BE7-9FB4-30A6E24C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891-7C17-437F-BA62-C213E30A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88C4-6EC5-4F2C-855D-39D071F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1E30-A503-43BB-910F-31A1EE2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37E8-9489-49E3-9BD7-0F6C20E4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61D5-8EC4-4D3D-99F9-06E39FC5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B8F5-293D-427B-8495-0482BAE6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955B-8ADC-4CCC-865C-60B5CBFF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D4A3-8653-41A6-9BE6-5515706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A072-6150-4A9A-A2FD-69A6BB1E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3FB6C-F154-473F-BED3-96383DE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588FC-6E65-43AC-91C2-37E53A30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74B5-2D4C-45E1-9EEA-6F0E9655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3E88-423A-40F2-A32A-C78CD5E746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752-1EE5-4B71-A131-A39CAA3B50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МИНИСТЕРСТВО ОБРАЗОВАНИЯ И НАУКИ, МОЛОДЕЖИ И СПОРТА УКРАИН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СЕВАСТОПОЛЬСКИЙ ГОРОДСКОЙ ГУМАНИТАРНЫЙ УНИВЕРСИТЕТ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Филологический факультет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Кафедра русского языка и зарубежной литературы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фольклорных элементов в творчестве   русских писателе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сполнител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удентка группы УР5                                           к.ф.н., до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уголь В.Э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ашко Е.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Documents and Settings\Admin\Рабочий стол\презентация\img_1.jpg"/>
          <p:cNvPicPr/>
          <p:nvPr/>
        </p:nvPicPr>
        <p:blipFill>
          <a:blip r:embed="rId1"/>
          <a:stretch/>
        </p:blipFill>
        <p:spPr>
          <a:xfrm>
            <a:off x="214200" y="285840"/>
            <a:ext cx="4572000" cy="6172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4600800" y="857160"/>
            <a:ext cx="501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Николай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асильевич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Го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522760" y="435780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09 - 185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71280" y="963720"/>
            <a:ext cx="4143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Фольклор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429080" y="1000080"/>
            <a:ext cx="471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Фантасти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1678680" y="4143240"/>
            <a:ext cx="580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масштабност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косм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Прямая со стрелкой 9" descr=""/>
          <p:cNvPicPr/>
          <p:nvPr/>
        </p:nvPicPr>
        <p:blipFill>
          <a:blip r:embed="rId1"/>
          <a:stretch/>
        </p:blipFill>
        <p:spPr>
          <a:xfrm>
            <a:off x="2206800" y="2011320"/>
            <a:ext cx="2097000" cy="26528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ая со стрелкой 10" descr=""/>
          <p:cNvPicPr/>
          <p:nvPr/>
        </p:nvPicPr>
        <p:blipFill>
          <a:blip r:embed="rId2"/>
          <a:stretch/>
        </p:blipFill>
        <p:spPr>
          <a:xfrm>
            <a:off x="4761000" y="2004840"/>
            <a:ext cx="230976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Рабочий стол\презентация\Рисунок1.jpg"/>
          <p:cNvPicPr/>
          <p:nvPr/>
        </p:nvPicPr>
        <p:blipFill>
          <a:blip r:embed="rId1"/>
          <a:stretch/>
        </p:blipFill>
        <p:spPr>
          <a:xfrm>
            <a:off x="285840" y="500040"/>
            <a:ext cx="4546440" cy="5821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4833720" y="928800"/>
            <a:ext cx="434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Даль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Владимир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Иванович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522760" y="442908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01 - 1872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Admin\Рабочий стол\презентация\Рисунок2.png"/>
          <p:cNvPicPr/>
          <p:nvPr/>
        </p:nvPicPr>
        <p:blipFill>
          <a:blip r:embed="rId1"/>
          <a:stretch/>
        </p:blipFill>
        <p:spPr>
          <a:xfrm>
            <a:off x="0" y="214200"/>
            <a:ext cx="91249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Особенности фольклоризма В.И.Даля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7120" y="149976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ра в таинственные силы и сверхъестественные явления природ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рисовки быта крестьян, обрядовой поэз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вый уровень осмысления народной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лее углубленно отражает окружающую действитель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лизость к народной точке зрения, постижение народной мудр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Documents and Settings\Admin\Рабочий стол\презентация\77309735_1313855039_Kuprin2.jpg"/>
          <p:cNvPicPr/>
          <p:nvPr/>
        </p:nvPicPr>
        <p:blipFill>
          <a:blip r:embed="rId1"/>
          <a:stretch/>
        </p:blipFill>
        <p:spPr>
          <a:xfrm>
            <a:off x="285840" y="357120"/>
            <a:ext cx="3949560" cy="615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4146840" y="857160"/>
            <a:ext cx="494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Куприн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Иванович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5094000" y="457200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870 - 1938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-840240" y="1357200"/>
            <a:ext cx="1094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пическое видение ми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волич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упномасштабность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центрация внимания на всеобщем, вечно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стетические и философские проблем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равственные совершенствования и духовно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зрождение челове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иски идеала, смысла жиз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ертвенность и величие любв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-473040" y="500040"/>
            <a:ext cx="10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Особенности фольклоризма  А.И. Куприн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СПАСИБО </a:t>
            </a:r>
            <a:br>
              <a:rPr sz="9600"/>
            </a:b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ЗА </a:t>
            </a:r>
            <a:br>
              <a:rPr sz="9600"/>
            </a:br>
            <a:r>
              <a:rPr b="1" lang="ru-RU" sz="9600" spc="-1" strike="noStrike">
                <a:solidFill>
                  <a:srgbClr val="e5e5ff"/>
                </a:solidFill>
                <a:latin typeface="Garamond"/>
              </a:rPr>
              <a:t>ВНИМАНИЕ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МИНИСТЕРСТВО ОБРАЗОВАНИЯ И НАУКИ, МОЛОДЕЖИ И СПОРТА УКРАИНЫ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СЕВАСТОПОЛЬСКИЙ ГОРОДСКОЙ ГУМАНИТАРНЫЙ УНИВЕРСИТЕТ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Филологический факультет</a:t>
            </a:r>
            <a:br>
              <a:rPr sz="1600"/>
            </a:br>
            <a:r>
              <a:rPr b="1" lang="ru-RU" sz="1600" spc="-1" strike="noStrike">
                <a:solidFill>
                  <a:srgbClr val="e5e5ff"/>
                </a:solidFill>
                <a:latin typeface="Garamond"/>
              </a:rPr>
              <a:t>Кафедра русского языка и зарубежной литературы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10920" y="213372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ль фольклорных элементов в творчестве   русских писателе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е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сполнител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учный руководител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тудентка группы УР5                                           к.ф.н., доц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уголь В.Э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ашко Е.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85840" y="99972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бъек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ецифика художественного пространства произведений русских писателей в контексте народно-фольклорных увлечений XIX в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480" y="3285720"/>
            <a:ext cx="838836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Предм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ути создания народного колорита в произведениях А.С.Пушкина, Н.В. Гоголя, В.И. Даля, А.И. Куприна с опорой на функциональные ценности этнографического и фольклорн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91520" cy="22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сновным МЕТОДОМ исследования является изучение наследия русских писателей, который включает в себя черты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3571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оставительн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ительно-исторического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тературоведческого анали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учить характер влияния устного народного творчества на сюжеты, образную систему, проблематику произведений русских авторов ХІХ с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Organization Chart 7"/>
          <p:cNvGrpSpPr/>
          <p:nvPr/>
        </p:nvGrpSpPr>
        <p:grpSpPr>
          <a:xfrm>
            <a:off x="357120" y="267120"/>
            <a:ext cx="8573760" cy="6227280"/>
            <a:chOff x="357120" y="267120"/>
            <a:chExt cx="8573760" cy="6227280"/>
          </a:xfrm>
        </p:grpSpPr>
        <p:cxnSp>
          <p:nvCxnSpPr>
            <p:cNvPr id="109" name="_s15376"/>
            <p:cNvCxnSpPr>
              <a:stCxn id="110" idx="0"/>
              <a:endCxn id="111" idx="2"/>
            </p:cNvCxnSpPr>
            <p:nvPr/>
          </p:nvCxnSpPr>
          <p:spPr>
            <a:xfrm rot="5400000">
              <a:off x="5214240" y="-21600"/>
              <a:ext cx="2090880" cy="3125520"/>
            </a:xfrm>
            <a:prstGeom prst="bentConnector5">
              <a:avLst>
                <a:gd name="adj1" fmla="val -10935"/>
                <a:gd name="adj2" fmla="val 53104"/>
                <a:gd name="adj3" fmla="val 11093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15374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5598720" y="1683720"/>
              <a:ext cx="1269360" cy="307224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15373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624040" y="1782000"/>
              <a:ext cx="1269360" cy="2876040"/>
            </a:xfrm>
            <a:prstGeom prst="bentConnector3">
              <a:avLst>
                <a:gd name="adj1" fmla="val 4998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15372"/>
            <p:cNvCxnSpPr>
              <a:stCxn id="117" idx="0"/>
              <a:endCxn id="111" idx="2"/>
            </p:cNvCxnSpPr>
            <p:nvPr/>
          </p:nvCxnSpPr>
          <p:spPr>
            <a:xfrm flipH="1" rot="16200000">
              <a:off x="2070000" y="-39960"/>
              <a:ext cx="2090880" cy="3161520"/>
            </a:xfrm>
            <a:prstGeom prst="bentConnector5">
              <a:avLst>
                <a:gd name="adj1" fmla="val -10935"/>
                <a:gd name="adj2" fmla="val 54207"/>
                <a:gd name="adj3" fmla="val 11093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15368"/>
            <p:cNvSpPr/>
            <p:nvPr/>
          </p:nvSpPr>
          <p:spPr>
            <a:xfrm>
              <a:off x="3785400" y="357120"/>
              <a:ext cx="1824120" cy="2228760"/>
            </a:xfrm>
            <a:custGeom>
              <a:avLst/>
              <a:gdLst>
                <a:gd name="textAreaLeft" fmla="*/ 88920 w 1824120"/>
                <a:gd name="textAreaRight" fmla="*/ 1735200 w 1824120"/>
                <a:gd name="textAreaTop" fmla="*/ 88920 h 2228760"/>
                <a:gd name="textAreaBottom" fmla="*/ 2139840 h 2228760"/>
              </a:gdLst>
              <a:ahLst/>
              <a:rect l="textAreaLeft" t="textAreaTop" r="textAreaRight" b="textAreaBottom"/>
              <a:pathLst>
                <a:path w="21600" h="26391">
                  <a:moveTo>
                    <a:pt x="3600" y="0"/>
                  </a:moveTo>
                  <a:arcTo wR="3600" hR="3600" stAng="16200000" swAng="-5400000"/>
                  <a:lnTo>
                    <a:pt x="0" y="22791"/>
                  </a:lnTo>
                  <a:arcTo wR="3600" hR="3600" stAng="10800000" swAng="-5400000"/>
                  <a:lnTo>
                    <a:pt x="18000" y="263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Garamond"/>
                </a:rPr>
                <a:t>ЗАДАЧИ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_s15369"/>
            <p:cNvSpPr/>
            <p:nvPr/>
          </p:nvSpPr>
          <p:spPr>
            <a:xfrm>
              <a:off x="357120" y="495720"/>
              <a:ext cx="2357640" cy="2576520"/>
            </a:xfrm>
            <a:custGeom>
              <a:avLst/>
              <a:gdLst>
                <a:gd name="textAreaLeft" fmla="*/ 114840 w 2357640"/>
                <a:gd name="textAreaRight" fmla="*/ 2242800 w 2357640"/>
                <a:gd name="textAreaTop" fmla="*/ 114840 h 2576520"/>
                <a:gd name="textAreaBottom" fmla="*/ 2461680 h 2576520"/>
              </a:gdLst>
              <a:ahLst/>
              <a:rect l="textAreaLeft" t="textAreaTop" r="textAreaRight" b="textAreaBottom"/>
              <a:pathLst>
                <a:path w="21600" h="23605">
                  <a:moveTo>
                    <a:pt x="3600" y="0"/>
                  </a:moveTo>
                  <a:arcTo wR="3600" hR="3600" stAng="16200000" swAng="-5400000"/>
                  <a:lnTo>
                    <a:pt x="0" y="20005"/>
                  </a:lnTo>
                  <a:arcTo wR="3600" hR="3600" stAng="10800000" swAng="-5400000"/>
                  <a:lnTo>
                    <a:pt x="18000" y="23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Изучить русскую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культуру XIXв. 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охарактеризовать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этнографические 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ародно-фольклорные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увлечения писателе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данного период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" name="_s15370"/>
            <p:cNvSpPr/>
            <p:nvPr/>
          </p:nvSpPr>
          <p:spPr>
            <a:xfrm>
              <a:off x="644040" y="3854880"/>
              <a:ext cx="2357640" cy="2569320"/>
            </a:xfrm>
            <a:custGeom>
              <a:avLst/>
              <a:gdLst>
                <a:gd name="textAreaLeft" fmla="*/ 114840 w 2357640"/>
                <a:gd name="textAreaRight" fmla="*/ 2242800 w 2357640"/>
                <a:gd name="textAreaTop" fmla="*/ 114840 h 2569320"/>
                <a:gd name="textAreaBottom" fmla="*/ 2454480 h 2569320"/>
              </a:gdLst>
              <a:ahLst/>
              <a:rect l="textAreaLeft" t="textAreaTop" r="textAreaRight" b="textAreaBottom"/>
              <a:pathLst>
                <a:path w="21600" h="23539">
                  <a:moveTo>
                    <a:pt x="3600" y="0"/>
                  </a:moveTo>
                  <a:arcTo wR="3600" hR="3600" stAng="16200000" swAng="-5400000"/>
                  <a:lnTo>
                    <a:pt x="0" y="19939"/>
                  </a:lnTo>
                  <a:arcTo wR="3600" hR="3600" stAng="10800000" swAng="-5400000"/>
                  <a:lnTo>
                    <a:pt x="18000" y="235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ыяснить роль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их писателе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 сохранении 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устного творчеств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ого народа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и передаче колорита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усско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ародной жизни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" name="_s15371"/>
            <p:cNvSpPr/>
            <p:nvPr/>
          </p:nvSpPr>
          <p:spPr>
            <a:xfrm>
              <a:off x="6644160" y="3854880"/>
              <a:ext cx="2252520" cy="2639520"/>
            </a:xfrm>
            <a:custGeom>
              <a:avLst/>
              <a:gdLst>
                <a:gd name="textAreaLeft" fmla="*/ 109800 w 2252520"/>
                <a:gd name="textAreaRight" fmla="*/ 2142720 w 2252520"/>
                <a:gd name="textAreaTop" fmla="*/ 109800 h 2639520"/>
                <a:gd name="textAreaBottom" fmla="*/ 2529720 h 2639520"/>
              </a:gdLst>
              <a:ahLst/>
              <a:rect l="textAreaLeft" t="textAreaTop" r="textAreaRight" b="textAreaBottom"/>
              <a:pathLst>
                <a:path w="21600" h="25310">
                  <a:moveTo>
                    <a:pt x="3600" y="0"/>
                  </a:moveTo>
                  <a:arcTo wR="3600" hR="3600" stAng="16200000" swAng="-5400000"/>
                  <a:lnTo>
                    <a:pt x="0" y="21710"/>
                  </a:lnTo>
                  <a:arcTo wR="3600" hR="3600" stAng="10800000" swAng="-5400000"/>
                  <a:lnTo>
                    <a:pt x="18000" y="25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бозначить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специфику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авторски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бращений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к фольклорному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материалу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_s15375"/>
            <p:cNvSpPr/>
            <p:nvPr/>
          </p:nvSpPr>
          <p:spPr>
            <a:xfrm>
              <a:off x="6716160" y="495720"/>
              <a:ext cx="2214720" cy="2576520"/>
            </a:xfrm>
            <a:custGeom>
              <a:avLst/>
              <a:gdLst>
                <a:gd name="textAreaLeft" fmla="*/ 108000 w 2214720"/>
                <a:gd name="textAreaRight" fmla="*/ 2106720 w 2214720"/>
                <a:gd name="textAreaTop" fmla="*/ 108000 h 2576520"/>
                <a:gd name="textAreaBottom" fmla="*/ 2468520 h 2576520"/>
              </a:gdLst>
              <a:ahLst/>
              <a:rect l="textAreaLeft" t="textAreaTop" r="textAreaRight" b="textAreaBottom"/>
              <a:pathLst>
                <a:path w="21600" h="25128">
                  <a:moveTo>
                    <a:pt x="3600" y="0"/>
                  </a:moveTo>
                  <a:arcTo wR="3600" hR="3600" stAng="16200000" swAng="-5400000"/>
                  <a:lnTo>
                    <a:pt x="0" y="21528"/>
                  </a:lnTo>
                  <a:arcTo wR="3600" hR="3600" stAng="10800000" swAng="-5400000"/>
                  <a:lnTo>
                    <a:pt x="18000" y="251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пределить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характер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фольклорны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заимствований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в русской литературе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XIXв., их 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Garamond"/>
                </a:rPr>
                <a:t>основные виды</a:t>
              </a: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_s15371"/>
            <p:cNvSpPr/>
            <p:nvPr/>
          </p:nvSpPr>
          <p:spPr>
            <a:xfrm>
              <a:off x="3572280" y="3854880"/>
              <a:ext cx="2252520" cy="2639520"/>
            </a:xfrm>
            <a:custGeom>
              <a:avLst/>
              <a:gdLst>
                <a:gd name="textAreaLeft" fmla="*/ 106200 w 2252520"/>
                <a:gd name="textAreaRight" fmla="*/ 2146320 w 2252520"/>
                <a:gd name="textAreaTop" fmla="*/ 106200 h 2639520"/>
                <a:gd name="textAreaBottom" fmla="*/ 2533320 h 2639520"/>
              </a:gdLst>
              <a:ahLst/>
              <a:rect l="textAreaLeft" t="textAreaTop" r="textAreaRight" b="textAreaBottom"/>
              <a:pathLst>
                <a:path w="21600" h="25310">
                  <a:moveTo>
                    <a:pt x="3478" y="0"/>
                  </a:moveTo>
                  <a:arcTo wR="3478" hR="3478" stAng="16200000" swAng="-5400000"/>
                  <a:lnTo>
                    <a:pt x="0" y="21832"/>
                  </a:lnTo>
                  <a:arcTo wR="3478" hR="3478" stAng="10800000" swAng="-5400000"/>
                  <a:lnTo>
                    <a:pt x="18122" y="25310"/>
                  </a:lnTo>
                  <a:arcTo wR="3478" hR="3478" stAng="5400000" swAng="-5400000"/>
                  <a:lnTo>
                    <a:pt x="21600" y="3478"/>
                  </a:lnTo>
                  <a:arcTo wR="3478" hR="3478" stAng="0" swAng="-5400000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ыявить функции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рхетипов, аллюзий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реминисценций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 произведениях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.С. Пушкина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В.И. Даля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А.И. Куприна, 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Garamond"/>
                </a:rPr>
                <a:t>Н.В. Гоголя</a:t>
              </a:r>
              <a:endParaRPr b="0" lang="en-US" sz="19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cxnSp>
          <p:nvCxnSpPr>
            <p:cNvPr id="119" name="_s15373"/>
            <p:cNvCxnSpPr/>
            <p:nvPr/>
          </p:nvCxnSpPr>
          <p:spPr>
            <a:xfrm flipH="1" flipV="1" rot="5400000">
              <a:off x="4401720" y="3524400"/>
              <a:ext cx="627120" cy="2880"/>
            </a:xfrm>
            <a:prstGeom prst="bentConnector3">
              <a:avLst>
                <a:gd name="adj1" fmla="val 49971"/>
              </a:avLst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презентация\pushkin.jpg"/>
          <p:cNvPicPr/>
          <p:nvPr/>
        </p:nvPicPr>
        <p:blipFill>
          <a:blip r:embed="rId1"/>
          <a:stretch/>
        </p:blipFill>
        <p:spPr>
          <a:xfrm>
            <a:off x="285840" y="214200"/>
            <a:ext cx="418788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4686480" y="928800"/>
            <a:ext cx="451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Сергеевич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Пушкин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5308560" y="4230720"/>
            <a:ext cx="314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1799 - 1837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428760" y="357120"/>
            <a:ext cx="835812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тивы сюжето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рет , путешествие, похищени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разы герое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гатырь                            дурачо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C:\Documents and Settings\Admin\Рабочий стол\презентация\1218585448_mech-kladenec.jpg"/>
          <p:cNvPicPr/>
          <p:nvPr/>
        </p:nvPicPr>
        <p:blipFill>
          <a:blip r:embed="rId1"/>
          <a:stretch/>
        </p:blipFill>
        <p:spPr>
          <a:xfrm>
            <a:off x="500040" y="2714760"/>
            <a:ext cx="2476440" cy="335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Documents and Settings\Admin\Рабочий стол\презентация\Gora_samotsvetov_Tom_2_izumrud2.jpg"/>
          <p:cNvPicPr/>
          <p:nvPr/>
        </p:nvPicPr>
        <p:blipFill>
          <a:blip r:embed="rId2"/>
          <a:stretch/>
        </p:blipFill>
        <p:spPr>
          <a:xfrm>
            <a:off x="3214800" y="2714760"/>
            <a:ext cx="56214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-211320" y="428760"/>
            <a:ext cx="575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Тотемы животных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ыба, конь, медвед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7" name="Группа 10"/>
          <p:cNvGrpSpPr/>
          <p:nvPr/>
        </p:nvGrpSpPr>
        <p:grpSpPr>
          <a:xfrm>
            <a:off x="357120" y="1714680"/>
            <a:ext cx="8491680" cy="3011400"/>
            <a:chOff x="357120" y="1714680"/>
            <a:chExt cx="8491680" cy="3011400"/>
          </a:xfrm>
        </p:grpSpPr>
        <p:pic>
          <p:nvPicPr>
            <p:cNvPr id="128" name="Picture 2" descr="C:\Documents and Settings\Admin\Рабочий стол\презентация\skazka_o_rybake_i_rybke_1.jpg"/>
            <p:cNvPicPr/>
            <p:nvPr/>
          </p:nvPicPr>
          <p:blipFill>
            <a:blip r:embed="rId1"/>
            <a:stretch/>
          </p:blipFill>
          <p:spPr>
            <a:xfrm>
              <a:off x="357120" y="1785960"/>
              <a:ext cx="3714840" cy="27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" descr="C:\Documents and Settings\Admin\Рабочий стол\презентация\hodit_kon'_po_berejku.png"/>
            <p:cNvPicPr/>
            <p:nvPr/>
          </p:nvPicPr>
          <p:blipFill>
            <a:blip r:embed="rId2"/>
            <a:stretch/>
          </p:blipFill>
          <p:spPr>
            <a:xfrm>
              <a:off x="4286160" y="1714680"/>
              <a:ext cx="2163240" cy="30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C:\Documents and Settings\Admin\Рабочий стол\презентация\article1631.jpg"/>
            <p:cNvPicPr/>
            <p:nvPr/>
          </p:nvPicPr>
          <p:blipFill>
            <a:blip r:embed="rId3"/>
            <a:stretch/>
          </p:blipFill>
          <p:spPr>
            <a:xfrm>
              <a:off x="6643800" y="1714680"/>
              <a:ext cx="2205000" cy="300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11"/>
          <p:cNvSpPr/>
          <p:nvPr/>
        </p:nvSpPr>
        <p:spPr>
          <a:xfrm>
            <a:off x="-862920" y="5072040"/>
            <a:ext cx="111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Черты обрядов, связанные с культом земли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оды, солн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/>
          <p:cNvSpPr/>
          <p:nvPr/>
        </p:nvSpPr>
        <p:spPr>
          <a:xfrm>
            <a:off x="428760" y="428760"/>
            <a:ext cx="67863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тоянные эпите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асна девиц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добрый молоде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ав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мвол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адиционная композиц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C:\Documents and Settings\Admin\Рабочий стол\презентация\i_005.jpg"/>
          <p:cNvPicPr/>
          <p:nvPr/>
        </p:nvPicPr>
        <p:blipFill>
          <a:blip r:embed="rId1"/>
          <a:stretch/>
        </p:blipFill>
        <p:spPr>
          <a:xfrm>
            <a:off x="785880" y="1000080"/>
            <a:ext cx="27781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3:01:19Z</dcterms:created>
  <dc:creator>Пользователь</dc:creator>
  <dc:description/>
  <dc:language>en-US</dc:language>
  <cp:lastModifiedBy>Admin</cp:lastModifiedBy>
  <dcterms:modified xsi:type="dcterms:W3CDTF">2013-06-11T16:45:53Z</dcterms:modified>
  <cp:revision>20</cp:revision>
  <dc:subject/>
  <dc:title>Слайд 1</dc:title>
</cp:coreProperties>
</file>