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1820-1702-4D2F-9B55-DF756C46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D89D-96F0-4862-B9C3-F8E3DE77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FA3F-4D84-4FF5-88D2-96E287F2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8BAC-D330-475D-8944-A1B62EE5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DEC6-61E6-4672-B801-A0363E89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F3D6-BF24-43E0-B499-A5DE531F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26D6-EF6D-467E-BD36-46390B2A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0A25-5B5A-4D8E-B150-276C8198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258F-CF30-4928-B651-E7569B85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CD6D-A60C-4B8C-85B8-E9037A81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CEED-1795-4A7F-A644-7DB93B7B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91F9-7773-498D-B62B-3E7A84C0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E838-918F-46B0-83B6-A909F3AF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63B7-7B3B-460A-81EB-EDF31E7A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01DD-6086-4797-A8A5-E3EA41DC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8BF5-45E8-48F3-A811-CB21CEE8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E2A1-50CA-44E1-A6C2-4629DDD4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FF5C-65BC-418B-B24F-87A83F7D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F587-E4F8-4E90-A4A4-5B64082F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7108-E602-443B-8475-597A6EA0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17A0-F127-49D0-8823-31870C62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B92D-CDA3-41F0-8E32-8DEB841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B66E-C54F-44DD-A7DD-4AF77F0E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09CD-0548-4B2B-9B94-C75C049C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9F32-A74E-46C9-A7C0-CC07A26FF2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334C-00BD-434A-A4FF-303683EB49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МИНИСТЕРСТВО ОБРАЗОВАНИЯ И НАУКИ, МОЛОДЕЖИ И СПОРТА УКРАИНЫ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СЕВАСТОПОЛЬСКИЙ ГОРОДСКОЙ ГУМАНИТАРНЫЙ УНИВЕРСИТЕТ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Филологический факультет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Кафедра русского языка и зарубежной литературы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0920" y="213372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ль фольклорных элементов в творчестве   русских писателе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сполнитель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удентка группы УР5                                           к.ф.н., доц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уголь В.Э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ашко Е.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Admin\Рабочий стол\презентация\img_1.jpg"/>
          <p:cNvPicPr/>
          <p:nvPr/>
        </p:nvPicPr>
        <p:blipFill>
          <a:blip r:embed="rId1"/>
          <a:stretch/>
        </p:blipFill>
        <p:spPr>
          <a:xfrm>
            <a:off x="214200" y="285840"/>
            <a:ext cx="4572000" cy="6172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4600800" y="857160"/>
            <a:ext cx="501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Николай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Васильевич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Гогол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522760" y="435780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809 - 1852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4"/>
          <p:cNvSpPr/>
          <p:nvPr/>
        </p:nvSpPr>
        <p:spPr>
          <a:xfrm>
            <a:off x="71280" y="963720"/>
            <a:ext cx="4143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Фольклор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429080" y="1000080"/>
            <a:ext cx="4714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Фантасти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678680" y="4143240"/>
            <a:ext cx="580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масштабност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космиз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Прямая со стрелкой 9" descr=""/>
          <p:cNvPicPr/>
          <p:nvPr/>
        </p:nvPicPr>
        <p:blipFill>
          <a:blip r:embed="rId1"/>
          <a:stretch/>
        </p:blipFill>
        <p:spPr>
          <a:xfrm>
            <a:off x="2206800" y="2011320"/>
            <a:ext cx="2097000" cy="265284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ая со стрелкой 10" descr=""/>
          <p:cNvPicPr/>
          <p:nvPr/>
        </p:nvPicPr>
        <p:blipFill>
          <a:blip r:embed="rId2"/>
          <a:stretch/>
        </p:blipFill>
        <p:spPr>
          <a:xfrm>
            <a:off x="4761000" y="2004840"/>
            <a:ext cx="230976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Admin\Рабочий стол\презентация\Рисунок1.jpg"/>
          <p:cNvPicPr/>
          <p:nvPr/>
        </p:nvPicPr>
        <p:blipFill>
          <a:blip r:embed="rId1"/>
          <a:stretch/>
        </p:blipFill>
        <p:spPr>
          <a:xfrm>
            <a:off x="285840" y="500040"/>
            <a:ext cx="4546440" cy="58215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4833720" y="928800"/>
            <a:ext cx="434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Даль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Владимир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Иванович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522760" y="442908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801 - 1872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Admin\Рабочий стол\презентация\Рисунок2.png"/>
          <p:cNvPicPr/>
          <p:nvPr/>
        </p:nvPicPr>
        <p:blipFill>
          <a:blip r:embed="rId1"/>
          <a:stretch/>
        </p:blipFill>
        <p:spPr>
          <a:xfrm>
            <a:off x="0" y="214200"/>
            <a:ext cx="91249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собенности фольклоризма В.И.Даля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120" y="149976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ра в таинственные силы и сверхъестественные явления природ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рисовки быта крестьян, обрядовой поэз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вый уровень осмысления народной жиз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лее углубленно отражает окружающую действитель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лизость к народной точке зрения, постижение народной мудр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Admin\Рабочий стол\презентация\77309735_1313855039_Kuprin2.jpg"/>
          <p:cNvPicPr/>
          <p:nvPr/>
        </p:nvPicPr>
        <p:blipFill>
          <a:blip r:embed="rId1"/>
          <a:stretch/>
        </p:blipFill>
        <p:spPr>
          <a:xfrm>
            <a:off x="285840" y="357120"/>
            <a:ext cx="3949560" cy="615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4146840" y="857160"/>
            <a:ext cx="4943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Куприн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Александр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Иванович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5094000" y="457200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870 - 1938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-840240" y="1357200"/>
            <a:ext cx="1094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пическое видение ми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мволич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упномасштабность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центрация внимания на всеобщем, вечно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стетические и философские проблем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равственные совершенствования и духовн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зрождение челове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иски идеала, смысла жиз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ртвенность и величие любв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-473040" y="500040"/>
            <a:ext cx="10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собенности фольклоризма  А.И. Куприн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5e5ff"/>
                </a:solidFill>
                <a:latin typeface="Garamond"/>
              </a:rPr>
              <a:t>СПАСИБО </a:t>
            </a:r>
            <a:br>
              <a:rPr sz="9600"/>
            </a:br>
            <a:r>
              <a:rPr b="1" lang="ru-RU" sz="9600" spc="-1" strike="noStrike">
                <a:solidFill>
                  <a:srgbClr val="e5e5ff"/>
                </a:solidFill>
                <a:latin typeface="Garamond"/>
              </a:rPr>
              <a:t>ЗА </a:t>
            </a:r>
            <a:br>
              <a:rPr sz="9600"/>
            </a:br>
            <a:r>
              <a:rPr b="1" lang="ru-RU" sz="9600" spc="-1" strike="noStrike">
                <a:solidFill>
                  <a:srgbClr val="e5e5ff"/>
                </a:solidFill>
                <a:latin typeface="Garamond"/>
              </a:rPr>
              <a:t>ВНИМАНИЕ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МИНИСТЕРСТВО ОБРАЗОВАНИЯ И НАУКИ, МОЛОДЕЖИ И СПОРТА УКРАИНЫ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СЕВАСТОПОЛЬСКИЙ ГОРОДСКОЙ ГУМАНИТАРНЫЙ УНИВЕРСИТЕТ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Филологический факультет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Кафедра русского языка и зарубежной литературы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10920" y="213372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ль фольклорных элементов в творчестве   русских писателе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сполнитель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удентка группы УР5                                           к.ф.н., доц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уголь В.Э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ашко Е.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5840" y="99972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бъек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ецифика художественного пространства произведений русских писателей в контексте народно-фольклорных увлечений XIX в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5480" y="3285720"/>
            <a:ext cx="838836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Предм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ути создания народного колорита в произведениях А.С.Пушкина, Н.В. Гоголя, В.И. Даля, А.И. Куприна с опорой на функциональные ценности этнографического и фольклорного матери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9152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сновным МЕТОДОМ исследования является изучение наследия русских писателей, который включает в себя черт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3571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поставительног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ительно-историческог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тературоведческого анализ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характер влияния устного народного творчества на сюжеты, образную систему, проблематику произведений русских авторов ХІХ с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7"/>
          <p:cNvGrpSpPr/>
          <p:nvPr/>
        </p:nvGrpSpPr>
        <p:grpSpPr>
          <a:xfrm>
            <a:off x="357120" y="267120"/>
            <a:ext cx="8573760" cy="6227280"/>
            <a:chOff x="357120" y="267120"/>
            <a:chExt cx="8573760" cy="6227280"/>
          </a:xfrm>
        </p:grpSpPr>
        <p:cxnSp>
          <p:nvCxnSpPr>
            <p:cNvPr id="109" name="_s15376"/>
            <p:cNvCxnSpPr>
              <a:stCxn id="110" idx="0"/>
              <a:endCxn id="111" idx="2"/>
            </p:cNvCxnSpPr>
            <p:nvPr/>
          </p:nvCxnSpPr>
          <p:spPr>
            <a:xfrm rot="5400000">
              <a:off x="5214240" y="-21600"/>
              <a:ext cx="2090880" cy="3125520"/>
            </a:xfrm>
            <a:prstGeom prst="bentConnector5">
              <a:avLst>
                <a:gd name="adj1" fmla="val -10935"/>
                <a:gd name="adj2" fmla="val 53104"/>
                <a:gd name="adj3" fmla="val 11093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5374"/>
            <p:cNvCxnSpPr>
              <a:stCxn id="113" idx="0"/>
              <a:endCxn id="111" idx="2"/>
            </p:cNvCxnSpPr>
            <p:nvPr/>
          </p:nvCxnSpPr>
          <p:spPr>
            <a:xfrm flipV="1" rot="16200000">
              <a:off x="5598720" y="1683720"/>
              <a:ext cx="1269360" cy="3072240"/>
            </a:xfrm>
            <a:prstGeom prst="bentConnector3">
              <a:avLst>
                <a:gd name="adj1" fmla="val 499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5373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2624040" y="1782000"/>
              <a:ext cx="1269360" cy="2876040"/>
            </a:xfrm>
            <a:prstGeom prst="bentConnector3">
              <a:avLst>
                <a:gd name="adj1" fmla="val 499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5372"/>
            <p:cNvCxnSpPr>
              <a:stCxn id="117" idx="0"/>
              <a:endCxn id="111" idx="2"/>
            </p:cNvCxnSpPr>
            <p:nvPr/>
          </p:nvCxnSpPr>
          <p:spPr>
            <a:xfrm flipH="1" rot="16200000">
              <a:off x="2070000" y="-39960"/>
              <a:ext cx="2090880" cy="3161520"/>
            </a:xfrm>
            <a:prstGeom prst="bentConnector5">
              <a:avLst>
                <a:gd name="adj1" fmla="val -10935"/>
                <a:gd name="adj2" fmla="val 54207"/>
                <a:gd name="adj3" fmla="val 11093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15368"/>
            <p:cNvSpPr/>
            <p:nvPr/>
          </p:nvSpPr>
          <p:spPr>
            <a:xfrm>
              <a:off x="3785400" y="357120"/>
              <a:ext cx="1824120" cy="222876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28760"/>
                <a:gd name="textAreaBottom" fmla="*/ 2139840 h 2228760"/>
              </a:gdLst>
              <a:ahLst/>
              <a:rect l="textAreaLeft" t="textAreaTop" r="textAreaRight" b="textAreaBottom"/>
              <a:pathLst>
                <a:path w="21600" h="26391">
                  <a:moveTo>
                    <a:pt x="3600" y="0"/>
                  </a:moveTo>
                  <a:arcTo wR="3600" hR="3600" stAng="16200000" swAng="-5400000"/>
                  <a:lnTo>
                    <a:pt x="0" y="22791"/>
                  </a:lnTo>
                  <a:arcTo wR="3600" hR="3600" stAng="10800000" swAng="-5400000"/>
                  <a:lnTo>
                    <a:pt x="18000" y="263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Garamond"/>
                </a:rPr>
                <a:t>ЗАДАЧИ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_s15369"/>
            <p:cNvSpPr/>
            <p:nvPr/>
          </p:nvSpPr>
          <p:spPr>
            <a:xfrm>
              <a:off x="357120" y="495720"/>
              <a:ext cx="2357640" cy="2576520"/>
            </a:xfrm>
            <a:custGeom>
              <a:avLst/>
              <a:gdLst>
                <a:gd name="textAreaLeft" fmla="*/ 114840 w 2357640"/>
                <a:gd name="textAreaRight" fmla="*/ 2242800 w 2357640"/>
                <a:gd name="textAreaTop" fmla="*/ 114840 h 2576520"/>
                <a:gd name="textAreaBottom" fmla="*/ 2461680 h 2576520"/>
              </a:gdLst>
              <a:ahLst/>
              <a:rect l="textAreaLeft" t="textAreaTop" r="textAreaRight" b="textAreaBottom"/>
              <a:pathLst>
                <a:path w="21600" h="23605">
                  <a:moveTo>
                    <a:pt x="3600" y="0"/>
                  </a:moveTo>
                  <a:arcTo wR="3600" hR="3600" stAng="16200000" swAng="-5400000"/>
                  <a:lnTo>
                    <a:pt x="0" y="20005"/>
                  </a:lnTo>
                  <a:arcTo wR="3600" hR="3600" stAng="10800000" swAng="-5400000"/>
                  <a:lnTo>
                    <a:pt x="18000" y="236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Изучить русскую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культуру XIXв. и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охарактеризовать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этнографические и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народно-фольклорные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увлечения писателе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данного периода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_s15370"/>
            <p:cNvSpPr/>
            <p:nvPr/>
          </p:nvSpPr>
          <p:spPr>
            <a:xfrm>
              <a:off x="644040" y="3854880"/>
              <a:ext cx="2357640" cy="2569320"/>
            </a:xfrm>
            <a:custGeom>
              <a:avLst/>
              <a:gdLst>
                <a:gd name="textAreaLeft" fmla="*/ 114840 w 2357640"/>
                <a:gd name="textAreaRight" fmla="*/ 2242800 w 2357640"/>
                <a:gd name="textAreaTop" fmla="*/ 114840 h 2569320"/>
                <a:gd name="textAreaBottom" fmla="*/ 2454480 h 2569320"/>
              </a:gdLst>
              <a:ahLst/>
              <a:rect l="textAreaLeft" t="textAreaTop" r="textAreaRight" b="textAreaBottom"/>
              <a:pathLst>
                <a:path w="21600" h="23539">
                  <a:moveTo>
                    <a:pt x="3600" y="0"/>
                  </a:moveTo>
                  <a:arcTo wR="3600" hR="3600" stAng="16200000" swAng="-5400000"/>
                  <a:lnTo>
                    <a:pt x="0" y="19939"/>
                  </a:lnTo>
                  <a:arcTo wR="3600" hR="3600" stAng="10800000" swAng="-5400000"/>
                  <a:lnTo>
                    <a:pt x="18000" y="235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ыяснить роль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усских писателе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 сохранении 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устного творчества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усского народа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и передаче колорита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усско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народной жизни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" name="_s15371"/>
            <p:cNvSpPr/>
            <p:nvPr/>
          </p:nvSpPr>
          <p:spPr>
            <a:xfrm>
              <a:off x="6644160" y="3854880"/>
              <a:ext cx="2252520" cy="2639520"/>
            </a:xfrm>
            <a:custGeom>
              <a:avLst/>
              <a:gdLst>
                <a:gd name="textAreaLeft" fmla="*/ 109800 w 2252520"/>
                <a:gd name="textAreaRight" fmla="*/ 2142720 w 2252520"/>
                <a:gd name="textAreaTop" fmla="*/ 109800 h 2639520"/>
                <a:gd name="textAreaBottom" fmla="*/ 2529720 h 2639520"/>
              </a:gdLst>
              <a:ahLst/>
              <a:rect l="textAreaLeft" t="textAreaTop" r="textAreaRight" b="textAreaBottom"/>
              <a:pathLst>
                <a:path w="21600" h="25310">
                  <a:moveTo>
                    <a:pt x="3600" y="0"/>
                  </a:moveTo>
                  <a:arcTo wR="3600" hR="3600" stAng="16200000" swAng="-5400000"/>
                  <a:lnTo>
                    <a:pt x="0" y="21710"/>
                  </a:lnTo>
                  <a:arcTo wR="3600" hR="3600" stAng="10800000" swAng="-5400000"/>
                  <a:lnTo>
                    <a:pt x="18000" y="25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бозначить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специфику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авторских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бращений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к фольклорному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материалу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_s15375"/>
            <p:cNvSpPr/>
            <p:nvPr/>
          </p:nvSpPr>
          <p:spPr>
            <a:xfrm>
              <a:off x="6716160" y="495720"/>
              <a:ext cx="2214720" cy="2576520"/>
            </a:xfrm>
            <a:custGeom>
              <a:avLst/>
              <a:gdLst>
                <a:gd name="textAreaLeft" fmla="*/ 108000 w 2214720"/>
                <a:gd name="textAreaRight" fmla="*/ 2106720 w 2214720"/>
                <a:gd name="textAreaTop" fmla="*/ 108000 h 2576520"/>
                <a:gd name="textAreaBottom" fmla="*/ 2468520 h 2576520"/>
              </a:gdLst>
              <a:ahLst/>
              <a:rect l="textAreaLeft" t="textAreaTop" r="textAreaRight" b="textAreaBottom"/>
              <a:pathLst>
                <a:path w="21600" h="25128">
                  <a:moveTo>
                    <a:pt x="3600" y="0"/>
                  </a:moveTo>
                  <a:arcTo wR="3600" hR="3600" stAng="16200000" swAng="-5400000"/>
                  <a:lnTo>
                    <a:pt x="0" y="21528"/>
                  </a:lnTo>
                  <a:arcTo wR="3600" hR="3600" stAng="10800000" swAng="-5400000"/>
                  <a:lnTo>
                    <a:pt x="18000" y="25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пределить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характер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фольклорных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заимствований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в русской литературе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XIXв., их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сновные виды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5371"/>
            <p:cNvSpPr/>
            <p:nvPr/>
          </p:nvSpPr>
          <p:spPr>
            <a:xfrm>
              <a:off x="3572280" y="3854880"/>
              <a:ext cx="2252520" cy="2639520"/>
            </a:xfrm>
            <a:custGeom>
              <a:avLst/>
              <a:gdLst>
                <a:gd name="textAreaLeft" fmla="*/ 106200 w 2252520"/>
                <a:gd name="textAreaRight" fmla="*/ 2146320 w 2252520"/>
                <a:gd name="textAreaTop" fmla="*/ 106200 h 2639520"/>
                <a:gd name="textAreaBottom" fmla="*/ 2533320 h 2639520"/>
              </a:gdLst>
              <a:ahLst/>
              <a:rect l="textAreaLeft" t="textAreaTop" r="textAreaRight" b="textAreaBottom"/>
              <a:pathLst>
                <a:path w="21600" h="25310">
                  <a:moveTo>
                    <a:pt x="3478" y="0"/>
                  </a:moveTo>
                  <a:arcTo wR="3478" hR="3478" stAng="16200000" swAng="-5400000"/>
                  <a:lnTo>
                    <a:pt x="0" y="21832"/>
                  </a:lnTo>
                  <a:arcTo wR="3478" hR="3478" stAng="10800000" swAng="-5400000"/>
                  <a:lnTo>
                    <a:pt x="18122" y="25310"/>
                  </a:lnTo>
                  <a:arcTo wR="3478" hR="3478" stAng="5400000" swAng="-5400000"/>
                  <a:lnTo>
                    <a:pt x="21600" y="3478"/>
                  </a:lnTo>
                  <a:arcTo wR="3478" hR="3478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ыявить функции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архетипов, аллюзий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еминисценци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 произведениях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А.С. Пушкина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.И. Даля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А.И. Куприна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Н.В. Гоголя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cxnSp>
          <p:nvCxnSpPr>
            <p:cNvPr id="119" name="_s15373"/>
            <p:cNvCxnSpPr/>
            <p:nvPr/>
          </p:nvCxnSpPr>
          <p:spPr>
            <a:xfrm flipH="1" flipV="1" rot="5400000">
              <a:off x="4401720" y="3524400"/>
              <a:ext cx="627120" cy="288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dmin\Рабочий стол\презентация\pushkin.jpg"/>
          <p:cNvPicPr/>
          <p:nvPr/>
        </p:nvPicPr>
        <p:blipFill>
          <a:blip r:embed="rId1"/>
          <a:stretch/>
        </p:blipFill>
        <p:spPr>
          <a:xfrm>
            <a:off x="285840" y="214200"/>
            <a:ext cx="418788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4686480" y="928800"/>
            <a:ext cx="4513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Александр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Сергеевич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Пушки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5308560" y="423072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799 - 1837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428760" y="357120"/>
            <a:ext cx="835812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тивы сюжет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прет , путешествие, похищен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ы герое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гатырь                            дурачо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C:\Documents and Settings\Admin\Рабочий стол\презентация\1218585448_mech-kladenec.jpg"/>
          <p:cNvPicPr/>
          <p:nvPr/>
        </p:nvPicPr>
        <p:blipFill>
          <a:blip r:embed="rId1"/>
          <a:stretch/>
        </p:blipFill>
        <p:spPr>
          <a:xfrm>
            <a:off x="500040" y="2714760"/>
            <a:ext cx="2476440" cy="3352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Admin\Рабочий стол\презентация\Gora_samotsvetov_Tom_2_izumrud2.jpg"/>
          <p:cNvPicPr/>
          <p:nvPr/>
        </p:nvPicPr>
        <p:blipFill>
          <a:blip r:embed="rId2"/>
          <a:stretch/>
        </p:blipFill>
        <p:spPr>
          <a:xfrm>
            <a:off x="3214800" y="2714760"/>
            <a:ext cx="56214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-211320" y="428760"/>
            <a:ext cx="575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отемы животных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рыба, конь, медвед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7" name="Группа 10"/>
          <p:cNvGrpSpPr/>
          <p:nvPr/>
        </p:nvGrpSpPr>
        <p:grpSpPr>
          <a:xfrm>
            <a:off x="357120" y="1714680"/>
            <a:ext cx="8491680" cy="3011400"/>
            <a:chOff x="357120" y="1714680"/>
            <a:chExt cx="8491680" cy="3011400"/>
          </a:xfrm>
        </p:grpSpPr>
        <p:pic>
          <p:nvPicPr>
            <p:cNvPr id="128" name="Picture 2" descr="C:\Documents and Settings\Admin\Рабочий стол\презентация\skazka_o_rybake_i_rybke_1.jpg"/>
            <p:cNvPicPr/>
            <p:nvPr/>
          </p:nvPicPr>
          <p:blipFill>
            <a:blip r:embed="rId1"/>
            <a:stretch/>
          </p:blipFill>
          <p:spPr>
            <a:xfrm>
              <a:off x="357120" y="1785960"/>
              <a:ext cx="3714840" cy="27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" descr="C:\Documents and Settings\Admin\Рабочий стол\презентация\hodit_kon'_po_berejku.png"/>
            <p:cNvPicPr/>
            <p:nvPr/>
          </p:nvPicPr>
          <p:blipFill>
            <a:blip r:embed="rId2"/>
            <a:stretch/>
          </p:blipFill>
          <p:spPr>
            <a:xfrm>
              <a:off x="4286160" y="1714680"/>
              <a:ext cx="2163240" cy="30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C:\Documents and Settings\Admin\Рабочий стол\презентация\article1631.jpg"/>
            <p:cNvPicPr/>
            <p:nvPr/>
          </p:nvPicPr>
          <p:blipFill>
            <a:blip r:embed="rId3"/>
            <a:stretch/>
          </p:blipFill>
          <p:spPr>
            <a:xfrm>
              <a:off x="6643800" y="1714680"/>
              <a:ext cx="2205000" cy="300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11"/>
          <p:cNvSpPr/>
          <p:nvPr/>
        </p:nvSpPr>
        <p:spPr>
          <a:xfrm>
            <a:off x="-862920" y="5072040"/>
            <a:ext cx="11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Черты обрядов, связанные с культом земли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оды, солн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"/>
          <p:cNvSpPr/>
          <p:nvPr/>
        </p:nvSpPr>
        <p:spPr>
          <a:xfrm>
            <a:off x="428760" y="428760"/>
            <a:ext cx="6786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тоянные эпитет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асна девиц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добрый молоде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мвол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адиционная композиц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C:\Documents and Settings\Admin\Рабочий стол\презентация\i_005.jpg"/>
          <p:cNvPicPr/>
          <p:nvPr/>
        </p:nvPicPr>
        <p:blipFill>
          <a:blip r:embed="rId1"/>
          <a:stretch/>
        </p:blipFill>
        <p:spPr>
          <a:xfrm>
            <a:off x="785880" y="1000080"/>
            <a:ext cx="27781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3:01:19Z</dcterms:created>
  <dc:creator>Пользователь</dc:creator>
  <dc:description/>
  <dc:language>en-US</dc:language>
  <cp:lastModifiedBy>Admin</cp:lastModifiedBy>
  <dcterms:modified xsi:type="dcterms:W3CDTF">2013-06-11T16:45:53Z</dcterms:modified>
  <cp:revision>20</cp:revision>
  <dc:subject/>
  <dc:title>Слайд 1</dc:title>
</cp:coreProperties>
</file>