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95027-CF5E-4972-B83E-0B194EC5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CD144-EEAF-41BC-848F-B06E5E36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F7BAC-0F14-4B1F-B3E2-8168D47C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35F62-032E-488E-B0E7-21DBC60F1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D06A-E927-47C5-A20A-F1EB191E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D746-BE00-4B41-91D6-F8923617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3125-AE99-4514-817A-89C060D1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5E1D-B289-460C-8CC3-936A5AC8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C530-D27A-4F83-A5A0-D9A8ED9E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6F46-B73D-4B75-8C81-B2C9882D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F93C-6854-4DDD-ACEB-D827320A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94E84-5E5A-4F13-B036-80AB1E8A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B5E6-03F3-44B1-800C-7A5C5FE3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023C-4091-4541-BA99-867D10C4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DA5B-0AB2-4948-912C-9B993893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1FC3-6F23-4033-A210-3C15B24ED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5D79-B186-4D55-9FB0-5ECB3AC9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4DC39-157F-40AB-89DA-E3706C4E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EE75B-EC33-4577-BA98-824220FB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F5B1D-178C-40A7-9212-83DE1C8C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19410-0CE7-4723-9A2D-C9FB74B4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DF8A1-7182-40F5-B272-4A6125BE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FB146-83C2-447C-84CD-87BD38DD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03718-A183-4CE0-A4BF-C6811BA1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F208-0133-47BD-83E6-ADF502306E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5793-3A15-4666-BF44-B7FA0C51DC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7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5ff"/>
                </a:solidFill>
                <a:latin typeface="Garamond"/>
              </a:rPr>
              <a:t>МИНИСТЕРСТВО ОБРАЗОВАНИЯ И НАУКИ, МОЛОДЕЖИ И СПОРТА УКРАИНЫ</a:t>
            </a:r>
            <a:br>
              <a:rPr sz="1600"/>
            </a:br>
            <a:r>
              <a:rPr b="1" lang="ru-RU" sz="1600" spc="-1" strike="noStrike">
                <a:solidFill>
                  <a:srgbClr val="e5e5ff"/>
                </a:solidFill>
                <a:latin typeface="Garamond"/>
              </a:rPr>
              <a:t>СЕВАСТОПОЛЬСКИЙ ГОРОДСКОЙ ГУМАНИТАРНЫЙ УНИВЕРСИТЕТ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e5e5ff"/>
                </a:solidFill>
                <a:latin typeface="Garamond"/>
              </a:rPr>
              <a:t>Филологический факультет</a:t>
            </a:r>
            <a:br>
              <a:rPr sz="1600"/>
            </a:br>
            <a:r>
              <a:rPr b="1" lang="ru-RU" sz="1600" spc="-1" strike="noStrike">
                <a:solidFill>
                  <a:srgbClr val="e5e5ff"/>
                </a:solidFill>
                <a:latin typeface="Garamond"/>
              </a:rPr>
              <a:t>Кафедра русского языка и зарубежной литературы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10920" y="213372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оль фольклорных элементов в творчестве   русских писателей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IX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е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сполнитель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учный руководител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тудентка группы УР5                                           к.ф.н., доц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уголь В.Э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ашко Е.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Documents and Settings\Admin\Рабочий стол\презентация\img_1.jpg"/>
          <p:cNvPicPr/>
          <p:nvPr/>
        </p:nvPicPr>
        <p:blipFill>
          <a:blip r:embed="rId1"/>
          <a:stretch/>
        </p:blipFill>
        <p:spPr>
          <a:xfrm>
            <a:off x="214200" y="285840"/>
            <a:ext cx="4572000" cy="61722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4600800" y="857160"/>
            <a:ext cx="5013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Николай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Васильевич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Гоголь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5522760" y="4357800"/>
            <a:ext cx="31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1809 - 1852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4"/>
          <p:cNvSpPr/>
          <p:nvPr/>
        </p:nvSpPr>
        <p:spPr>
          <a:xfrm>
            <a:off x="71280" y="963720"/>
            <a:ext cx="4143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Garamond"/>
              </a:rPr>
              <a:t>Фольклор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4429080" y="1000080"/>
            <a:ext cx="4714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Garamond"/>
              </a:rPr>
              <a:t>Фантастика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1678680" y="4143240"/>
            <a:ext cx="580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масштабность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космизм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Прямая со стрелкой 9" descr=""/>
          <p:cNvPicPr/>
          <p:nvPr/>
        </p:nvPicPr>
        <p:blipFill>
          <a:blip r:embed="rId1"/>
          <a:stretch/>
        </p:blipFill>
        <p:spPr>
          <a:xfrm>
            <a:off x="2206800" y="2011320"/>
            <a:ext cx="2097000" cy="265284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ая со стрелкой 10" descr=""/>
          <p:cNvPicPr/>
          <p:nvPr/>
        </p:nvPicPr>
        <p:blipFill>
          <a:blip r:embed="rId2"/>
          <a:stretch/>
        </p:blipFill>
        <p:spPr>
          <a:xfrm>
            <a:off x="4761000" y="2004840"/>
            <a:ext cx="230976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Documents and Settings\Admin\Рабочий стол\презентация\Рисунок1.jpg"/>
          <p:cNvPicPr/>
          <p:nvPr/>
        </p:nvPicPr>
        <p:blipFill>
          <a:blip r:embed="rId1"/>
          <a:stretch/>
        </p:blipFill>
        <p:spPr>
          <a:xfrm>
            <a:off x="285840" y="500040"/>
            <a:ext cx="4546440" cy="58215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4833720" y="928800"/>
            <a:ext cx="434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Даль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Владимир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Иванович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5522760" y="4429080"/>
            <a:ext cx="31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1801 - 1872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:\Documents and Settings\Admin\Рабочий стол\презентация\Рисунок2.png"/>
          <p:cNvPicPr/>
          <p:nvPr/>
        </p:nvPicPr>
        <p:blipFill>
          <a:blip r:embed="rId1"/>
          <a:stretch/>
        </p:blipFill>
        <p:spPr>
          <a:xfrm>
            <a:off x="0" y="214200"/>
            <a:ext cx="912492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Особенности фольклоризма В.И.Даля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7120" y="149976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ера в таинственные силы и сверхъестественные явления природ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рисовки быта крестьян, обрядовой поэз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овый уровень осмысления народной жизн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олее углубленно отражает окружающую действительность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лизость к народной точке зрения, постижение народной мудр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Documents and Settings\Admin\Рабочий стол\презентация\77309735_1313855039_Kuprin2.jpg"/>
          <p:cNvPicPr/>
          <p:nvPr/>
        </p:nvPicPr>
        <p:blipFill>
          <a:blip r:embed="rId1"/>
          <a:stretch/>
        </p:blipFill>
        <p:spPr>
          <a:xfrm>
            <a:off x="285840" y="357120"/>
            <a:ext cx="3949560" cy="61549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4146840" y="857160"/>
            <a:ext cx="4943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Garamond"/>
              </a:rPr>
              <a:t>Куприн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Garamond"/>
              </a:rPr>
              <a:t>Александр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Garamond"/>
              </a:rPr>
              <a:t>Иванович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5094000" y="4572000"/>
            <a:ext cx="31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1870 - 1938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3"/>
          <p:cNvSpPr/>
          <p:nvPr/>
        </p:nvSpPr>
        <p:spPr>
          <a:xfrm>
            <a:off x="-840240" y="1357200"/>
            <a:ext cx="10948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пическое видение мир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имволичность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рупномасштабность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нцентрация внимания на всеобщем, вечном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стетические и философские проблемы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равственные совершенствования и духовно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зрождение человек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иски идеала, смысла жизн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жертвенность и величие любв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Прямоугольник 6"/>
          <p:cNvSpPr/>
          <p:nvPr/>
        </p:nvSpPr>
        <p:spPr>
          <a:xfrm>
            <a:off x="-473040" y="500040"/>
            <a:ext cx="101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Особенности фольклоризма  А.И. Куприна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e5e5ff"/>
                </a:solidFill>
                <a:latin typeface="Garamond"/>
              </a:rPr>
              <a:t>СПАСИБО </a:t>
            </a:r>
            <a:br>
              <a:rPr sz="9600"/>
            </a:br>
            <a:r>
              <a:rPr b="1" lang="ru-RU" sz="9600" spc="-1" strike="noStrike">
                <a:solidFill>
                  <a:srgbClr val="e5e5ff"/>
                </a:solidFill>
                <a:latin typeface="Garamond"/>
              </a:rPr>
              <a:t>ЗА </a:t>
            </a:r>
            <a:br>
              <a:rPr sz="9600"/>
            </a:br>
            <a:r>
              <a:rPr b="1" lang="ru-RU" sz="9600" spc="-1" strike="noStrike">
                <a:solidFill>
                  <a:srgbClr val="e5e5ff"/>
                </a:solidFill>
                <a:latin typeface="Garamond"/>
              </a:rPr>
              <a:t>ВНИМАНИЕ</a:t>
            </a:r>
            <a:endParaRPr b="1" lang="en-US" sz="9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7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5ff"/>
                </a:solidFill>
                <a:latin typeface="Garamond"/>
              </a:rPr>
              <a:t>МИНИСТЕРСТВО ОБРАЗОВАНИЯ И НАУКИ, МОЛОДЕЖИ И СПОРТА УКРАИНЫ</a:t>
            </a:r>
            <a:br>
              <a:rPr sz="1600"/>
            </a:br>
            <a:r>
              <a:rPr b="1" lang="ru-RU" sz="1600" spc="-1" strike="noStrike">
                <a:solidFill>
                  <a:srgbClr val="e5e5ff"/>
                </a:solidFill>
                <a:latin typeface="Garamond"/>
              </a:rPr>
              <a:t>СЕВАСТОПОЛЬСКИЙ ГОРОДСКОЙ ГУМАНИТАРНЫЙ УНИВЕРСИТЕТ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e5e5ff"/>
                </a:solidFill>
                <a:latin typeface="Garamond"/>
              </a:rPr>
              <a:t>Филологический факультет</a:t>
            </a:r>
            <a:br>
              <a:rPr sz="1600"/>
            </a:br>
            <a:r>
              <a:rPr b="1" lang="ru-RU" sz="1600" spc="-1" strike="noStrike">
                <a:solidFill>
                  <a:srgbClr val="e5e5ff"/>
                </a:solidFill>
                <a:latin typeface="Garamond"/>
              </a:rPr>
              <a:t>Кафедра русского языка и зарубежной литературы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10920" y="213372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оль фольклорных элементов в творчестве   русских писателей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IX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е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сполнитель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учный руководител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тудентка группы УР5                                           к.ф.н., доц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уголь В.Э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ашко Е.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85840" y="99972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Объек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ецифика художественного пространства произведений русских писателей в контексте народно-фольклорных увлечений XIX в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5480" y="3285720"/>
            <a:ext cx="838836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Предм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ути создания народного колорита в произведениях А.С.Пушкина, Н.В. Гоголя, В.И. Даля, А.И. Куприна с опорой на функциональные ценности этнографического и фольклорного материал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91520" cy="22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Основным МЕТОДОМ исследования является изучение наследия русских писателей, который включает в себя черты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28760" y="3571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поставительного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равнительно-исторического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итературоведческого анализ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ЦЕЛЬ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учить характер влияния устного народного творчества на сюжеты, образную систему, проблематику произведений русских авторов ХІХ ст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Organization Chart 7"/>
          <p:cNvGrpSpPr/>
          <p:nvPr/>
        </p:nvGrpSpPr>
        <p:grpSpPr>
          <a:xfrm>
            <a:off x="357120" y="267120"/>
            <a:ext cx="8573760" cy="6227280"/>
            <a:chOff x="357120" y="267120"/>
            <a:chExt cx="8573760" cy="6227280"/>
          </a:xfrm>
        </p:grpSpPr>
        <p:cxnSp>
          <p:nvCxnSpPr>
            <p:cNvPr id="109" name="_s15376"/>
            <p:cNvCxnSpPr>
              <a:stCxn id="110" idx="0"/>
              <a:endCxn id="111" idx="2"/>
            </p:cNvCxnSpPr>
            <p:nvPr/>
          </p:nvCxnSpPr>
          <p:spPr>
            <a:xfrm rot="5400000">
              <a:off x="5214240" y="-21600"/>
              <a:ext cx="2090880" cy="3125520"/>
            </a:xfrm>
            <a:prstGeom prst="bentConnector5">
              <a:avLst>
                <a:gd name="adj1" fmla="val -10935"/>
                <a:gd name="adj2" fmla="val 53104"/>
                <a:gd name="adj3" fmla="val 11093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15374"/>
            <p:cNvCxnSpPr>
              <a:stCxn id="113" idx="0"/>
              <a:endCxn id="111" idx="2"/>
            </p:cNvCxnSpPr>
            <p:nvPr/>
          </p:nvCxnSpPr>
          <p:spPr>
            <a:xfrm flipV="1" rot="16200000">
              <a:off x="5598720" y="1683720"/>
              <a:ext cx="1269360" cy="3072240"/>
            </a:xfrm>
            <a:prstGeom prst="bentConnector3">
              <a:avLst>
                <a:gd name="adj1" fmla="val 4998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15373"/>
            <p:cNvCxnSpPr>
              <a:stCxn id="115" idx="0"/>
              <a:endCxn id="111" idx="2"/>
            </p:cNvCxnSpPr>
            <p:nvPr/>
          </p:nvCxnSpPr>
          <p:spPr>
            <a:xfrm flipH="1" flipV="1" rot="5400000">
              <a:off x="2624040" y="1782000"/>
              <a:ext cx="1269360" cy="2876040"/>
            </a:xfrm>
            <a:prstGeom prst="bentConnector3">
              <a:avLst>
                <a:gd name="adj1" fmla="val 4998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15372"/>
            <p:cNvCxnSpPr>
              <a:stCxn id="117" idx="0"/>
              <a:endCxn id="111" idx="2"/>
            </p:cNvCxnSpPr>
            <p:nvPr/>
          </p:nvCxnSpPr>
          <p:spPr>
            <a:xfrm flipH="1" rot="16200000">
              <a:off x="2070000" y="-39960"/>
              <a:ext cx="2090880" cy="3161520"/>
            </a:xfrm>
            <a:prstGeom prst="bentConnector5">
              <a:avLst>
                <a:gd name="adj1" fmla="val -10935"/>
                <a:gd name="adj2" fmla="val 54207"/>
                <a:gd name="adj3" fmla="val 11093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1" name="_s15368"/>
            <p:cNvSpPr/>
            <p:nvPr/>
          </p:nvSpPr>
          <p:spPr>
            <a:xfrm>
              <a:off x="3785400" y="357120"/>
              <a:ext cx="1824120" cy="222876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28760"/>
                <a:gd name="textAreaBottom" fmla="*/ 2139840 h 2228760"/>
              </a:gdLst>
              <a:ahLst/>
              <a:rect l="textAreaLeft" t="textAreaTop" r="textAreaRight" b="textAreaBottom"/>
              <a:pathLst>
                <a:path w="21600" h="26391">
                  <a:moveTo>
                    <a:pt x="3600" y="0"/>
                  </a:moveTo>
                  <a:arcTo wR="3600" hR="3600" stAng="16200000" swAng="-5400000"/>
                  <a:lnTo>
                    <a:pt x="0" y="22791"/>
                  </a:lnTo>
                  <a:arcTo wR="3600" hR="3600" stAng="10800000" swAng="-5400000"/>
                  <a:lnTo>
                    <a:pt x="18000" y="263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Garamond"/>
                </a:rPr>
                <a:t>ЗАДАЧИ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" name="_s15369"/>
            <p:cNvSpPr/>
            <p:nvPr/>
          </p:nvSpPr>
          <p:spPr>
            <a:xfrm>
              <a:off x="357120" y="495720"/>
              <a:ext cx="2357640" cy="2576520"/>
            </a:xfrm>
            <a:custGeom>
              <a:avLst/>
              <a:gdLst>
                <a:gd name="textAreaLeft" fmla="*/ 114840 w 2357640"/>
                <a:gd name="textAreaRight" fmla="*/ 2242800 w 2357640"/>
                <a:gd name="textAreaTop" fmla="*/ 114840 h 2576520"/>
                <a:gd name="textAreaBottom" fmla="*/ 2461680 h 2576520"/>
              </a:gdLst>
              <a:ahLst/>
              <a:rect l="textAreaLeft" t="textAreaTop" r="textAreaRight" b="textAreaBottom"/>
              <a:pathLst>
                <a:path w="21600" h="23605">
                  <a:moveTo>
                    <a:pt x="3600" y="0"/>
                  </a:moveTo>
                  <a:arcTo wR="3600" hR="3600" stAng="16200000" swAng="-5400000"/>
                  <a:lnTo>
                    <a:pt x="0" y="20005"/>
                  </a:lnTo>
                  <a:arcTo wR="3600" hR="3600" stAng="10800000" swAng="-5400000"/>
                  <a:lnTo>
                    <a:pt x="18000" y="236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Изучить русскую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культуру XIXв. и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охарактеризовать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этнографические и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  </a:t>
              </a: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народно-фольклорные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увлечения писателей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данного периода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" name="_s15370"/>
            <p:cNvSpPr/>
            <p:nvPr/>
          </p:nvSpPr>
          <p:spPr>
            <a:xfrm>
              <a:off x="644040" y="3854880"/>
              <a:ext cx="2357640" cy="2569320"/>
            </a:xfrm>
            <a:custGeom>
              <a:avLst/>
              <a:gdLst>
                <a:gd name="textAreaLeft" fmla="*/ 114840 w 2357640"/>
                <a:gd name="textAreaRight" fmla="*/ 2242800 w 2357640"/>
                <a:gd name="textAreaTop" fmla="*/ 114840 h 2569320"/>
                <a:gd name="textAreaBottom" fmla="*/ 2454480 h 2569320"/>
              </a:gdLst>
              <a:ahLst/>
              <a:rect l="textAreaLeft" t="textAreaTop" r="textAreaRight" b="textAreaBottom"/>
              <a:pathLst>
                <a:path w="21600" h="23539">
                  <a:moveTo>
                    <a:pt x="3600" y="0"/>
                  </a:moveTo>
                  <a:arcTo wR="3600" hR="3600" stAng="16200000" swAng="-5400000"/>
                  <a:lnTo>
                    <a:pt x="0" y="19939"/>
                  </a:lnTo>
                  <a:arcTo wR="3600" hR="3600" stAng="10800000" swAng="-5400000"/>
                  <a:lnTo>
                    <a:pt x="18000" y="235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  </a:t>
              </a: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Выяснить роль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русских писателей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в сохранении 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устного творчества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русского народа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и передаче колорита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русской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народной жизни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" name="_s15371"/>
            <p:cNvSpPr/>
            <p:nvPr/>
          </p:nvSpPr>
          <p:spPr>
            <a:xfrm>
              <a:off x="6644160" y="3854880"/>
              <a:ext cx="2252520" cy="2639520"/>
            </a:xfrm>
            <a:custGeom>
              <a:avLst/>
              <a:gdLst>
                <a:gd name="textAreaLeft" fmla="*/ 109800 w 2252520"/>
                <a:gd name="textAreaRight" fmla="*/ 2142720 w 2252520"/>
                <a:gd name="textAreaTop" fmla="*/ 109800 h 2639520"/>
                <a:gd name="textAreaBottom" fmla="*/ 2529720 h 2639520"/>
              </a:gdLst>
              <a:ahLst/>
              <a:rect l="textAreaLeft" t="textAreaTop" r="textAreaRight" b="textAreaBottom"/>
              <a:pathLst>
                <a:path w="21600" h="25310">
                  <a:moveTo>
                    <a:pt x="3600" y="0"/>
                  </a:moveTo>
                  <a:arcTo wR="3600" hR="3600" stAng="16200000" swAng="-5400000"/>
                  <a:lnTo>
                    <a:pt x="0" y="21710"/>
                  </a:lnTo>
                  <a:arcTo wR="3600" hR="3600" stAng="10800000" swAng="-5400000"/>
                  <a:lnTo>
                    <a:pt x="18000" y="253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Обозначить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специфику 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авторских 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обращений 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к фольклорному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материалу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" name="_s15375"/>
            <p:cNvSpPr/>
            <p:nvPr/>
          </p:nvSpPr>
          <p:spPr>
            <a:xfrm>
              <a:off x="6716160" y="495720"/>
              <a:ext cx="2214720" cy="2576520"/>
            </a:xfrm>
            <a:custGeom>
              <a:avLst/>
              <a:gdLst>
                <a:gd name="textAreaLeft" fmla="*/ 108000 w 2214720"/>
                <a:gd name="textAreaRight" fmla="*/ 2106720 w 2214720"/>
                <a:gd name="textAreaTop" fmla="*/ 108000 h 2576520"/>
                <a:gd name="textAreaBottom" fmla="*/ 2468520 h 2576520"/>
              </a:gdLst>
              <a:ahLst/>
              <a:rect l="textAreaLeft" t="textAreaTop" r="textAreaRight" b="textAreaBottom"/>
              <a:pathLst>
                <a:path w="21600" h="25128">
                  <a:moveTo>
                    <a:pt x="3600" y="0"/>
                  </a:moveTo>
                  <a:arcTo wR="3600" hR="3600" stAng="16200000" swAng="-5400000"/>
                  <a:lnTo>
                    <a:pt x="0" y="21528"/>
                  </a:lnTo>
                  <a:arcTo wR="3600" hR="3600" stAng="10800000" swAng="-5400000"/>
                  <a:lnTo>
                    <a:pt x="18000" y="251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Garamond"/>
                </a:rPr>
                <a:t>  </a:t>
              </a: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Определить 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характер 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фольклорных 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заимствований 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  </a:t>
              </a: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в русской литературе 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XIXв., их 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основные виды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" name="_s15371"/>
            <p:cNvSpPr/>
            <p:nvPr/>
          </p:nvSpPr>
          <p:spPr>
            <a:xfrm>
              <a:off x="3572280" y="3854880"/>
              <a:ext cx="2252520" cy="2639520"/>
            </a:xfrm>
            <a:custGeom>
              <a:avLst/>
              <a:gdLst>
                <a:gd name="textAreaLeft" fmla="*/ 106200 w 2252520"/>
                <a:gd name="textAreaRight" fmla="*/ 2146320 w 2252520"/>
                <a:gd name="textAreaTop" fmla="*/ 106200 h 2639520"/>
                <a:gd name="textAreaBottom" fmla="*/ 2533320 h 2639520"/>
              </a:gdLst>
              <a:ahLst/>
              <a:rect l="textAreaLeft" t="textAreaTop" r="textAreaRight" b="textAreaBottom"/>
              <a:pathLst>
                <a:path w="21600" h="25310">
                  <a:moveTo>
                    <a:pt x="3478" y="0"/>
                  </a:moveTo>
                  <a:arcTo wR="3478" hR="3478" stAng="16200000" swAng="-5400000"/>
                  <a:lnTo>
                    <a:pt x="0" y="21832"/>
                  </a:lnTo>
                  <a:arcTo wR="3478" hR="3478" stAng="10800000" swAng="-5400000"/>
                  <a:lnTo>
                    <a:pt x="18122" y="25310"/>
                  </a:lnTo>
                  <a:arcTo wR="3478" hR="3478" stAng="5400000" swAng="-5400000"/>
                  <a:lnTo>
                    <a:pt x="21600" y="3478"/>
                  </a:lnTo>
                  <a:arcTo wR="3478" hR="3478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Выявить функции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архетипов, аллюзий,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реминисценций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в произведениях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А.С. Пушкина,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В.И. Даля,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А.И. Куприна,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Н.В. Гоголя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cxnSp>
          <p:nvCxnSpPr>
            <p:cNvPr id="119" name="_s15373"/>
            <p:cNvCxnSpPr/>
            <p:nvPr/>
          </p:nvCxnSpPr>
          <p:spPr>
            <a:xfrm flipH="1" flipV="1" rot="5400000">
              <a:off x="4401720" y="3524400"/>
              <a:ext cx="627120" cy="2880"/>
            </a:xfrm>
            <a:prstGeom prst="bentConnector3">
              <a:avLst>
                <a:gd name="adj1" fmla="val 49971"/>
              </a:avLst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nts and Settings\Admin\Рабочий стол\презентация\pushkin.jpg"/>
          <p:cNvPicPr/>
          <p:nvPr/>
        </p:nvPicPr>
        <p:blipFill>
          <a:blip r:embed="rId1"/>
          <a:stretch/>
        </p:blipFill>
        <p:spPr>
          <a:xfrm>
            <a:off x="285840" y="214200"/>
            <a:ext cx="4187880" cy="63914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7"/>
          <p:cNvSpPr/>
          <p:nvPr/>
        </p:nvSpPr>
        <p:spPr>
          <a:xfrm>
            <a:off x="4686480" y="928800"/>
            <a:ext cx="4513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Александр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Сергеевич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Пушкин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5308560" y="4230720"/>
            <a:ext cx="31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1799 - 1837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6"/>
          <p:cNvSpPr/>
          <p:nvPr/>
        </p:nvSpPr>
        <p:spPr>
          <a:xfrm>
            <a:off x="428760" y="357120"/>
            <a:ext cx="8358120" cy="50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отивы сюжетов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прет , путешествие, похищени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разы героев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огатырь                            дурачок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2" descr="C:\Documents and Settings\Admin\Рабочий стол\презентация\1218585448_mech-kladenec.jpg"/>
          <p:cNvPicPr/>
          <p:nvPr/>
        </p:nvPicPr>
        <p:blipFill>
          <a:blip r:embed="rId1"/>
          <a:stretch/>
        </p:blipFill>
        <p:spPr>
          <a:xfrm>
            <a:off x="500040" y="2714760"/>
            <a:ext cx="2476440" cy="3352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Documents and Settings\Admin\Рабочий стол\презентация\Gora_samotsvetov_Tom_2_izumrud2.jpg"/>
          <p:cNvPicPr/>
          <p:nvPr/>
        </p:nvPicPr>
        <p:blipFill>
          <a:blip r:embed="rId2"/>
          <a:stretch/>
        </p:blipFill>
        <p:spPr>
          <a:xfrm>
            <a:off x="3214800" y="2714760"/>
            <a:ext cx="56214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6"/>
          <p:cNvSpPr/>
          <p:nvPr/>
        </p:nvSpPr>
        <p:spPr>
          <a:xfrm>
            <a:off x="-211320" y="428760"/>
            <a:ext cx="575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Тотемы животных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рыба, конь, медведь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7" name="Группа 10"/>
          <p:cNvGrpSpPr/>
          <p:nvPr/>
        </p:nvGrpSpPr>
        <p:grpSpPr>
          <a:xfrm>
            <a:off x="357120" y="1714680"/>
            <a:ext cx="8491680" cy="3011400"/>
            <a:chOff x="357120" y="1714680"/>
            <a:chExt cx="8491680" cy="3011400"/>
          </a:xfrm>
        </p:grpSpPr>
        <p:pic>
          <p:nvPicPr>
            <p:cNvPr id="128" name="Picture 2" descr="C:\Documents and Settings\Admin\Рабочий стол\презентация\skazka_o_rybake_i_rybke_1.jpg"/>
            <p:cNvPicPr/>
            <p:nvPr/>
          </p:nvPicPr>
          <p:blipFill>
            <a:blip r:embed="rId1"/>
            <a:stretch/>
          </p:blipFill>
          <p:spPr>
            <a:xfrm>
              <a:off x="357120" y="1785960"/>
              <a:ext cx="3714840" cy="27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3" descr="C:\Documents and Settings\Admin\Рабочий стол\презентация\hodit_kon'_po_berejku.png"/>
            <p:cNvPicPr/>
            <p:nvPr/>
          </p:nvPicPr>
          <p:blipFill>
            <a:blip r:embed="rId2"/>
            <a:stretch/>
          </p:blipFill>
          <p:spPr>
            <a:xfrm>
              <a:off x="4286160" y="1714680"/>
              <a:ext cx="2163240" cy="30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4" descr="C:\Documents and Settings\Admin\Рабочий стол\презентация\article1631.jpg"/>
            <p:cNvPicPr/>
            <p:nvPr/>
          </p:nvPicPr>
          <p:blipFill>
            <a:blip r:embed="rId3"/>
            <a:stretch/>
          </p:blipFill>
          <p:spPr>
            <a:xfrm>
              <a:off x="6643800" y="1714680"/>
              <a:ext cx="2205000" cy="300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TextBox 11"/>
          <p:cNvSpPr/>
          <p:nvPr/>
        </p:nvSpPr>
        <p:spPr>
          <a:xfrm>
            <a:off x="-862920" y="5072040"/>
            <a:ext cx="1112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Черты обрядов, связанные с культом земли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оды, солнц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5"/>
          <p:cNvSpPr/>
          <p:nvPr/>
        </p:nvSpPr>
        <p:spPr>
          <a:xfrm>
            <a:off x="428760" y="428760"/>
            <a:ext cx="67863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стоянные эпитет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расна девиц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добрый молоде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равнен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имвол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радиционная композиц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2" descr="C:\Documents and Settings\Admin\Рабочий стол\презентация\i_005.jpg"/>
          <p:cNvPicPr/>
          <p:nvPr/>
        </p:nvPicPr>
        <p:blipFill>
          <a:blip r:embed="rId1"/>
          <a:stretch/>
        </p:blipFill>
        <p:spPr>
          <a:xfrm>
            <a:off x="785880" y="1000080"/>
            <a:ext cx="277812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13:01:19Z</dcterms:created>
  <dc:creator>Пользователь</dc:creator>
  <dc:description/>
  <dc:language>en-US</dc:language>
  <cp:lastModifiedBy>Admin</cp:lastModifiedBy>
  <dcterms:modified xsi:type="dcterms:W3CDTF">2013-06-11T16:45:53Z</dcterms:modified>
  <cp:revision>20</cp:revision>
  <dc:subject/>
  <dc:title>Слайд 1</dc:title>
</cp:coreProperties>
</file>