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F89D-29A0-44B2-B6AC-72DC800A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FBC7-5AEF-41C9-85C7-C167A197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1269-B93A-4450-A79B-A1EB27A1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3ED4-E7BD-4E8F-8626-6B78F3A2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A1A8-DC40-4202-874B-B18F6DAC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5D68-BBEA-41F5-937C-74F401F9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931F-1ECA-4854-99EA-EC5CF16C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F4A4-1D1C-4FDF-8788-C68D1CB5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490C-7A52-4155-8003-73A560B7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0CE2-3B6B-4FB9-9186-83BF7E3F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F955-8FD4-49E7-98DA-4A4FCC1C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C4BD-D229-40DB-AFA5-F71BA596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C5AD-06E4-4E62-BC35-8902820A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1085-C39B-4306-A79F-AA5328D5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EFE1-8809-4ACC-9203-BC603B30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B4CE-B4F5-4224-8A4E-72D53C88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8B3A-B879-4FA5-875C-98038210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2618-CE4C-4C9E-AC46-9E9FD01A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CA9B-CFC7-4E6F-8632-0B082E86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E269-C0BD-4112-813D-086853DE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98D9-EB61-4629-90BC-B475E87A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B500-1754-41C7-809B-1B8908F4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A984-D3EF-46DD-9CB7-B8AA0FCC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0CE9-3D0F-43AE-A65E-40F07681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9E82-A150-498D-AB81-A930202E667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E5C9-B3CA-4CC2-9956-F51F46307C30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7d47d"/>
                </a:solidFill>
                <a:latin typeface="comic"/>
              </a:rPr>
              <a:t>«ТАНЦЫ НАРОДОВ МИРА»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085760" y="3429000"/>
            <a:ext cx="5742000" cy="17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уководитель проекта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Музыкальный руководитель Н.Н.Ластаева МДОУ «детский сад комбинированного вида №2 «Машенька» г. Ершова Саратовской области»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2010 год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89960" cy="43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Танец существует столько же тысячелетий, сколько и человек. В танце не звучит слово, но выразительность пластики человеческого тела столь могущественна, что язык танца понятен всем, он интернационален.</a:t>
            </a: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     </a:t>
            </a: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 С.СЛУЦКАЯ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ННОТАЦ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785016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оект рассчитан на работу с детьми подготовительной к школе группе. Детям предлагается создать эскизы костюмов для каждого персонажа, изучается адаптированный для детей дошкольного возраста танцевальный лексикон и слова, обозначающие предметы, которые используются в танцах( кастаньеты, бубны, веера, платки, боа, поделки в технике оригами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аждый ребёнок пробует с помощью пластики, хореографии раскрыть музыкальный образ, используя элементы костюм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5688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частники проекта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72880" y="1628280"/>
            <a:ext cx="407376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спитанники д/с 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спитател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одител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2771640" y="3860640"/>
            <a:ext cx="561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ремя проведения: год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и и задачи проекта 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После завершения проекта воспитанники смогут эстетически, а значит правильно понимать культуру танца других народов; понимать эмоциональные состояния( радость, грусть, удивление, страх и др.); передавать эмоции с помощью мимики и жестов, уметь выполнять танцевальные элементы народных танце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чебный план проект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ервый этап - прослушивание музыки 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торой этап- создание эскизов костюмов, предварительное знакомство с иллюстрациями национальных костюмов Германии, Италии, Франции, Испании, Японии 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ретий этап-изучение адаптированной для детей дошкольного возраста танцевальной лексики и слов, обозначающих предметы, которые используются в танцах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етвёртый этап - рассказ или зарисовка детей  о  музыкальном персонаже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ятый этап -  результативный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Основополагающий вопрос :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ак рождается танец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72880" y="3057480"/>
            <a:ext cx="3562560" cy="29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Какие танцы были прародителями современных танцев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Как влияет ритм на характер танца? Сюжет и постановка танц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Rectangle 21"/>
          <p:cNvSpPr/>
          <p:nvPr/>
        </p:nvSpPr>
        <p:spPr>
          <a:xfrm>
            <a:off x="5076720" y="2060640"/>
            <a:ext cx="360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чебные вопросы: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5437080" y="4796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f1311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4859280" y="2781360"/>
            <a:ext cx="3968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Times New Roman"/>
              </a:rPr>
              <a:t>Какую роль играет  костюм в танце?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Times New Roman"/>
              </a:rPr>
              <a:t>Названия танцев и их предыстория</a:t>
            </a: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Rectangle 21"/>
          <p:cNvSpPr/>
          <p:nvPr/>
        </p:nvSpPr>
        <p:spPr>
          <a:xfrm>
            <a:off x="324000" y="1916280"/>
            <a:ext cx="360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облемные вопросы: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формление результатов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128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Танцевальная мозаика» (концерт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В вихре танца» (буклет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езультат проек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нализ активности группы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нализ грамотности рабо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ценка работы с источниками информации(плакаты, схемы, таблицы, литература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нализ навыков коллективной работ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Материалы проек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писание проект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имеры работ воспитанник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езентац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укле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исунк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ритерии оценива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Методические материал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лан проведения проект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езентация проект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уклет проект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0:18:13Z</dcterms:created>
  <dc:creator>Владелец</dc:creator>
  <dc:description/>
  <dc:language>en-US</dc:language>
  <cp:lastModifiedBy>User</cp:lastModifiedBy>
  <dcterms:modified xsi:type="dcterms:W3CDTF">2010-10-05T09:10:12Z</dcterms:modified>
  <cp:revision>19</cp:revision>
  <dc:subject/>
  <dc:title>«Раз ступенька, два ступенька»</dc:title>
</cp:coreProperties>
</file>