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0994-96BD-48B8-AA90-876138BC3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C113-54D4-4709-8708-4F3B008E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2EA2-6838-45AD-AC6F-EFB9F0213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CF17-C282-456D-951E-339372D25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4297-996D-456C-BA0E-24B961ECE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B2F2-9295-43A5-9F42-1169D29B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EA39-C1FE-401F-B747-EC82E791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9E58-4CCF-47A0-B33F-B148FE6B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33F3-62F9-4407-B972-678EA2BC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6184-C5DF-44B6-A71C-473093B7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D030-6895-442E-87ED-35F35D6B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74E2-60CB-4E3F-884B-6F805AAD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C0FC-639C-4ABA-B704-A21E28F4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60C1-81A3-4B5A-BD31-7B1BB58F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9C533-71C0-423F-B7FB-3E72DE0E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BDF4-8D81-46D4-9E6E-6BEE50DDE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F2095-FAAC-4F4E-8140-06E6B4C20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A547-9D02-469A-911A-BCD0E112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E5E6-6D4F-4A86-BE0F-FD84288E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FAE4-AAF2-48C0-B595-17954B3E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245C-3BE2-4D23-9577-12246689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5D98-DAF2-4A79-A51A-227654A8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369E-B333-489E-B867-605FE442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22BD-85C3-421A-9DDF-99DFC12C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E9FB-3235-4B04-B1B2-4464133ED6A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D9E7-D23A-4785-A36D-7C31083D5F74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7d47d"/>
                </a:solidFill>
                <a:latin typeface="comic"/>
              </a:rPr>
              <a:t>«ТАНЦЫ НАРОДОВ МИРА»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085760" y="3429000"/>
            <a:ext cx="5742000" cy="17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Руководитель проекта: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Музыкальный руководитель Н.Н.Ластаева МДОУ «детский сад комбинированного вида №2 «Машенька» г. Ершова Саратовской области»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2010 год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89960" cy="43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Танец существует столько же тысячелетий, сколько и человек. В танце не звучит слово, но выразительность пластики человеческого тела столь могущественна, что язык танца понятен всем, он интернационален.</a:t>
            </a:r>
            <a:br>
              <a:rPr sz="2400"/>
            </a:b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                                                                  </a:t>
            </a:r>
            <a:br>
              <a:rPr sz="2400"/>
            </a:b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                                                              С.СЛУЦКАЯ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АННОТАЦ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785016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роект рассчитан на работу с детьми подготовительной к школе группе. Детям предлагается создать эскизы костюмов для каждого персонажа, изучается адаптированный для детей дошкольного возраста танцевальный лексикон и слова, обозначающие предметы, которые используются в танцах( кастаньеты, бубны, веера, платки, боа, поделки в технике оригами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Каждый ребёнок пробует с помощью пластики, хореографии раскрыть музыкальный образ, используя элементы костюм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5688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Участники проекта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72880" y="1628280"/>
            <a:ext cx="407376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спитанники д/с 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спитатели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одител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2771640" y="3860640"/>
            <a:ext cx="5616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Время проведения: год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Цели и задачи проекта 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После завершения проекта воспитанники смогут эстетически, а значит правильно понимать культуру танца других народов; понимать эмоциональные состояния( радость, грусть, удивление, страх и др.); передавать эмоции с помощью мимики и жестов, уметь выполнять танцевальные элементы народных танце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8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Учебный план проект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362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ервый этап - прослушивание музыки 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торой этап- создание эскизов костюмов, предварительное знакомство с иллюстрациями национальных костюмов Германии, Италии, Франции, Испании, Японии 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Третий этап-изучение адаптированной для детей дошкольного возраста танцевальной лексики и слов, обозначающих предметы, которые используются в танцах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етвёртый этап - рассказ или зарисовка детей  о  музыкальном персонаже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ятый этап -  результативный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Основополагающий вопрос :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Как рождается танец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72880" y="3057480"/>
            <a:ext cx="3562560" cy="29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Какие танцы были прародителями современных танцев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Как влияет ритм на характер танца? Сюжет и постановка танц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Rectangle 21"/>
          <p:cNvSpPr/>
          <p:nvPr/>
        </p:nvSpPr>
        <p:spPr>
          <a:xfrm>
            <a:off x="5076720" y="2060640"/>
            <a:ext cx="3600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Учебные вопросы: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5437080" y="4796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2f1311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2f1311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4859280" y="2781360"/>
            <a:ext cx="3968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4680" indent="-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Times New Roman"/>
              </a:rPr>
              <a:t>Какую роль играет  костюм в танце?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Times New Roman"/>
              </a:rPr>
              <a:t>Названия танцев и их предыстория</a:t>
            </a:r>
            <a:r>
              <a:rPr b="0" i="1" lang="ru-RU" sz="2000" spc="-1" strike="noStrike">
                <a:solidFill>
                  <a:srgbClr val="2f1311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Rectangle 21"/>
          <p:cNvSpPr/>
          <p:nvPr/>
        </p:nvSpPr>
        <p:spPr>
          <a:xfrm>
            <a:off x="324000" y="1916280"/>
            <a:ext cx="360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облемные вопросы: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формление результатов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1128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«Танцевальная мозаика» (концерт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«В вихре танца» (буклет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Результат проект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нализ активности группы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нализ грамотности работ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ценка работы с источниками информации(плакаты, схемы, таблицы, литература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нализ навыков коллективной работы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Материалы проек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Описание проект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имеры работ воспитанников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езентаци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Букле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Рисунк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ритерии оценивани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Методические материал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лан проведения проект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езентация проект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Буклет проект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2T10:18:13Z</dcterms:created>
  <dc:creator>Владелец</dc:creator>
  <dc:description/>
  <dc:language>en-US</dc:language>
  <cp:lastModifiedBy>User</cp:lastModifiedBy>
  <dcterms:modified xsi:type="dcterms:W3CDTF">2010-10-05T09:10:12Z</dcterms:modified>
  <cp:revision>19</cp:revision>
  <dc:subject/>
  <dc:title>«Раз ступенька, два ступенька»</dc:title>
</cp:coreProperties>
</file>