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9CFC-1DAB-4906-97F2-218F0FAC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A9A1-DFBA-453E-BCB0-2B83BC00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32C9-9714-4B69-9229-D455B6DF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C3E-DBF0-475E-9E31-3240A844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F177-7D60-4292-A1A5-EF0BA230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78A1-5135-4365-8E7C-9C8DC78D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3F1C-0B38-4C02-B381-AF3C999A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93F0-10C9-4BE7-89A5-BD8B92ED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B0EE-F9B8-4E18-B0BF-DBA57FFA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D91E-68DA-4650-874E-16623710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18C1-E993-4C21-91B5-B5DA7EA7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D908-44F5-4D9C-9441-20290708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D6B3-85FA-4F5A-8160-EBB4EBE3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0FF8-8614-4826-BD1A-F7A0CB44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DA7D-6EEB-42A1-B2A7-D7F92F23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ACF6-E60E-42B6-82EB-3B5826BE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70D1-00A0-4320-8595-8370E758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CED1-DC00-46EC-83DF-CCB053C7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B984-B164-49C8-B0B8-4573EED5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C15C-795C-4FCC-95E6-7140DA15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92A6-03CF-448B-8474-E088162D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0365-7E3E-431D-949F-E8FC5624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F24F-8805-42CC-932B-A652F262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F985-0D85-4DA1-9C11-C1BADF59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6D0B-6CC8-49B7-9F31-08057010DDF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A285-909D-41F0-B872-CD7C11CD7B0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лава нашему солдату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Классный час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Дмитриев Леонид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696000" cy="4608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Бурданов Александр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264360" cy="468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464000" cy="583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Борздов Виктор Александрович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2627280" y="1125360"/>
            <a:ext cx="41166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Николаев Владимир Владимирович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2556000" y="1438200"/>
            <a:ext cx="3705120" cy="5419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-1476360" y="108000"/>
            <a:ext cx="12169800" cy="675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341080" cy="6772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умков Андрей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69600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умков Денис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916360" y="1400040"/>
            <a:ext cx="3504960" cy="5197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тепанов Герман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556000" y="1125360"/>
            <a:ext cx="4032000" cy="5543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Цели занят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Обобщить знания детей об армии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Способствовать формированию чувства Родины, Отчизны, патриотизма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Способствовать формированию чувства гордости за своих близких, служивших в армии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Чипурнов Владимир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9138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овременный солда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993080" cy="566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В. А. Сухомлинский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« Посвятить свою жизнь труду по защите Отечества – высший долг и высшая честь каждого юноши. Не хнычь перед трудностями. Мужественного человека можно убить, можно сжечь, но победить невозможно.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лава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Слава нашим генералам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Слава нашим адмиралам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И солдатам рядовым –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ешим, плавающим, конным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В жарких битвах закаленным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Слава павшим и живым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От души спасибо им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Беседа по вопросам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Для чего нужна армия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Что общего между словами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« Отчизна» и « Отечество»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Как в старину называли армию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Что значит защищать свое Отечество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олдаты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олдаты на поле брани были,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В походы трудные ходили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Но им не объясняли долго,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Что значит чувство долг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Они по совести, по чест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На этом оказались месте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Нельзя без Родины, без матери нам жить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Но долг святой – уметь все это защитить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Фотографии солдат разных лет служб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короходов Владимир Петрович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3780000" y="1773360"/>
          <a:ext cx="3097080" cy="488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773360"/>
                    <a:ext cx="309708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Борздов Александр Федорович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572000" y="1333440"/>
            <a:ext cx="3676680" cy="552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rcRect l="0" t="0" r="4300" b="0"/>
          <a:stretch/>
        </p:blipFill>
        <p:spPr>
          <a:xfrm>
            <a:off x="2700360" y="549360"/>
            <a:ext cx="3600360" cy="542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одулев Александр Михайлович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4356000" y="1601640"/>
            <a:ext cx="3673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7:41:47Z</dcterms:created>
  <dc:creator>Саша</dc:creator>
  <dc:description/>
  <dc:language>en-US</dc:language>
  <cp:lastModifiedBy>Саша</cp:lastModifiedBy>
  <dcterms:modified xsi:type="dcterms:W3CDTF">2008-02-25T18:38:03Z</dcterms:modified>
  <cp:revision>2</cp:revision>
  <dc:subject/>
  <dc:title>Слава нашему солдату</dc:title>
</cp:coreProperties>
</file>