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DAD-4466-491D-A33A-B66A8D32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CB8-35C1-47B8-B474-1D30FC69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8A0-7D91-4D87-A620-DCB157CA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957-7F7E-48A7-AC02-C8385542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66BF-3934-4C0D-B896-210F5C22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FFA7-739D-4FD4-A761-3B91DF9B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910B-F3DA-48D7-A181-CC3177D7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5E95-B7AF-43A2-BFFB-DF3878D1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3582-1182-4F44-8E58-7164DB00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83F6-2769-4DA3-B0CA-F90F1B3B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7E9A-B364-4C10-91C3-C55EA07C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FD4-0DB7-450F-A4FA-98593541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5E91-E22F-4FB6-8684-1D2F36FB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46BC-0169-49DB-AA2C-1FB7A14A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A157-5895-4F23-9DED-74FEEB70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460E-8AD2-455D-AA6A-6BCC09E2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32F8-9191-414F-B383-53D0CDD3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20B-141A-4EA6-8E76-377AB61B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1D61-461C-43B4-A5BE-1A750C7A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08E5-3AC7-4BA1-8EC0-93F8129E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DC9-CBC6-42B5-A821-0B78D1F5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FE8-43C3-4B26-A1BB-609E7FB8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A1F-40CB-4CDE-873A-3632E6A0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E06-DB88-4445-885D-2AA34064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DD26-E5C9-4F37-9327-30CA15D4520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C50D-7DD1-42D9-A954-9DB502417CA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лава нашему солдат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Классный ча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Дмитриев Леонид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696000" cy="4608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Бурданов Александ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264360" cy="468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464000" cy="583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Борздов Виктор Александрови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41166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иколаев Владимир Владимирови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556000" y="1438200"/>
            <a:ext cx="3705120" cy="5419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-1476360" y="108000"/>
            <a:ext cx="12169800" cy="675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41080" cy="6772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умков Андрей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69600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умков Денис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916360" y="1400040"/>
            <a:ext cx="3504960" cy="5197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тепанов Герма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4032000" cy="554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Цели занят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Обобщить знания детей об армии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пособствовать формированию чувства Родины, Отчизны, патриотизм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пособствовать формированию чувства гордости за своих близких, служивших в армии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Чипурнов Владимир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овременный солда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56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. А. Сухомлинский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« Посвятить свою жизнь труду по защите Отечества – высший долг и высшая честь каждого юноши. Не хнычь перед трудностями. Мужественного человека можно убить, можно сжечь, но победить невозможно.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лава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лава нашим генералам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лава нашим адмиралам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И солдатам рядовым –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ешим, плавающим, конным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 жарких битвах закаленным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лава павшим и живым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т души спасибо им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Беседа по вопросам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Для чего нужна армия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Что общего между словами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« Отчизна» и « Отечество»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Как в старину называли армию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Что значит защищать свое Отечество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олдаты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олдаты на поле брани были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 походы трудные ходил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о им не объясняли долго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Что значит чувство долг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ни по совести, по чес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а этом оказались мест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ельзя без Родины, без матери нам жит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о долг святой – уметь все это защитит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Фотографии солдат разных лет служб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короходов Владимир Петрович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780000" y="1773360"/>
          <a:ext cx="3097080" cy="48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773360"/>
                    <a:ext cx="309708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Борздов Александр Федорови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2000" y="1333440"/>
            <a:ext cx="3676680" cy="552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rcRect l="0" t="0" r="4300" b="0"/>
          <a:stretch/>
        </p:blipFill>
        <p:spPr>
          <a:xfrm>
            <a:off x="2700360" y="549360"/>
            <a:ext cx="3600360" cy="542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одулев Александр Михайлови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356000" y="1601640"/>
            <a:ext cx="3673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7:41:47Z</dcterms:created>
  <dc:creator>Саша</dc:creator>
  <dc:description/>
  <dc:language>en-US</dc:language>
  <cp:lastModifiedBy>Саша</cp:lastModifiedBy>
  <dcterms:modified xsi:type="dcterms:W3CDTF">2008-02-25T18:38:03Z</dcterms:modified>
  <cp:revision>2</cp:revision>
  <dc:subject/>
  <dc:title>Слава нашему солдату</dc:title>
</cp:coreProperties>
</file>