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1A1-0ABD-4A52-B401-736B9716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CD7-5E80-47FE-95AC-0DE6341C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D6D0-671E-406B-86E4-4C5674D6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54F-0541-42A2-85F6-8C25612F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610C-7720-4483-AE3B-11480495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4FEE-BF0C-410B-B47F-1F4B73CA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50C6-B47D-4BF8-927D-DCCC7E6E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E048-00BC-406E-91E6-4206F720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F2EB-9779-4020-AEAB-58A5C7B5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8DA0-7AD8-4FF5-8297-03DB4E4C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B30B-4E07-436F-87F1-DB29B4C2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409-EFE9-42BB-B8AF-E097A317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27F4-8307-4019-A194-79C6D630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8ACC-06C4-4EE4-A476-CC69928A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F1B6-6FEB-46D3-9103-E5C9747F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2D67-2F95-4C89-A056-AA275791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BC3E-F450-4698-AC52-E61C66E9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BC2-B3EE-4B9F-BA1C-A0BAA25E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6C4-8AA7-477D-BE07-A9865F37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AE2-C7EC-482F-B612-FD624D0E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EEC-F80F-47AC-A774-8F3C8BC4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F14-7A87-475C-8518-DA30B29E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625-5EB4-4FEC-8E74-4FF9CD94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46C-1241-4E7C-8A78-7CA57935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CC0D-1498-4E41-ACC3-817CDD6FDE7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3C46-F17D-4A23-93E1-0475E418E04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лава нашему солдату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Классный ча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Дмитриев Леонид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696000" cy="4608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Бурданов Александ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264360" cy="468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464000" cy="583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Борздов Виктор Александрови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627280" y="1125360"/>
            <a:ext cx="41166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иколаев Владимир Владимирови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556000" y="1438200"/>
            <a:ext cx="3705120" cy="5419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-1476360" y="108000"/>
            <a:ext cx="12169800" cy="675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41080" cy="6772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умков Андрей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69600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умков Денис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916360" y="1400040"/>
            <a:ext cx="3504960" cy="5197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тепанов Герма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4032000" cy="554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Цели занят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Обобщить знания детей об армии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пособствовать формированию чувства Родины, Отчизны, патриотизм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Способствовать формированию чувства гордости за своих близких, служивших в армии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Чипурнов Владимир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овременный солда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56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. А. Сухомлинский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« Посвятить свою жизнь труду по защите Отечества – высший долг и высшая честь каждого юноши. Не хнычь перед трудностями. Мужественного человека можно убить, можно сжечь, но победить невозможно.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лава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лава нашим генералам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лава нашим адмиралам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И солдатам рядовым –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ешим, плавающим, конным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 жарких битвах закаленным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лава павшим и живым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т души спасибо им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Беседа по вопросам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Для чего нужна армия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Что общего между словами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« Отчизна» и « Отечество»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Как в старину называли армию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Что значит защищать свое Отечество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олдаты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олдаты на поле брани были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В походы трудные ходил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о им не объясняли долго,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Что значит чувство долг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Они по совести, по чест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а этом оказались мест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ельзя без Родины, без матери нам жит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Но долг святой – уметь все это защитить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Фотографии солдат разных лет служб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короходов Владимир Петрович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780000" y="1773360"/>
          <a:ext cx="3097080" cy="48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773360"/>
                    <a:ext cx="309708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Борздов Александр Федорови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2000" y="1333440"/>
            <a:ext cx="3676680" cy="552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rcRect l="0" t="0" r="4300" b="0"/>
          <a:stretch/>
        </p:blipFill>
        <p:spPr>
          <a:xfrm>
            <a:off x="2700360" y="549360"/>
            <a:ext cx="3600360" cy="542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одулев Александр Михайлови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356000" y="1601640"/>
            <a:ext cx="3673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7:41:47Z</dcterms:created>
  <dc:creator>Саша</dc:creator>
  <dc:description/>
  <dc:language>en-US</dc:language>
  <cp:lastModifiedBy>Саша</cp:lastModifiedBy>
  <dcterms:modified xsi:type="dcterms:W3CDTF">2008-02-25T18:38:03Z</dcterms:modified>
  <cp:revision>2</cp:revision>
  <dc:subject/>
  <dc:title>Слава нашему солдату</dc:title>
</cp:coreProperties>
</file>