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7754-B025-4BD5-BA31-B46B6B59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CDB4-E014-43B2-8DAE-ADA697B2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C13-594D-4EB8-B68F-1FA52E9E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355E-1096-4E5A-B2B5-39DEC947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C23-941C-4757-AF2B-C3A13504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BA74-F2BE-4C75-AF06-18ED24CF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1766-D7B2-4F85-96B2-6C1872FB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187-2688-47D2-B764-A8F1DD1A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B04-672F-406E-878B-B55FF361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0F79-4A3D-43D5-A7E3-7BCEBBE7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268-B3A9-4421-A180-8340F6C7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6DDD-58A4-466D-9ED4-98B20D68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01AFAF2-3926-4B23-A285-F5BCAE50134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8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А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облюдение лексических норм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В  каком предложении вместо слова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оверчивы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нужно употребить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овери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В ДЕТСТВЕ ОН БЫЛ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ВЕРЧИВ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АЛЬЧ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ОНА ПЫТАЛАСЬ ГОВОРИТЬ ЗАДУШЕВНЫМ,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ВЕРЧИВ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ОНОМ, НО ГОЛОС  ЗВУЧАЛ ФАЛЬШИ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У ЩЕНКА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ВЕРЧИВ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РДОЧКА И ИГРИВЫЙ Х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ВЕРЧИВ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ЮДИ РИСКУЮТ ПОПАСТЬ В ЛАПЫ МОШЕ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В каком предложени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место слова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РАЖДЕБНЫ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нужно употребить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РАЖЕ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В качестве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раждеб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лы в сказках иногда выступают животные и раст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Он оказался в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раждебн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му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Танковой дивизии удалось сломить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раждеб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становку против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ни не были готовы к столь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раждебно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ему местных ж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91520" cy="74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задание посвящено написанию приставок (А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1.В каком ряду во всех трех словах пропущена одна и та же бук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..пределение,  ра..дор, неи..вест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.ход, ни..падать, бе..дар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..вилегия, пр..успеть, пр..украс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.грать, с..мпровизировать, пред..юль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2.В каком ряду во всех трех словах пропущена одна и та же бук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..одолимый, пр..влекательный, пр..вяз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.гиб, ра..бросать, не..держан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..йти, нед..едание, пр..баб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..тожить, без..дейный, об..гр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3.В каком ряду во всех трех словах пропущена одна и та же бук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.жарить, ни..вергать, ра..счи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..доставить, камень пр..ткновения, пр..небре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..дущий, свех..зысканный, раз..гр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..сказ, бе..хозяйственный, бе..дом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158320" cy="65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3(соблюдение лексических нор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В каком предложении вместо слова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апаслив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употребить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апас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Запаслив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еловек , как говорят в народе, два века жи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Все его считали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запаслив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бережли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Всегда нужно иметь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запаслив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ариант отступ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Белка-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запаслив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ве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В каком предложении вместо слова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одный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употребить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одя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утренней гимнастики нужно перейти к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одны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од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идам спорта наш район опередил сосе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чке водилось много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од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од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лади реки пробежала легкая зыб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П.Семенихин 1964 г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м свидетельствует этот текс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ашэм пись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зможнали  рускае фанетическае письмо? Эта нисуразнийшый иссамых нисуразных вапросаф иба толька таким ано и далжно бы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ат выват так ачивидин што врядли стоит ева абасновывать . Лучшэе его абаснавание наглядный пакас рускава фанетическава письма што я и предлаг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Минкин 1990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-то типы, называющие себя политиками, обсуждают переход Татарстана на латинский шрифт. Некоторые осуждают: мол, сепаратизм. Некоторые осуждают: мол, у нас свобода, самосознани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те и другие говорят только о политике. То есть о власти, нефти и деньг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икто - о людях, ради счастья которых придумана эта «полит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 Vac Ijubil. Ijubov ezscho dit mo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dusche moej ugasla ne sov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ust ona vas bolsche ne trevozit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 ne hocsu pecsalit vas nic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2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строение словосочетаний и предложений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справьте оши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, кто в других странах любят русскую культуру, знают имена русских писателей и поэ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йцы верили и надеялись в побе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люблю и наслаждаюсь мор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обсуждали хорошую теплую осень и что зима наступит нескор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обрании обсуждался ряд вопросов, волнующие мног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Задание А4 (соблюдение морфологических нор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Укажите пример с ошибкой в образовании формы сл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в две тысячи восьмом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в двух тысяч восьмом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с восьмьюдесятью одной роз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более семисот участ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Укажите пример с ошибкой в образовании формы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около семиста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Профес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ред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Инже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Укажите пример с ошибкой в образовании формы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Две пары нос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Две пары чу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Наикрасивейш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Очень смел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 Все потому , что мы у них на пансионе . Их фильмы смотрим, на их тачках ездим, и даже хавку ихнюю едим. А сами производим, если задуматься , только бабки… которые тоже по всем понятиям ихние доллары, так что даже неясно, как это мы их производить ухитряемся . Хотя, с другой стороны, производим же – на халяву-то никто не дал бы… Я вообще –то не экономист , но точно чувствую- дело гнилое, какая-то тут лажа зары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отрывок из романа В Пелевина «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8000" y="333360"/>
            <a:ext cx="8856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2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нансовые трейдеры предполагают, что после объявленного 1 августа банкротства «Юкоса» и ухода части валютных активов компании в офф-шоры долгосрочные фьючерсы на нефть будут заключаться с учетом голландской трастовой компании «Юкос Финанс БВ», дочернего предприятия «Юкос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из экономического блока «Новост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йде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пециалисты, находящиеся вне стра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фф-шо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иржевые торговцы ценными бумагами на фондовой бирж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ьючер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рочные сделки на бирж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астовая комп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компания, специализирующаяся на операциях по доверительному управлению имуществом, ценными бума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5788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В следующих предложениях найдите случаи нарушения норм литературного язы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Бытиё по-прежнему определяет наше созн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 ближайшее время между предприятиями будут подписаны двусторонние дого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редства массовой информации диспутируют о президентских выбо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Благодаря наводнению тысячи людей остались без кр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Хочу подчеркнуть о том, что считаю наиболее важ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Все, кто приближается к площади искусств со стороны Невского проспекта, ещё издали видит стоящую на постаменте фигуру поэта и узнаёт Пушк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Среди научных трудов Ф.И.Буслаева прежде всего следует упомянуть его книгу «Историческую грамматику русс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539640" y="1125360"/>
            <a:ext cx="4032360" cy="62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>
              <a:spcBef>
                <a:spcPts val="499"/>
              </a:spcBef>
              <a:buClr>
                <a:srgbClr val="333399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дралась (2-й сло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buClr>
                <a:srgbClr val="333399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(Антенных)кабелей (3-й сло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buClr>
                <a:srgbClr val="333399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намение (1-й сло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buClr>
                <a:srgbClr val="333399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оданы ( 3-й слог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51"/>
              </a:spcBef>
              <a:buClr>
                <a:srgbClr val="660033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ПРИЗВАЛА (2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51"/>
              </a:spcBef>
              <a:buClr>
                <a:srgbClr val="660033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ХОДАТАЙСТВО ( 3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51"/>
              </a:spcBef>
              <a:buClr>
                <a:srgbClr val="660033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ПРИГЛЯНЕТСЯ (2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51"/>
              </a:spcBef>
              <a:buClr>
                <a:srgbClr val="660033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ПРИРУЧЁННЫЙ  (2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201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--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buClr>
                <a:srgbClr val="003300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откнутый (2-Й СЛО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buClr>
                <a:srgbClr val="003300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кралась (1-Й СЛО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buClr>
                <a:srgbClr val="003300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Деяние (1-Й СЛО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buClr>
                <a:srgbClr val="003300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Добыча (1-Й СЛО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4716360" y="1125360"/>
            <a:ext cx="3970440" cy="66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1)ЗАБРАЛАСЬ (2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2) ВКЛЮЧЕН (2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3) ВМЕСТИТЬСЯ (1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4) ДЕФИС (1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buClr>
                <a:srgbClr val="660066"/>
              </a:buClr>
              <a:buFont typeface="Arial"/>
              <a:buAutoNum type="arabicParenR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ТОРВАЛА (3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buClr>
                <a:srgbClr val="660066"/>
              </a:buClr>
              <a:buFont typeface="Arial"/>
              <a:buAutoNum type="arabicParenR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ДРЕМОТА (3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buClr>
                <a:srgbClr val="660066"/>
              </a:buClr>
              <a:buFont typeface="Arial"/>
              <a:buAutoNum type="arabicParenR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ТКУПОРИВАТЬ (2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buClr>
                <a:srgbClr val="660066"/>
              </a:buClr>
              <a:buFont typeface="Arial"/>
              <a:buAutoNum type="arabicParenR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ВНО (1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1)ПРИЗЫВ (1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2)ПРОЗОРЛИВЫЙ (3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3) ЕРЕТИК (2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4) ПРОБЫЛА (1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79280" y="260280"/>
            <a:ext cx="846324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рмы произношения и ударения (А1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слове ударение указано верн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"/>
          <p:cNvSpPr/>
          <p:nvPr/>
        </p:nvSpPr>
        <p:spPr>
          <a:xfrm>
            <a:off x="5651640" y="141300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3"/>
          <p:cNvSpPr/>
          <p:nvPr/>
        </p:nvSpPr>
        <p:spPr>
          <a:xfrm flipH="1">
            <a:off x="1329840" y="836640"/>
            <a:ext cx="32432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 flipH="1">
            <a:off x="3706560" y="836640"/>
            <a:ext cx="86652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4572000" y="836640"/>
            <a:ext cx="107964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4572000" y="836640"/>
            <a:ext cx="2232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 flipV="1" rot="10860000">
            <a:off x="829800" y="1593000"/>
            <a:ext cx="24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Орфоэпиче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916360" y="25588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Лексиче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076720" y="3357720"/>
            <a:ext cx="3448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Грамматиче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образовате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нктуацио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таксиче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6300720" y="1844640"/>
            <a:ext cx="303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Правопис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фограф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фологиче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трывки из современных песен .      Найдите в них ошиб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уппа «Руки вверх», песня «Студен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 звОнишь ей дом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меня рядом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жи мне «да» или «н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ай мне сво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.Нарцисс, песня «Шоколадный заяц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шоколадный зая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ласковый мерзав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ладкий на все с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утусов , «Песня идущего дом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шел по мостов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шел по мокрым луж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кользкой мост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гами снег утюжи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уппа «Кор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и изумрудные бр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осятся под знаком лун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6:22:26Z</dcterms:created>
  <dc:creator>User</dc:creator>
  <dc:description/>
  <dc:language>en-US</dc:language>
  <cp:lastModifiedBy>Учитель</cp:lastModifiedBy>
  <dcterms:modified xsi:type="dcterms:W3CDTF">2010-11-09T18:21:50Z</dcterms:modified>
  <cp:revision>10</cp:revision>
  <dc:subject/>
  <dc:title>Слайд 1</dc:title>
</cp:coreProperties>
</file>