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6EF-46D2-427D-8BEF-9696FE08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A14-9480-47E4-A93B-03DEC2D2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250-C52E-4ECC-B404-BEA96DF2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D62-C03C-4FDB-B2D7-F7CCF930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B74-0A8F-4D64-8C7D-D07D2353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7D5-153A-4687-9193-B8B8B58E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DB2-461B-4FA5-B811-A32F7EE6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552-6F88-4391-82CB-811AE082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D7A-4EE2-4DE3-8257-2914AB83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B45-9A92-4D2E-BD06-1CFE0D77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928-6B1F-4813-9264-F91C66B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DA6-E775-4302-80A9-D9BED0F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13AE67-5A75-4EEF-8010-A064CA80A06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8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А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блюдение лексических норм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В  каком предложении вместо слова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верчив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ужно употребить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вер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В ДЕТСТВЕ ОН БЫЛ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ВЕРЧИ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ЛЬ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ОНА ПЫТАЛАСЬ ГОВОРИТЬ ЗАДУШЕВНЫМ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ВЕРЧИ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НОМ, НО ГОЛОС  ЗВУЧАЛ ФАЛЬШ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У ЩЕНК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ВЕРЧИВ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РДОЧКА И ИГРИВЫЙ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ВЕРЧИ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ДИ РИСКУЮТ ПОПАСТЬ В ЛАПЫ МОШЕ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В каком предложен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место слова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РАЖДЕБН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ужно употребить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РАЖЕ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 качестве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аждеб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лы в сказках иногда выступают животные и рас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Он оказался в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аждеб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му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Танковой дивизии удалось сломить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аждеб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становку против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ни не были готовы к столь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аждебно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ему местных 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9152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задание посвящено написанию приставок (А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1.В каком ряду во всех трех словах пропущена одна и та же бук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..пределение,  ра..дор, неи..вест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.ход, ни..падать, бе..дар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..вилегия, пр..успеть, пр..украс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.грать, с..мпровизировать, пред..ю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2.В каком ряду во всех трех словах пропущена одна и та же бук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..одолимый, пр..влекательный, пр..вяз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.гиб, ра..бросать, не..держа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..йти, нед..едание, пр..баб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..тожить, без..дейный, об..гр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3.В каком ряду во всех трех словах пропущена одна и та же бук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.жарить, ни..вергать, ра..счи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..доставить, камень пр..ткновения, пр..небре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..дущий, свех..зысканный, раз..гр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..сказ, бе..хозяйственный, бе..дом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158320" cy="65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3(соблюдение лексических нор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 каком предложении вместо слова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паслив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употребить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пас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пасл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ловек , как говорят в народе, два века жи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се его считали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паслив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береж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Всегда нужно иметь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пасл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риант отступ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Белка-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пасл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в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В каком предложении вместо слова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одный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употребить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одя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утренней гимнастики нужно перейти к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одны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од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дам спорта наш район опередил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чке водилось много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од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лади реки пробежала легкая зыб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П.Семенихин 1964 г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м свидетельствует этот текс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шэм пись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зможнали  рускае фанетическае письмо? Эта нисуразнийшый иссамых нисуразных вапросаф иба толька таким ано и далжно б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т выват так ачивидин што врядли стоит ева абасновывать . Лучшэе его абаснавание наглядный пакас рускава фанетическава письма што я и предлаг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Минкин 1990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типы, называющие себя политиками, обсуждают переход Татарстана на латинский шрифт. Некоторые осуждают: мол, сепаратизм. Некоторые осуждают: мол, у нас свобода, самосозна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те и другие говорят только о политике. То есть о власти, нефти и день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икто - о людях, ради счастья которых придумана эта «поли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 Vac Ijubil. Ijubov ezscho dit mo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dusche moej ugasla ne sov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ust ona vas bolsche ne trevozit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 ne hocsu pecsalit vas nic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2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строение словосочетаний и предложений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правьте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, кто в других странах любят русскую культуру, знают имена русских писателей и поэ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йцы верили и надеялись в поб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люблю и наслаждаюсь мор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обсуждали хорошую теплую осень и что зима наступит неско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брании обсуждался ряд вопросов, волнующие мног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Задание А4 (соблюдение морфологических нор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Укажите пример с ошибкой в образовании формы сл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в две тысячи восьмом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двух тысяч восьмом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 восьмьюдесятью одной роз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более семисот учас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Укажите пример с ошибкой в образовании формы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около семиста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Проф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ред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Инж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Укажите пример с ошибкой в образовании формы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Две пары нос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Две пары чу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икрасивейш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Очень смел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 Все потому , что мы у них на пансионе . Их фильмы смотрим, на их тачках ездим, и даже хавку ихнюю едим. А сами производим, если задуматься , только бабки… которые тоже по всем понятиям ихние доллары, так что даже неясно, как это мы их производить ухитряемся . Хотя, с другой стороны, производим же – на халяву-то никто не дал бы… Я вообще –то не экономист , но точно чувствую- дело гнилое, какая-то тут лажа зары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отрывок из романа В Пелевина «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333360"/>
            <a:ext cx="8856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овые трейдеры предполагают, что после объявленного 1 августа банкротства «Юкоса» и ухода части валютных активов компании в офф-шоры долгосрочные фьючерсы на нефть будут заключаться с учетом голландской трастовой компании «Юкос Финанс БВ», дочернего предприятия «Юко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из экономического блока «Новос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йде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пециалисты, находящиеся вне стр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фф-ш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иржевые торговцы ценными бумагами на фондовой бир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ьюче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рочные сделки на бирж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стовая комп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компания, специализирующаяся на операциях по доверительному управлению имуществом, ценными бума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578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 следующих предложениях найдите случаи нарушения норм литературного язы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Бытиё по-прежнему определяет наше со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ближайшее время между предприятиями будут подписаны двусторонние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редства массовой информации диспутируют о президентских выбо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Благодаря наводнению тысячи людей остались без к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Хочу подчеркнуть о том, что считаю наиболее важ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Все, кто приближается к площади искусств со стороны Невского проспекта, ещё издали видит стоящую на постаменте фигуру поэта и узнаёт Пушк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Среди научных трудов Ф.И.Буслаева прежде всего следует упомянуть его книгу «Историческую грамматику рус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539640" y="1125360"/>
            <a:ext cx="4032360" cy="62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spcBef>
                <a:spcPts val="499"/>
              </a:spcBef>
              <a:buClr>
                <a:srgbClr val="333399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дралась (2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333399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Антенных)кабелей (3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333399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мение (1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333399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даны ( 3-й слог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51"/>
              </a:spcBef>
              <a:buClr>
                <a:srgbClr val="660033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ИЗВАЛА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51"/>
              </a:spcBef>
              <a:buClr>
                <a:srgbClr val="660033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ХОДАТАЙСТВО ( 3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51"/>
              </a:spcBef>
              <a:buClr>
                <a:srgbClr val="660033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ИГЛЯНЕТСЯ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51"/>
              </a:spcBef>
              <a:buClr>
                <a:srgbClr val="660033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ИРУЧЁННЫЙ 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2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003300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откнутый (2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003300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кралась (1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003300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Деяние (1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003300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Добыча (1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716360" y="1125360"/>
            <a:ext cx="3970440" cy="66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1)ЗАБРАЛАСЬ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) ВКЛЮЧЕН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3) ВМЕСТИТЬСЯ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4) ДЕФИС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buClr>
                <a:srgbClr val="660066"/>
              </a:buClr>
              <a:buFont typeface="Arial"/>
              <a:buAutoNum type="arabicParenR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ТОРВАЛА (3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buClr>
                <a:srgbClr val="660066"/>
              </a:buClr>
              <a:buFont typeface="Arial"/>
              <a:buAutoNum type="arabicParenR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РЕМОТА (3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buClr>
                <a:srgbClr val="660066"/>
              </a:buClr>
              <a:buFont typeface="Arial"/>
              <a:buAutoNum type="arabicParenR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ТКУПОРИВАТЬ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buClr>
                <a:srgbClr val="660066"/>
              </a:buClr>
              <a:buFont typeface="Arial"/>
              <a:buAutoNum type="arabicParenR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ВНО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1)ПРИЗЫВ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2)ПРОЗОРЛИВЫЙ (3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3) ЕРЕТИК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4) ПРОБЫЛА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9280" y="260280"/>
            <a:ext cx="84632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рмы произношения и ударения (А1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слове ударение указано верн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"/>
          <p:cNvSpPr/>
          <p:nvPr/>
        </p:nvSpPr>
        <p:spPr>
          <a:xfrm>
            <a:off x="5651640" y="141300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3"/>
          <p:cNvSpPr/>
          <p:nvPr/>
        </p:nvSpPr>
        <p:spPr>
          <a:xfrm flipH="1">
            <a:off x="1329840" y="836640"/>
            <a:ext cx="32432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 flipH="1">
            <a:off x="3706560" y="836640"/>
            <a:ext cx="86652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4572000" y="836640"/>
            <a:ext cx="107964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572000" y="836640"/>
            <a:ext cx="2232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 flipV="1" rot="10860000">
            <a:off x="829800" y="1593000"/>
            <a:ext cx="24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Орфоэп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916360" y="25588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Лекс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076720" y="3357720"/>
            <a:ext cx="344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Граммат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образова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нктуацио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акс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6300720" y="1844640"/>
            <a:ext cx="303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Правопис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фограф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фолог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трывки из современных песен .      Найдите в них ошиб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уппа «Руки вверх», песня «Студе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звОнишь ей дом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меня рядом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жи мне «да» или «н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ай мне сво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Нарцисс, песня «Шоколадный заяц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шоколадный зая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ласковый мерзав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ладкий на все с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утусов , «Песня идущего дом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шел по мосто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шел по мокрым луж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кользкой мост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ами снег утюж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уппа «Кор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и изумрудные б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сятся под знаком лу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6:22:26Z</dcterms:created>
  <dc:creator>User</dc:creator>
  <dc:description/>
  <dc:language>en-US</dc:language>
  <cp:lastModifiedBy>Учитель</cp:lastModifiedBy>
  <dcterms:modified xsi:type="dcterms:W3CDTF">2010-11-09T18:21:50Z</dcterms:modified>
  <cp:revision>10</cp:revision>
  <dc:subject/>
  <dc:title>Слайд 1</dc:title>
</cp:coreProperties>
</file>