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445-9D2F-4228-8555-8207D515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368-895F-4037-9B37-E5079F3A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F46-CF2C-43AA-854C-0E1C9D00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244-03D2-44F1-957F-4DC20B6C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ACA-EBB8-4607-BDC9-4002A25F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A80-1E21-4559-9849-E4385202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ECF-8BB0-4EF4-A5E2-E96EF7AE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CAD-CDB3-420A-A3D0-90190477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0A0-778E-42B2-92B9-79C3BFB9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28B-491C-49AF-98CE-9A8660B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C20-4EAD-48B8-B351-EC0B7E7F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F67-8730-4F30-A1E3-8ECA1F09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D72B-9CE0-4826-B825-AAD8A4F33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50920" y="620640"/>
            <a:ext cx="8713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окружности в среде ЛОГО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грированный урок «математика+информатик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алова М.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лицей №144 г.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мина И.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лицей №144 г.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826920" y="1268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: написать процедуру рисования пропеллера со стороной 40 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2842920" cy="3024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4140360" y="306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7680" y="1071720"/>
            <a:ext cx="2828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14240" y="2499840"/>
            <a:ext cx="33292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3072600" y="1071720"/>
            <a:ext cx="26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42960" y="2214720"/>
            <a:ext cx="521496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ял(а)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(ас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уди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хоте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7"/>
          <p:cNvSpPr/>
          <p:nvPr/>
        </p:nvSpPr>
        <p:spPr>
          <a:xfrm flipV="1">
            <a:off x="4286160" y="2565360"/>
            <a:ext cx="4173480" cy="6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 flipV="1">
            <a:off x="3857760" y="3068280"/>
            <a:ext cx="467496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9"/>
          <p:cNvSpPr/>
          <p:nvPr/>
        </p:nvSpPr>
        <p:spPr>
          <a:xfrm>
            <a:off x="3714840" y="3571920"/>
            <a:ext cx="481788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0"/>
          <p:cNvSpPr/>
          <p:nvPr/>
        </p:nvSpPr>
        <p:spPr>
          <a:xfrm>
            <a:off x="3924360" y="4149720"/>
            <a:ext cx="46083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1"/>
          <p:cNvSpPr/>
          <p:nvPr/>
        </p:nvSpPr>
        <p:spPr>
          <a:xfrm>
            <a:off x="4429080" y="4572000"/>
            <a:ext cx="4103640" cy="9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2"/>
          <p:cNvSpPr/>
          <p:nvPr/>
        </p:nvSpPr>
        <p:spPr>
          <a:xfrm>
            <a:off x="3500280" y="5072040"/>
            <a:ext cx="5032440" cy="12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3786120" y="5643720"/>
            <a:ext cx="4746600" cy="17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3231720" y="107172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85880" y="235728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длины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928800" y="3357720"/>
            <a:ext cx="60721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714240" y="3857760"/>
            <a:ext cx="542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длины окружности к ее диаме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6"/>
          <p:cNvSpPr/>
          <p:nvPr/>
        </p:nvSpPr>
        <p:spPr>
          <a:xfrm>
            <a:off x="857160" y="5357880"/>
            <a:ext cx="62150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611280" y="620640"/>
            <a:ext cx="748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иков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а Г.В. Программирование в среде ЛОГО. М. Салон-Пресс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арова Н.В. Информатика и ИКТ 5-6. Питер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int-edu.ru/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187280" y="76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431640" y="86040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из данных многоугольников являются правильными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468360" y="189000"/>
            <a:ext cx="835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омб 13"/>
          <p:cNvSpPr/>
          <p:nvPr/>
        </p:nvSpPr>
        <p:spPr>
          <a:xfrm>
            <a:off x="1000080" y="1857240"/>
            <a:ext cx="1714680" cy="1714680"/>
          </a:xfrm>
          <a:prstGeom prst="diamond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3786120" y="1928880"/>
            <a:ext cx="1357560" cy="1357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5-конечная звезда 15"/>
          <p:cNvSpPr/>
          <p:nvPr/>
        </p:nvSpPr>
        <p:spPr>
          <a:xfrm>
            <a:off x="1714680" y="3429000"/>
            <a:ext cx="2071440" cy="2071800"/>
          </a:xfrm>
          <a:custGeom>
            <a:avLst/>
            <a:gdLst/>
            <a:ahLst/>
            <a:rect l="l" t="t" r="r" b="b"/>
            <a:pathLst>
              <a:path w="2071688" h="2071688">
                <a:moveTo>
                  <a:pt x="2" y="791312"/>
                </a:moveTo>
                <a:lnTo>
                  <a:pt x="791319" y="791318"/>
                </a:lnTo>
                <a:lnTo>
                  <a:pt x="1035844" y="0"/>
                </a:lnTo>
                <a:lnTo>
                  <a:pt x="1280369" y="791318"/>
                </a:lnTo>
                <a:lnTo>
                  <a:pt x="2071686" y="791312"/>
                </a:lnTo>
                <a:lnTo>
                  <a:pt x="1431494" y="1280368"/>
                </a:lnTo>
                <a:lnTo>
                  <a:pt x="1676029" y="2071683"/>
                </a:lnTo>
                <a:lnTo>
                  <a:pt x="1035844" y="1582618"/>
                </a:lnTo>
                <a:lnTo>
                  <a:pt x="395659" y="2071683"/>
                </a:lnTo>
                <a:lnTo>
                  <a:pt x="640194" y="1280368"/>
                </a:lnTo>
                <a:lnTo>
                  <a:pt x="2" y="79131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авильный пятиугольник 16"/>
          <p:cNvSpPr/>
          <p:nvPr/>
        </p:nvSpPr>
        <p:spPr>
          <a:xfrm>
            <a:off x="5286240" y="3643200"/>
            <a:ext cx="1714680" cy="1633680"/>
          </a:xfrm>
          <a:prstGeom prst="pentagon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17"/>
          <p:cNvSpPr/>
          <p:nvPr/>
        </p:nvSpPr>
        <p:spPr>
          <a:xfrm>
            <a:off x="7072200" y="1928880"/>
            <a:ext cx="1408320" cy="1214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321480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85880" y="32148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6429240" y="28576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4786200" y="4786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1428840" y="4857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428760" y="55720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ым называется многоугольник, у которого все стороны равны и все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187280" y="76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85840" y="33544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кружность – это множество точек, равноудаленных от ее центра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2"/>
          <p:cNvGrpSpPr/>
          <p:nvPr/>
        </p:nvGrpSpPr>
        <p:grpSpPr>
          <a:xfrm>
            <a:off x="285840" y="4425840"/>
            <a:ext cx="8640360" cy="2430360"/>
            <a:chOff x="285840" y="4425840"/>
            <a:chExt cx="8640360" cy="2430360"/>
          </a:xfrm>
        </p:grpSpPr>
        <p:sp>
          <p:nvSpPr>
            <p:cNvPr id="63" name="Text Box 23"/>
            <p:cNvSpPr/>
            <p:nvPr/>
          </p:nvSpPr>
          <p:spPr>
            <a:xfrm>
              <a:off x="285840" y="4425840"/>
              <a:ext cx="8640360" cy="24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Величина угла поворота Черепашки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и построении правильного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угольника вычисляется по формул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Object 24"/>
                <p:cNvSpPr txBox="1"/>
                <p:nvPr/>
              </p:nvSpPr>
              <p:spPr>
                <a:xfrm>
                  <a:off x="3857040" y="5498280"/>
                  <a:ext cx="135468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285840" y="10684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у правильного многоугольника постепенно увеличивать количество вершин, на какую фигуру он становится похож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285840" y="26398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бы вы определили, что такое «окружность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3429000" y="19288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кру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окруж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ь каждому ну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окруж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ножество точ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ых 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ом расстоя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дной только 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 смысл этой стр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общая точка, по-друже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центром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"/>
          <p:cNvSpPr/>
          <p:nvPr/>
        </p:nvSpPr>
        <p:spPr>
          <a:xfrm>
            <a:off x="5286240" y="1857240"/>
            <a:ext cx="3571920" cy="3500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"/>
          <p:cNvSpPr/>
          <p:nvPr/>
        </p:nvSpPr>
        <p:spPr>
          <a:xfrm>
            <a:off x="7072200" y="3571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9528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 повтори 18 [вп 18 пр 20] или повто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вп 20 пр 20]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95280" y="5084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втори 18 [вп 20 пр 20] или повтори 20 [вп 18 пр 18]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643280" y="4149720"/>
            <a:ext cx="3241800" cy="0"/>
          </a:xfrm>
          <a:prstGeom prst="line">
            <a:avLst/>
          </a:prstGeom>
          <a:ln w="38160">
            <a:solidFill>
              <a:srgbClr val="d71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4000" y="6165720"/>
            <a:ext cx="864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аго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* 18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агов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агов * 20 = 360 шаг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564000" y="551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39640" y="1052640"/>
            <a:ext cx="8425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, который пройдет Черепашка при построении окружности, вычисляется по формул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N *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сторон правильного много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ина одной стороны многоугольника (в шаг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395280" y="4365720"/>
            <a:ext cx="86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18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а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ов * 18 = 360 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395280" y="3068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ру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го размера и почему?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00" y="836640"/>
            <a:ext cx="7920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Для рисования правильного 10-угольника со стороной 20 шагов, нужно дать кома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повтори 20 [вп 10 пр 1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2. повтори 10 [вп 20 пр 3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4360" y="2637000"/>
          <a:ext cx="8028000" cy="2465280"/>
        </p:xfrm>
        <a:graphic>
          <a:graphicData uri="http://schemas.openxmlformats.org/drawingml/2006/table">
            <a:tbl>
              <a:tblPr/>
              <a:tblGrid>
                <a:gridCol w="4014720"/>
                <a:gridCol w="40132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ол одного поворо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ый 36-угольник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ый 12-уголь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ый 9-уголь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ый 18-уголь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Line 43"/>
          <p:cNvSpPr/>
          <p:nvPr/>
        </p:nvSpPr>
        <p:spPr>
          <a:xfrm>
            <a:off x="3059280" y="2349360"/>
            <a:ext cx="3600360" cy="0"/>
          </a:xfrm>
          <a:prstGeom prst="line">
            <a:avLst/>
          </a:prstGeom>
          <a:ln w="38160">
            <a:solidFill>
              <a:srgbClr val="d71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4" descr=""/>
          <p:cNvPicPr/>
          <p:nvPr/>
        </p:nvPicPr>
        <p:blipFill>
          <a:blip r:embed="rId1"/>
          <a:stretch/>
        </p:blipFill>
        <p:spPr>
          <a:xfrm>
            <a:off x="1187280" y="5805360"/>
            <a:ext cx="93348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5"/>
          <p:cNvSpPr/>
          <p:nvPr/>
        </p:nvSpPr>
        <p:spPr>
          <a:xfrm>
            <a:off x="140004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2771640" y="5805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и 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п 15 пр 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6033960" cy="6597720"/>
          </a:xfrm>
          <a:prstGeom prst="rect">
            <a:avLst/>
          </a:prstGeom>
          <a:ln w="0">
            <a:noFill/>
          </a:ln>
        </p:spPr>
      </p:pic>
      <p:sp>
        <p:nvSpPr>
          <p:cNvPr id="93" name="Oval 7"/>
          <p:cNvSpPr/>
          <p:nvPr/>
        </p:nvSpPr>
        <p:spPr>
          <a:xfrm>
            <a:off x="2340000" y="2924280"/>
            <a:ext cx="3589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>
            <a:off x="3419640" y="1844640"/>
            <a:ext cx="2142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468360" y="4005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исовать линию до начальной то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132000" y="191628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ИП нарисовать половинку окружност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132000" y="2997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рнуть голову Черепашки в направлении 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68360" y="4724280"/>
            <a:ext cx="83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исовать половину окружности с поворотом головы Черепашки направо, затем вторую половинку с поворотом головы нале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633760" cy="2880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1"/>
          <p:cNvSpPr/>
          <p:nvPr/>
        </p:nvSpPr>
        <p:spPr>
          <a:xfrm>
            <a:off x="2268360" y="1393920"/>
            <a:ext cx="216000" cy="482400"/>
          </a:xfrm>
          <a:prstGeom prst="triangle">
            <a:avLst>
              <a:gd name="adj" fmla="val 50000"/>
            </a:avLst>
          </a:prstGeom>
          <a:solidFill>
            <a:srgbClr val="d71703"/>
          </a:solidFill>
          <a:ln w="9360">
            <a:solidFill>
              <a:srgbClr val="d71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132000" y="98100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 рисования м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8360" y="60930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асить тело мышки серым ц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9640" y="836640"/>
            <a:ext cx="79930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ля Черепашки окружностью является многоугольник с количеством сторон 36 и бол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еличина одного угла поворота головы Черепашки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построении правильног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гольника вычисляется по форму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иаметр окружности – это отрезок, соединяющий 2 точки окружности и проходящий через ее цент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диус окружности – это отрезок, соединяющий любую точку окружности с ее цент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диус окружности равен половине диаме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ношение длины окружности к ее диаметру есть величина постоянная, обозначается знаком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равна 3,1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2050920" y="2852640"/>
                <a:ext cx="1368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05:24:24Z</dcterms:created>
  <dc:creator>All</dc:creator>
  <dc:description/>
  <dc:language>en-US</dc:language>
  <cp:lastModifiedBy>Igorevich</cp:lastModifiedBy>
  <dcterms:modified xsi:type="dcterms:W3CDTF">2013-06-04T19:12:41Z</dcterms:modified>
  <cp:revision>41</cp:revision>
  <dc:subject/>
  <dc:title>Слайд 1</dc:title>
</cp:coreProperties>
</file>