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7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5A55-E9CA-4E11-8B7A-C132B1069A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Эта проблема волнует всех. А потому сегодня за круглым столом, а он у нас действительно кругл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 всех интересует- я повтор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ы специально поставили рисунок разомкнутого к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9326-D898-4BD0-8F97-2FDB3046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1051-80E5-4AAA-BF00-8BA89A2F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6E17-0F4C-4C5F-86D5-0F43AE43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02F-D5B8-45B3-8B41-24496076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1CDE-DE78-452E-9790-DB7E6A75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2202-EE45-4CEE-AB62-8686CA18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D3DE-D20A-4E3E-9521-7E6A3369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3173-BB64-4DA8-AFBA-59D2576D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54BD-228A-43E3-9413-BBB823F6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EA03-D792-460D-B758-0EAB2115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8CFC-6F14-4D70-A84C-AF750C36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559C-42A9-4AD2-A89D-B80637F0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2349-EB21-4AAE-B493-8B5B3A87D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050920" y="476280"/>
            <a:ext cx="6553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72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ookman Old Style"/>
              </a:rPr>
              <a:t>Роль знаков и символов </a:t>
            </a:r>
            <a:endParaRPr b="1" lang="en-US" sz="1800" spc="1" strike="noStrike">
              <a:ln w="72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72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ookman Old Style"/>
              </a:rPr>
              <a:t>в современной геральдике</a:t>
            </a:r>
            <a:endParaRPr b="1" lang="en-US" sz="1800" spc="1" strike="noStrike">
              <a:ln w="72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man Old Style"/>
              <a:ea typeface="Bookman Old Style"/>
            </a:endParaRPr>
          </a:p>
        </p:txBody>
      </p:sp>
      <p:sp>
        <p:nvSpPr>
          <p:cNvPr id="49" name=""/>
          <p:cNvSpPr/>
          <p:nvPr/>
        </p:nvSpPr>
        <p:spPr>
          <a:xfrm>
            <a:off x="5148360" y="44280"/>
            <a:ext cx="38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ГОРОД КАНАШ ЧУВАШСКОЙ РЕСПУБЛ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41600"/>
            <a:ext cx="46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МОУ «СРЕДНЯЯ ОБЩЕОБРАЗОВАТЕЛЬНАЯ ШКОЛА № 6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48360" y="1844640"/>
            <a:ext cx="367020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8820000" y="188640"/>
            <a:ext cx="0" cy="165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24000" y="115560"/>
            <a:ext cx="0" cy="158436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15920"/>
            <a:ext cx="475272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989000"/>
            <a:ext cx="820872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0000" y="1989000"/>
            <a:ext cx="0" cy="446436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205000"/>
            <a:ext cx="0" cy="44640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6669000"/>
            <a:ext cx="828036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1119240" cy="144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754360" y="2133720"/>
            <a:ext cx="3735360" cy="4390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476360" y="4581360"/>
            <a:ext cx="669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Мы граждане великой страны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РОССИИИ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2421000"/>
            <a:ext cx="792360" cy="57636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93080" y="2276640"/>
            <a:ext cx="792000" cy="57600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005360"/>
            <a:ext cx="792000" cy="57600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5734080"/>
            <a:ext cx="792000" cy="57636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84360" y="5734080"/>
            <a:ext cx="792360" cy="57636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59640" y="3645000"/>
            <a:ext cx="792000" cy="576000"/>
          </a:xfrm>
          <a:prstGeom prst="star5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47640" y="3213000"/>
            <a:ext cx="792360" cy="576360"/>
          </a:xfrm>
          <a:prstGeom prst="star5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5229360"/>
            <a:ext cx="792000" cy="576000"/>
          </a:xfrm>
          <a:prstGeom prst="star5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96360" y="3141720"/>
            <a:ext cx="792000" cy="57636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96360" y="3141720"/>
            <a:ext cx="792000" cy="57636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68360" y="2133720"/>
            <a:ext cx="792360" cy="57600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0920" y="3933720"/>
            <a:ext cx="792360" cy="57636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40720" y="4005360"/>
            <a:ext cx="792000" cy="576000"/>
          </a:xfrm>
          <a:prstGeom prst="star5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3357720"/>
            <a:ext cx="792000" cy="576000"/>
          </a:xfrm>
          <a:prstGeom prst="star5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2276640"/>
            <a:ext cx="792360" cy="576000"/>
          </a:xfrm>
          <a:prstGeom prst="star5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2492280"/>
            <a:ext cx="792360" cy="576360"/>
          </a:xfrm>
          <a:prstGeom prst="star5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5805360"/>
            <a:ext cx="792360" cy="576360"/>
          </a:xfrm>
          <a:prstGeom prst="star5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940360" y="5950080"/>
            <a:ext cx="792360" cy="576000"/>
          </a:xfrm>
          <a:prstGeom prst="star5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3933720"/>
            <a:ext cx="792000" cy="576360"/>
          </a:xfrm>
          <a:prstGeom prst="star5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84720" y="2997360"/>
            <a:ext cx="792360" cy="576000"/>
          </a:xfrm>
          <a:prstGeom prst="star5">
            <a:avLst/>
          </a:prstGeom>
          <a:gradFill rotWithShape="0">
            <a:gsLst>
              <a:gs pos="0">
                <a:srgbClr val="ff3300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40000" y="2924280"/>
            <a:ext cx="792000" cy="576000"/>
          </a:xfrm>
          <a:prstGeom prst="star5">
            <a:avLst/>
          </a:prstGeom>
          <a:gradFill rotWithShape="0">
            <a:gsLst>
              <a:gs pos="0">
                <a:srgbClr val="0066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23640" y="1628640"/>
            <a:ext cx="8589960" cy="482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5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5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5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5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5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5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5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5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5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5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5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56000" y="274680"/>
            <a:ext cx="6130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mbria"/>
              </a:rPr>
              <a:t>Заключение (выводы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42920" y="836640"/>
            <a:ext cx="403884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ая соединительная линия 8"/>
          <p:cNvSpPr/>
          <p:nvPr/>
        </p:nvSpPr>
        <p:spPr>
          <a:xfrm>
            <a:off x="2987640" y="765000"/>
            <a:ext cx="532764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ая соединительная линия 19"/>
          <p:cNvSpPr/>
          <p:nvPr/>
        </p:nvSpPr>
        <p:spPr>
          <a:xfrm>
            <a:off x="900000" y="6237360"/>
            <a:ext cx="7715520" cy="14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7"/>
          <p:cNvSpPr/>
          <p:nvPr/>
        </p:nvSpPr>
        <p:spPr>
          <a:xfrm>
            <a:off x="1285920" y="6215040"/>
            <a:ext cx="70722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0920" y="6308640"/>
            <a:ext cx="53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№6»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. Канаш Чувашской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95640" y="3362400"/>
            <a:ext cx="64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buClr>
                <a:srgbClr val="800000"/>
              </a:buClr>
              <a:buFont typeface="Arial"/>
              <a:buChar char="•"/>
              <a:tabLst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331640" cy="19414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908000" y="955440"/>
            <a:ext cx="7056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щиеся 9В класса МОУ «Средняя общеобразовательная школа №6» хорошо знают государственную символику, проявляют к ней уважение и испытывают чувство гордости и воспринимают её как национальную ц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сударственная символика отражает не только историю страны, но и составляется по определённым правилам геральдики, где роль символов и знаков научно обозначе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я основные законы и правила геральдики, можно составить свой герб, использовать его изображение для выпуска полиграфической проду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48000" y="2708280"/>
            <a:ext cx="417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48000" y="4292640"/>
            <a:ext cx="417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71280" y="274680"/>
            <a:ext cx="61930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mbria"/>
              </a:rPr>
              <a:t>Полиграфическая продукция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067280" y="1268280"/>
            <a:ext cx="40384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ая соединительная линия 8"/>
          <p:cNvSpPr/>
          <p:nvPr/>
        </p:nvSpPr>
        <p:spPr>
          <a:xfrm>
            <a:off x="2916360" y="765000"/>
            <a:ext cx="604836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19"/>
          <p:cNvSpPr/>
          <p:nvPr/>
        </p:nvSpPr>
        <p:spPr>
          <a:xfrm>
            <a:off x="900000" y="6237360"/>
            <a:ext cx="7715520" cy="14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7"/>
          <p:cNvSpPr/>
          <p:nvPr/>
        </p:nvSpPr>
        <p:spPr>
          <a:xfrm>
            <a:off x="1285920" y="6215040"/>
            <a:ext cx="70722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0920" y="6308640"/>
            <a:ext cx="53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№6»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. Канаш Чувашской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95640" y="3362400"/>
            <a:ext cx="64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buClr>
                <a:srgbClr val="800000"/>
              </a:buClr>
              <a:buFont typeface="Arial"/>
              <a:buChar char="•"/>
              <a:tabLst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98680" cy="2952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332000" y="3429000"/>
            <a:ext cx="3816360" cy="2625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5651640" y="1268280"/>
            <a:ext cx="2908080" cy="3961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 flipV="1">
            <a:off x="5651640" y="1267920"/>
            <a:ext cx="0" cy="39610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532720" y="1267920"/>
            <a:ext cx="0" cy="39610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651640" y="5229360"/>
            <a:ext cx="2881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51640" y="1268280"/>
            <a:ext cx="2881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32000" y="6021360"/>
            <a:ext cx="381636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32000" y="3429000"/>
            <a:ext cx="381636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32000" y="5805360"/>
            <a:ext cx="381636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32000" y="3428640"/>
            <a:ext cx="0" cy="259236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48360" y="3428640"/>
            <a:ext cx="0" cy="259236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32000" y="4076640"/>
            <a:ext cx="302400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9280" y="3213000"/>
            <a:ext cx="23767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9280" y="260280"/>
            <a:ext cx="23767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79280" y="260280"/>
            <a:ext cx="0" cy="2952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556000" y="260280"/>
            <a:ext cx="0" cy="2952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0"/>
                            </p:stCondLst>
                            <p:childTnLst>
                              <p:par>
                                <p:cTn id="4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9000"/>
                            </p:stCondLst>
                            <p:childTnLst>
                              <p:par>
                                <p:cTn id="4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9000"/>
                            </p:stCondLst>
                            <p:childTnLst>
                              <p:par>
                                <p:cTn id="4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1000"/>
                            </p:stCondLst>
                            <p:childTnLst>
                              <p:par>
                                <p:cTn id="4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3000"/>
                            </p:stCondLst>
                            <p:childTnLst>
                              <p:par>
                                <p:cTn id="4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5000"/>
                            </p:stCondLst>
                            <p:childTnLst>
                              <p:par>
                                <p:cTn id="4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7000"/>
                            </p:stCondLst>
                            <p:childTnLst>
                              <p:par>
                                <p:cTn id="4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7640" y="115920"/>
            <a:ext cx="71503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Цель, задачи, гипотеза исследования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000" y="907920"/>
            <a:ext cx="790092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7160" cy="11095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7"/>
          <p:cNvSpPr/>
          <p:nvPr/>
        </p:nvSpPr>
        <p:spPr>
          <a:xfrm>
            <a:off x="755640" y="6215040"/>
            <a:ext cx="770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№6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Канаш Чувашской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8"/>
          <p:cNvSpPr/>
          <p:nvPr/>
        </p:nvSpPr>
        <p:spPr>
          <a:xfrm>
            <a:off x="1547640" y="692280"/>
            <a:ext cx="7128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9"/>
          <p:cNvSpPr/>
          <p:nvPr/>
        </p:nvSpPr>
        <p:spPr>
          <a:xfrm>
            <a:off x="1116000" y="6381720"/>
            <a:ext cx="7426440" cy="14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Заголовок 7"/>
          <p:cNvSpPr/>
          <p:nvPr/>
        </p:nvSpPr>
        <p:spPr>
          <a:xfrm>
            <a:off x="468360" y="0"/>
            <a:ext cx="822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76500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Изучить основы геральдики; выявить роль знаков и символов, особенности их применения при составлении современных герб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Прямоугольник 3"/>
          <p:cNvGrpSpPr/>
          <p:nvPr/>
        </p:nvGrpSpPr>
        <p:grpSpPr>
          <a:xfrm>
            <a:off x="395280" y="1700280"/>
            <a:ext cx="8965800" cy="6334200"/>
            <a:chOff x="395280" y="1700280"/>
            <a:chExt cx="8965800" cy="6334200"/>
          </a:xfrm>
        </p:grpSpPr>
        <p:pic>
          <p:nvPicPr>
            <p:cNvPr id="93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95280" y="1700280"/>
              <a:ext cx="8965800" cy="633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73760" y="1866600"/>
              <a:ext cx="830808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84360" y="189936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учить литературу по теме исслед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делить основные принципы составления герб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явить роль знаков и символов в гербах РФ и Чуваш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здать герб своего класса с учётом геральдических прави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разработать эскизы собственной полиграфической продукции (грамоты, благодарственные письма, календари и т.д.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5"/>
          <p:cNvSpPr/>
          <p:nvPr/>
        </p:nvSpPr>
        <p:spPr>
          <a:xfrm>
            <a:off x="468360" y="1773360"/>
            <a:ext cx="828036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468360" y="4797360"/>
            <a:ext cx="835164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497736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ипотеза исследования: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считаем, что государственные символы отражают историю страны и предполагаем, что составляются они по определённым правил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47640" y="115560"/>
            <a:ext cx="71503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Актуальность исследования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000" y="907920"/>
            <a:ext cx="790092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716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7"/>
          <p:cNvSpPr/>
          <p:nvPr/>
        </p:nvSpPr>
        <p:spPr>
          <a:xfrm>
            <a:off x="755640" y="6215040"/>
            <a:ext cx="770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№6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Канаш Чувашской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8"/>
          <p:cNvSpPr/>
          <p:nvPr/>
        </p:nvSpPr>
        <p:spPr>
          <a:xfrm>
            <a:off x="1619280" y="836640"/>
            <a:ext cx="7128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19"/>
          <p:cNvSpPr/>
          <p:nvPr/>
        </p:nvSpPr>
        <p:spPr>
          <a:xfrm>
            <a:off x="1116000" y="6381720"/>
            <a:ext cx="7426440" cy="14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7"/>
          <p:cNvSpPr/>
          <p:nvPr/>
        </p:nvSpPr>
        <p:spPr>
          <a:xfrm>
            <a:off x="468360" y="189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Прямоугольник 3"/>
          <p:cNvGrpSpPr/>
          <p:nvPr/>
        </p:nvGrpSpPr>
        <p:grpSpPr>
          <a:xfrm>
            <a:off x="395280" y="1628640"/>
            <a:ext cx="8965800" cy="6405840"/>
            <a:chOff x="395280" y="1628640"/>
            <a:chExt cx="8965800" cy="6405840"/>
          </a:xfrm>
        </p:grpSpPr>
        <p:pic>
          <p:nvPicPr>
            <p:cNvPr id="107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95280" y="1628640"/>
              <a:ext cx="8965800" cy="640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73760" y="1797120"/>
              <a:ext cx="830808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84360" y="1830600"/>
            <a:ext cx="79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зучение главных символов государства помогает не только лучше понять нашу историю, но и приблизиться к пониманию мировоззрения людей минувших эпох, социальной психологии общества, его менталитета – вопросам актуальным и ещё недостаточно изучен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5"/>
          <p:cNvSpPr/>
          <p:nvPr/>
        </p:nvSpPr>
        <p:spPr>
          <a:xfrm>
            <a:off x="468360" y="1700280"/>
            <a:ext cx="828036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5"/>
          <p:cNvSpPr/>
          <p:nvPr/>
        </p:nvSpPr>
        <p:spPr>
          <a:xfrm>
            <a:off x="468360" y="4797360"/>
            <a:ext cx="835164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7"/>
          <p:cNvSpPr/>
          <p:nvPr/>
        </p:nvSpPr>
        <p:spPr>
          <a:xfrm>
            <a:off x="1285920" y="6237360"/>
            <a:ext cx="70722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№6»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. Канаш Чувашской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8"/>
          <p:cNvSpPr/>
          <p:nvPr/>
        </p:nvSpPr>
        <p:spPr>
          <a:xfrm>
            <a:off x="1692360" y="549360"/>
            <a:ext cx="72738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9"/>
          <p:cNvSpPr/>
          <p:nvPr/>
        </p:nvSpPr>
        <p:spPr>
          <a:xfrm>
            <a:off x="826920" y="6021360"/>
            <a:ext cx="7715520" cy="14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771640" y="836640"/>
          <a:ext cx="6048360" cy="5056200"/>
        </p:xfrm>
        <a:graphic>
          <a:graphicData uri="http://schemas.openxmlformats.org/drawingml/2006/table">
            <a:tbl>
              <a:tblPr/>
              <a:tblGrid>
                <a:gridCol w="1776600"/>
                <a:gridCol w="4271760"/>
              </a:tblGrid>
              <a:tr h="14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альд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зднелатинское heraldica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heraldus - глашата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исторической науки, изучающий гербы и их историю; описание гербов.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б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льское herb, от немецкого Erbe - наследств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блема государства, города, сословия, рода, изображаемая на флагах, монетах, печатях государственных и других официальных документах.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ициальная эмблема государства, изображаемая на печатях, бланках государственных органов, денежных знаках и др.</a:t>
                      </a:r>
                      <a:r>
                        <a:rPr b="1" lang="en-US" sz="1600" spc="-1" strike="noStrike" baseline="30000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вляется неотъемлемым признаком суверенитета и международного призн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1692360" y="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Исследовательская часть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2392200" cy="244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403280" y="836640"/>
            <a:ext cx="1513080" cy="3603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1197000"/>
            <a:ext cx="143964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03280" y="1916280"/>
            <a:ext cx="1513080" cy="8650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2781360"/>
            <a:ext cx="1081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2565360"/>
            <a:ext cx="2519640" cy="2232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59280" y="4797360"/>
            <a:ext cx="1081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5183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еральдика.р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9000"/>
                            </p:stCondLst>
                            <p:childTnLst>
                              <p:par>
                                <p:cTn id="2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mbria"/>
              </a:rPr>
              <a:t>               </a:t>
            </a:r>
            <a:r>
              <a:rPr b="1" lang="en-US" sz="3200" spc="-1" strike="noStrike">
                <a:solidFill>
                  <a:srgbClr val="c00000"/>
                </a:solidFill>
                <a:latin typeface="Cambria"/>
              </a:rPr>
              <a:t>Исследовательская часть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3997440" cy="12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476360" y="4005000"/>
            <a:ext cx="6840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alibri"/>
              </a:rPr>
              <a:t>Основные мотивы геральд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3280" y="1412640"/>
            <a:ext cx="404208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ая соединительная линия 8"/>
          <p:cNvSpPr/>
          <p:nvPr/>
        </p:nvSpPr>
        <p:spPr>
          <a:xfrm>
            <a:off x="2627280" y="692280"/>
            <a:ext cx="518472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1258920" y="6237360"/>
            <a:ext cx="70722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84360" y="873000"/>
            <a:ext cx="4811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79640" y="836640"/>
            <a:ext cx="7020000" cy="3024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7800" y="877320"/>
            <a:ext cx="10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Щи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763280" y="4653000"/>
            <a:ext cx="863640" cy="504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692280"/>
            <a:ext cx="1368360" cy="865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32000" y="2205000"/>
            <a:ext cx="7189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1413000"/>
            <a:ext cx="576360" cy="792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56000" y="4508640"/>
            <a:ext cx="46800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24000" y="5084640"/>
            <a:ext cx="1137960" cy="1501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771640" y="5084640"/>
            <a:ext cx="900360" cy="1555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148360" y="5373720"/>
            <a:ext cx="1100160" cy="1273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7308720" y="5157720"/>
            <a:ext cx="1317600" cy="1506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H="1">
            <a:off x="3635280" y="4724280"/>
            <a:ext cx="865440" cy="649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32720" y="4652640"/>
            <a:ext cx="792000" cy="5763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80000" y="4724280"/>
            <a:ext cx="360360" cy="5763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7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9000"/>
                            </p:stCondLst>
                            <p:childTnLst>
                              <p:par>
                                <p:cTn id="2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79280" y="274680"/>
            <a:ext cx="62643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mbria"/>
              </a:rPr>
              <a:t>Символика цветов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2920" y="836640"/>
            <a:ext cx="403884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ая соединительная линия 8"/>
          <p:cNvSpPr/>
          <p:nvPr/>
        </p:nvSpPr>
        <p:spPr>
          <a:xfrm>
            <a:off x="2411280" y="765000"/>
            <a:ext cx="532764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9"/>
          <p:cNvSpPr/>
          <p:nvPr/>
        </p:nvSpPr>
        <p:spPr>
          <a:xfrm>
            <a:off x="755640" y="6165720"/>
            <a:ext cx="7715160" cy="180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7"/>
          <p:cNvSpPr/>
          <p:nvPr/>
        </p:nvSpPr>
        <p:spPr>
          <a:xfrm>
            <a:off x="1258920" y="6237360"/>
            <a:ext cx="70722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2000" y="1341360"/>
            <a:ext cx="489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50920" y="6308640"/>
            <a:ext cx="53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№6»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. Канаш Чувашской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907920"/>
          <a:ext cx="8209080" cy="5113080"/>
        </p:xfrm>
        <a:graphic>
          <a:graphicData uri="http://schemas.openxmlformats.org/drawingml/2006/table">
            <a:tbl>
              <a:tblPr/>
              <a:tblGrid>
                <a:gridCol w="1790640"/>
                <a:gridCol w="6418440"/>
              </a:tblGrid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8b4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ль металлов, символизирует знатность, могущество и богатство, а также христианские добродетели: веру, справедливость, милосердие и смир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изирует благородство, откровенность, а также чистоту, невинность и правдивость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ервл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изирует храбрость, мужество, любовь, а также кровь, пролитую в борьб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Лазу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изирует великодушие, честность, верность и безупречность, или просто небо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Зел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изирует надежду, изобилие, свободу и радость, но может и просто означать луговую тра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Пурпу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изирует благочестие, умеренность, щедрость и верховное господ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ёр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 осторожности, мудрости, постоянства в испытаниях, а также печали и траур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mbria"/>
              </a:rPr>
              <a:t>               </a:t>
            </a:r>
            <a:r>
              <a:rPr b="1" lang="en-US" sz="3200" spc="-1" strike="noStrike">
                <a:solidFill>
                  <a:srgbClr val="c00000"/>
                </a:solidFill>
                <a:latin typeface="Cambria"/>
              </a:rPr>
              <a:t>Исследовательская часть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43280" y="1412640"/>
            <a:ext cx="404208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ая соединительная линия 8"/>
          <p:cNvSpPr/>
          <p:nvPr/>
        </p:nvSpPr>
        <p:spPr>
          <a:xfrm>
            <a:off x="2627280" y="692280"/>
            <a:ext cx="518472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1285920" y="6215040"/>
            <a:ext cx="70722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873000"/>
            <a:ext cx="4811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360" y="906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63000" y="6426360"/>
            <a:ext cx="44067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№6»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. Канаш Чувашской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9"/>
          <p:cNvSpPr/>
          <p:nvPr/>
        </p:nvSpPr>
        <p:spPr>
          <a:xfrm>
            <a:off x="826920" y="6381720"/>
            <a:ext cx="7715520" cy="14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4681440" cy="3168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Чувашия, герб. "/>
          <p:cNvPicPr/>
          <p:nvPr/>
        </p:nvPicPr>
        <p:blipFill>
          <a:blip r:embed="rId2"/>
          <a:stretch/>
        </p:blipFill>
        <p:spPr>
          <a:xfrm>
            <a:off x="4140360" y="3357720"/>
            <a:ext cx="4727520" cy="2904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932360" y="1052640"/>
            <a:ext cx="421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314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зучение государственных символов является одним из главных условий формирования национального самосознания, воспитания уважения к национальным ценностям, своей истории, образу жизн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765000"/>
            <a:ext cx="0" cy="25196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32360" y="3284640"/>
            <a:ext cx="421164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500"/>
                            </p:stCondLst>
                            <p:childTnLst>
                              <p:par>
                                <p:cTn id="2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7"/>
          <p:cNvSpPr/>
          <p:nvPr/>
        </p:nvSpPr>
        <p:spPr>
          <a:xfrm>
            <a:off x="1285920" y="6381720"/>
            <a:ext cx="70722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№6»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. Канаш Чувашской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8"/>
          <p:cNvSpPr/>
          <p:nvPr/>
        </p:nvSpPr>
        <p:spPr>
          <a:xfrm>
            <a:off x="1692360" y="549360"/>
            <a:ext cx="72738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19"/>
          <p:cNvSpPr/>
          <p:nvPr/>
        </p:nvSpPr>
        <p:spPr>
          <a:xfrm>
            <a:off x="755640" y="6308640"/>
            <a:ext cx="7715160" cy="180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2360" y="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А н к е т и р о в а н и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1700280"/>
            <a:ext cx="360036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32000" y="2997360"/>
            <a:ext cx="25192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42920" y="619920"/>
            <a:ext cx="78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1371600"/>
                <a:tab algn="l" pos="2314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Что для вас является символом исторической гордо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11280" y="1052640"/>
          <a:ext cx="8137440" cy="2039760"/>
        </p:xfrm>
        <a:graphic>
          <a:graphicData uri="http://schemas.openxmlformats.org/drawingml/2006/table">
            <a:tbl>
              <a:tblPr/>
              <a:tblGrid>
                <a:gridCol w="4068720"/>
                <a:gridCol w="4068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космонав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Победа в Великой Отечественной вой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ающиеся  достижения российских спортсмен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ые дости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Государственные симво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116000" y="3213000"/>
          <a:ext cx="7272360" cy="2928960"/>
        </p:xfrm>
        <a:graphic>
          <a:graphicData uri="http://schemas.openxmlformats.org/drawingml/2006/table">
            <a:tbl>
              <a:tblPr/>
              <a:tblGrid>
                <a:gridCol w="2268720"/>
                <a:gridCol w="2600280"/>
                <a:gridCol w="1231920"/>
                <a:gridCol w="1171440"/>
              </a:tblGrid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. Хотели бы вы иметь герб своего класс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ё рав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. Знаете ли вы основные правила геральдики, для того чтобы создать герб класс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но зна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наем, но хотим принять участие в создании герба кла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6300720" y="1341360"/>
            <a:ext cx="792360" cy="432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00720" y="2708280"/>
            <a:ext cx="792360" cy="431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2708280"/>
            <a:ext cx="792360" cy="431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59280" y="3933720"/>
            <a:ext cx="792000" cy="432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5734080"/>
            <a:ext cx="792000" cy="431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32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9000"/>
                            </p:stCondLst>
                            <p:childTnLst>
                              <p:par>
                                <p:cTn id="32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7"/>
          <p:cNvSpPr/>
          <p:nvPr/>
        </p:nvSpPr>
        <p:spPr>
          <a:xfrm>
            <a:off x="1285920" y="6381720"/>
            <a:ext cx="70722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№6»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. Канаш Чувашской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8"/>
          <p:cNvSpPr/>
          <p:nvPr/>
        </p:nvSpPr>
        <p:spPr>
          <a:xfrm>
            <a:off x="1692360" y="549360"/>
            <a:ext cx="72738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19"/>
          <p:cNvSpPr/>
          <p:nvPr/>
        </p:nvSpPr>
        <p:spPr>
          <a:xfrm>
            <a:off x="755640" y="6308640"/>
            <a:ext cx="7715160" cy="180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92360" y="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Практическая часть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71640" y="3068640"/>
            <a:ext cx="2520720" cy="2016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508720" y="2923920"/>
            <a:ext cx="2735280" cy="20890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1562040" cy="22636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484360" y="765000"/>
            <a:ext cx="1535040" cy="2160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643280" y="765000"/>
            <a:ext cx="1756080" cy="2087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6948360" y="765000"/>
            <a:ext cx="1854360" cy="2087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3564000" y="3500280"/>
            <a:ext cx="1876320" cy="27338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71640" y="2781360"/>
            <a:ext cx="1079640" cy="936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148360" y="2708280"/>
            <a:ext cx="1008000" cy="1008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18:42:41Z</dcterms:created>
  <dc:creator>Васильева Н.И.</dc:creator>
  <dc:description/>
  <dc:language>en-US</dc:language>
  <cp:lastModifiedBy>Наська!!!!</cp:lastModifiedBy>
  <dcterms:modified xsi:type="dcterms:W3CDTF">2010-02-04T12:07:30Z</dcterms:modified>
  <cp:revision>181</cp:revision>
  <dc:subject/>
  <dc:title>Слайд 1</dc:title>
</cp:coreProperties>
</file>