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7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5B30-029B-4BA3-BF37-BE3274DB64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Эта проблема волнует всех. А потому сегодня за круглым столом, а он у нас действительно кругл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 всех интересует- я повтор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ы специально поставили рисунок разомкнутого к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252-8A13-46CC-A1B3-93CCF0D4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3DA-A2F4-475E-B741-9B01069E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A4C-1907-4398-8116-911DC498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5836-A383-4A4D-8AF8-62F8E464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074-02A0-4BF4-883F-0A95B2B6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A2A-DDC4-4787-A209-546D5F5E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DAD4-6A6D-4FFF-BEBA-63C4FAE9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7D2-EFD0-4348-813F-5B768EBC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725-7595-4905-B9E4-A635A6F9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FD8-61EE-495C-97D9-4B6CC23F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027-4B9D-4C42-A3C9-75E6FAC4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415-4EFE-43D5-8858-389CE1B0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B346-FBCA-47F7-B020-C8FCC0594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50920" y="476280"/>
            <a:ext cx="655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Роль знаков и символов </a:t>
            </a:r>
            <a:endParaRPr b="1" lang="en-US" sz="1800" spc="1" strike="noStrike">
              <a:ln w="7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7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в современной геральдике</a:t>
            </a:r>
            <a:endParaRPr b="1" lang="en-US" sz="1800" spc="1" strike="noStrike">
              <a:ln w="7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</p:txBody>
      </p:sp>
      <p:sp>
        <p:nvSpPr>
          <p:cNvPr id="49" name=""/>
          <p:cNvSpPr/>
          <p:nvPr/>
        </p:nvSpPr>
        <p:spPr>
          <a:xfrm>
            <a:off x="5148360" y="4428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ГОРОД КАНАШ ЧУВАШСКОЙ РЕСПУБЛ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41600"/>
            <a:ext cx="46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ОУ «СРЕДНЯЯ ОБЩЕОБРАЗОВАТЕЛЬНАЯ ШКОЛА № 6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1844640"/>
            <a:ext cx="367020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8820000" y="188640"/>
            <a:ext cx="0" cy="165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4000" y="115560"/>
            <a:ext cx="0" cy="158436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15920"/>
            <a:ext cx="475272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989000"/>
            <a:ext cx="820872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0000" y="1989000"/>
            <a:ext cx="0" cy="446436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205000"/>
            <a:ext cx="0" cy="4464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6669000"/>
            <a:ext cx="828036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1119240" cy="144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754360" y="2133720"/>
            <a:ext cx="3735360" cy="4390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476360" y="4581360"/>
            <a:ext cx="66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Мы граждане великой страны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Bookman Old Style"/>
              </a:rPr>
              <a:t>РОССИИИ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Bookman Old Style"/>
              <a:ea typeface="Bookman Old Style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2421000"/>
            <a:ext cx="79236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3080" y="2276640"/>
            <a:ext cx="792000" cy="57600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005360"/>
            <a:ext cx="792000" cy="57600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5734080"/>
            <a:ext cx="79200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5734080"/>
            <a:ext cx="79236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59640" y="3645000"/>
            <a:ext cx="792000" cy="576000"/>
          </a:xfrm>
          <a:prstGeom prst="star5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3213000"/>
            <a:ext cx="792360" cy="576360"/>
          </a:xfrm>
          <a:prstGeom prst="star5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5229360"/>
            <a:ext cx="792000" cy="576000"/>
          </a:xfrm>
          <a:prstGeom prst="star5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96360" y="3141720"/>
            <a:ext cx="79200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96360" y="3141720"/>
            <a:ext cx="79200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8360" y="2133720"/>
            <a:ext cx="792360" cy="57600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0920" y="3933720"/>
            <a:ext cx="792360" cy="576360"/>
          </a:xfrm>
          <a:prstGeom prst="star5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40720" y="4005360"/>
            <a:ext cx="792000" cy="57600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357720"/>
            <a:ext cx="792000" cy="57600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2276640"/>
            <a:ext cx="792360" cy="57600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2492280"/>
            <a:ext cx="792360" cy="57636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5805360"/>
            <a:ext cx="792360" cy="57636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0360" y="5950080"/>
            <a:ext cx="792360" cy="57600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3933720"/>
            <a:ext cx="792000" cy="576360"/>
          </a:xfrm>
          <a:prstGeom prst="star5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84720" y="2997360"/>
            <a:ext cx="792360" cy="576000"/>
          </a:xfrm>
          <a:prstGeom prst="star5">
            <a:avLst/>
          </a:prstGeom>
          <a:gradFill rotWithShape="0">
            <a:gsLst>
              <a:gs pos="0">
                <a:srgbClr val="ff3300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2924280"/>
            <a:ext cx="792000" cy="576000"/>
          </a:xfrm>
          <a:prstGeom prst="star5">
            <a:avLst/>
          </a:prstGeom>
          <a:gradFill rotWithShape="0">
            <a:gsLst>
              <a:gs pos="0">
                <a:srgbClr val="0066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23640" y="1628640"/>
            <a:ext cx="858996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5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5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5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56000" y="274680"/>
            <a:ext cx="6130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Заключение (выводы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2920" y="836640"/>
            <a:ext cx="40388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ая соединительная линия 8"/>
          <p:cNvSpPr/>
          <p:nvPr/>
        </p:nvSpPr>
        <p:spPr>
          <a:xfrm>
            <a:off x="2987640" y="765000"/>
            <a:ext cx="53276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19"/>
          <p:cNvSpPr/>
          <p:nvPr/>
        </p:nvSpPr>
        <p:spPr>
          <a:xfrm>
            <a:off x="900000" y="6237360"/>
            <a:ext cx="771552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7"/>
          <p:cNvSpPr/>
          <p:nvPr/>
        </p:nvSpPr>
        <p:spPr>
          <a:xfrm>
            <a:off x="1285920" y="6215040"/>
            <a:ext cx="7072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6308640"/>
            <a:ext cx="53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336240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800000"/>
              </a:buClr>
              <a:buFont typeface="Arial"/>
              <a:buChar char="•"/>
              <a:tabLst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31640" cy="1941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908000" y="955440"/>
            <a:ext cx="7056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щиеся 9В класса МОУ «Средняя общеобразовательная школа №6» хорошо знают государственную символику, проявляют к ней уважение и испытывают чувство гордости и воспринимают её как национальную ц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ая символика отражает не только историю страны, но и составляется по определённым правилам геральдики, где роль символов и знаков научно обознач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ctr"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я основные законы и правила геральдики, можно составить свой герб, использовать его изображение для выпуска полиграфической проду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48000" y="2708280"/>
            <a:ext cx="41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48000" y="4292640"/>
            <a:ext cx="41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71280" y="274680"/>
            <a:ext cx="61930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Полиграфическая продукц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067280" y="1268280"/>
            <a:ext cx="4038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ая соединительная линия 8"/>
          <p:cNvSpPr/>
          <p:nvPr/>
        </p:nvSpPr>
        <p:spPr>
          <a:xfrm>
            <a:off x="2916360" y="765000"/>
            <a:ext cx="6048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19"/>
          <p:cNvSpPr/>
          <p:nvPr/>
        </p:nvSpPr>
        <p:spPr>
          <a:xfrm>
            <a:off x="900000" y="6237360"/>
            <a:ext cx="771552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7"/>
          <p:cNvSpPr/>
          <p:nvPr/>
        </p:nvSpPr>
        <p:spPr>
          <a:xfrm>
            <a:off x="1285920" y="6215040"/>
            <a:ext cx="7072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6308640"/>
            <a:ext cx="53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336240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800000"/>
              </a:buClr>
              <a:buFont typeface="Arial"/>
              <a:buChar char="•"/>
              <a:tabLst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98680" cy="2952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3816360" cy="2625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651640" y="1268280"/>
            <a:ext cx="2908080" cy="3961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V="1">
            <a:off x="5651640" y="1267920"/>
            <a:ext cx="0" cy="3961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532720" y="1267920"/>
            <a:ext cx="0" cy="3961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51640" y="5229360"/>
            <a:ext cx="2881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1268280"/>
            <a:ext cx="2881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000" y="6021360"/>
            <a:ext cx="38163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2000" y="3429000"/>
            <a:ext cx="38163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5805360"/>
            <a:ext cx="381636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32000" y="3428640"/>
            <a:ext cx="0" cy="25923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48360" y="3428640"/>
            <a:ext cx="0" cy="259236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4076640"/>
            <a:ext cx="30240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3213000"/>
            <a:ext cx="23767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260280"/>
            <a:ext cx="23767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79280" y="260280"/>
            <a:ext cx="0" cy="2952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556000" y="260280"/>
            <a:ext cx="0" cy="2952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9000"/>
                            </p:stCondLst>
                            <p:childTnLst>
                              <p:par>
                                <p:cTn id="4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7000"/>
                            </p:stCondLst>
                            <p:childTnLst>
                              <p:par>
                                <p:cTn id="4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7640" y="115920"/>
            <a:ext cx="71503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Цель, задачи, гипотеза исследован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000" y="907920"/>
            <a:ext cx="79009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7160" cy="11095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7"/>
          <p:cNvSpPr/>
          <p:nvPr/>
        </p:nvSpPr>
        <p:spPr>
          <a:xfrm>
            <a:off x="755640" y="6215040"/>
            <a:ext cx="770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8"/>
          <p:cNvSpPr/>
          <p:nvPr/>
        </p:nvSpPr>
        <p:spPr>
          <a:xfrm>
            <a:off x="1547640" y="692280"/>
            <a:ext cx="7128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9"/>
          <p:cNvSpPr/>
          <p:nvPr/>
        </p:nvSpPr>
        <p:spPr>
          <a:xfrm>
            <a:off x="1116000" y="6381720"/>
            <a:ext cx="742644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Заголовок 7"/>
          <p:cNvSpPr/>
          <p:nvPr/>
        </p:nvSpPr>
        <p:spPr>
          <a:xfrm>
            <a:off x="468360" y="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76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Изучить основы геральдики; выявить роль знаков и символов, особенности их применения при составлении современных гер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Прямоугольник 3"/>
          <p:cNvGrpSpPr/>
          <p:nvPr/>
        </p:nvGrpSpPr>
        <p:grpSpPr>
          <a:xfrm>
            <a:off x="395280" y="1700280"/>
            <a:ext cx="8965800" cy="6334200"/>
            <a:chOff x="395280" y="1700280"/>
            <a:chExt cx="8965800" cy="6334200"/>
          </a:xfrm>
        </p:grpSpPr>
        <p:pic>
          <p:nvPicPr>
            <p:cNvPr id="9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95280" y="1700280"/>
              <a:ext cx="8965800" cy="63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73760" y="1866600"/>
              <a:ext cx="830808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84360" y="189936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учить литературу по теме иссле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делить основные принципы составления герб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явить роль знаков и символов в гербах РФ и Чуваш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здать герб своего класса с учётом геральдических прави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разработать эскизы собственной полиграфической продукции (грамоты, благодарственные письма, календари и т.д.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5"/>
          <p:cNvSpPr/>
          <p:nvPr/>
        </p:nvSpPr>
        <p:spPr>
          <a:xfrm>
            <a:off x="468360" y="1773360"/>
            <a:ext cx="8280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468360" y="4797360"/>
            <a:ext cx="83516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497736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ипотеза исследования: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считаем, что государственные символы отражают историю страны и предполагаем, что составляются они по определённым прави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640" y="115560"/>
            <a:ext cx="71503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Актуальность исследован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000" y="907920"/>
            <a:ext cx="79009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716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7"/>
          <p:cNvSpPr/>
          <p:nvPr/>
        </p:nvSpPr>
        <p:spPr>
          <a:xfrm>
            <a:off x="755640" y="6215040"/>
            <a:ext cx="770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8"/>
          <p:cNvSpPr/>
          <p:nvPr/>
        </p:nvSpPr>
        <p:spPr>
          <a:xfrm>
            <a:off x="1619280" y="836640"/>
            <a:ext cx="7128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9"/>
          <p:cNvSpPr/>
          <p:nvPr/>
        </p:nvSpPr>
        <p:spPr>
          <a:xfrm>
            <a:off x="1116000" y="6381720"/>
            <a:ext cx="742644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7"/>
          <p:cNvSpPr/>
          <p:nvPr/>
        </p:nvSpPr>
        <p:spPr>
          <a:xfrm>
            <a:off x="468360" y="189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Прямоугольник 3"/>
          <p:cNvGrpSpPr/>
          <p:nvPr/>
        </p:nvGrpSpPr>
        <p:grpSpPr>
          <a:xfrm>
            <a:off x="395280" y="1628640"/>
            <a:ext cx="8965800" cy="6405840"/>
            <a:chOff x="395280" y="1628640"/>
            <a:chExt cx="8965800" cy="6405840"/>
          </a:xfrm>
        </p:grpSpPr>
        <p:pic>
          <p:nvPicPr>
            <p:cNvPr id="107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95280" y="1628640"/>
              <a:ext cx="8965800" cy="640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73760" y="1797120"/>
              <a:ext cx="830808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84360" y="183060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4791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зучение главных символов государства помогает не только лучше понять нашу историю, но и приблизиться к пониманию мировоззрения людей минувших эпох, социальной психологии общества, его менталитета – вопросам актуальным и ещё недостаточно изуче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5"/>
          <p:cNvSpPr/>
          <p:nvPr/>
        </p:nvSpPr>
        <p:spPr>
          <a:xfrm>
            <a:off x="468360" y="1700280"/>
            <a:ext cx="8280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5"/>
          <p:cNvSpPr/>
          <p:nvPr/>
        </p:nvSpPr>
        <p:spPr>
          <a:xfrm>
            <a:off x="468360" y="4797360"/>
            <a:ext cx="83516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7"/>
          <p:cNvSpPr/>
          <p:nvPr/>
        </p:nvSpPr>
        <p:spPr>
          <a:xfrm>
            <a:off x="1285920" y="6237360"/>
            <a:ext cx="70722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8"/>
          <p:cNvSpPr/>
          <p:nvPr/>
        </p:nvSpPr>
        <p:spPr>
          <a:xfrm>
            <a:off x="1692360" y="549360"/>
            <a:ext cx="72738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9"/>
          <p:cNvSpPr/>
          <p:nvPr/>
        </p:nvSpPr>
        <p:spPr>
          <a:xfrm>
            <a:off x="826920" y="6021360"/>
            <a:ext cx="771552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71640" y="836640"/>
          <a:ext cx="6048360" cy="5056200"/>
        </p:xfrm>
        <a:graphic>
          <a:graphicData uri="http://schemas.openxmlformats.org/drawingml/2006/table">
            <a:tbl>
              <a:tblPr/>
              <a:tblGrid>
                <a:gridCol w="1776600"/>
                <a:gridCol w="4271760"/>
              </a:tblGrid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альд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зднелатинское heraldica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heraldus - глашата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исторической науки, изучающий гербы и их историю; описание гербов.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льское herb, от немецкого Erbe - наследст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блема государства, города, сословия, рода, изображаемая на флагах, монетах, печатях государственных и других официальных документах.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ициальная эмблема государства, изображаемая на печатях, бланках государственных органов, денежных знаках и др.</a:t>
                      </a:r>
                      <a:r>
                        <a:rPr b="1" lang="en-US" sz="1600" spc="-1" strike="noStrike" baseline="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ется неотъемлемым признаком суверенитета и международного призн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692360" y="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Исследовательская часть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392200" cy="244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03280" y="836640"/>
            <a:ext cx="1513080" cy="360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1197000"/>
            <a:ext cx="1439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1916280"/>
            <a:ext cx="1513080" cy="865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2781360"/>
            <a:ext cx="1081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565360"/>
            <a:ext cx="2519640" cy="2232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59280" y="4797360"/>
            <a:ext cx="1081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183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ральдика.р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0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              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Исследовательская часть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3997440" cy="12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76360" y="4005000"/>
            <a:ext cx="6840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Основные мотивы геральд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3280" y="1412640"/>
            <a:ext cx="404208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ая соединительная линия 8"/>
          <p:cNvSpPr/>
          <p:nvPr/>
        </p:nvSpPr>
        <p:spPr>
          <a:xfrm>
            <a:off x="2627280" y="692280"/>
            <a:ext cx="5184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1258920" y="6237360"/>
            <a:ext cx="7072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873000"/>
            <a:ext cx="4811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7020000" cy="3024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7800" y="87732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Щи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763280" y="4653000"/>
            <a:ext cx="863640" cy="504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692280"/>
            <a:ext cx="1368360" cy="865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2205000"/>
            <a:ext cx="718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413000"/>
            <a:ext cx="576360" cy="792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4508640"/>
            <a:ext cx="4680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5084640"/>
            <a:ext cx="1137960" cy="1501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771640" y="5084640"/>
            <a:ext cx="900360" cy="1555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148360" y="5373720"/>
            <a:ext cx="1100160" cy="1273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7308720" y="5157720"/>
            <a:ext cx="1317600" cy="1506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3635280" y="4724280"/>
            <a:ext cx="865440" cy="6494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32720" y="4652640"/>
            <a:ext cx="792000" cy="576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0000" y="4724280"/>
            <a:ext cx="360360" cy="576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79280" y="274680"/>
            <a:ext cx="62643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Символика цветов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2920" y="836640"/>
            <a:ext cx="40388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8"/>
          <p:cNvSpPr/>
          <p:nvPr/>
        </p:nvSpPr>
        <p:spPr>
          <a:xfrm>
            <a:off x="2411280" y="765000"/>
            <a:ext cx="53276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9"/>
          <p:cNvSpPr/>
          <p:nvPr/>
        </p:nvSpPr>
        <p:spPr>
          <a:xfrm>
            <a:off x="755640" y="6165720"/>
            <a:ext cx="771516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7"/>
          <p:cNvSpPr/>
          <p:nvPr/>
        </p:nvSpPr>
        <p:spPr>
          <a:xfrm>
            <a:off x="1258920" y="6237360"/>
            <a:ext cx="7072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1341360"/>
            <a:ext cx="489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0920" y="6308640"/>
            <a:ext cx="53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907920"/>
          <a:ext cx="8209080" cy="5113080"/>
        </p:xfrm>
        <a:graphic>
          <a:graphicData uri="http://schemas.openxmlformats.org/drawingml/2006/table">
            <a:tbl>
              <a:tblPr/>
              <a:tblGrid>
                <a:gridCol w="1790640"/>
                <a:gridCol w="6418440"/>
              </a:tblGrid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8b4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ль металлов, символизирует знатность, могущество и богатство, а также христианские добродетели: веру, справедливость, милосердие и смир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изирует благородство, откровенность, а также чистоту, невинность и правдивост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ервл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изирует храбрость, мужество, любовь, а также кровь, пролитую в борьб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Лазу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изирует великодушие, честность, верность и безупречность, или просто небо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Зел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изирует надежду, изобилие, свободу и радость, но может и просто означать луговую тра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урп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изирует благочестие, умеренность, щедрость и верховное госп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ёр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 осторожности, мудрости, постоянства в испытаниях, а также печали и траур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               </a:t>
            </a:r>
            <a:r>
              <a:rPr b="1" lang="en-US" sz="3200" spc="-1" strike="noStrike">
                <a:solidFill>
                  <a:srgbClr val="c00000"/>
                </a:solidFill>
                <a:latin typeface="Cambria"/>
              </a:rPr>
              <a:t>Исследовательская часть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404208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8"/>
          <p:cNvSpPr/>
          <p:nvPr/>
        </p:nvSpPr>
        <p:spPr>
          <a:xfrm>
            <a:off x="2627280" y="692280"/>
            <a:ext cx="5184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285920" y="6215040"/>
            <a:ext cx="7072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873000"/>
            <a:ext cx="4811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360" y="906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63000" y="6426360"/>
            <a:ext cx="4406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9"/>
          <p:cNvSpPr/>
          <p:nvPr/>
        </p:nvSpPr>
        <p:spPr>
          <a:xfrm>
            <a:off x="826920" y="6381720"/>
            <a:ext cx="771552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681440" cy="3168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Чувашия, герб. "/>
          <p:cNvPicPr/>
          <p:nvPr/>
        </p:nvPicPr>
        <p:blipFill>
          <a:blip r:embed="rId2"/>
          <a:stretch/>
        </p:blipFill>
        <p:spPr>
          <a:xfrm>
            <a:off x="4140360" y="3357720"/>
            <a:ext cx="4727520" cy="2904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932360" y="1052640"/>
            <a:ext cx="42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314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учение государственных символов является одним из главных условий формирования национального самосознания, воспитания уважения к национальным ценностям, своей истории, образу жизн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765000"/>
            <a:ext cx="0" cy="25196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32360" y="3284640"/>
            <a:ext cx="4211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7"/>
          <p:cNvSpPr/>
          <p:nvPr/>
        </p:nvSpPr>
        <p:spPr>
          <a:xfrm>
            <a:off x="1285920" y="6381720"/>
            <a:ext cx="70722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8"/>
          <p:cNvSpPr/>
          <p:nvPr/>
        </p:nvSpPr>
        <p:spPr>
          <a:xfrm>
            <a:off x="1692360" y="549360"/>
            <a:ext cx="72738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9"/>
          <p:cNvSpPr/>
          <p:nvPr/>
        </p:nvSpPr>
        <p:spPr>
          <a:xfrm>
            <a:off x="755640" y="6308640"/>
            <a:ext cx="771516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А н к е т и р о в а н и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1700280"/>
            <a:ext cx="36003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2997360"/>
            <a:ext cx="25192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61992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1371600"/>
                <a:tab algn="l" pos="2314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Что для вас является символом исторической горд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11280" y="1052640"/>
          <a:ext cx="8137440" cy="203976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осмонав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обеда в Великой Отечественной вой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ающиеся  достижения российских спортсмен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е дости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Государственные симво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314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116000" y="3213000"/>
          <a:ext cx="7272360" cy="2928960"/>
        </p:xfrm>
        <a:graphic>
          <a:graphicData uri="http://schemas.openxmlformats.org/drawingml/2006/table">
            <a:tbl>
              <a:tblPr/>
              <a:tblGrid>
                <a:gridCol w="2268720"/>
                <a:gridCol w="2600280"/>
                <a:gridCol w="1231920"/>
                <a:gridCol w="117144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. Хотели бы вы иметь герб своего класс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ё рав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. Знаете ли вы основные правила геральдики, для того чтобы создать герб класс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но зна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наем, но хотим принять участие в создании герба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6300720" y="1341360"/>
            <a:ext cx="792360" cy="432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0720" y="2708280"/>
            <a:ext cx="79236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2708280"/>
            <a:ext cx="79236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59280" y="3933720"/>
            <a:ext cx="792000" cy="432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5734080"/>
            <a:ext cx="792000" cy="431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fee7f2"/>
            </a:gs>
          </a:gsLst>
          <a:lin ang="3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7"/>
          <p:cNvSpPr/>
          <p:nvPr/>
        </p:nvSpPr>
        <p:spPr>
          <a:xfrm>
            <a:off x="1285920" y="6381720"/>
            <a:ext cx="70722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У «Средняя общеобразовательная школа №6»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Канаш Чувашской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8"/>
          <p:cNvSpPr/>
          <p:nvPr/>
        </p:nvSpPr>
        <p:spPr>
          <a:xfrm>
            <a:off x="1692360" y="549360"/>
            <a:ext cx="72738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19"/>
          <p:cNvSpPr/>
          <p:nvPr/>
        </p:nvSpPr>
        <p:spPr>
          <a:xfrm>
            <a:off x="755640" y="6308640"/>
            <a:ext cx="771516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2360" y="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Практическая часть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3068640"/>
            <a:ext cx="2520720" cy="2016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508720" y="2923920"/>
            <a:ext cx="2735280" cy="20890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1562040" cy="2263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484360" y="765000"/>
            <a:ext cx="1535040" cy="2160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643280" y="765000"/>
            <a:ext cx="1756080" cy="208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948360" y="765000"/>
            <a:ext cx="1854360" cy="208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564000" y="3500280"/>
            <a:ext cx="1876320" cy="2733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2781360"/>
            <a:ext cx="1079640" cy="936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148360" y="2708280"/>
            <a:ext cx="1008000" cy="1008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8:42:41Z</dcterms:created>
  <dc:creator>Васильева Н.И.</dc:creator>
  <dc:description/>
  <dc:language>en-US</dc:language>
  <cp:lastModifiedBy>Наська!!!!</cp:lastModifiedBy>
  <dcterms:modified xsi:type="dcterms:W3CDTF">2010-02-04T12:07:30Z</dcterms:modified>
  <cp:revision>181</cp:revision>
  <dc:subject/>
  <dc:title>Слайд 1</dc:title>
</cp:coreProperties>
</file>