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7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CE40-EBA2-4887-B6AA-299A0CEE2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Эта проблема волнует всех. А потому сегодня за круглым столом, а он у нас действительно круг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 всех интересует- я повтор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ы специально поставили рисунок разомкнутого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6D6-F889-4EFA-B613-90B05DC9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C62-4983-47F2-80A9-A332C08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B26-AB90-40D8-891A-CC43DD06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BE5-D8E1-41E3-9533-8668B792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7ED-78C2-430D-A5A0-CBCD265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A80-7602-4FAC-972B-0BC8AFB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293-F39C-4FCD-BAE9-5A6C249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29D-3A36-407E-9D96-C227C943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629-F84B-4376-9526-A621F9C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55F-47A2-499C-91CA-CD42C4B2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C74-C7E3-4C92-81AF-E9DBFA2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089-32C7-4934-9BED-FAF7DAE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771-1B4F-4014-B35B-A5A6891E3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0920" y="476280"/>
            <a:ext cx="655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Роль знаков и символов 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в современной геральдике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44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ОРОД КАНАШ ЧУВАШ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4160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844640"/>
            <a:ext cx="36702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820000" y="188640"/>
            <a:ext cx="0" cy="165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4000" y="115560"/>
            <a:ext cx="0" cy="158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5920"/>
            <a:ext cx="4752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8208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1989000"/>
            <a:ext cx="0" cy="446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205000"/>
            <a:ext cx="0" cy="4464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669000"/>
            <a:ext cx="8280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119240" cy="144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54360" y="2133720"/>
            <a:ext cx="3735360" cy="43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4581360"/>
            <a:ext cx="66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ы граждане великой страны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РОССИИ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421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227664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573408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573408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364500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3213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229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2133720"/>
            <a:ext cx="79236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393372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5772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27664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49228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580536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595008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3933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997360"/>
            <a:ext cx="79236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92428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3640" y="1628640"/>
            <a:ext cx="85899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56000" y="274680"/>
            <a:ext cx="613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Заключение (выводы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8"/>
          <p:cNvSpPr/>
          <p:nvPr/>
        </p:nvSpPr>
        <p:spPr>
          <a:xfrm>
            <a:off x="298764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31640" cy="194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8000" y="955440"/>
            <a:ext cx="70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9В класса МОУ «Средняя общеобразовательная школа №6» хорошо знают государственную символику, проявляют к ней уважение и испытывают чувство гордости и воспринимают её как национальн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символика отражает не только историю страны, но и составляется по определённым правилам геральдики, где роль символов и знаков научно обозна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я основные законы и правила геральдики, можно составить свой герб, использовать его изображение для выпуска полиграфической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270828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292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6193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Полиграфическая продукц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67280" y="126828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8"/>
          <p:cNvSpPr/>
          <p:nvPr/>
        </p:nvSpPr>
        <p:spPr>
          <a:xfrm>
            <a:off x="2916360" y="765000"/>
            <a:ext cx="6048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98680" cy="2952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3816360" cy="262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908080" cy="396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565164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53272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22936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26828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6021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342900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805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200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4836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4076640"/>
            <a:ext cx="302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21300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6028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928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1503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, задачи, 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1547640" y="69228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7"/>
          <p:cNvSpPr/>
          <p:nvPr/>
        </p:nvSpPr>
        <p:spPr>
          <a:xfrm>
            <a:off x="46836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76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зучить основы геральдики; выявить роль знаков и символов, особенности их применения при составлении современных гер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Прямоугольник 3"/>
          <p:cNvGrpSpPr/>
          <p:nvPr/>
        </p:nvGrpSpPr>
        <p:grpSpPr>
          <a:xfrm>
            <a:off x="395280" y="1700280"/>
            <a:ext cx="8965800" cy="6334200"/>
            <a:chOff x="395280" y="1700280"/>
            <a:chExt cx="8965800" cy="6334200"/>
          </a:xfrm>
        </p:grpSpPr>
        <p:pic>
          <p:nvPicPr>
            <p:cNvPr id="9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896580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73760" y="1866600"/>
              <a:ext cx="8308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4360" y="189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ить литературу по теме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елить основные принципы составления гер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явить роль знаков и символов в гербах РФ и Чуваш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ть герб своего класса с учётом геральдических прав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разработать эскизы собственной полиграфической продукции (грамоты, благодарственные письма, календари и т.д.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5"/>
          <p:cNvSpPr/>
          <p:nvPr/>
        </p:nvSpPr>
        <p:spPr>
          <a:xfrm>
            <a:off x="468360" y="177336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977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читаем, что государственные символы отражают историю страны и предполагаем, что составляются они по определённым прави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15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Актуальность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"/>
          <p:cNvSpPr/>
          <p:nvPr/>
        </p:nvSpPr>
        <p:spPr>
          <a:xfrm>
            <a:off x="1619280" y="83664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7"/>
          <p:cNvSpPr/>
          <p:nvPr/>
        </p:nvSpPr>
        <p:spPr>
          <a:xfrm>
            <a:off x="46836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рямоугольник 3"/>
          <p:cNvGrpSpPr/>
          <p:nvPr/>
        </p:nvGrpSpPr>
        <p:grpSpPr>
          <a:xfrm>
            <a:off x="395280" y="1628640"/>
            <a:ext cx="8965800" cy="6405840"/>
            <a:chOff x="395280" y="1628640"/>
            <a:chExt cx="8965800" cy="640584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628640"/>
              <a:ext cx="8965800" cy="64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3760" y="1797120"/>
              <a:ext cx="83080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84360" y="18306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учение главных символов государства помогает не только лучше понять нашу историю, но и приблизиться к пониманию мировоззрения людей минувших эпох, социальной психологии общества, его менталитета – вопросам актуальным и ещё недостаточно изуч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"/>
          <p:cNvSpPr/>
          <p:nvPr/>
        </p:nvSpPr>
        <p:spPr>
          <a:xfrm>
            <a:off x="468360" y="170028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1285920" y="623736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826920" y="6021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71640" y="836640"/>
          <a:ext cx="6048360" cy="5056200"/>
        </p:xfrm>
        <a:graphic>
          <a:graphicData uri="http://schemas.openxmlformats.org/drawingml/2006/table">
            <a:tbl>
              <a:tblPr/>
              <a:tblGrid>
                <a:gridCol w="1776600"/>
                <a:gridCol w="4271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альд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зднелатинское heraldic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heraldus - глашата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исторической науки, изучающий гербы и их историю; описание гербов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ьское herb, от немецкого Erbe - наслед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лема государства, города, сословия, рода, изображаемая на флагах, монетах, печатях государственных и других официальных документах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ая эмблема государства, изображаемая на печатях, бланках государственных органов, денежных знаках и др.</a:t>
                      </a:r>
                      <a:r>
                        <a:rPr b="1" lang="en-US" sz="16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неотъемлемым признаком суверенитета и международного призн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сследовательская ча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39220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03280" y="836640"/>
            <a:ext cx="1513080" cy="360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197000"/>
            <a:ext cx="1439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916280"/>
            <a:ext cx="1513080" cy="865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781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565360"/>
            <a:ext cx="2519640" cy="223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4797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183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альдика.р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974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400500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Основные мотивы геральд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7020000" cy="302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7800" y="87732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Щ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280" y="465300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692280"/>
            <a:ext cx="136836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2205000"/>
            <a:ext cx="718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413000"/>
            <a:ext cx="576360" cy="79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508640"/>
            <a:ext cx="4680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137960" cy="15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771640" y="5084640"/>
            <a:ext cx="900360" cy="155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48360" y="5373720"/>
            <a:ext cx="1100160" cy="127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08720" y="5157720"/>
            <a:ext cx="1317600" cy="1506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3635280" y="4724280"/>
            <a:ext cx="865440" cy="649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32720" y="4652640"/>
            <a:ext cx="79200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724280"/>
            <a:ext cx="36036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264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Символика цвето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8"/>
          <p:cNvSpPr/>
          <p:nvPr/>
        </p:nvSpPr>
        <p:spPr>
          <a:xfrm>
            <a:off x="241128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755640" y="616572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341360"/>
            <a:ext cx="48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09080" cy="5113080"/>
        </p:xfrm>
        <a:graphic>
          <a:graphicData uri="http://schemas.openxmlformats.org/drawingml/2006/table">
            <a:tbl>
              <a:tblPr/>
              <a:tblGrid>
                <a:gridCol w="1790640"/>
                <a:gridCol w="641844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8b4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ь металлов, символизирует знатность, могущество и богатство, а также христианские добродетели: веру, справедливость, милосердие и сми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родство, откровенность, а также чистоту, невинность и правдив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ерв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храбрость, мужество, любовь, а также кровь, пролитую в борь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азу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великодушие, честность, верность и безупречность, или просто неб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е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надежду, изобилие, свободу и радость, но может и просто означать луговую тр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урп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честие, умеренность, щедрость и верховное госп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осторожности, мудрости, постоянства в испытаниях, а также печали и трау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360" y="906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63000" y="6426360"/>
            <a:ext cx="4406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>
            <a:off x="826920" y="638172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Чувашия, герб. "/>
          <p:cNvPicPr/>
          <p:nvPr/>
        </p:nvPicPr>
        <p:blipFill>
          <a:blip r:embed="rId2"/>
          <a:stretch/>
        </p:blipFill>
        <p:spPr>
          <a:xfrm>
            <a:off x="4140360" y="3357720"/>
            <a:ext cx="4727520" cy="290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32360" y="105264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учение государственных символов является одним из главных условий формирования национального самосознания, воспитания уважения к национальным ценностям, своей истории, образу жизн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765000"/>
            <a:ext cx="0" cy="2519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3284640"/>
            <a:ext cx="4211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 н к е т и р о в а н и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700280"/>
            <a:ext cx="360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997360"/>
            <a:ext cx="2519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1992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137160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Что для вас является символом исторической горд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052640"/>
          <a:ext cx="8137440" cy="2039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смонав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обеда в Великой Отечественной вой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ющиеся  достижения российских спортсме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дост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Государственные симв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16000" y="3213000"/>
          <a:ext cx="7272360" cy="2928960"/>
        </p:xfrm>
        <a:graphic>
          <a:graphicData uri="http://schemas.openxmlformats.org/drawingml/2006/table">
            <a:tbl>
              <a:tblPr/>
              <a:tblGrid>
                <a:gridCol w="2268720"/>
                <a:gridCol w="2600280"/>
                <a:gridCol w="1231920"/>
                <a:gridCol w="117144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Хотели бы вы иметь герб своего класс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ё рав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 Знаете ли вы основные правила геральдики, для того чтобы создать герб класс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о зн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ем, но хотим принять участие в создании герба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300720" y="1341360"/>
            <a:ext cx="79236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3933720"/>
            <a:ext cx="79200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5734080"/>
            <a:ext cx="79200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рактическая част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068640"/>
            <a:ext cx="252072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508720" y="2923920"/>
            <a:ext cx="2735280" cy="208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62040" cy="226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153504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765000"/>
            <a:ext cx="175608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48360" y="765000"/>
            <a:ext cx="185436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564000" y="3500280"/>
            <a:ext cx="1876320" cy="2733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2781360"/>
            <a:ext cx="107964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148360" y="2708280"/>
            <a:ext cx="100800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42:41Z</dcterms:created>
  <dc:creator>Васильева Н.И.</dc:creator>
  <dc:description/>
  <dc:language>en-US</dc:language>
  <cp:lastModifiedBy>Наська!!!!</cp:lastModifiedBy>
  <dcterms:modified xsi:type="dcterms:W3CDTF">2010-02-04T12:07:30Z</dcterms:modified>
  <cp:revision>181</cp:revision>
  <dc:subject/>
  <dc:title>Слайд 1</dc:title>
</cp:coreProperties>
</file>