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33.png" ContentType="image/png"/>
  <Override PartName="/ppt/media/image36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45FF-A375-41BF-8E3D-E916AD69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591-2DD6-4DBD-A30D-7FC16081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9B5-FF78-47B5-87AB-822364B9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A46-22A5-4FFF-98D5-C11A2597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BA92-54BF-4775-B41C-00433BD6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8B3E-690A-4E90-BA78-FB6B9AF0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146B-3C4A-4308-A2ED-A32FC90B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9524-7482-4367-AE33-47380BCB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FB8F-47C4-42F2-8F47-D8FDD4FE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376F-7AC1-4D3F-B3FE-A37AEF9D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75E5-316B-43B4-9EB7-8DEDA15A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105-748E-423D-9081-EAEBC046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FC50-B130-4250-8B8A-E8BA81D0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D925-BED0-4395-8D21-64466CF1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6814-EF2C-4FC7-8250-80B30F98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47D0-62B3-4E10-A87B-C46C5C30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0853-FDCC-4419-9E9D-BA5608DA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4E3-ABD9-43F2-8044-EFEF277C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BE55-2898-46B9-8515-43DF23E4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0E0-04B9-41BD-9BC7-701F8090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CED2-7137-47DC-9D53-8D07A73A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2AEA-0952-4C6D-8D22-6F5F6983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AF3-9573-40BF-9D32-F15F96A0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1D5C-295B-4C9C-A221-D82928EA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A56E-DA80-434E-92AE-3BA575653EB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8777-56A5-4E3F-8BD1-FA9EAE39BEF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dventure.in.ua/images/fckupload/&#1041;&#1077;&#1088;&#1085;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photo.dreamvoyage.ru/_ph/127/2/187291626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dialcodes.ru/view/pics/S/w/i/Switzerland+political+map-2-big.jpg" TargetMode="External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ranatur.ru/cms_files/Image/stambul5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delighta.ru/media/gallery/Bodrum/3.jpg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img.turizm.ru/turkey/img/turkey_map.gif" TargetMode="External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talyphotos.ru/vatican/imgpages/image007.html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grandtour.ru/italy/images/map1.gif" TargetMode="External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urizm.ru/CE/pub/page/1514/00.jpg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g0.liveinternet.ru/images/attach/c/0/46/991/46991464_bee889127ecad64d6415aac18e8aff68Photosp_id25065.jpg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dmin.zabugor.com/upload/image/1210072444aligned-barges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wstour.ru/uploads/posts/1240230172_432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g-fotki.yandex.ru/get/3200/lexincorp.84/0_19756_44725650_XL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g-fotki.yandex.ru/get/14/andd2007.0/0_8069_13365a87_XL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savepic.ru/388393.gif" TargetMode="External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urafisha.ua/images/country_img/545_11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tamirusu.ru/workdir/photos/Isl-3.jpg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58.radikal.ru/i161/0901/8d/c68a0fd55a39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041.radikal.ru/0806/19/93329ed5e694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g.ria.ua/photos/ria/news_common/12/1259/125907/125907m.jp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www.neftegaz.ru/images/news/&#1041;&#1086;&#1083;&#1075;&#1072;&#1088;&#1080;&#1103;.jpg" TargetMode="External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lanettrip.ru/allcountries/austria/austria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jambo-ekb.ru/uploaded/pics/md_195.jp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mir-kazan.ru/im/_map_Austria.jpg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du.vologda.ru/~vipusknik/2006/it303/parshuhina/images/01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hyperlink" Target="http://img.turizm.ru/uk/img/uk_map1.gif" TargetMode="External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1000mirov.ru/photo/belgiya_2099817436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www.1000mirov.ru/photo/belgiya_3056554014.jp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belgium.destinations.ru/uploaded/photo/img49f89529b1b03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www.nowlebanon.com/Library/Images/Uploaded%20Images/taktak/belgium-map.jpg" TargetMode="External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ee915"/>
                </a:solidFill>
                <a:latin typeface="Arial"/>
              </a:rPr>
              <a:t>Игра «Умники и умницы»</a:t>
            </a:r>
            <a:br>
              <a:rPr sz="3600"/>
            </a:br>
            <a:r>
              <a:rPr b="0" lang="en-US" sz="4400" spc="-1" strike="noStrike">
                <a:solidFill>
                  <a:srgbClr val="8ee91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ee915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8ee915"/>
                </a:solidFill>
                <a:latin typeface="Arial"/>
              </a:rPr>
              <a:t>Страны и народы Зарубежной Европы»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8640" y="277920"/>
            <a:ext cx="4800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Швейцар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Картинка 17 из 2236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371600"/>
            <a:ext cx="3429000" cy="5257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Картинка 24 из 22369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1600200"/>
            <a:ext cx="5124600" cy="5038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Картинка 25 из 21001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228600"/>
            <a:ext cx="2209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14800" y="277920"/>
            <a:ext cx="4114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Тур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" descr="Картинка 18 из 4676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590920"/>
            <a:ext cx="4572000" cy="4038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Картинка 37 из 46766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2209680"/>
            <a:ext cx="4038480" cy="3524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Картинка 1 из 35687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228600"/>
            <a:ext cx="39625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66720" y="277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Итал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019240"/>
            <a:ext cx="9144000" cy="4838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Картинка 19 из 90275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90560" y="27792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Д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4" name="" descr="Картинка 1 из 1115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0"/>
            <a:ext cx="2362320" cy="1600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Картинка 8 из 1115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600200"/>
            <a:ext cx="8763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здравляем победителей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ee915"/>
                </a:solidFill>
                <a:latin typeface="Arial"/>
              </a:rPr>
              <a:t>Игра «Умники и умницы»</a:t>
            </a:r>
            <a:br>
              <a:rPr sz="3600"/>
            </a:br>
            <a:r>
              <a:rPr b="0" lang="en-US" sz="4400" spc="-1" strike="noStrike">
                <a:solidFill>
                  <a:srgbClr val="8ee91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ee915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8ee915"/>
                </a:solidFill>
                <a:latin typeface="Arial"/>
              </a:rPr>
              <a:t>Страны и народы Зарубежной Европы»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95680" y="2666880"/>
            <a:ext cx="4476960" cy="3967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277560"/>
            <a:ext cx="35812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e72b"/>
                </a:solidFill>
                <a:latin typeface="Arial"/>
              </a:rPr>
              <a:t>Норвег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3962160" cy="3781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334120" y="22860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Картинка 29 из 122241"/>
          <p:cNvPicPr/>
          <p:nvPr/>
        </p:nvPicPr>
        <p:blipFill>
          <a:blip r:embed="rId4"/>
          <a:stretch/>
        </p:blipFill>
        <p:spPr>
          <a:xfrm>
            <a:off x="228600" y="304920"/>
            <a:ext cx="19810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Нидерлан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" descr="Картинка 8 из 11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3048120"/>
            <a:ext cx="3171960" cy="3504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Картинка 5 из 785"/>
          <p:cNvPicPr/>
          <p:nvPr/>
        </p:nvPicPr>
        <p:blipFill>
          <a:blip r:embed="rId3"/>
          <a:stretch/>
        </p:blipFill>
        <p:spPr>
          <a:xfrm>
            <a:off x="228600" y="3048120"/>
            <a:ext cx="5076720" cy="3638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Файл:Vincent Willem van Gogh 127.jpg"/>
          <p:cNvPicPr/>
          <p:nvPr/>
        </p:nvPicPr>
        <p:blipFill>
          <a:blip r:embed="rId4"/>
          <a:stretch/>
        </p:blipFill>
        <p:spPr>
          <a:xfrm>
            <a:off x="6172200" y="228600"/>
            <a:ext cx="2590920" cy="2743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Картинка 5 из 96817"/>
          <p:cNvPicPr/>
          <p:nvPr/>
        </p:nvPicPr>
        <p:blipFill>
          <a:blip r:embed="rId5"/>
          <a:stretch/>
        </p:blipFill>
        <p:spPr>
          <a:xfrm>
            <a:off x="228600" y="152280"/>
            <a:ext cx="20574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32763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e72b"/>
                </a:solidFill>
                <a:latin typeface="Arial"/>
              </a:rPr>
              <a:t>Испа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" descr="Картинка 2 из 5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819520"/>
            <a:ext cx="3886200" cy="3809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Картинка 15 из 14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2895480"/>
            <a:ext cx="4724640" cy="3657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Картинка 1 из 51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228600"/>
            <a:ext cx="4391280" cy="2514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Картинка 5 из 41602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0880" y="1219320"/>
            <a:ext cx="175284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004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Исланд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Картинка 17 из 5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2057400"/>
            <a:ext cx="2971800" cy="4419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Картинка 20 из 5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057400"/>
            <a:ext cx="5486400" cy="4495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28600" y="228600"/>
            <a:ext cx="2819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Болгар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" descr="Картинка 10 из 23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8954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Картинка 47 из 13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304920"/>
            <a:ext cx="3276360" cy="2590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Картинка 25 из 234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2004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Картинка 5 из 22159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22860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Картинка 2 из 2073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3048120"/>
            <a:ext cx="5077080" cy="3590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Картинка 0 из 2073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04920"/>
            <a:ext cx="4419720" cy="30477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Австр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" descr="Картинка 21 из 21205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62720" y="3581280"/>
            <a:ext cx="33433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5724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Великобрит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Картинка 3 из 1935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657600"/>
            <a:ext cx="5581800" cy="2990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Смена караула, Лондон, Великобритания."/>
          <p:cNvPicPr/>
          <p:nvPr/>
        </p:nvPicPr>
        <p:blipFill>
          <a:blip r:embed="rId3"/>
          <a:stretch/>
        </p:blipFill>
        <p:spPr>
          <a:xfrm>
            <a:off x="6248520" y="1219320"/>
            <a:ext cx="2590560" cy="2361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Королевская обсерватория, Гринвич, Великобритания."/>
          <p:cNvPicPr/>
          <p:nvPr/>
        </p:nvPicPr>
        <p:blipFill>
          <a:blip r:embed="rId4"/>
          <a:stretch/>
        </p:blipFill>
        <p:spPr>
          <a:xfrm>
            <a:off x="152280" y="152280"/>
            <a:ext cx="3581640" cy="3276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Картинка 25 из 21899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3581280"/>
            <a:ext cx="2743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Бельг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" descr="Картинка 2 из 1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71840" y="2819520"/>
            <a:ext cx="4543560" cy="3809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Картинка 3 из 1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2895480"/>
            <a:ext cx="3962520" cy="3753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Картинка 1 из 10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7120" y="228600"/>
            <a:ext cx="238104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Картинка 18 из 10928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228600"/>
            <a:ext cx="25909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IRST</cp:lastModifiedBy>
  <dcterms:modified xsi:type="dcterms:W3CDTF">2009-12-06T15:32:3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