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3.png" ContentType="image/png"/>
  <Override PartName="/ppt/media/image36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ED6-74F3-43B2-BB62-CF4C1795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F4A-AA13-40B2-9F94-E63EDA0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8CD-EAAF-4C87-A584-69A3CED3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48A-18E8-4E2E-AA20-61B6869C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0940-1364-4875-B547-40D001C1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44BA-4DC3-4E31-B4DD-E931E68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47A3-84FA-4A29-9530-EFEB6F8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05D-7FC4-48DA-A555-DFF9D150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A85A-A6F3-47FB-8788-DE36EDC9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C439-6FB6-48C1-B21A-BA6E04DC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B38A-C4A9-411F-8F6A-F6CB8498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129-A0AE-4045-8582-342D9A95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4631-D537-4944-93F9-5DBBF46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2BFA-A8E0-4C20-A408-180ADAD1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AF9-931C-4422-A67B-E9D1BEB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2A81-351F-40F4-A60B-6843D604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F5E0-C6E6-4473-8E7B-076E24E8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C8F-1B79-4F9E-9BF3-BFA85CB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C8E-648D-49A1-BDE3-A0CEE5CA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3A4-F433-4D90-B62C-B3FF3F67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DD6-C0C6-404B-BEBC-DAB4FACA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CE9-2EF6-449D-8341-5B729BE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482-C7B4-4439-8CF3-E0C1179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306-1731-4C01-8271-6F35437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EBE1-E5C2-4B27-9628-94293C1BB68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1FBA-EE4E-40F0-BCC9-1EBC698F34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dventure.in.ua/images/fckupload/&#1041;&#1077;&#1088;&#1085;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photo.dreamvoyage.ru/_ph/127/2/187291626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dialcodes.ru/view/pics/S/w/i/Switzerland+political+map-2-big.jpg" TargetMode="External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ranatur.ru/cms_files/Image/stambul5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delighta.ru/media/gallery/Bodrum/3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g.turizm.ru/turkey/img/turkey_map.gif" TargetMode="External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talyphotos.ru/vatican/imgpages/image007.html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grandtour.ru/italy/images/map1.gif" TargetMode="External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urizm.ru/CE/pub/page/1514/00.jpg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g0.liveinternet.ru/images/attach/c/0/46/991/46991464_bee889127ecad64d6415aac18e8aff68Photosp_id25065.jpg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min.zabugor.com/upload/image/1210072444aligned-barges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stour.ru/uploads/posts/1240230172_432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g-fotki.yandex.ru/get/3200/lexincorp.84/0_19756_44725650_X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g-fotki.yandex.ru/get/14/andd2007.0/0_8069_13365a87_XL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savepic.ru/388393.gif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urafisha.ua/images/country_img/545_11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tamirusu.ru/workdir/photos/Isl-3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58.radikal.ru/i161/0901/8d/c68a0fd55a39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041.radikal.ru/0806/19/93329ed5e694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g.ria.ua/photos/ria/news_common/12/1259/125907/125907m.jp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www.neftegaz.ru/images/news/&#1041;&#1086;&#1083;&#1075;&#1072;&#1088;&#1080;&#1103;.jpg" TargetMode="External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lanettrip.ru/allcountries/austria/austri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jambo-ekb.ru/uploaded/pics/md_195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mir-kazan.ru/im/_map_Austria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du.vologda.ru/~vipusknik/2006/it303/parshuhina/images/01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img.turizm.ru/uk/img/uk_map1.gif" TargetMode="External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000mirov.ru/photo/belgiya_2099817436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1000mirov.ru/photo/belgiya_3056554014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belgium.destinations.ru/uploaded/photo/img49f89529b1b03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www.nowlebanon.com/Library/Images/Uploaded%20Images/taktak/belgium-map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ee915"/>
                </a:solidFill>
                <a:latin typeface="Arial"/>
              </a:rPr>
              <a:t>Игра «Умники и умницы»</a:t>
            </a:r>
            <a:br>
              <a:rPr sz="3600"/>
            </a:br>
            <a:r>
              <a:rPr b="0" lang="en-US" sz="4400" spc="-1" strike="noStrike">
                <a:solidFill>
                  <a:srgbClr val="8ee9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ee915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8ee915"/>
                </a:solidFill>
                <a:latin typeface="Arial"/>
              </a:rPr>
              <a:t>Страны и народы Зарубежной Европы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8640" y="277920"/>
            <a:ext cx="4800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Швейц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Картинка 17 из 223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5257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Картинка 24 из 22369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600200"/>
            <a:ext cx="5124600" cy="5038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Картинка 25 из 21001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28600"/>
            <a:ext cx="22096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14800" y="27792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Тур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Картинка 18 из 4676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590920"/>
            <a:ext cx="4572000" cy="4038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Картинка 37 из 4676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209680"/>
            <a:ext cx="4038480" cy="352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 из 35687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28600"/>
            <a:ext cx="3962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6672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19240"/>
            <a:ext cx="9144000" cy="4838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19 из 90275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560" y="27792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Д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4" name="" descr="Картинка 1 из 1115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8 из 1115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600200"/>
            <a:ext cx="8763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здравляем победителей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ee915"/>
                </a:solidFill>
                <a:latin typeface="Arial"/>
              </a:rPr>
              <a:t>Игра «Умники и умницы»</a:t>
            </a:r>
            <a:br>
              <a:rPr sz="3600"/>
            </a:br>
            <a:r>
              <a:rPr b="0" lang="en-US" sz="4400" spc="-1" strike="noStrike">
                <a:solidFill>
                  <a:srgbClr val="8ee9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ee915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8ee915"/>
                </a:solidFill>
                <a:latin typeface="Arial"/>
              </a:rPr>
              <a:t>Страны и народы Зарубежной Европы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2666880"/>
            <a:ext cx="4476960" cy="396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277560"/>
            <a:ext cx="3581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e72b"/>
                </a:solidFill>
                <a:latin typeface="Arial"/>
              </a:rPr>
              <a:t>Норвег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962160" cy="37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34120" y="2286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29 из 122241"/>
          <p:cNvPicPr/>
          <p:nvPr/>
        </p:nvPicPr>
        <p:blipFill>
          <a:blip r:embed="rId4"/>
          <a:stretch/>
        </p:blipFill>
        <p:spPr>
          <a:xfrm>
            <a:off x="228600" y="30492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Нидерлан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Картинка 8 из 11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3048120"/>
            <a:ext cx="3171960" cy="350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Картинка 5 из 785"/>
          <p:cNvPicPr/>
          <p:nvPr/>
        </p:nvPicPr>
        <p:blipFill>
          <a:blip r:embed="rId3"/>
          <a:stretch/>
        </p:blipFill>
        <p:spPr>
          <a:xfrm>
            <a:off x="228600" y="3048120"/>
            <a:ext cx="5076720" cy="3638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Файл:Vincent Willem van Gogh 127.jpg"/>
          <p:cNvPicPr/>
          <p:nvPr/>
        </p:nvPicPr>
        <p:blipFill>
          <a:blip r:embed="rId4"/>
          <a:stretch/>
        </p:blipFill>
        <p:spPr>
          <a:xfrm>
            <a:off x="6172200" y="2286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5 из 96817"/>
          <p:cNvPicPr/>
          <p:nvPr/>
        </p:nvPicPr>
        <p:blipFill>
          <a:blip r:embed="rId5"/>
          <a:stretch/>
        </p:blipFill>
        <p:spPr>
          <a:xfrm>
            <a:off x="228600" y="15228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77560"/>
            <a:ext cx="3276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e72b"/>
                </a:solidFill>
                <a:latin typeface="Arial"/>
              </a:rPr>
              <a:t>Испа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" descr="Картинка 2 из 5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8195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15 из 14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67080" y="2895480"/>
            <a:ext cx="47246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 из 51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228600"/>
            <a:ext cx="439128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ртинка 5 из 41602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1219320"/>
            <a:ext cx="175284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004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Исланд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Картинка 17 из 5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057400"/>
            <a:ext cx="2971800" cy="4419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0 из 5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057400"/>
            <a:ext cx="5486400" cy="4495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2819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Болга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Картинка 10 из 23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Картинка 47 из 13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3276360" cy="2590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25 из 234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2004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5 из 22159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286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Картинка 2 из 207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048120"/>
            <a:ext cx="5077080" cy="3590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0 из 2073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04920"/>
            <a:ext cx="4419720" cy="30477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Австр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" descr="Картинка 21 из 21205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3581280"/>
            <a:ext cx="33433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Великобрит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Картинка 3 из 1935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657600"/>
            <a:ext cx="5581800" cy="299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Смена караула, Лондон, Великобритания."/>
          <p:cNvPicPr/>
          <p:nvPr/>
        </p:nvPicPr>
        <p:blipFill>
          <a:blip r:embed="rId3"/>
          <a:stretch/>
        </p:blipFill>
        <p:spPr>
          <a:xfrm>
            <a:off x="6248520" y="1219320"/>
            <a:ext cx="2590560" cy="2361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Королевская обсерватория, Гринвич, Великобритания."/>
          <p:cNvPicPr/>
          <p:nvPr/>
        </p:nvPicPr>
        <p:blipFill>
          <a:blip r:embed="rId4"/>
          <a:stretch/>
        </p:blipFill>
        <p:spPr>
          <a:xfrm>
            <a:off x="152280" y="152280"/>
            <a:ext cx="3581640" cy="3276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25 из 2189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35812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e72b"/>
                </a:solidFill>
                <a:latin typeface="Arial"/>
              </a:rPr>
              <a:t>Бельг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Картинка 2 из 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71840" y="2819520"/>
            <a:ext cx="454356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Картинка 3 из 1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2895480"/>
            <a:ext cx="396252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 из 10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7120" y="228600"/>
            <a:ext cx="238104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18 из 10928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228600"/>
            <a:ext cx="2590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RST</cp:lastModifiedBy>
  <dcterms:modified xsi:type="dcterms:W3CDTF">2009-12-06T15:32:3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