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33.png" ContentType="image/png"/>
  <Override PartName="/ppt/media/image36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A7F-76B6-4CBE-9775-CE822136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489C-B545-4EFC-9E74-E9F74C0F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294F-F57B-46A1-B243-CA4866E7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799-E6C4-45DC-A645-3324FB97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6A50-8609-4AD5-A019-5697ACE4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33A1-6A85-45C6-B164-282B76AC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046C-04E0-4482-A501-35F65560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8E7B-C7E7-47CD-B1C9-A867A252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D3BD-8F86-4DC4-A990-4F604BC8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F6BF-8069-4E6F-9B07-5455B4B9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1830-45D7-49FC-991A-D738AF46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FF29-69E2-4D0B-9354-9B48FDD4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FA4C-9F95-4C50-ACB8-9E33FF8C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26D1-5C24-48A9-9853-91D6D1E4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9392-BC31-4D6E-A909-ADD25938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5FA5-D5B8-47BC-B037-41D58164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CA5C-6B8D-4832-A5B4-C7F0F61D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535-EA42-4354-BB7C-233143A8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9428-0606-4E06-95C7-297C96A7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686B-60AD-4A19-A8EC-039FB25C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6DEE-91EB-4698-8A1B-43E02103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E99-3A4C-4B32-9FFE-AE129952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E686-935C-49AB-A18A-B786A0FB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860D-DA98-4869-B1F2-4BF37DC7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BEAA-A8B5-49A5-A48C-BCE513ECB91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D31B-3556-4F66-9895-43A9122E142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dventure.in.ua/images/fckupload/&#1041;&#1077;&#1088;&#1085;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photo.dreamvoyage.ru/_ph/127/2/187291626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dialcodes.ru/view/pics/S/w/i/Switzerland+political+map-2-big.jpg" TargetMode="External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ranatur.ru/cms_files/Image/stambul5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delighta.ru/media/gallery/Bodrum/3.jpg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img.turizm.ru/turkey/img/turkey_map.gif" TargetMode="External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talyphotos.ru/vatican/imgpages/image007.html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www.grandtour.ru/italy/images/map1.gif" TargetMode="External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urizm.ru/CE/pub/page/1514/00.jpg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g0.liveinternet.ru/images/attach/c/0/46/991/46991464_bee889127ecad64d6415aac18e8aff68Photosp_id25065.jpg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dmin.zabugor.com/upload/image/1210072444aligned-barges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wstour.ru/uploads/posts/1240230172_432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g-fotki.yandex.ru/get/3200/lexincorp.84/0_19756_44725650_XL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g-fotki.yandex.ru/get/14/andd2007.0/0_8069_13365a87_XL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savepic.ru/388393.gif" TargetMode="External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urafisha.ua/images/country_img/545_11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tamirusu.ru/workdir/photos/Isl-3.jpg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58.radikal.ru/i161/0901/8d/c68a0fd55a39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041.radikal.ru/0806/19/93329ed5e694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g.ria.ua/photos/ria/news_common/12/1259/125907/125907m.jp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www.neftegaz.ru/images/news/&#1041;&#1086;&#1083;&#1075;&#1072;&#1088;&#1080;&#1103;.jpg" TargetMode="External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lanettrip.ru/allcountries/austria/austria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jambo-ekb.ru/uploaded/pics/md_195.jp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www.mir-kazan.ru/im/_map_Austria.jpg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du.vologda.ru/~vipusknik/2006/it303/parshuhina/images/01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hyperlink" Target="http://img.turizm.ru/uk/img/uk_map1.gif" TargetMode="External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1000mirov.ru/photo/belgiya_2099817436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www.1000mirov.ru/photo/belgiya_3056554014.jp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belgium.destinations.ru/uploaded/photo/img49f89529b1b03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www.nowlebanon.com/Library/Images/Uploaded%20Images/taktak/belgium-map.jpg" TargetMode="External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ee915"/>
                </a:solidFill>
                <a:latin typeface="Arial"/>
              </a:rPr>
              <a:t>Игра «Умники и умницы»</a:t>
            </a:r>
            <a:br>
              <a:rPr sz="3600"/>
            </a:br>
            <a:r>
              <a:rPr b="0" lang="en-US" sz="4400" spc="-1" strike="noStrike">
                <a:solidFill>
                  <a:srgbClr val="8ee91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ee915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8ee915"/>
                </a:solidFill>
                <a:latin typeface="Arial"/>
              </a:rPr>
              <a:t>Страны и народы Зарубежной Европы»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8640" y="277920"/>
            <a:ext cx="4800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Швейцар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Картинка 17 из 2236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371600"/>
            <a:ext cx="3429000" cy="5257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Картинка 24 из 22369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1600200"/>
            <a:ext cx="5124600" cy="5038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Картинка 25 из 21001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228600"/>
            <a:ext cx="2209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14800" y="277920"/>
            <a:ext cx="4114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Тур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" descr="Картинка 18 из 4676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590920"/>
            <a:ext cx="4572000" cy="4038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Картинка 37 из 46766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2209680"/>
            <a:ext cx="4038480" cy="3524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Картинка 1 из 35687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228600"/>
            <a:ext cx="39625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66720" y="277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Итал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019240"/>
            <a:ext cx="9144000" cy="4838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Картинка 19 из 90275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90560" y="27792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Д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4" name="" descr="Картинка 1 из 1115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0"/>
            <a:ext cx="2362320" cy="1600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Картинка 8 из 1115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600200"/>
            <a:ext cx="8763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здравляем победителей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ee915"/>
                </a:solidFill>
                <a:latin typeface="Arial"/>
              </a:rPr>
              <a:t>Игра «Умники и умницы»</a:t>
            </a:r>
            <a:br>
              <a:rPr sz="3600"/>
            </a:br>
            <a:r>
              <a:rPr b="0" lang="en-US" sz="4400" spc="-1" strike="noStrike">
                <a:solidFill>
                  <a:srgbClr val="8ee91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ee915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8ee915"/>
                </a:solidFill>
                <a:latin typeface="Arial"/>
              </a:rPr>
              <a:t>Страны и народы Зарубежной Европы»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95680" y="2666880"/>
            <a:ext cx="4476960" cy="3967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277560"/>
            <a:ext cx="35812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e72b"/>
                </a:solidFill>
                <a:latin typeface="Arial"/>
              </a:rPr>
              <a:t>Норвег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3962160" cy="3781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334120" y="22860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Картинка 29 из 122241"/>
          <p:cNvPicPr/>
          <p:nvPr/>
        </p:nvPicPr>
        <p:blipFill>
          <a:blip r:embed="rId4"/>
          <a:stretch/>
        </p:blipFill>
        <p:spPr>
          <a:xfrm>
            <a:off x="228600" y="304920"/>
            <a:ext cx="19810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Нидерлан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" descr="Картинка 8 из 11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3048120"/>
            <a:ext cx="3171960" cy="3504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Картинка 5 из 785"/>
          <p:cNvPicPr/>
          <p:nvPr/>
        </p:nvPicPr>
        <p:blipFill>
          <a:blip r:embed="rId3"/>
          <a:stretch/>
        </p:blipFill>
        <p:spPr>
          <a:xfrm>
            <a:off x="228600" y="3048120"/>
            <a:ext cx="5076720" cy="3638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Файл:Vincent Willem van Gogh 127.jpg"/>
          <p:cNvPicPr/>
          <p:nvPr/>
        </p:nvPicPr>
        <p:blipFill>
          <a:blip r:embed="rId4"/>
          <a:stretch/>
        </p:blipFill>
        <p:spPr>
          <a:xfrm>
            <a:off x="6172200" y="228600"/>
            <a:ext cx="2590920" cy="2743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Картинка 5 из 96817"/>
          <p:cNvPicPr/>
          <p:nvPr/>
        </p:nvPicPr>
        <p:blipFill>
          <a:blip r:embed="rId5"/>
          <a:stretch/>
        </p:blipFill>
        <p:spPr>
          <a:xfrm>
            <a:off x="228600" y="152280"/>
            <a:ext cx="20574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32763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e72b"/>
                </a:solidFill>
                <a:latin typeface="Arial"/>
              </a:rPr>
              <a:t>Испан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" descr="Картинка 2 из 5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819520"/>
            <a:ext cx="3886200" cy="3809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Картинка 15 из 14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2895480"/>
            <a:ext cx="4724640" cy="3657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Картинка 1 из 51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95680" y="228600"/>
            <a:ext cx="4391280" cy="2514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Картинка 5 из 41602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0880" y="1219320"/>
            <a:ext cx="175284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004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Исланд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Картинка 17 из 5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2057400"/>
            <a:ext cx="2971800" cy="4419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Картинка 20 из 5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057400"/>
            <a:ext cx="5486400" cy="4495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28600" y="228600"/>
            <a:ext cx="2819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Болгар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" descr="Картинка 10 из 23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8954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Картинка 47 из 13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304920"/>
            <a:ext cx="3276360" cy="2590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Картинка 25 из 234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2004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Картинка 5 из 22159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22860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Картинка 2 из 2073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3048120"/>
            <a:ext cx="5077080" cy="3590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Картинка 0 из 2073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04920"/>
            <a:ext cx="4419720" cy="30477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Австр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" descr="Картинка 21 из 21205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62720" y="3581280"/>
            <a:ext cx="33433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5724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Великобрит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" descr="Картинка 3 из 1935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657600"/>
            <a:ext cx="5581800" cy="2990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Смена караула, Лондон, Великобритания."/>
          <p:cNvPicPr/>
          <p:nvPr/>
        </p:nvPicPr>
        <p:blipFill>
          <a:blip r:embed="rId3"/>
          <a:stretch/>
        </p:blipFill>
        <p:spPr>
          <a:xfrm>
            <a:off x="6248520" y="1219320"/>
            <a:ext cx="2590560" cy="2361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Королевская обсерватория, Гринвич, Великобритания."/>
          <p:cNvPicPr/>
          <p:nvPr/>
        </p:nvPicPr>
        <p:blipFill>
          <a:blip r:embed="rId4"/>
          <a:stretch/>
        </p:blipFill>
        <p:spPr>
          <a:xfrm>
            <a:off x="152280" y="152280"/>
            <a:ext cx="3581640" cy="3276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Картинка 25 из 21899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3581280"/>
            <a:ext cx="2743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Бельг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" descr="Картинка 2 из 1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71840" y="2819520"/>
            <a:ext cx="4543560" cy="3809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Картинка 3 из 1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2895480"/>
            <a:ext cx="3962520" cy="3753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Картинка 1 из 10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7120" y="228600"/>
            <a:ext cx="238104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Картинка 18 из 10928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228600"/>
            <a:ext cx="25909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IRST</cp:lastModifiedBy>
  <dcterms:modified xsi:type="dcterms:W3CDTF">2009-12-06T15:32:3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