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5.png" ContentType="image/png"/>
  <Override PartName="/ppt/media/image7.gif" ContentType="image/gif"/>
  <Override PartName="/ppt/media/image6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gif" ContentType="image/gif"/>
  <Override PartName="/ppt/media/image1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9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1FD-E1A6-43A3-91C2-3DAFEE5C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D05-CFFE-43F9-8E0E-E0CBD0A9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8B7-4A13-4EF0-9B98-6DE27F91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764-DF32-4E20-8767-9C48B610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BABE-0F31-4B97-BE58-C1E0C6A7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B7DB-1462-46CC-9329-640C9338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441F-B248-4EE3-892D-693C5D09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A632-EED3-4FFB-8890-3F374F71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F54A-E1EF-4236-837B-98D0E3BA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E876-C0C8-490E-81F0-810109BF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116E-03EB-4BB7-94C3-6F080F85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09C-149C-4F45-A0C0-716B0EAD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048A-7F6F-4620-B670-E6C06485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089E-8841-4F16-B36A-61B2FE9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441D-938A-41B1-9A72-29284EF7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0B20-8100-45B6-BB66-5F92D6FD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E331-598C-4925-8100-9F851E61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C22E-2AEC-4164-98DB-6D2C840A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FCD0-5AE8-4849-99D4-03085F16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4640-06C7-48CA-901F-839E8A2A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57B3-140F-4271-B689-E6F296E2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76F4-DEB9-4426-9482-A3A95C0E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2E1-5A91-4FB4-B6DC-C5F59973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A778-8024-4000-A418-057DFE7A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F11C-11A6-43A6-BF63-98BE1001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7080-0E0A-44D8-B180-AF355F58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C634-006D-44B4-A8AD-F0227D89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E9CD-347D-400B-873D-CE260A3B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723C-A2AE-4348-8190-A569D66E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E34C-B353-4671-970D-A69EA374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3FEB-87A1-4871-A41F-65794335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A816-C024-4FC5-B215-30CC7746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E64F-2845-44A0-92D3-A9424375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AAB-96AF-4D49-B801-0A90133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A4D0F-89B9-41CD-939D-4CA7274E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61E74-CC69-4D84-93ED-D5C030D7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2294-FFF7-4AE8-9F86-084D4F1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E727-9663-4B47-80D8-0FE9331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EF40-140E-4E9E-B85C-F1D6388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44C1-EBA8-4864-9846-9F83CDE6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DD41-0C5B-4A79-9AC1-D41B55E3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E6F8E-E36D-41B6-B437-9AF7D1E5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82A47-6676-4012-86C8-C92F5EFC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097-916F-4DC4-9B5B-50E653A4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4A1-98B3-4D7B-9FE4-B8564A84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DA9-ADDA-4C2C-9033-75F09C2F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79B-5AB1-4AF4-B692-F9D75D5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8B6-258F-4226-BB8A-9C1246C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7CB4-F3FC-4F59-8BD8-5E4F261157C6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45C3-F320-401D-80DA-00EB6F3CBA8B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1DB3-3CBB-41B5-A19F-B517915F9E6D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36DB-642F-4012-BB74-E5AE940C1DCD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857240"/>
            <a:ext cx="5329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87026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4e6d"/>
                </a:solidFill>
                <a:latin typeface="Constantia"/>
              </a:rPr>
              <a:t>Лобанова Татьяна Александровна, 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e6d"/>
                </a:solidFill>
                <a:latin typeface="Constantia"/>
              </a:rPr>
              <a:t>МОУ «Егорьевская средняя общеобразовательная школ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4e6d"/>
                </a:solidFill>
                <a:latin typeface="Constantia"/>
              </a:rPr>
              <a:t>Новоегорьевско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7" descr="D:\мама\мои рисунки\упражнения девушки\Фигура1.jpg"/>
          <p:cNvPicPr/>
          <p:nvPr/>
        </p:nvPicPr>
        <p:blipFill>
          <a:blip r:embed="rId2"/>
          <a:stretch/>
        </p:blipFill>
        <p:spPr>
          <a:xfrm>
            <a:off x="6000840" y="2000160"/>
            <a:ext cx="2762280" cy="41436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4"/>
          <p:cNvSpPr/>
          <p:nvPr/>
        </p:nvSpPr>
        <p:spPr>
          <a:xfrm>
            <a:off x="395280" y="1052640"/>
            <a:ext cx="69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МЫ - СКУЛЬПТОРЫ СВОЕГО ТЕ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5" descr="http://www.sdelai-telo.ru/public/trains_b_76_63.gif"/>
          <p:cNvPicPr/>
          <p:nvPr/>
        </p:nvPicPr>
        <p:blipFill>
          <a:blip r:embed="rId2"/>
          <a:stretch/>
        </p:blipFill>
        <p:spPr>
          <a:xfrm>
            <a:off x="7643880" y="642960"/>
            <a:ext cx="928800" cy="16254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142920" y="2205000"/>
            <a:ext cx="585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Говоря о красоте, чаще всего мы имеем ввиду не только черты </a:t>
            </a:r>
            <a:r>
              <a:rPr b="1" lang="en-US" sz="2400" spc="-1" strike="noStrike">
                <a:solidFill>
                  <a:srgbClr val="115964"/>
                </a:solidFill>
                <a:latin typeface="Tahoma"/>
              </a:rPr>
              <a:t>лица</a:t>
            </a: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, но и весь внешний облик, фигуру, манеру держаться и двигаться. Во всем этом решающую роль играет разностороннее и гармоническое физическое развитие. </a:t>
            </a:r>
            <a:r>
              <a:rPr b="0" lang="en-US" sz="2400" spc="-1" strike="noStrike">
                <a:solidFill>
                  <a:srgbClr val="03495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678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alibri"/>
              </a:rPr>
              <a:t>ФИЗИЧЕСКОЕ РАЗВИТ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7" descr="D:\мама\мои рисунки\упражнения девушки\Рисунок1.jpg"/>
          <p:cNvPicPr/>
          <p:nvPr/>
        </p:nvPicPr>
        <p:blipFill>
          <a:blip r:embed="rId3"/>
          <a:stretch/>
        </p:blipFill>
        <p:spPr>
          <a:xfrm>
            <a:off x="6143760" y="2192400"/>
            <a:ext cx="26589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Calibri"/>
              </a:rPr>
              <a:t>Движение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 -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залог здоровья, красоты и гр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4197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42920" y="3071880"/>
            <a:ext cx="5357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Чтобы  развить необходим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физические качества д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формирования красив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фигуры, следует прояви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упорство, волю и терп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6" descr="D:\мама\мои рисунки\упражнения девушки\гимнастика 6.jpg"/>
          <p:cNvPicPr/>
          <p:nvPr/>
        </p:nvPicPr>
        <p:blipFill>
          <a:blip r:embed="rId2"/>
          <a:stretch/>
        </p:blipFill>
        <p:spPr>
          <a:xfrm>
            <a:off x="5143680" y="2357280"/>
            <a:ext cx="4000320" cy="39294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0" y="214308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Стройная фигура, летящая походка, гордая стать — это то, к чему стремится кажды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 Narrow"/>
              </a:rPr>
              <a:t>«Стройные ноги» </a:t>
            </a:r>
            <a:br>
              <a:rPr sz="45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500040" y="1357200"/>
            <a:ext cx="567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Чтобы ноги были сильными и красивыми, кроме специальных  упражнений,   побольше ходите. Не забывайте о танцах, они укрепляют мышцы ног, делают движения легки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Picture 8" descr="D:\мама\мои рисунки\упражнения девушки\красивые ноги.gif"/>
          <p:cNvPicPr/>
          <p:nvPr/>
        </p:nvPicPr>
        <p:blipFill>
          <a:blip r:embed="rId2"/>
          <a:stretch/>
        </p:blipFill>
        <p:spPr>
          <a:xfrm>
            <a:off x="6215040" y="1714680"/>
            <a:ext cx="2732040" cy="1857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D:\мама\мои рисунки\упражнения девушки\красивые бедра 2.gif"/>
          <p:cNvPicPr/>
          <p:nvPr/>
        </p:nvPicPr>
        <p:blipFill>
          <a:blip r:embed="rId3"/>
          <a:stretch/>
        </p:blipFill>
        <p:spPr>
          <a:xfrm>
            <a:off x="7000920" y="3929040"/>
            <a:ext cx="1585800" cy="26431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428760" y="17146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Стройные ножки не зря называют изюминкой женского очар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201600" y="566640"/>
            <a:ext cx="6802560" cy="938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/>
          <p:cNvSpPr/>
          <p:nvPr/>
        </p:nvSpPr>
        <p:spPr>
          <a:xfrm>
            <a:off x="571680" y="257184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214200" y="38577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Упражнения на развитие и укрепление мышц спины сгоняют жир с талии и бедер. Тонизируют и улучшают питание спинного мозга, оказывают стимулирующее воздействие на эндокринные железы,  способствуют рос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6" descr="D:\мама\мои рисунки\упражнения девушки\прямая спина.jpg"/>
          <p:cNvPicPr/>
          <p:nvPr/>
        </p:nvPicPr>
        <p:blipFill>
          <a:blip r:embed="rId3"/>
          <a:stretch/>
        </p:blipFill>
        <p:spPr>
          <a:xfrm>
            <a:off x="6215040" y="785880"/>
            <a:ext cx="2714760" cy="485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D:\мама\мои рисунки\упражнения девушки\крас спин 2.gif"/>
          <p:cNvPicPr/>
          <p:nvPr/>
        </p:nvPicPr>
        <p:blipFill>
          <a:blip r:embed="rId4"/>
          <a:stretch/>
        </p:blipFill>
        <p:spPr>
          <a:xfrm>
            <a:off x="6143760" y="5500800"/>
            <a:ext cx="1643040" cy="12049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"/>
          <p:cNvSpPr/>
          <p:nvPr/>
        </p:nvSpPr>
        <p:spPr>
          <a:xfrm>
            <a:off x="723960" y="172404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214200" y="1500120"/>
            <a:ext cx="585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95c"/>
                </a:solidFill>
                <a:latin typeface="Tahoma"/>
              </a:rPr>
              <a:t>Прямая спина, красивый разворот плеч, свободные движения - это не только неотъемлемая часть внешнего вида успешного человека, но и залог вашей молодости и здоровь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14360" y="714240"/>
            <a:ext cx="542916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alibri"/>
              </a:rPr>
              <a:t>«КРАСИВАЯ ГРУДЬ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14200" y="2214720"/>
            <a:ext cx="5857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95c"/>
                </a:solidFill>
                <a:latin typeface="Tahoma"/>
              </a:rPr>
              <a:t>Грудь всегда была либо гордостью женщины, либо ее проблемой. Многие скажут, что бороться с законом всемирного тяготения абсурдно,  но это не та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214200" y="3857760"/>
            <a:ext cx="578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95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3495c"/>
                </a:solidFill>
                <a:latin typeface="Tahoma"/>
              </a:rPr>
              <a:t>Наши грудные мышцы похожи на раскрытый веер. Они берут свое начало у плечевых суставов, а потом широко расходятся к грудине. Поэтому комплекс упражнений на грудные мышцы должен включать движения руками как прямо вперед, так и вверх под углом. С предметами и без</a:t>
            </a:r>
            <a:r>
              <a:rPr b="1" lang="en-US" sz="1800" spc="-1" strike="noStrike">
                <a:solidFill>
                  <a:srgbClr val="115964"/>
                </a:solidFill>
                <a:latin typeface="Tahom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H:\упражнения девушки\с гантелями на мяче.jpg"/>
          <p:cNvPicPr/>
          <p:nvPr/>
        </p:nvPicPr>
        <p:blipFill>
          <a:blip r:embed="rId2"/>
          <a:stretch/>
        </p:blipFill>
        <p:spPr>
          <a:xfrm>
            <a:off x="857160" y="714240"/>
            <a:ext cx="1160640" cy="154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D:\мама\мои рисунки\упражнения девушки\упр с обручем.gif"/>
          <p:cNvPicPr/>
          <p:nvPr/>
        </p:nvPicPr>
        <p:blipFill>
          <a:blip r:embed="rId3"/>
          <a:stretch/>
        </p:blipFill>
        <p:spPr>
          <a:xfrm>
            <a:off x="6072120" y="2357280"/>
            <a:ext cx="2776680" cy="3857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:\мама\мои рисунки\упражнения девушки\сделай тело 6.gif"/>
          <p:cNvPicPr/>
          <p:nvPr/>
        </p:nvPicPr>
        <p:blipFill>
          <a:blip r:embed="rId4"/>
          <a:stretch/>
        </p:blipFill>
        <p:spPr>
          <a:xfrm>
            <a:off x="7858080" y="642960"/>
            <a:ext cx="857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D:\мама\мои рисунки\упражнения девушки\гимнастика2.jpg"/>
          <p:cNvPicPr/>
          <p:nvPr/>
        </p:nvPicPr>
        <p:blipFill>
          <a:blip r:embed="rId2"/>
          <a:stretch/>
        </p:blipFill>
        <p:spPr>
          <a:xfrm rot="897600">
            <a:off x="4538520" y="3739680"/>
            <a:ext cx="4376880" cy="23446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Calibri"/>
              </a:rPr>
              <a:t>«Плоский живот»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14200" y="150012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5395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Хорошо развитые мышцы брюшного пресса – это необходимое условие хорошей осанки и здоровой поясниц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4286160"/>
            <a:ext cx="4357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"/>
          <p:cNvSpPr/>
          <p:nvPr/>
        </p:nvSpPr>
        <p:spPr>
          <a:xfrm>
            <a:off x="142920" y="3143160"/>
            <a:ext cx="485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Регулярные занятия специальным комплексом упражнений  на все группы мышц живота  и соблюдение режима питания сделают ваш живот идеальны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9" descr="D:\мама\мои рисунки\упражнения девушки\Пресс.gif"/>
          <p:cNvPicPr/>
          <p:nvPr/>
        </p:nvPicPr>
        <p:blipFill>
          <a:blip r:embed="rId3"/>
          <a:stretch/>
        </p:blipFill>
        <p:spPr>
          <a:xfrm>
            <a:off x="7429680" y="785880"/>
            <a:ext cx="1428480" cy="809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D:\мама\мои рисунки\упражнения девушки\прес2.gif"/>
          <p:cNvPicPr/>
          <p:nvPr/>
        </p:nvPicPr>
        <p:blipFill>
          <a:blip r:embed="rId4"/>
          <a:stretch/>
        </p:blipFill>
        <p:spPr>
          <a:xfrm>
            <a:off x="7715160" y="2428920"/>
            <a:ext cx="7542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528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alibri"/>
              </a:rPr>
              <a:t>«ТОНКАЯ ТАЛИЯ»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5480" y="1928520"/>
            <a:ext cx="6072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15964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115964"/>
                </a:solidFill>
                <a:latin typeface="Tahoma"/>
                <a:ea typeface="Arial Unicode MS"/>
              </a:rPr>
              <a:t>Можно иметь стройную фигуру, но на талии, тем не менее, будут складки. Небольшие складки естественны для здорового образа жизни. А  от чрезмерных </a:t>
            </a:r>
            <a:r>
              <a:rPr b="1" lang="en-US" sz="2600" spc="-1" strike="noStrike">
                <a:solidFill>
                  <a:srgbClr val="115964"/>
                </a:solidFill>
                <a:latin typeface="Tahoma"/>
                <a:ea typeface="Tahoma"/>
              </a:rPr>
              <a:t>-</a:t>
            </a:r>
            <a:r>
              <a:rPr b="1" lang="en-US" sz="2600" spc="-1" strike="noStrike">
                <a:solidFill>
                  <a:srgbClr val="115964"/>
                </a:solidFill>
                <a:latin typeface="Tahoma"/>
                <a:ea typeface="Arial Unicode MS"/>
              </a:rPr>
              <a:t>  вы сможете избавит</a:t>
            </a:r>
            <a:r>
              <a:rPr b="1" lang="en-US" sz="2600" spc="-1" strike="noStrike">
                <a:solidFill>
                  <a:srgbClr val="115964"/>
                </a:solidFill>
                <a:latin typeface="Tahoma"/>
                <a:ea typeface="Tahoma"/>
              </a:rPr>
              <a:t>ь</a:t>
            </a:r>
            <a:r>
              <a:rPr b="1" lang="en-US" sz="2600" spc="-1" strike="noStrike">
                <a:solidFill>
                  <a:srgbClr val="115964"/>
                </a:solidFill>
                <a:latin typeface="Tahoma"/>
                <a:ea typeface="Arial Unicode MS"/>
              </a:rPr>
              <a:t>ся, если будете заниматься аэробными упражнениями, массажем и строго следить за рационом пит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8" descr="D:\мама\мои рисунки\упражнения девушки\сделай тело 9.gif"/>
          <p:cNvPicPr/>
          <p:nvPr/>
        </p:nvPicPr>
        <p:blipFill>
          <a:blip r:embed="rId2"/>
          <a:stretch/>
        </p:blipFill>
        <p:spPr>
          <a:xfrm>
            <a:off x="7072200" y="785880"/>
            <a:ext cx="1381320" cy="2071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D:\мама\мои рисунки\упражнения девушки\измер талии.jpg"/>
          <p:cNvPicPr/>
          <p:nvPr/>
        </p:nvPicPr>
        <p:blipFill>
          <a:blip r:embed="rId3"/>
          <a:stretch/>
        </p:blipFill>
        <p:spPr>
          <a:xfrm>
            <a:off x="6786720" y="3071880"/>
            <a:ext cx="2000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214200" y="1571760"/>
            <a:ext cx="578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Помните, что каждый день занятий вносит вклад в будущее развитие вашей грации, силы и вынослив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85840" y="3429000"/>
            <a:ext cx="56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Регулярно занимайтесь физическими упражнениями, посещайте спортивные секции и трениров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14200" y="514368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Tahoma"/>
              </a:rPr>
              <a:t>И тогда, независимо от ваших способностей, телосложения и характера, придут успех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8" descr="D:\мама\мои рисунки\упражнения девушки\tzна беговой дорожке.jpg"/>
          <p:cNvPicPr/>
          <p:nvPr/>
        </p:nvPicPr>
        <p:blipFill>
          <a:blip r:embed="rId2"/>
          <a:stretch/>
        </p:blipFill>
        <p:spPr>
          <a:xfrm>
            <a:off x="5857920" y="928800"/>
            <a:ext cx="29304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0:49:14Z</dcterms:created>
  <dc:creator>учитель</dc:creator>
  <dc:description/>
  <dc:language>en-US</dc:language>
  <cp:lastModifiedBy>Мама</cp:lastModifiedBy>
  <dcterms:modified xsi:type="dcterms:W3CDTF">2010-08-08T09:16:20Z</dcterms:modified>
  <cp:revision>123</cp:revision>
  <dc:subject/>
  <dc:title>Презентация PowerPoint</dc:title>
</cp:coreProperties>
</file>