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5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9FA-6F86-4F5E-BD42-38570FCA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3EB-9D93-4A2A-A953-757AB4F2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B2B-A3F5-4D7F-B287-D943918A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C8D-3D67-498C-AB1D-F65E4DC2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0FC-EE28-42E4-BB7F-75C844F8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57B2-705F-48E9-AA6B-1B2C178F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A014-ACE5-4E34-A070-F860898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E778-1102-4CDA-A8C1-A0733667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DCE6-9612-4FD1-9525-7CC9D3F5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0AC3-5D0C-4907-8DB9-019FB6F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6554-83EB-4AD0-A584-AEBBE96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98B-F053-4E5E-BE27-BF2A662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2912-1B44-4A18-A231-ABF0367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E54D-CAFD-4296-876C-05B7DB2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C398-A977-4C9B-9830-80439DC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8957-4469-46D8-B481-8AD0331D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23CC-BF9C-4B89-AADF-BFEA502F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6769-C95A-40FE-95B6-2E33EC51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2AC2-EAF8-4881-A113-92C97924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E2A8-0C7B-419C-AC7D-8FF2DF8F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147B-4B1C-4F0E-8DCC-4C23A29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59DB-5373-4C56-BA93-2596ABE7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C1C-72AE-4F14-9F88-BA249B60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2E3A-C8BF-4669-8FDC-C3370711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2E4F-DCCF-44DC-B67D-F6BB11C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CBC0-D41E-4736-89A3-C05252D2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842C-6996-40FA-B74D-9E1C2985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2A79-6772-4AEA-B826-C9B3BB86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1AA9-BEF2-467B-ABEC-275FDD1B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757E-3408-4ECD-BBF0-E9C5DA22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9705-7E48-4171-BF01-D52521E7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11BCE-34CD-4B02-8ADB-B0145AFB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64D4-0616-4EE2-9BDC-3D36494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92F-BA85-4948-A2A8-9E193B10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24D9-624D-4C63-8078-06CD44DF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DC26-2CCE-4811-A207-7BD42AA0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901B-F4BF-4E6C-83D9-5A1586CE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53CE-4F0E-4AA9-B2C4-8663D65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ED44-C90E-4C79-A39F-9FFCBB3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E83F-C18A-4E6A-815A-6675592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DAC5-6967-4301-9FAF-C005388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9D0F9-1C9E-4F91-99C7-EDAF454C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EA91-357C-4D18-9CDE-97145A66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3D6-F31E-4EB4-813B-7D0BCA0E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00F-1883-4970-829F-88CD5E9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595-3D70-48D3-ACBA-F687589C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B71-A97B-463F-907D-9915B79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973-9712-4397-9AAD-671D4AF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F3A-F7E0-412B-AD61-DF13FEC7F017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B4D0-806A-48B5-B3B9-B2456B100059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AD8A-7BBD-4D4D-890E-A1FEFA8801B4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B90-8E41-4A2A-9746-9EF16C4362D9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857240"/>
            <a:ext cx="5329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87026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4e6d"/>
                </a:solidFill>
                <a:latin typeface="Constantia"/>
              </a:rPr>
              <a:t>Лобанова Татьяна Александровна, 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e6d"/>
                </a:solidFill>
                <a:latin typeface="Constantia"/>
              </a:rPr>
              <a:t>МОУ «Егорьевская средняя общеобразовательная школ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4e6d"/>
                </a:solidFill>
                <a:latin typeface="Constantia"/>
              </a:rPr>
              <a:t>Новоегорьевско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7" descr="D:\мама\мои рисунки\упражнения девушки\Фигура1.jpg"/>
          <p:cNvPicPr/>
          <p:nvPr/>
        </p:nvPicPr>
        <p:blipFill>
          <a:blip r:embed="rId2"/>
          <a:stretch/>
        </p:blipFill>
        <p:spPr>
          <a:xfrm>
            <a:off x="6000840" y="2000160"/>
            <a:ext cx="2762280" cy="41436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395280" y="1052640"/>
            <a:ext cx="69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МЫ - СКУЛЬПТОРЫ СВОЕГО ТЕ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5" descr="http://www.sdelai-telo.ru/public/trains_b_76_63.gif"/>
          <p:cNvPicPr/>
          <p:nvPr/>
        </p:nvPicPr>
        <p:blipFill>
          <a:blip r:embed="rId2"/>
          <a:stretch/>
        </p:blipFill>
        <p:spPr>
          <a:xfrm>
            <a:off x="7643880" y="642960"/>
            <a:ext cx="928800" cy="16254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142920" y="2205000"/>
            <a:ext cx="585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Говоря о красоте, чаще всего мы имеем ввиду не только черты </a:t>
            </a:r>
            <a:r>
              <a:rPr b="1" lang="en-US" sz="2400" spc="-1" strike="noStrike">
                <a:solidFill>
                  <a:srgbClr val="115964"/>
                </a:solidFill>
                <a:latin typeface="Tahoma"/>
              </a:rPr>
              <a:t>лица</a:t>
            </a: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, но и весь внешний облик, фигуру, манеру держаться и двигаться. Во всем этом решающую роль играет разностороннее и гармоническое физическое развитие. </a:t>
            </a:r>
            <a:r>
              <a:rPr b="0" lang="en-US" sz="2400" spc="-1" strike="noStrike">
                <a:solidFill>
                  <a:srgbClr val="03495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678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alibri"/>
              </a:rPr>
              <a:t>ФИЗИЧЕСКОЕ РАЗВИТ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7" descr="D:\мама\мои рисунки\упражнения девушки\Рисунок1.jpg"/>
          <p:cNvPicPr/>
          <p:nvPr/>
        </p:nvPicPr>
        <p:blipFill>
          <a:blip r:embed="rId3"/>
          <a:stretch/>
        </p:blipFill>
        <p:spPr>
          <a:xfrm>
            <a:off x="6143760" y="2192400"/>
            <a:ext cx="26589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Calibri"/>
              </a:rPr>
              <a:t>Движение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 -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залог здоровья, красоты и гр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4197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42920" y="3071880"/>
            <a:ext cx="5357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Чтобы  развить необходим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физические качества д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формирования красив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фигуры, следует прояви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упорство, волю и терп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6" descr="D:\мама\мои рисунки\упражнения девушки\гимнастика 6.jpg"/>
          <p:cNvPicPr/>
          <p:nvPr/>
        </p:nvPicPr>
        <p:blipFill>
          <a:blip r:embed="rId2"/>
          <a:stretch/>
        </p:blipFill>
        <p:spPr>
          <a:xfrm>
            <a:off x="5143680" y="2357280"/>
            <a:ext cx="4000320" cy="39294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0" y="21430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Стройная фигура, летящая походка, гордая стать — это то, к чему стремится кажды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 Narrow"/>
              </a:rPr>
              <a:t>«Стройные ноги» </a:t>
            </a:r>
            <a:br>
              <a:rPr sz="45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500040" y="1357200"/>
            <a:ext cx="567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Чтобы ноги были сильными и красивыми, кроме специальных  упражнений,   побольше ходите. Не забывайте о танцах, они укрепляют мышцы ног, делают движения легк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8" descr="D:\мама\мои рисунки\упражнения девушки\красивые ноги.gif"/>
          <p:cNvPicPr/>
          <p:nvPr/>
        </p:nvPicPr>
        <p:blipFill>
          <a:blip r:embed="rId2"/>
          <a:stretch/>
        </p:blipFill>
        <p:spPr>
          <a:xfrm>
            <a:off x="6215040" y="1714680"/>
            <a:ext cx="2732040" cy="1857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D:\мама\мои рисунки\упражнения девушки\красивые бедра 2.gif"/>
          <p:cNvPicPr/>
          <p:nvPr/>
        </p:nvPicPr>
        <p:blipFill>
          <a:blip r:embed="rId3"/>
          <a:stretch/>
        </p:blipFill>
        <p:spPr>
          <a:xfrm>
            <a:off x="7000920" y="3929040"/>
            <a:ext cx="1585800" cy="2643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428760" y="1714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Стройные ножки не зря называют изюминкой женского очар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201600" y="566640"/>
            <a:ext cx="6802560" cy="938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/>
          <p:cNvSpPr/>
          <p:nvPr/>
        </p:nvSpPr>
        <p:spPr>
          <a:xfrm>
            <a:off x="571680" y="257184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214200" y="38577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Упражнения на развитие и укрепление мышц спины сгоняют жир с талии и бедер. Тонизируют и улучшают питание спинного мозга, оказывают стимулирующее воздействие на эндокринные железы,  способствуют рос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6" descr="D:\мама\мои рисунки\упражнения девушки\прямая спина.jpg"/>
          <p:cNvPicPr/>
          <p:nvPr/>
        </p:nvPicPr>
        <p:blipFill>
          <a:blip r:embed="rId3"/>
          <a:stretch/>
        </p:blipFill>
        <p:spPr>
          <a:xfrm>
            <a:off x="6215040" y="785880"/>
            <a:ext cx="2714760" cy="485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D:\мама\мои рисунки\упражнения девушки\крас спин 2.gif"/>
          <p:cNvPicPr/>
          <p:nvPr/>
        </p:nvPicPr>
        <p:blipFill>
          <a:blip r:embed="rId4"/>
          <a:stretch/>
        </p:blipFill>
        <p:spPr>
          <a:xfrm>
            <a:off x="6143760" y="5500800"/>
            <a:ext cx="1643040" cy="1204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723960" y="172404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214200" y="1500120"/>
            <a:ext cx="58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Прямая спина, красивый разворот плеч, свободные движения - это не только неотъемлемая часть внешнего вида успешного человека, но и залог вашей молодости и здоровь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14360" y="714240"/>
            <a:ext cx="542916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alibri"/>
              </a:rPr>
              <a:t>«КРАСИВАЯ ГРУДЬ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14200" y="2214720"/>
            <a:ext cx="585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95c"/>
                </a:solidFill>
                <a:latin typeface="Tahoma"/>
              </a:rPr>
              <a:t>Грудь всегда была либо гордостью женщины, либо ее проблемой. Многие скажут, что бороться с законом всемирного тяготения абсурдно,  но это не та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214200" y="3857760"/>
            <a:ext cx="57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95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3495c"/>
                </a:solidFill>
                <a:latin typeface="Tahoma"/>
              </a:rPr>
              <a:t>Наши грудные мышцы похожи на раскрытый веер. Они берут свое начало у плечевых суставов, а потом широко расходятся к грудине. Поэтому комплекс упражнений на грудные мышцы должен включать движения руками как прямо вперед, так и вверх под углом. С предметами и без</a:t>
            </a:r>
            <a:r>
              <a:rPr b="1" lang="en-US" sz="1800" spc="-1" strike="noStrike">
                <a:solidFill>
                  <a:srgbClr val="115964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H:\упражнения девушки\с гантелями на мяче.jpg"/>
          <p:cNvPicPr/>
          <p:nvPr/>
        </p:nvPicPr>
        <p:blipFill>
          <a:blip r:embed="rId2"/>
          <a:stretch/>
        </p:blipFill>
        <p:spPr>
          <a:xfrm>
            <a:off x="857160" y="714240"/>
            <a:ext cx="1160640" cy="154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D:\мама\мои рисунки\упражнения девушки\упр с обручем.gif"/>
          <p:cNvPicPr/>
          <p:nvPr/>
        </p:nvPicPr>
        <p:blipFill>
          <a:blip r:embed="rId3"/>
          <a:stretch/>
        </p:blipFill>
        <p:spPr>
          <a:xfrm>
            <a:off x="6072120" y="2357280"/>
            <a:ext cx="2776680" cy="3857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:\мама\мои рисунки\упражнения девушки\сделай тело 6.gif"/>
          <p:cNvPicPr/>
          <p:nvPr/>
        </p:nvPicPr>
        <p:blipFill>
          <a:blip r:embed="rId4"/>
          <a:stretch/>
        </p:blipFill>
        <p:spPr>
          <a:xfrm>
            <a:off x="7858080" y="642960"/>
            <a:ext cx="857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D:\мама\мои рисунки\упражнения девушки\гимнастика2.jpg"/>
          <p:cNvPicPr/>
          <p:nvPr/>
        </p:nvPicPr>
        <p:blipFill>
          <a:blip r:embed="rId2"/>
          <a:stretch/>
        </p:blipFill>
        <p:spPr>
          <a:xfrm rot="897600">
            <a:off x="4538520" y="3739680"/>
            <a:ext cx="4376880" cy="2344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Calibri"/>
              </a:rPr>
              <a:t>«Плоский живот»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14200" y="15001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Хорошо развитые мышцы брюшного пресса – это необходимое условие хорошей осанки и здоровой поясн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4286160"/>
            <a:ext cx="4357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142920" y="3143160"/>
            <a:ext cx="485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Регулярные занятия специальным комплексом упражнений  на все группы мышц живота  и соблюдение режима питания сделают ваш живот идеальны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9" descr="D:\мама\мои рисунки\упражнения девушки\Пресс.gif"/>
          <p:cNvPicPr/>
          <p:nvPr/>
        </p:nvPicPr>
        <p:blipFill>
          <a:blip r:embed="rId3"/>
          <a:stretch/>
        </p:blipFill>
        <p:spPr>
          <a:xfrm>
            <a:off x="7429680" y="785880"/>
            <a:ext cx="1428480" cy="80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D:\мама\мои рисунки\упражнения девушки\прес2.gif"/>
          <p:cNvPicPr/>
          <p:nvPr/>
        </p:nvPicPr>
        <p:blipFill>
          <a:blip r:embed="rId4"/>
          <a:stretch/>
        </p:blipFill>
        <p:spPr>
          <a:xfrm>
            <a:off x="7715160" y="2428920"/>
            <a:ext cx="7542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alibri"/>
              </a:rPr>
              <a:t>«ТОНКАЯ ТАЛИЯ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480" y="1928520"/>
            <a:ext cx="6072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15964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Arial Unicode MS"/>
              </a:rPr>
              <a:t>Можно иметь стройную фигуру, но на талии, тем не менее, будут складки. Небольшие складки естественны для здорового образа жизни. А  от чрезмерных 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Tahoma"/>
              </a:rPr>
              <a:t>-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Arial Unicode MS"/>
              </a:rPr>
              <a:t>  вы сможете избавит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Tahoma"/>
              </a:rPr>
              <a:t>ь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Arial Unicode MS"/>
              </a:rPr>
              <a:t>ся, если будете заниматься аэробными упражнениями, массажем и строго следить за рационом пит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8" descr="D:\мама\мои рисунки\упражнения девушки\сделай тело 9.gif"/>
          <p:cNvPicPr/>
          <p:nvPr/>
        </p:nvPicPr>
        <p:blipFill>
          <a:blip r:embed="rId2"/>
          <a:stretch/>
        </p:blipFill>
        <p:spPr>
          <a:xfrm>
            <a:off x="7072200" y="785880"/>
            <a:ext cx="1381320" cy="207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D:\мама\мои рисунки\упражнения девушки\измер талии.jpg"/>
          <p:cNvPicPr/>
          <p:nvPr/>
        </p:nvPicPr>
        <p:blipFill>
          <a:blip r:embed="rId3"/>
          <a:stretch/>
        </p:blipFill>
        <p:spPr>
          <a:xfrm>
            <a:off x="6786720" y="3071880"/>
            <a:ext cx="2000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214200" y="1571760"/>
            <a:ext cx="578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Помните, что каждый день занятий вносит вклад в будущее развитие вашей грации, силы и вынослив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85840" y="342900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Регулярно занимайтесь физическими упражнениями, посещайте спортивные секции и трениров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14200" y="514368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И тогда, независимо от ваших способностей, телосложения и характера, придут успех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8" descr="D:\мама\мои рисунки\упражнения девушки\tzна беговой дорожке.jpg"/>
          <p:cNvPicPr/>
          <p:nvPr/>
        </p:nvPicPr>
        <p:blipFill>
          <a:blip r:embed="rId2"/>
          <a:stretch/>
        </p:blipFill>
        <p:spPr>
          <a:xfrm>
            <a:off x="5857920" y="928800"/>
            <a:ext cx="29304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0:49:14Z</dcterms:created>
  <dc:creator>учитель</dc:creator>
  <dc:description/>
  <dc:language>en-US</dc:language>
  <cp:lastModifiedBy>Мама</cp:lastModifiedBy>
  <dcterms:modified xsi:type="dcterms:W3CDTF">2010-08-08T09:16:20Z</dcterms:modified>
  <cp:revision>123</cp:revision>
  <dc:subject/>
  <dc:title>Презентация PowerPoint</dc:title>
</cp:coreProperties>
</file>