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8B77-7C89-4111-897C-3C06BD0FF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F89C-C09C-40D5-94D0-1A81CD364B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172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87440" y="234936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1156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0172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887440" y="4267440"/>
            <a:ext cx="22719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32000" y="1267920"/>
            <a:ext cx="662472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1480" y="426744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564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1480" y="2349360"/>
            <a:ext cx="3443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5640" y="4267440"/>
            <a:ext cx="705636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1267920"/>
            <a:ext cx="66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115640" y="2349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52280" y="2361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фициальный сайт государственной орган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219480" y="4952880"/>
            <a:ext cx="49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гений Овчаренко, менедже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нии Веб-пр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6629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нутренний интранет-порта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380880" y="2133720"/>
            <a:ext cx="830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интранет-портал автоматизирует ежедневную работу служащего: оперативное взаимодействие, совместную работу над задачами, мероприятиями и документами, планово-организационную деятельность и предоставляет всю необходимую информац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5" descr="25.09.png"/>
          <p:cNvPicPr/>
          <p:nvPr/>
        </p:nvPicPr>
        <p:blipFill>
          <a:blip r:embed="rId1"/>
          <a:stretch/>
        </p:blipFill>
        <p:spPr>
          <a:xfrm>
            <a:off x="4724280" y="2971800"/>
            <a:ext cx="3929040" cy="275904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3"/>
          <p:cNvSpPr/>
          <p:nvPr/>
        </p:nvSpPr>
        <p:spPr>
          <a:xfrm>
            <a:off x="304920" y="3124080"/>
            <a:ext cx="40719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рукции и полож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ю об организационной структур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авочник служащих и сотрудник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нки и типовые формы документ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0720" indent="-18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дровые и финансово-экономические доку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357120" y="5765760"/>
            <a:ext cx="857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утренний портал специально адаптирован по структуре, демо-контенту, заголовкам, терминам к специфике внутренней работы органов вл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грация портала и сай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457200" y="2057400"/>
            <a:ext cx="8429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внутреннего портала и официального сайта позволяет реализова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бликацию официальной информации с портала на сай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фициальные новости, законы и т.п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же возможен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тный прием информац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например, прием обращений граждан с сайта и последующая их обработка госслужащими через порт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7" descr="Snap6-s.png"/>
          <p:cNvPicPr/>
          <p:nvPr/>
        </p:nvPicPr>
        <p:blipFill>
          <a:blip r:embed="rId1"/>
          <a:stretch/>
        </p:blipFill>
        <p:spPr>
          <a:xfrm>
            <a:off x="5905440" y="3832200"/>
            <a:ext cx="2336760" cy="2416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2" name="Рисунок 8" descr="25.091.png"/>
          <p:cNvPicPr/>
          <p:nvPr/>
        </p:nvPicPr>
        <p:blipFill>
          <a:blip r:embed="rId2"/>
          <a:stretch/>
        </p:blipFill>
        <p:spPr>
          <a:xfrm>
            <a:off x="914400" y="3886200"/>
            <a:ext cx="3238560" cy="22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3" name="Стрелка вправо 9"/>
          <p:cNvSpPr/>
          <p:nvPr/>
        </p:nvSpPr>
        <p:spPr>
          <a:xfrm>
            <a:off x="4286160" y="455148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право 10"/>
          <p:cNvSpPr/>
          <p:nvPr/>
        </p:nvSpPr>
        <p:spPr>
          <a:xfrm rot="10800000">
            <a:off x="4284720" y="4818240"/>
            <a:ext cx="128592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67057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f6e"/>
                </a:solidFill>
                <a:latin typeface="Calibri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380880" y="2133720"/>
            <a:ext cx="810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лек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активной защит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дуктах «1С-Битрикс» надежно защищает решение от внешних угроз безопас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ктивная защита включ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380880" y="2987640"/>
            <a:ext cx="541044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нель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ктивный фильтр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Application FireWa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логия одноразовых пароле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щита авторизованных сесс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роль акт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фрование канала передачи через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рнал втор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щиту административных разделов п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п-ли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роль целост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по настройке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щиту редиректов от фиш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итор обновл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шний контроль информационной сре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3" descr="11"/>
          <p:cNvPicPr/>
          <p:nvPr/>
        </p:nvPicPr>
        <p:blipFill>
          <a:blip r:embed="rId1"/>
          <a:stretch/>
        </p:blipFill>
        <p:spPr>
          <a:xfrm>
            <a:off x="5791320" y="2438280"/>
            <a:ext cx="2709720" cy="2619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4937040" y="5337000"/>
            <a:ext cx="1040040" cy="83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6029280" y="5421240"/>
            <a:ext cx="1131840" cy="5144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9" descr="russ-hack_rus.gif"/>
          <p:cNvPicPr/>
          <p:nvPr/>
        </p:nvPicPr>
        <p:blipFill>
          <a:blip r:embed="rId4"/>
          <a:stretch/>
        </p:blipFill>
        <p:spPr>
          <a:xfrm>
            <a:off x="7388280" y="5265720"/>
            <a:ext cx="720720" cy="714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shield2"/>
          <p:cNvPicPr/>
          <p:nvPr/>
        </p:nvPicPr>
        <p:blipFill>
          <a:blip r:embed="rId5"/>
          <a:stretch/>
        </p:blipFill>
        <p:spPr>
          <a:xfrm>
            <a:off x="5867280" y="2666880"/>
            <a:ext cx="1535400" cy="219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67053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я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teUpd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861080" y="4608360"/>
            <a:ext cx="382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2" descr="siteupdate.gif"/>
          <p:cNvPicPr/>
          <p:nvPr/>
        </p:nvPicPr>
        <p:blipFill>
          <a:blip r:embed="rId1"/>
          <a:stretch/>
        </p:blipFill>
        <p:spPr>
          <a:xfrm>
            <a:off x="2895480" y="2133720"/>
            <a:ext cx="5867640" cy="44002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1"/>
          <p:cNvSpPr/>
          <p:nvPr/>
        </p:nvSpPr>
        <p:spPr>
          <a:xfrm>
            <a:off x="380880" y="2362320"/>
            <a:ext cx="2870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истема обновл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вейший функцио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равление ошиб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 затрагивает реализованные ре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pgrade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 более  функциональных редакци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ка работающего сай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762120" y="2209680"/>
            <a:ext cx="784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Прогностические факт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загрузки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соединения (оптимизация графики, тип соеди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перехода между стра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иг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бство навигации  и организации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и содержание сайта (удобство чтения с экра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бство использования  функциональности сай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зывчивость на за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та  и эффективность получения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504960"/>
            <a:ext cx="678168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667880" y="1447920"/>
            <a:ext cx="53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ударственный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471960" y="2209680"/>
            <a:ext cx="8499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сай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200 сайтов федеральных органов власти и их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1000 сайтов подразделений федеральных органов власт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о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0 сайтов субъектов федерации, региональных парла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3000 сайтов муниципальных  образ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сайты гос. закуп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400 официальных сайтов гос.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сайты гос. предприя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ее 5000 сайтов ФГУ, ФГУП, ГУП, МУП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олее  10000 сайтов гос. учреждений (больницы, колледжи, ун-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1143000" y="1447920"/>
            <a:ext cx="1365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ис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 13407, ISO 1852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Ф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609480" y="2362320"/>
            <a:ext cx="790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02.05.200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 59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орядке рассмотрения обращений граждан РФ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1.07.2005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94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размещении заказов на поставки товаров, выполнение рабо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ние услуг для государственных и муниципальных нужд» в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ое обеспечение заказов (статья 16 часть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радостроительный кодекс РФ» от 29.12.200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190-Ф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бликация проекта генерального плана на официальном са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ения, городского округа, проекта положений  о территориальн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и (статья 24 часть 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2305800" y="1447920"/>
            <a:ext cx="47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380880" y="2133720"/>
            <a:ext cx="83692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09.02.2009 N 8-ФЗ "Об обеспечении дост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информации о деятельности государственных органов и орга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ого самоуправления" (принят ГД ФС РФ 21.01.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рганы власти и местного самоуправления попадают под его действие (вступает в силу с 1 января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водит понятие официального сайта гос. органа и органа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ально расписывает правила раскрытия информации о деятельности органа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ывает регистрировать обращения граждан в специальной сис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правила контроля и исполнения всех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9343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f6e"/>
                </a:solidFill>
                <a:latin typeface="Calibri"/>
              </a:rPr>
              <a:t>Использование продуктов 1С-Битрикс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380880" y="2133720"/>
            <a:ext cx="85726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кты 1С-Битрикс: Управление сайтом и 1С-Битрикс: Корпоративный порта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остью готовы к реализации поставленных зада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овая поставка продуктов изначально не адаптирована под специализирова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нстрационный контен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 потребностей органов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ология бизнес-пользователей не всегда поня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айта и портала – не автоматизир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нзирование достаточно дорог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частую тяжело изначально понять возможности продуктов и спроецировать их на свои за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чины появления продук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571680" y="2149560"/>
            <a:ext cx="857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ение интереса гос. органов к созданию качественного представительства в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ламент на состав и структуру информации на са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ется все более мощный 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сное движение к работе с населением с использованием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требований к системе управления контен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ая тенденция: портальные технологии внутри органов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f6e"/>
                </a:solidFill>
                <a:latin typeface="Calibri"/>
              </a:rPr>
              <a:t>Преимущества продук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571680" y="2057400"/>
            <a:ext cx="8572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ностью готовое к развертыванию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4х типов органов власти и местного само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ая структура и демонстрационный конт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ная терминология и набор специализированных инстр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требования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нз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ый сай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Рисунок 5" descr="Snap2.png"/>
          <p:cNvPicPr/>
          <p:nvPr/>
        </p:nvPicPr>
        <p:blipFill>
          <a:blip r:embed="rId1"/>
          <a:stretch/>
        </p:blipFill>
        <p:spPr>
          <a:xfrm>
            <a:off x="4572000" y="2286000"/>
            <a:ext cx="41781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Прямоугольник 2"/>
          <p:cNvSpPr/>
          <p:nvPr/>
        </p:nvSpPr>
        <p:spPr>
          <a:xfrm>
            <a:off x="380880" y="2133720"/>
            <a:ext cx="4318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ый сайт – инструмент для создания и управления представительством органа государственной власти и местного самоуправления в сети Интерн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762120" y="3048120"/>
            <a:ext cx="4046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мещения и представления информации о деятельности орг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ботка запросов и обращений гражда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57200" y="4038480"/>
            <a:ext cx="372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ществуют следующие редакции сай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304920" y="4419720"/>
            <a:ext cx="45370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муниципального образ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городской дум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правительства област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0" indent="-1796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фициальный сайт областного законодательного собр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6781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уктура и контент в соответствии с закон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Рисунок 6" descr="Snap6-s.png"/>
          <p:cNvPicPr/>
          <p:nvPr/>
        </p:nvPicPr>
        <p:blipFill>
          <a:blip r:embed="rId1"/>
          <a:stretch/>
        </p:blipFill>
        <p:spPr>
          <a:xfrm>
            <a:off x="4724280" y="2209680"/>
            <a:ext cx="4006800" cy="414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2" name="Прямоугольник 4"/>
          <p:cNvSpPr/>
          <p:nvPr/>
        </p:nvSpPr>
        <p:spPr>
          <a:xfrm>
            <a:off x="428760" y="2143080"/>
            <a:ext cx="4286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фициальный сайт содержит базовое информационное наполнение, структурированно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оответствии с требованиями Федеральных Законов (№8-ФЗ, №59-ФЗ, №94-ФЗ, №98-ФЗ, №190-ФЗ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трибутив содержит варианты контента для разных типов сай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1:38:15Z</dcterms:created>
  <dc:creator>Natalia Grikhina</dc:creator>
  <dc:description/>
  <dc:language>en-US</dc:language>
  <cp:lastModifiedBy>Коля</cp:lastModifiedBy>
  <dcterms:modified xsi:type="dcterms:W3CDTF">2013-07-13T08:37:55Z</dcterms:modified>
  <cp:revision>308</cp:revision>
  <dc:subject/>
  <dc:title>Веб-аналитика</dc:title>
</cp:coreProperties>
</file>