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C2FC9-DDF4-4162-8F25-6AA904054D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D6A41-BBA8-49F0-8E14-2C427C83CB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70563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115640" y="4267440"/>
            <a:ext cx="70563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1480" y="234936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15640" y="426744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31480" y="426744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22719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01720" y="2349360"/>
            <a:ext cx="22719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87440" y="2349360"/>
            <a:ext cx="22719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115640" y="4267440"/>
            <a:ext cx="22719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01720" y="4267440"/>
            <a:ext cx="22719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87440" y="4267440"/>
            <a:ext cx="22719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115640" y="2349360"/>
            <a:ext cx="7056360" cy="36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705636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34434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31480" y="2349360"/>
            <a:ext cx="34434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32000" y="1267920"/>
            <a:ext cx="662472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31480" y="2349360"/>
            <a:ext cx="34434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115640" y="426744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115640" y="2349360"/>
            <a:ext cx="7056360" cy="36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34434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31480" y="234936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31480" y="426744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1480" y="234936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15640" y="4267440"/>
            <a:ext cx="70563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70563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115640" y="4267440"/>
            <a:ext cx="70563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1480" y="234936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15640" y="426744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731480" y="426744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22719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01720" y="2349360"/>
            <a:ext cx="22719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887440" y="2349360"/>
            <a:ext cx="22719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115640" y="4267440"/>
            <a:ext cx="22719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501720" y="4267440"/>
            <a:ext cx="22719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887440" y="4267440"/>
            <a:ext cx="22719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115640" y="2349360"/>
            <a:ext cx="7056360" cy="36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705636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34434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31480" y="2349360"/>
            <a:ext cx="34434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705636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332000" y="1267920"/>
            <a:ext cx="662472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31480" y="2349360"/>
            <a:ext cx="34434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15640" y="426744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34434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31480" y="234936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731480" y="426744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31480" y="234936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115640" y="4267440"/>
            <a:ext cx="70563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70563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115640" y="4267440"/>
            <a:ext cx="70563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31480" y="234936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115640" y="426744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731480" y="426744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22719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01720" y="2349360"/>
            <a:ext cx="22719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887440" y="2349360"/>
            <a:ext cx="22719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115640" y="4267440"/>
            <a:ext cx="22719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01720" y="4267440"/>
            <a:ext cx="22719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887440" y="4267440"/>
            <a:ext cx="22719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115640" y="2349360"/>
            <a:ext cx="7056360" cy="36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705636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34434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31480" y="2349360"/>
            <a:ext cx="34434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34434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31480" y="2349360"/>
            <a:ext cx="34434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332000" y="1267920"/>
            <a:ext cx="662472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31480" y="2349360"/>
            <a:ext cx="34434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115640" y="426744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34434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31480" y="234936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731480" y="426744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31480" y="234936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15640" y="4267440"/>
            <a:ext cx="70563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70563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1115640" y="4267440"/>
            <a:ext cx="70563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31480" y="234936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115640" y="426744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731480" y="426744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22719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501720" y="2349360"/>
            <a:ext cx="22719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887440" y="2349360"/>
            <a:ext cx="22719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1115640" y="4267440"/>
            <a:ext cx="22719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501720" y="4267440"/>
            <a:ext cx="22719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887440" y="4267440"/>
            <a:ext cx="22719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332000" y="1267920"/>
            <a:ext cx="662472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1480" y="2349360"/>
            <a:ext cx="34434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115640" y="426744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34434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1480" y="234936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31480" y="426744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1480" y="234936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15640" y="4267440"/>
            <a:ext cx="70563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5640" y="2349360"/>
            <a:ext cx="705636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115640" y="2349360"/>
            <a:ext cx="705636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1115640" y="2349360"/>
            <a:ext cx="705636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115640" y="2349360"/>
            <a:ext cx="705636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52280" y="2361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фициальный сайт государственной организ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4861080" y="4608360"/>
            <a:ext cx="382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5"/>
          <p:cNvSpPr/>
          <p:nvPr/>
        </p:nvSpPr>
        <p:spPr>
          <a:xfrm>
            <a:off x="3219480" y="4952880"/>
            <a:ext cx="498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вгений Овчаренко, менеджер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е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ании Веб-прак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18960" y="1295280"/>
            <a:ext cx="6629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нутренний интранет-портал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Прямоугольник 2"/>
          <p:cNvSpPr/>
          <p:nvPr/>
        </p:nvSpPr>
        <p:spPr>
          <a:xfrm>
            <a:off x="380880" y="2133720"/>
            <a:ext cx="8305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нутренний интранет-портал автоматизирует ежедневную работу служащего: оперативное взаимодействие, совместную работу над задачами, мероприятиями и документами, планово-организационную деятельность и предоставляет всю необходимую информацию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Рисунок 5" descr="25.09.png"/>
          <p:cNvPicPr/>
          <p:nvPr/>
        </p:nvPicPr>
        <p:blipFill>
          <a:blip r:embed="rId1"/>
          <a:stretch/>
        </p:blipFill>
        <p:spPr>
          <a:xfrm>
            <a:off x="4724280" y="2971800"/>
            <a:ext cx="3929040" cy="2759040"/>
          </a:xfrm>
          <a:prstGeom prst="rect">
            <a:avLst/>
          </a:prstGeom>
          <a:ln w="0">
            <a:noFill/>
          </a:ln>
        </p:spPr>
      </p:pic>
      <p:sp>
        <p:nvSpPr>
          <p:cNvPr id="186" name="Прямоугольник 3"/>
          <p:cNvSpPr/>
          <p:nvPr/>
        </p:nvSpPr>
        <p:spPr>
          <a:xfrm>
            <a:off x="304920" y="3124080"/>
            <a:ext cx="4071960" cy="25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18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струкции и положени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0720" indent="-18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формацию об организационной структуре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0720" indent="-18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правочник служащих и сотрудников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0720" indent="-18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ланки и типовые формы документов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0720" indent="-18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дровые и финансово-экономические документ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4"/>
          <p:cNvSpPr/>
          <p:nvPr/>
        </p:nvSpPr>
        <p:spPr>
          <a:xfrm>
            <a:off x="357120" y="5765760"/>
            <a:ext cx="857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нутренний портал специально адаптирован по структуре, демо-контенту, заголовкам, терминам к специфике внутренней работы органов вла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3000" y="1295280"/>
            <a:ext cx="678168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нтеграция портала и сайт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4861080" y="4608360"/>
            <a:ext cx="382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2"/>
          <p:cNvSpPr/>
          <p:nvPr/>
        </p:nvSpPr>
        <p:spPr>
          <a:xfrm>
            <a:off x="457200" y="2057400"/>
            <a:ext cx="8429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грация внутреннего портала и официального сайта позволяет реализовать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убликацию официальной информации с портала на сай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официальные новости, законы и т.п.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кже возможен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ратный прием информации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например, прием обращений граждан с сайта и последующая их обработка госслужащими через порта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Рисунок 7" descr="Snap6-s.png"/>
          <p:cNvPicPr/>
          <p:nvPr/>
        </p:nvPicPr>
        <p:blipFill>
          <a:blip r:embed="rId1"/>
          <a:stretch/>
        </p:blipFill>
        <p:spPr>
          <a:xfrm>
            <a:off x="5905440" y="3832200"/>
            <a:ext cx="2336760" cy="2416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92" name="Рисунок 8" descr="25.091.png"/>
          <p:cNvPicPr/>
          <p:nvPr/>
        </p:nvPicPr>
        <p:blipFill>
          <a:blip r:embed="rId2"/>
          <a:stretch/>
        </p:blipFill>
        <p:spPr>
          <a:xfrm>
            <a:off x="914400" y="3886200"/>
            <a:ext cx="3238560" cy="2251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93" name="Стрелка вправо 9"/>
          <p:cNvSpPr/>
          <p:nvPr/>
        </p:nvSpPr>
        <p:spPr>
          <a:xfrm>
            <a:off x="4286160" y="4551480"/>
            <a:ext cx="128592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Стрелка вправо 10"/>
          <p:cNvSpPr/>
          <p:nvPr/>
        </p:nvSpPr>
        <p:spPr>
          <a:xfrm rot="10800000">
            <a:off x="4284720" y="4818240"/>
            <a:ext cx="1285920" cy="142560"/>
          </a:xfrm>
          <a:prstGeom prst="rightArrow">
            <a:avLst>
              <a:gd name="adj1" fmla="val 50000"/>
              <a:gd name="adj2" fmla="val 5011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1295280"/>
            <a:ext cx="67057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83f6e"/>
                </a:solidFill>
                <a:latin typeface="Calibri"/>
              </a:rPr>
              <a:t>Безопасность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4861080" y="4608360"/>
            <a:ext cx="382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3"/>
          <p:cNvSpPr/>
          <p:nvPr/>
        </p:nvSpPr>
        <p:spPr>
          <a:xfrm>
            <a:off x="380880" y="2133720"/>
            <a:ext cx="8107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мплекс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оактивной защиты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продуктах «1С-Битрикс» надежно защищает решение от внешних угроз безопасност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активная защита включает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"/>
          <p:cNvSpPr/>
          <p:nvPr/>
        </p:nvSpPr>
        <p:spPr>
          <a:xfrm>
            <a:off x="380880" y="2987640"/>
            <a:ext cx="5410440" cy="34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2080" indent="-262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анель безопас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активный фильтр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b Application FireWal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хнология одноразовых паролей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P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щита авторизованных сессий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нтроль актив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ифрование канала передачи через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урнал вторж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щиту административных разделов по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оп-лис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нтроль целостно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комендации по настройке безопас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щиту редиректов от фишин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нитор обновлен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нешний контроль информационной сред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3" descr="11"/>
          <p:cNvPicPr/>
          <p:nvPr/>
        </p:nvPicPr>
        <p:blipFill>
          <a:blip r:embed="rId1"/>
          <a:stretch/>
        </p:blipFill>
        <p:spPr>
          <a:xfrm>
            <a:off x="5791320" y="2438280"/>
            <a:ext cx="2709720" cy="26193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"/>
          <p:cNvPicPr/>
          <p:nvPr/>
        </p:nvPicPr>
        <p:blipFill>
          <a:blip r:embed="rId2"/>
          <a:stretch/>
        </p:blipFill>
        <p:spPr>
          <a:xfrm>
            <a:off x="4937040" y="5337000"/>
            <a:ext cx="1040040" cy="8319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"/>
          <p:cNvPicPr/>
          <p:nvPr/>
        </p:nvPicPr>
        <p:blipFill>
          <a:blip r:embed="rId3"/>
          <a:stretch/>
        </p:blipFill>
        <p:spPr>
          <a:xfrm>
            <a:off x="6029280" y="5421240"/>
            <a:ext cx="1131840" cy="51444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9" descr="russ-hack_rus.gif"/>
          <p:cNvPicPr/>
          <p:nvPr/>
        </p:nvPicPr>
        <p:blipFill>
          <a:blip r:embed="rId4"/>
          <a:stretch/>
        </p:blipFill>
        <p:spPr>
          <a:xfrm>
            <a:off x="7388280" y="5265720"/>
            <a:ext cx="720720" cy="7142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2" descr="shield2"/>
          <p:cNvPicPr/>
          <p:nvPr/>
        </p:nvPicPr>
        <p:blipFill>
          <a:blip r:embed="rId5"/>
          <a:stretch/>
        </p:blipFill>
        <p:spPr>
          <a:xfrm>
            <a:off x="5867280" y="2666880"/>
            <a:ext cx="1535400" cy="2198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670536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хнология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teUpdat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4861080" y="4608360"/>
            <a:ext cx="382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Рисунок 12" descr="siteupdate.gif"/>
          <p:cNvPicPr/>
          <p:nvPr/>
        </p:nvPicPr>
        <p:blipFill>
          <a:blip r:embed="rId1"/>
          <a:stretch/>
        </p:blipFill>
        <p:spPr>
          <a:xfrm>
            <a:off x="2895480" y="2133720"/>
            <a:ext cx="5867640" cy="440028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61"/>
          <p:cNvSpPr/>
          <p:nvPr/>
        </p:nvSpPr>
        <p:spPr>
          <a:xfrm>
            <a:off x="380880" y="2362320"/>
            <a:ext cx="287028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истема обновлени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овейший функцион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справление ошиб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е затрагивает реализованные реш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pgrade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до более  функциональных редакци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ценка работающего сайт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TextBox 3"/>
          <p:cNvSpPr/>
          <p:nvPr/>
        </p:nvSpPr>
        <p:spPr>
          <a:xfrm>
            <a:off x="762120" y="2209680"/>
            <a:ext cx="7848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2d050"/>
                </a:solidFill>
                <a:latin typeface="Arial"/>
              </a:rPr>
              <a:t>Прогностические факто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орость загрузки стран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орость соединения (оптимизация графики, тип соедине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орость перехода между страниц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вигац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ация сай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добство навигации  и организации сай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ем и содержание сайта (удобство чтения с экран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заимодейств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добство использования  функциональности сай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зывчивость на запро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строта  и эффективность получения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3000" y="3504960"/>
            <a:ext cx="678168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пасибо за внимание!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опросы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1"/>
          <p:cNvSpPr/>
          <p:nvPr/>
        </p:nvSpPr>
        <p:spPr>
          <a:xfrm>
            <a:off x="1667880" y="1447920"/>
            <a:ext cx="536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сударственный интер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"/>
          <p:cNvSpPr/>
          <p:nvPr/>
        </p:nvSpPr>
        <p:spPr>
          <a:xfrm>
            <a:off x="471960" y="2209680"/>
            <a:ext cx="84999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фициальные сай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ее 200 сайтов федеральных органов власти и их прое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ее 1000 сайтов подразделений федеральных органов власти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гион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ее 500 сайтов субъектов федерации, региональных парла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их прое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ее 3000 сайтов муниципальных  образова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фициальные сайты гос. закупо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ее 400 официальных сайтов гос. закуп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фициальные сайты гос. предприят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более 5000 сайтов ФГУ, ФГУП, ГУП, МУП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более  10000 сайтов гос. учреждений (больницы, колледжи, ун-т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Box 1"/>
          <p:cNvSpPr/>
          <p:nvPr/>
        </p:nvSpPr>
        <p:spPr>
          <a:xfrm>
            <a:off x="1143000" y="1447920"/>
            <a:ext cx="1365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азис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O 13407, ISO 18529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Ф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2"/>
          <p:cNvSpPr/>
          <p:nvPr/>
        </p:nvSpPr>
        <p:spPr>
          <a:xfrm>
            <a:off x="609480" y="2362320"/>
            <a:ext cx="7905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едеральный закон от 02.05.2006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№ 59-Ф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О порядке рассмотрения обращений граждан РФ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едеральный закон от 21.07.2005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№94-Ф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О размещении заказов на поставки товаров, выполнение рабо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азание услуг для государственных и муниципальных нужд» в ч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ормационное обеспечение заказов (статья 16 часть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Градостроительный кодекс РФ» от 29.12.2004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№190-ФЗ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ча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бликация проекта генерального плана на официальном сай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еления, городского округа, проекта положений  о территориальном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нировании (статья 24 часть 9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1"/>
          <p:cNvSpPr/>
          <p:nvPr/>
        </p:nvSpPr>
        <p:spPr>
          <a:xfrm>
            <a:off x="2305800" y="1447920"/>
            <a:ext cx="474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едеральный закон №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2"/>
          <p:cNvSpPr/>
          <p:nvPr/>
        </p:nvSpPr>
        <p:spPr>
          <a:xfrm>
            <a:off x="380880" y="2133720"/>
            <a:ext cx="836928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едеральный закон от 09.02.2009 N 8-ФЗ "Об обеспечении доступ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информации о деятельности государственных органов и орган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стного самоуправления" (принят ГД ФС РФ 21.01.20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органы власти и местного самоуправления попадают под его действие (вступает в силу с 1 января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первые вводит понятие официального сайта гос. органа и органа местного самоу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ально расписывает правила раскрытия информации о деятельности органа в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язывает регистрировать обращения граждан в специальной систе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яет правила контроля и исполнения всех требов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1295280"/>
            <a:ext cx="69343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83f6e"/>
                </a:solidFill>
                <a:latin typeface="Calibri"/>
              </a:rPr>
              <a:t>Использование продуктов 1С-Битрикс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Прямоугольник 3"/>
          <p:cNvSpPr/>
          <p:nvPr/>
        </p:nvSpPr>
        <p:spPr>
          <a:xfrm>
            <a:off x="380880" y="2133720"/>
            <a:ext cx="85726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дукты 1С-Битрикс: Управление сайтом и 1С-Битрикс: Корпоративный портал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ностью готовы к реализации поставленных задач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повая поставка продуктов изначально не адаптирована под специализированные за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монстрационный контен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ле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т потребностей органов в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рминология бизнес-пользователей не всегда понят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заимодействие сайта и портала – не автоматизирова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цензирование достаточно дорог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частую тяжело изначально понять возможности продуктов и спроецировать их на свои задач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9903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чины появления продукт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Прямоугольник 3"/>
          <p:cNvSpPr/>
          <p:nvPr/>
        </p:nvSpPr>
        <p:spPr>
          <a:xfrm>
            <a:off x="571680" y="2149560"/>
            <a:ext cx="85723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иление интереса гос. органов к созданию качественного представительства в Се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гламент на состав и структуру информации на сай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буется все более мощный функцио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сное движение к работе с населением с использованием Се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ышение требований к системе управления контен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вая тенденция: портальные технологии внутри органов в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678168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83f6e"/>
                </a:solidFill>
                <a:latin typeface="Calibri"/>
              </a:rPr>
              <a:t>Преимущества продукт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Прямоугольник 3"/>
          <p:cNvSpPr/>
          <p:nvPr/>
        </p:nvSpPr>
        <p:spPr>
          <a:xfrm>
            <a:off x="571680" y="2057400"/>
            <a:ext cx="85723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ностью готовое к развертыванию ре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держка 4х типов органов власти и местного самоу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товая структура и демонстрационный конт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нятная терминология и набор специализированных инстру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ответствие требованиям законодате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зопас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ценз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1295280"/>
            <a:ext cx="678168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фициальный сайт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5" name="Рисунок 5" descr="Snap2.png"/>
          <p:cNvPicPr/>
          <p:nvPr/>
        </p:nvPicPr>
        <p:blipFill>
          <a:blip r:embed="rId1"/>
          <a:stretch/>
        </p:blipFill>
        <p:spPr>
          <a:xfrm>
            <a:off x="4572000" y="2286000"/>
            <a:ext cx="4178160" cy="3286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76" name="Прямоугольник 2"/>
          <p:cNvSpPr/>
          <p:nvPr/>
        </p:nvSpPr>
        <p:spPr>
          <a:xfrm>
            <a:off x="380880" y="2133720"/>
            <a:ext cx="4318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фициальный сайт – инструмент для создания и управления представительством органа государственной власти и местного самоуправления в сети Интернет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3"/>
          <p:cNvSpPr/>
          <p:nvPr/>
        </p:nvSpPr>
        <p:spPr>
          <a:xfrm>
            <a:off x="762120" y="3048120"/>
            <a:ext cx="404640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змещения и представления информации о деятельности орган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работка запросов и обращений граждан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6"/>
          <p:cNvSpPr/>
          <p:nvPr/>
        </p:nvSpPr>
        <p:spPr>
          <a:xfrm>
            <a:off x="457200" y="4038480"/>
            <a:ext cx="372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уществуют следующие редакции сайто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5"/>
          <p:cNvSpPr/>
          <p:nvPr/>
        </p:nvSpPr>
        <p:spPr>
          <a:xfrm>
            <a:off x="304920" y="4419720"/>
            <a:ext cx="4537080" cy="14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17964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фициальный сайт муниципального образования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000" indent="-17964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фициальный сайт городской думы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000" indent="-17964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фициальный сайт правительства области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000" indent="-17964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фициальный сайт областного законодательного собра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1295280"/>
            <a:ext cx="678168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труктура и контент в соответствии с законом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1" name="Рисунок 6" descr="Snap6-s.png"/>
          <p:cNvPicPr/>
          <p:nvPr/>
        </p:nvPicPr>
        <p:blipFill>
          <a:blip r:embed="rId1"/>
          <a:stretch/>
        </p:blipFill>
        <p:spPr>
          <a:xfrm>
            <a:off x="4724280" y="2209680"/>
            <a:ext cx="4006800" cy="4143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82" name="Прямоугольник 4"/>
          <p:cNvSpPr/>
          <p:nvPr/>
        </p:nvSpPr>
        <p:spPr>
          <a:xfrm>
            <a:off x="428760" y="2143080"/>
            <a:ext cx="42861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фициальный сайт содержит базовое информационное наполнение, структурированное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соответствии с требованиями Федеральных Законов (№8-ФЗ, №59-ФЗ, №94-ФЗ, №98-ФЗ, №190-ФЗ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истрибутив содержит варианты контента для разных типов сай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11:38:15Z</dcterms:created>
  <dc:creator>Natalia Grikhina</dc:creator>
  <dc:description/>
  <dc:language>en-US</dc:language>
  <cp:lastModifiedBy>Коля</cp:lastModifiedBy>
  <dcterms:modified xsi:type="dcterms:W3CDTF">2013-07-13T08:37:55Z</dcterms:modified>
  <cp:revision>308</cp:revision>
  <dc:subject/>
  <dc:title>Веб-аналитика</dc:title>
</cp:coreProperties>
</file>