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F9B1-7461-45F0-80E4-A4DD99DAC8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18CA-5ABB-4D59-B592-4B89A6013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3CBF-2B24-4B27-B9FD-EEED352BB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F8D-DF10-4181-A654-34803D35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0A6-BEB3-4D13-8530-B6DE2E93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740-9C42-4DD9-9F7D-E49C233E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2B6-5C46-4C2D-922C-E9831A3C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C73-1EC1-4FE2-9E1A-AB886B36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321-76C2-4B26-96B6-02011D69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D9A-8122-4473-B3F0-1822579C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7D3-21E8-49C0-9ACF-32E09FB3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26A-002F-4547-84FC-FE006679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8F2-51A2-4FF6-9C7B-3C10E257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281-FB27-4A8E-9EFB-ED28A909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886-7208-4968-8BB9-FAB9D2F0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DF50-E643-4333-8EE7-A9201DD5B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3048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Алгебр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еоретически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2193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Хомутова Ларис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332000" y="189000"/>
            <a:ext cx="6062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3: Многочлены</a:t>
            </a:r>
            <a:endParaRPr b="0" lang="en-US" sz="2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2280" y="2155680"/>
            <a:ext cx="8839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тандартный вид многочл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перации над многочлен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164360" y="907920"/>
            <a:ext cx="1676520" cy="12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buClr>
                <a:srgbClr val="008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Одночлены и многочл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170028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дночленам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ся произведения чисел, переменных и их натуральных степеней (число, переменная и ее степень также являются одночлена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0" y="414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член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суммы одночл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I.</a:t>
            </a: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 Стандартный вид много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8600" y="170028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член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е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стандартный вид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Все его члены имеют стандартный ви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реди его членов нет подоб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I.</a:t>
            </a: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 Стандартный вид много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9"/>
              <p:cNvSpPr txBox="1"/>
              <p:nvPr/>
            </p:nvSpPr>
            <p:spPr>
              <a:xfrm>
                <a:off x="1979640" y="981000"/>
                <a:ext cx="4968720" cy="24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I.</a:t>
            </a: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 Стандартный вид много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50920" y="1125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льный многочле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й степени в стандартном виде, содержащей одну переменную, записывают 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3"/>
              <p:cNvSpPr txBox="1"/>
              <p:nvPr/>
            </p:nvSpPr>
            <p:spPr>
              <a:xfrm>
                <a:off x="324000" y="3068640"/>
                <a:ext cx="83534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оизвольн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коэффициенты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I.</a:t>
            </a: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 Стандартный вид много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50920" y="1125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льный многочле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й степени в стандартном виде, содержащей две переменные, записывают 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3"/>
              <p:cNvSpPr txBox="1"/>
              <p:nvPr/>
            </p:nvSpPr>
            <p:spPr>
              <a:xfrm>
                <a:off x="216000" y="3068640"/>
                <a:ext cx="89280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оизвольн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коэффициенты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I.</a:t>
            </a: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 Стандартный вид много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50920" y="1125360"/>
            <a:ext cx="8569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ибольшую из степеней входящих в данный многочлен слагаемых называ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ог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ч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степени всех членов многочлена одинаковы, то это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чл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днород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I.</a:t>
            </a: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 Стандартный вид много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3"/>
              <p:cNvSpPr txBox="1"/>
              <p:nvPr/>
            </p:nvSpPr>
            <p:spPr>
              <a:xfrm>
                <a:off x="395280" y="1268280"/>
                <a:ext cx="817236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ногочлен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тепени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ногочлен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тепени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днород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ногочлен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тепен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3:43:00Z</dcterms:created>
  <dc:creator>Kirill</dc:creator>
  <dc:description/>
  <dc:language>en-US</dc:language>
  <cp:lastModifiedBy>PC</cp:lastModifiedBy>
  <dcterms:modified xsi:type="dcterms:W3CDTF">2013-03-21T09:40:36Z</dcterms:modified>
  <cp:revision>4</cp:revision>
  <dc:subject/>
  <dc:title>Слайд 1</dc:title>
</cp:coreProperties>
</file>