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19E8-969F-4D1F-97B0-900179BF6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01CC-A963-49E3-8CF8-FD3EEF1D95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3A07-3254-4987-9C32-00AD735B9C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423-62A8-4197-9104-FCB30087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EB2B-7607-4535-A20F-B47AE99A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620-AE4A-4125-AAEE-5741C5AE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A09-582C-4177-A270-ED2C9F7F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D89-5627-46F0-90C1-22BA937E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527-D1C3-4DC4-AB6A-48A877DE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404-B292-4F93-B822-D8028980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DD8-FA72-4E3D-9E08-7675213B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D0E-562A-4909-A522-4A3F2C6F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D52-F4AB-4667-8ED0-50F81C6A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B94-0D3B-426D-AC43-2E125A91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739-6D59-470E-912B-01CE37E1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85E0-85F9-4AFF-A295-C4F5E7C69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3048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Алгебр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еоретически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2193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Хомутова Ларис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332000" y="189000"/>
            <a:ext cx="6062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 3: Многочлены</a:t>
            </a:r>
            <a:endParaRPr b="0" lang="en-US" sz="2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2280" y="2155680"/>
            <a:ext cx="8839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тандартный вид многочл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перации над многочлен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164360" y="907920"/>
            <a:ext cx="1676520" cy="12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2001"/>
              </a:spcBef>
              <a:buClr>
                <a:srgbClr val="008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Одночлены и многочл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170028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дночленам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ются произведения чисел, переменных и их натуральных степеней (число, переменная и ее степень также являются одночленам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0" y="414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ногочлен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ся суммы одночле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II.</a:t>
            </a:r>
            <a:r>
              <a:rPr b="1" i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 Стандартный вид многоч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28600" y="1700280"/>
            <a:ext cx="8915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ногочлен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е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стандартный вид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Все его члены имеют стандартный ви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Среди его членов нет подоб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II.</a:t>
            </a:r>
            <a:r>
              <a:rPr b="1" i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 Стандартный вид многоч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9"/>
              <p:cNvSpPr txBox="1"/>
              <p:nvPr/>
            </p:nvSpPr>
            <p:spPr>
              <a:xfrm>
                <a:off x="1979640" y="981000"/>
                <a:ext cx="4968720" cy="24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II.</a:t>
            </a:r>
            <a:r>
              <a:rPr b="1" i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 Стандартный вид многоч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50920" y="11253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ольный многочле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ой степени в стандартном виде, содержащей одну переменную, записывают 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3"/>
              <p:cNvSpPr txBox="1"/>
              <p:nvPr/>
            </p:nvSpPr>
            <p:spPr>
              <a:xfrm>
                <a:off x="324000" y="3068640"/>
                <a:ext cx="83534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оизвольны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коэффициенты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II.</a:t>
            </a:r>
            <a:r>
              <a:rPr b="1" i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 Стандартный вид многоч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50920" y="11253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ольный многочле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ой степени в стандартном виде, содержащей две переменные, записывают 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3"/>
              <p:cNvSpPr txBox="1"/>
              <p:nvPr/>
            </p:nvSpPr>
            <p:spPr>
              <a:xfrm>
                <a:off x="216000" y="3068640"/>
                <a:ext cx="892800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оизвольны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коэффициенты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II.</a:t>
            </a:r>
            <a:r>
              <a:rPr b="1" i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 Стандартный вид многоч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50920" y="1125360"/>
            <a:ext cx="8569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ибольшую из степеней входящих в данный многочлен слагаемых называ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тог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ногочл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степени всех членов многочлена одинаковы, то это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ногочл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днород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II.</a:t>
            </a:r>
            <a:r>
              <a:rPr b="1" i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 Стандартный вид многоч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3"/>
              <p:cNvSpPr txBox="1"/>
              <p:nvPr/>
            </p:nvSpPr>
            <p:spPr>
              <a:xfrm>
                <a:off x="395280" y="1268280"/>
                <a:ext cx="817236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ногочлен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тепени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ногочлен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тепени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днород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ногочлен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тепен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3:43:00Z</dcterms:created>
  <dc:creator>Kirill</dc:creator>
  <dc:description/>
  <dc:language>en-US</dc:language>
  <cp:lastModifiedBy>PC</cp:lastModifiedBy>
  <dcterms:modified xsi:type="dcterms:W3CDTF">2013-03-21T09:40:36Z</dcterms:modified>
  <cp:revision>4</cp:revision>
  <dc:subject/>
  <dc:title>Слайд 1</dc:title>
</cp:coreProperties>
</file>