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C9E-A40A-4E8D-906F-664EB7AF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1B6-4C7A-4B17-A949-8B3A9046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92A-4F96-4DAF-8513-6B55E511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639-B4B1-4D82-9D50-6F8D9D68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5B1-D09C-4EE1-B1D5-907BAEC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3A2-89BF-430E-9559-4716264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1F2-187D-4469-88EF-71C097D2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E68-DCEB-445E-BFA2-80AAB47C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C5B-1DB6-4C5D-842B-D3151E05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E93-673B-4234-B13C-F811833D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46A-583F-4FEF-8574-7CF769E5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C83-4BF6-4261-B705-1E188612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BF14-6383-4DEE-A6E4-711828A99BF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2FEE-E50A-4B10-B0CD-5BAEFFBB6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ДОВОЖУ ДО СВЕДЕНИЯ КАЖДОГО ШКОЛЬНИКА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ЧЕМУ РАВНА СУММА УГЛОВ ТРЕУГОЛЬНИКА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71680" y="2571840"/>
            <a:ext cx="72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Теорема о сумме углов треугольн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928960" y="528624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аботу выполнила Климова Елизавет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ченица 7 «В» класса лицея № 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8.12.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17A6-C095-4D2A-AFC4-3E821479A404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ижний колонтитул 6"/>
          <p:cNvSpPr/>
          <p:nvPr/>
        </p:nvSpPr>
        <p:spPr>
          <a:xfrm>
            <a:off x="0" y="649296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</a:t>
            </a:r>
            <a:r>
              <a:rPr b="1" lang="en-US" sz="1000" spc="-1" strike="noStrike">
                <a:solidFill>
                  <a:srgbClr val="7030a0"/>
                </a:solidFill>
                <a:latin typeface="Calibri"/>
              </a:rPr>
              <a:t>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Дуга 9"/>
          <p:cNvSpPr/>
          <p:nvPr/>
        </p:nvSpPr>
        <p:spPr>
          <a:xfrm rot="8524200">
            <a:off x="2898000" y="1087200"/>
            <a:ext cx="1252440" cy="795240"/>
          </a:xfrm>
          <a:custGeom>
            <a:avLst/>
            <a:gdLst/>
            <a:ahLst/>
            <a:rect l="l" t="t" r="r" b="b"/>
            <a:pathLst>
              <a:path stroke="0" w="1253094" h="795803">
                <a:moveTo>
                  <a:pt x="626547" y="0"/>
                </a:moveTo>
                <a:cubicBezTo>
                  <a:pt x="972579" y="0"/>
                  <a:pt x="1253094" y="178147"/>
                  <a:pt x="1253094" y="397902"/>
                </a:cubicBezTo>
                <a:lnTo>
                  <a:pt x="626547" y="397902"/>
                </a:lnTo>
                <a:lnTo>
                  <a:pt x="626547" y="0"/>
                </a:lnTo>
                <a:close/>
              </a:path>
              <a:path fill="none" w="1253094" h="795803">
                <a:moveTo>
                  <a:pt x="626547" y="0"/>
                </a:moveTo>
                <a:cubicBezTo>
                  <a:pt x="972579" y="0"/>
                  <a:pt x="1253094" y="178147"/>
                  <a:pt x="125309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4500720" y="42876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C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углами при вершинах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0"/>
          <p:cNvSpPr/>
          <p:nvPr/>
        </p:nvSpPr>
        <p:spPr>
          <a:xfrm>
            <a:off x="4572000" y="1785960"/>
            <a:ext cx="4000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285840" y="285840"/>
            <a:ext cx="2500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ТЕОРЕ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Calibri"/>
              </a:rPr>
              <a:t>Сумма углов треуголь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Calibri"/>
              </a:rPr>
              <a:t>равна 180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19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F3B2-43A1-4035-A33C-FE7DDB805D62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22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Дуга 9"/>
          <p:cNvSpPr/>
          <p:nvPr/>
        </p:nvSpPr>
        <p:spPr>
          <a:xfrm rot="8524200">
            <a:off x="2898000" y="1087200"/>
            <a:ext cx="1252440" cy="795240"/>
          </a:xfrm>
          <a:custGeom>
            <a:avLst/>
            <a:gdLst/>
            <a:ahLst/>
            <a:rect l="l" t="t" r="r" b="b"/>
            <a:pathLst>
              <a:path stroke="0" w="1253094" h="795803">
                <a:moveTo>
                  <a:pt x="626547" y="0"/>
                </a:moveTo>
                <a:cubicBezTo>
                  <a:pt x="972579" y="0"/>
                  <a:pt x="1253094" y="178147"/>
                  <a:pt x="1253094" y="397902"/>
                </a:cubicBezTo>
                <a:lnTo>
                  <a:pt x="626547" y="397902"/>
                </a:lnTo>
                <a:lnTo>
                  <a:pt x="626547" y="0"/>
                </a:lnTo>
                <a:close/>
              </a:path>
              <a:path fill="none" w="1253094" h="795803">
                <a:moveTo>
                  <a:pt x="626547" y="0"/>
                </a:moveTo>
                <a:cubicBezTo>
                  <a:pt x="972579" y="0"/>
                  <a:pt x="1253094" y="178147"/>
                  <a:pt x="125309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5214960" y="185724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1) Через вершину </a:t>
            </a:r>
            <a:r>
              <a:rPr b="0" i="1" lang="en-US" sz="2400" spc="-1" strike="noStrike">
                <a:solidFill>
                  <a:srgbClr val="953735"/>
                </a:solidFill>
                <a:latin typeface="Calibri"/>
              </a:rPr>
              <a:t>B </a:t>
            </a: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проводим прямую </a:t>
            </a:r>
            <a:r>
              <a:rPr b="0" i="1" lang="en-US" sz="2400" spc="-1" strike="noStrike">
                <a:solidFill>
                  <a:srgbClr val="953735"/>
                </a:solidFill>
                <a:latin typeface="Calibri"/>
              </a:rPr>
              <a:t>m||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23"/>
          <p:cNvSpPr/>
          <p:nvPr/>
        </p:nvSpPr>
        <p:spPr>
          <a:xfrm>
            <a:off x="642960" y="1428840"/>
            <a:ext cx="671508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857160" y="785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20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1A18-E1F4-4F70-9104-A6862A3CAFCE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21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Дуга 9"/>
          <p:cNvSpPr/>
          <p:nvPr/>
        </p:nvSpPr>
        <p:spPr>
          <a:xfrm rot="8524200">
            <a:off x="2903040" y="1103040"/>
            <a:ext cx="1200240" cy="795240"/>
          </a:xfrm>
          <a:custGeom>
            <a:avLst/>
            <a:gdLst/>
            <a:ahLst/>
            <a:rect l="l" t="t" r="r" b="b"/>
            <a:pathLst>
              <a:path stroke="0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  <a:lnTo>
                  <a:pt x="599687" y="397902"/>
                </a:lnTo>
                <a:lnTo>
                  <a:pt x="599687" y="0"/>
                </a:lnTo>
                <a:close/>
              </a:path>
              <a:path fill="none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23"/>
          <p:cNvSpPr/>
          <p:nvPr/>
        </p:nvSpPr>
        <p:spPr>
          <a:xfrm>
            <a:off x="642960" y="1428840"/>
            <a:ext cx="671508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857160" y="785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5500800" y="2071800"/>
            <a:ext cx="314316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2) 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Прямая 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m 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образует со стороной  треугольника 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AB 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угол 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el-GR" sz="2000" spc="-1" strike="noStrike">
                <a:solidFill>
                  <a:srgbClr val="953735"/>
                </a:solidFill>
                <a:latin typeface="Calibri"/>
              </a:rPr>
              <a:t>δ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, а со стороной  треугольника 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B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С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угол </a:t>
            </a:r>
            <a:r>
              <a:rPr b="0" i="1" lang="el-GR" sz="2000" spc="-1" strike="noStrike">
                <a:solidFill>
                  <a:srgbClr val="953735"/>
                </a:solidFill>
                <a:latin typeface="Calibri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Дуга 21"/>
          <p:cNvSpPr/>
          <p:nvPr/>
        </p:nvSpPr>
        <p:spPr>
          <a:xfrm rot="11653800">
            <a:off x="2298240" y="914400"/>
            <a:ext cx="1400400" cy="1434960"/>
          </a:xfrm>
          <a:custGeom>
            <a:avLst/>
            <a:gdLst/>
            <a:ahLst/>
            <a:rect l="l" t="t" r="r" b="b"/>
            <a:pathLst>
              <a:path stroke="0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  <a:lnTo>
                  <a:pt x="699687" y="717753"/>
                </a:lnTo>
                <a:cubicBezTo>
                  <a:pt x="699687" y="478502"/>
                  <a:pt x="699686" y="239251"/>
                  <a:pt x="699686" y="0"/>
                </a:cubicBezTo>
                <a:close/>
              </a:path>
              <a:path fill="none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Дуга 22"/>
          <p:cNvSpPr/>
          <p:nvPr/>
        </p:nvSpPr>
        <p:spPr>
          <a:xfrm rot="3558000">
            <a:off x="3372480" y="1054800"/>
            <a:ext cx="1332000" cy="1533600"/>
          </a:xfrm>
          <a:custGeom>
            <a:avLst/>
            <a:gdLst/>
            <a:ahLst/>
            <a:rect l="l" t="t" r="r" b="b"/>
            <a:pathLst>
              <a:path stroke="0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  <a:lnTo>
                  <a:pt x="666485" y="766615"/>
                </a:lnTo>
                <a:cubicBezTo>
                  <a:pt x="666485" y="511077"/>
                  <a:pt x="666484" y="255538"/>
                  <a:pt x="666484" y="0"/>
                </a:cubicBezTo>
                <a:close/>
              </a:path>
              <a:path fill="none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1857240" y="1643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4786200" y="1571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26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8F4B-4C47-45F8-9AAB-2519DF542180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27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уга 9"/>
          <p:cNvSpPr/>
          <p:nvPr/>
        </p:nvSpPr>
        <p:spPr>
          <a:xfrm rot="8524200">
            <a:off x="2903040" y="1103040"/>
            <a:ext cx="1200240" cy="795240"/>
          </a:xfrm>
          <a:custGeom>
            <a:avLst/>
            <a:gdLst/>
            <a:ahLst/>
            <a:rect l="l" t="t" r="r" b="b"/>
            <a:pathLst>
              <a:path stroke="0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  <a:lnTo>
                  <a:pt x="599687" y="397902"/>
                </a:lnTo>
                <a:lnTo>
                  <a:pt x="599687" y="0"/>
                </a:lnTo>
                <a:close/>
              </a:path>
              <a:path fill="none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23"/>
          <p:cNvSpPr/>
          <p:nvPr/>
        </p:nvSpPr>
        <p:spPr>
          <a:xfrm>
            <a:off x="642960" y="1428840"/>
            <a:ext cx="671508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857160" y="785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5572080" y="1428840"/>
            <a:ext cx="3357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3</a:t>
            </a:r>
            <a:r>
              <a:rPr b="0" i="1" lang="en-US" sz="4000" spc="-1" strike="noStrike">
                <a:solidFill>
                  <a:srgbClr val="984807"/>
                </a:solidFill>
                <a:latin typeface="Calibri"/>
              </a:rPr>
              <a:t>)</a:t>
            </a: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 &lt; </a:t>
            </a:r>
            <a:r>
              <a:rPr b="0" lang="el-GR" sz="4000" spc="-1" strike="noStrike">
                <a:solidFill>
                  <a:srgbClr val="984807"/>
                </a:solidFill>
                <a:latin typeface="Calibri"/>
              </a:rPr>
              <a:t>δ</a:t>
            </a: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=</a:t>
            </a: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 &lt; </a:t>
            </a:r>
            <a:r>
              <a:rPr b="0" lang="el-GR" sz="4000" spc="-1" strike="noStrike">
                <a:solidFill>
                  <a:srgbClr val="984807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     </a:t>
            </a: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&lt; </a:t>
            </a:r>
            <a:r>
              <a:rPr b="0" lang="el-GR" sz="4000" spc="-1" strike="noStrike">
                <a:solidFill>
                  <a:srgbClr val="984807"/>
                </a:solidFill>
                <a:latin typeface="Calibri"/>
              </a:rPr>
              <a:t>ε</a:t>
            </a: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=</a:t>
            </a: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 &lt; </a:t>
            </a:r>
            <a:r>
              <a:rPr b="0" lang="el-GR" sz="4000" spc="-1" strike="noStrike">
                <a:solidFill>
                  <a:srgbClr val="984807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как внутренние накрест лежащ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Дуга 21"/>
          <p:cNvSpPr/>
          <p:nvPr/>
        </p:nvSpPr>
        <p:spPr>
          <a:xfrm rot="11653800">
            <a:off x="2298240" y="914400"/>
            <a:ext cx="1400400" cy="1434960"/>
          </a:xfrm>
          <a:custGeom>
            <a:avLst/>
            <a:gdLst/>
            <a:ahLst/>
            <a:rect l="l" t="t" r="r" b="b"/>
            <a:pathLst>
              <a:path stroke="0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  <a:lnTo>
                  <a:pt x="699687" y="717753"/>
                </a:lnTo>
                <a:cubicBezTo>
                  <a:pt x="699687" y="478502"/>
                  <a:pt x="699686" y="239251"/>
                  <a:pt x="699686" y="0"/>
                </a:cubicBezTo>
                <a:close/>
              </a:path>
              <a:path fill="none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Дуга 22"/>
          <p:cNvSpPr/>
          <p:nvPr/>
        </p:nvSpPr>
        <p:spPr>
          <a:xfrm rot="3558000">
            <a:off x="3372480" y="1054800"/>
            <a:ext cx="1332000" cy="1533600"/>
          </a:xfrm>
          <a:custGeom>
            <a:avLst/>
            <a:gdLst/>
            <a:ahLst/>
            <a:rect l="l" t="t" r="r" b="b"/>
            <a:pathLst>
              <a:path stroke="0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  <a:lnTo>
                  <a:pt x="666485" y="766615"/>
                </a:lnTo>
                <a:cubicBezTo>
                  <a:pt x="666485" y="511077"/>
                  <a:pt x="666484" y="255538"/>
                  <a:pt x="666484" y="0"/>
                </a:cubicBezTo>
                <a:close/>
              </a:path>
              <a:path fill="none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4"/>
          <p:cNvSpPr/>
          <p:nvPr/>
        </p:nvSpPr>
        <p:spPr>
          <a:xfrm>
            <a:off x="1857240" y="1643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5"/>
          <p:cNvSpPr/>
          <p:nvPr/>
        </p:nvSpPr>
        <p:spPr>
          <a:xfrm>
            <a:off x="4786200" y="1571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26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4548-5225-4D04-8600-F4383BDDB4F7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27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уга 9"/>
          <p:cNvSpPr/>
          <p:nvPr/>
        </p:nvSpPr>
        <p:spPr>
          <a:xfrm rot="8524200">
            <a:off x="2903040" y="1103040"/>
            <a:ext cx="1200240" cy="795240"/>
          </a:xfrm>
          <a:custGeom>
            <a:avLst/>
            <a:gdLst/>
            <a:ahLst/>
            <a:rect l="l" t="t" r="r" b="b"/>
            <a:pathLst>
              <a:path stroke="0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  <a:lnTo>
                  <a:pt x="599687" y="397902"/>
                </a:lnTo>
                <a:lnTo>
                  <a:pt x="599687" y="0"/>
                </a:lnTo>
                <a:close/>
              </a:path>
              <a:path fill="none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3"/>
          <p:cNvSpPr/>
          <p:nvPr/>
        </p:nvSpPr>
        <p:spPr>
          <a:xfrm>
            <a:off x="642960" y="1428840"/>
            <a:ext cx="671508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857160" y="785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Дуга 21"/>
          <p:cNvSpPr/>
          <p:nvPr/>
        </p:nvSpPr>
        <p:spPr>
          <a:xfrm rot="11653800">
            <a:off x="2298240" y="914400"/>
            <a:ext cx="1400400" cy="1434960"/>
          </a:xfrm>
          <a:custGeom>
            <a:avLst/>
            <a:gdLst/>
            <a:ahLst/>
            <a:rect l="l" t="t" r="r" b="b"/>
            <a:pathLst>
              <a:path stroke="0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  <a:lnTo>
                  <a:pt x="699687" y="717753"/>
                </a:lnTo>
                <a:cubicBezTo>
                  <a:pt x="699687" y="478502"/>
                  <a:pt x="699686" y="239251"/>
                  <a:pt x="699686" y="0"/>
                </a:cubicBezTo>
                <a:close/>
              </a:path>
              <a:path fill="none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Дуга 22"/>
          <p:cNvSpPr/>
          <p:nvPr/>
        </p:nvSpPr>
        <p:spPr>
          <a:xfrm rot="3558000">
            <a:off x="3372480" y="1054800"/>
            <a:ext cx="1332000" cy="1533600"/>
          </a:xfrm>
          <a:custGeom>
            <a:avLst/>
            <a:gdLst/>
            <a:ahLst/>
            <a:rect l="l" t="t" r="r" b="b"/>
            <a:pathLst>
              <a:path stroke="0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  <a:lnTo>
                  <a:pt x="666485" y="766615"/>
                </a:lnTo>
                <a:cubicBezTo>
                  <a:pt x="666485" y="511077"/>
                  <a:pt x="666484" y="255538"/>
                  <a:pt x="666484" y="0"/>
                </a:cubicBezTo>
                <a:close/>
              </a:path>
              <a:path fill="none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857240" y="1643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4786200" y="1571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392904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4) Но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&lt; </a:t>
            </a:r>
            <a:r>
              <a:rPr b="0" lang="el-GR" sz="3200" spc="-1" strike="noStrike">
                <a:solidFill>
                  <a:srgbClr val="0070c0"/>
                </a:solidFill>
                <a:latin typeface="Calibri"/>
              </a:rPr>
              <a:t>δ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+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&lt;</a:t>
            </a:r>
            <a:r>
              <a:rPr b="0" lang="el-GR" sz="32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+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&lt; </a:t>
            </a:r>
            <a:r>
              <a:rPr b="0" lang="el-GR" sz="3200" spc="-1" strike="noStrike">
                <a:solidFill>
                  <a:srgbClr val="0070c0"/>
                </a:solidFill>
                <a:latin typeface="Calibri"/>
              </a:rPr>
              <a:t>ε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= 180°, </a:t>
            </a: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СЛЕДОВАТЕЛЬНО:</a:t>
            </a: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1500120" y="40719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&lt; 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 &lt;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 &lt; 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γ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=180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2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2EDA-F255-467F-BB45-F7B6D85BBBFC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ижний колонтитул 29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extBox 1" descr=""/>
          <p:cNvPicPr/>
          <p:nvPr/>
        </p:nvPicPr>
        <p:blipFill>
          <a:blip r:embed="rId1"/>
          <a:stretch/>
        </p:blipFill>
        <p:spPr>
          <a:xfrm>
            <a:off x="334800" y="171360"/>
            <a:ext cx="7875720" cy="5175360"/>
          </a:xfrm>
          <a:prstGeom prst="rect">
            <a:avLst/>
          </a:prstGeom>
          <a:ln w="0">
            <a:noFill/>
          </a:ln>
        </p:spPr>
      </p:pic>
      <p:sp>
        <p:nvSpPr>
          <p:cNvPr id="146" name="Номер слайда 2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EA58-14C4-47AF-8C11-654D19374111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ижний колонтитул 3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58:36Z</dcterms:created>
  <dc:creator>Елизавета</dc:creator>
  <dc:description/>
  <dc:language>en-US</dc:language>
  <cp:lastModifiedBy>Пользователь</cp:lastModifiedBy>
  <dcterms:modified xsi:type="dcterms:W3CDTF">2013-07-18T09:11:10Z</dcterms:modified>
  <cp:revision>37</cp:revision>
  <dc:subject/>
  <dc:title>Слайд 1</dc:title>
</cp:coreProperties>
</file>