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C4D0-A436-459E-B688-27E54D1A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8C36-150A-4668-9BE5-A54A0ABA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A5A6-FFCD-42BB-9AAB-5D036030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F063-FC9F-4E6F-9B9B-19173DC7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AA8-3994-4455-8E1A-5CB090E3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9CB6-7083-4906-9F81-2E84881A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6BD4-2712-4A0E-BD33-C4039F9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1AA-F229-4243-8AF0-6F35FE4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A597-5F98-43FC-BE74-E5AF0630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ED46-60CB-42E0-9868-1FD8A10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EE5C-3284-41F1-B37F-BB03463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7F26-6C26-4E83-B8E0-21CB5256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C040-226E-4EA8-8A1A-BD066129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DF25-79DE-4EB1-92ED-1852AF4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0ACC-47EF-49C0-A6DC-8915E503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2109-7854-4C1B-AD92-BC6F55C6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7AC4-A263-48C7-A960-4062E30E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AF02-DAFB-4058-BBF5-C42EEE33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5445-DEA9-43D9-8649-1BC67220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5603-67F7-4160-B2E2-ADD0BA4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29DE-1328-4F79-AEBF-211F3359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7A8E-19FE-48B2-8E25-F0AECCE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7342-0D85-4F37-84D4-E58A158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A77E-0522-4711-BDA6-D9DC5556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D46-209F-4D4A-BB8C-66C718358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6038-308B-4D11-877C-71D410D948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зобретение телефон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ицын Владим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лександр Бел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Picture 15" descr="bell"/>
          <p:cNvPicPr/>
          <p:nvPr/>
        </p:nvPicPr>
        <p:blipFill>
          <a:blip r:embed="rId1"/>
          <a:stretch/>
        </p:blipFill>
        <p:spPr>
          <a:xfrm>
            <a:off x="2484360" y="981000"/>
            <a:ext cx="415152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вая телефонная ли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Picture 7" descr="2044_82b"/>
          <p:cNvPicPr/>
          <p:nvPr/>
        </p:nvPicPr>
        <p:blipFill>
          <a:blip r:embed="rId1"/>
          <a:stretch/>
        </p:blipFill>
        <p:spPr>
          <a:xfrm>
            <a:off x="2916360" y="1484280"/>
            <a:ext cx="3262320" cy="518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лассический 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Picture 7" descr="682017"/>
          <p:cNvPicPr/>
          <p:nvPr/>
        </p:nvPicPr>
        <p:blipFill>
          <a:blip r:embed="rId1"/>
          <a:stretch/>
        </p:blipFill>
        <p:spPr>
          <a:xfrm>
            <a:off x="2771640" y="1268280"/>
            <a:ext cx="360072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лефон-автома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5" descr="673030"/>
          <p:cNvPicPr/>
          <p:nvPr/>
        </p:nvPicPr>
        <p:blipFill>
          <a:blip r:embed="rId1"/>
          <a:stretch/>
        </p:blipFill>
        <p:spPr>
          <a:xfrm>
            <a:off x="2771640" y="1268280"/>
            <a:ext cx="358308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нопочный 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5" descr="682082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адио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Picture 5" descr="mobile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60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вые сотовые телефо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6" descr="b_640"/>
          <p:cNvPicPr/>
          <p:nvPr/>
        </p:nvPicPr>
        <p:blipFill>
          <a:blip r:embed="rId1"/>
          <a:stretch/>
        </p:blipFill>
        <p:spPr>
          <a:xfrm>
            <a:off x="2700360" y="1773360"/>
            <a:ext cx="3682800" cy="3743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b_7110"/>
          <p:cNvPicPr/>
          <p:nvPr/>
        </p:nvPicPr>
        <p:blipFill>
          <a:blip r:embed="rId2"/>
          <a:stretch/>
        </p:blipFill>
        <p:spPr>
          <a:xfrm>
            <a:off x="5460840" y="1773360"/>
            <a:ext cx="3683160" cy="3743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b_8310"/>
          <p:cNvPicPr/>
          <p:nvPr/>
        </p:nvPicPr>
        <p:blipFill>
          <a:blip r:embed="rId3"/>
          <a:stretch/>
        </p:blipFill>
        <p:spPr>
          <a:xfrm>
            <a:off x="0" y="1773360"/>
            <a:ext cx="35607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овременные сотовые телеф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0" descr="b_E61"/>
          <p:cNvPicPr/>
          <p:nvPr/>
        </p:nvPicPr>
        <p:blipFill>
          <a:blip r:embed="rId1"/>
          <a:stretch/>
        </p:blipFill>
        <p:spPr>
          <a:xfrm>
            <a:off x="3348000" y="1700280"/>
            <a:ext cx="2286000" cy="3682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b_7710"/>
          <p:cNvPicPr/>
          <p:nvPr/>
        </p:nvPicPr>
        <p:blipFill>
          <a:blip r:embed="rId2"/>
          <a:stretch/>
        </p:blipFill>
        <p:spPr>
          <a:xfrm>
            <a:off x="5580000" y="1700280"/>
            <a:ext cx="3564000" cy="3682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b_9300"/>
          <p:cNvPicPr/>
          <p:nvPr/>
        </p:nvPicPr>
        <p:blipFill>
          <a:blip r:embed="rId3"/>
          <a:stretch/>
        </p:blipFill>
        <p:spPr>
          <a:xfrm>
            <a:off x="0" y="1700280"/>
            <a:ext cx="3348000" cy="368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7:09:07Z</dcterms:created>
  <dc:creator>Лисицына</dc:creator>
  <dc:description/>
  <dc:language>en-US</dc:language>
  <cp:lastModifiedBy>Коля</cp:lastModifiedBy>
  <dcterms:modified xsi:type="dcterms:W3CDTF">2013-07-19T10:56:49Z</dcterms:modified>
  <cp:revision>4</cp:revision>
  <dc:subject/>
  <dc:title>Изобретение телефона</dc:title>
</cp:coreProperties>
</file>