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893B5-DD86-4965-8F6B-B853BBCB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E2CF-4B5E-4BAB-B354-78A05E0E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61E4D-F939-4C01-B987-BF54C289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9E06-6FA1-4484-8C90-C4F38000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EE8B-6C7C-48F9-8BD6-9FB00977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7FFC-19BB-430E-9085-84E2CD30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5D82-F6C5-423A-BC13-DB614696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C49C-F952-42EE-B8B8-8067309F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A24B-943E-4964-8558-BCBC2006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2B42-EB65-464C-9662-643FD7A4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D964-E128-4684-BF3A-FAA05995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E06B8-8A04-4A38-BB55-B3A2EEC6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9597-63B8-4889-A580-E7756139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265D-3841-4AB1-BA38-BC672905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B0B9-7F59-44C0-BE39-09E363FA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477E-31FF-4A64-AE17-DAC93B77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9177-A098-4EC7-A98E-F12DA7B3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57B84-7FDA-4BEA-8A1E-C206A18C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F5B98-E37F-4DA5-9A5B-772750AA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2301E-A5FA-40EA-B3DB-301CDD0F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22F07-D3FC-46BC-BF32-EF2F9AEF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79067-A711-43E8-B4A4-462BCA7A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D5FE4-75A8-4366-9536-BB07DC58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3E31-29CF-4809-B63A-6C4FC002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2FD8-B391-4EFA-A386-BE44968601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BCBD-A21F-4F6C-A083-67AE705EDD5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Изобретение телефона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сицын Владими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Александр Белл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7" name="Picture 15" descr="bell"/>
          <p:cNvPicPr/>
          <p:nvPr/>
        </p:nvPicPr>
        <p:blipFill>
          <a:blip r:embed="rId1"/>
          <a:stretch/>
        </p:blipFill>
        <p:spPr>
          <a:xfrm>
            <a:off x="2484360" y="981000"/>
            <a:ext cx="4151520" cy="5732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ервая телефонная лин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9" name="Picture 7" descr="2044_82b"/>
          <p:cNvPicPr/>
          <p:nvPr/>
        </p:nvPicPr>
        <p:blipFill>
          <a:blip r:embed="rId1"/>
          <a:stretch/>
        </p:blipFill>
        <p:spPr>
          <a:xfrm>
            <a:off x="2916360" y="1484280"/>
            <a:ext cx="3262320" cy="5184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Классический телефон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1" name="Picture 7" descr="682017"/>
          <p:cNvPicPr/>
          <p:nvPr/>
        </p:nvPicPr>
        <p:blipFill>
          <a:blip r:embed="rId1"/>
          <a:stretch/>
        </p:blipFill>
        <p:spPr>
          <a:xfrm>
            <a:off x="2771640" y="1268280"/>
            <a:ext cx="3600720" cy="5400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Телефон-автома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3" name="Picture 5" descr="673030"/>
          <p:cNvPicPr/>
          <p:nvPr/>
        </p:nvPicPr>
        <p:blipFill>
          <a:blip r:embed="rId1"/>
          <a:stretch/>
        </p:blipFill>
        <p:spPr>
          <a:xfrm>
            <a:off x="2771640" y="1268280"/>
            <a:ext cx="3583080" cy="537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68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68" fill="hold"/>
                                        <p:tgtEl>
                                          <p:spTgt spid="5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68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68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Кнопочный телефон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5" name="Picture 5" descr="682082"/>
          <p:cNvPicPr/>
          <p:nvPr/>
        </p:nvPicPr>
        <p:blipFill>
          <a:blip r:embed="rId1"/>
          <a:stretch/>
        </p:blipFill>
        <p:spPr>
          <a:xfrm>
            <a:off x="755640" y="1484280"/>
            <a:ext cx="7777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Радиотелефон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7" name="Picture 5" descr="mobile"/>
          <p:cNvPicPr/>
          <p:nvPr/>
        </p:nvPicPr>
        <p:blipFill>
          <a:blip r:embed="rId1"/>
          <a:stretch/>
        </p:blipFill>
        <p:spPr>
          <a:xfrm>
            <a:off x="826920" y="1700280"/>
            <a:ext cx="7561440" cy="4602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8" dur="2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ервые сотовые телефон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9" name="Picture 6" descr="b_640"/>
          <p:cNvPicPr/>
          <p:nvPr/>
        </p:nvPicPr>
        <p:blipFill>
          <a:blip r:embed="rId1"/>
          <a:stretch/>
        </p:blipFill>
        <p:spPr>
          <a:xfrm>
            <a:off x="2700360" y="1773360"/>
            <a:ext cx="3682800" cy="37432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7" descr="b_7110"/>
          <p:cNvPicPr/>
          <p:nvPr/>
        </p:nvPicPr>
        <p:blipFill>
          <a:blip r:embed="rId2"/>
          <a:stretch/>
        </p:blipFill>
        <p:spPr>
          <a:xfrm>
            <a:off x="5460840" y="1773360"/>
            <a:ext cx="3683160" cy="37432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8" descr="b_8310"/>
          <p:cNvPicPr/>
          <p:nvPr/>
        </p:nvPicPr>
        <p:blipFill>
          <a:blip r:embed="rId3"/>
          <a:stretch/>
        </p:blipFill>
        <p:spPr>
          <a:xfrm>
            <a:off x="0" y="1773360"/>
            <a:ext cx="356076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Современные сотовые телефон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3" name="Picture 10" descr="b_E61"/>
          <p:cNvPicPr/>
          <p:nvPr/>
        </p:nvPicPr>
        <p:blipFill>
          <a:blip r:embed="rId1"/>
          <a:stretch/>
        </p:blipFill>
        <p:spPr>
          <a:xfrm>
            <a:off x="3348000" y="1700280"/>
            <a:ext cx="2286000" cy="36828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1" descr="b_7710"/>
          <p:cNvPicPr/>
          <p:nvPr/>
        </p:nvPicPr>
        <p:blipFill>
          <a:blip r:embed="rId2"/>
          <a:stretch/>
        </p:blipFill>
        <p:spPr>
          <a:xfrm>
            <a:off x="5580000" y="1700280"/>
            <a:ext cx="3564000" cy="36828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2" descr="b_9300"/>
          <p:cNvPicPr/>
          <p:nvPr/>
        </p:nvPicPr>
        <p:blipFill>
          <a:blip r:embed="rId3"/>
          <a:stretch/>
        </p:blipFill>
        <p:spPr>
          <a:xfrm>
            <a:off x="0" y="1700280"/>
            <a:ext cx="3348000" cy="3682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7:09:07Z</dcterms:created>
  <dc:creator>Лисицына</dc:creator>
  <dc:description/>
  <dc:language>en-US</dc:language>
  <cp:lastModifiedBy>Коля</cp:lastModifiedBy>
  <dcterms:modified xsi:type="dcterms:W3CDTF">2013-07-19T10:56:49Z</dcterms:modified>
  <cp:revision>4</cp:revision>
  <dc:subject/>
  <dc:title>Изобретение телефона</dc:title>
</cp:coreProperties>
</file>