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D226-6AA6-4725-AAA2-7E45224F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B807-8DAB-48A6-9E3F-16336394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6074-6E1E-44FF-BF78-018D3C90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7686-B1DF-4FDD-9B5D-352E8132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E0A-E080-49B8-ACEA-FC4CBFA1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31EB-E4DE-468E-8A41-6862CB3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964F-4767-4961-8DA9-9AAD813D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11DB-3F24-4336-B613-FEDD3014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009D-0184-4E1D-9DAD-3D09BB6B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BA8F-9274-404E-BE18-DB318B1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0D02-D5A9-43D9-983E-2CD2EC2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1D34-FCCB-4B71-B74B-23AF3E7A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F5FD-4BEE-4C38-BD0A-EC2D2AA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CD12-A28F-4E63-8CE0-9429882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D413-48C5-4DA6-BE90-D8DA52A3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36A-D1E4-4D88-A617-1B14E79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5C9B-F09E-4CFF-B878-F5478ADE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813B-CB4C-4C69-A3EE-13A73EE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5DAB-6D23-4762-AA72-EC79A40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CF58-779B-4A23-828D-72E4C16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DAE1-9029-40D2-AB22-C6A1DBBB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ABF5-5A82-455A-8851-DC789E7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2146-31AE-4EAC-A5BB-1047A75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8292-9659-40BC-83D5-96E349F3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67BF-51D3-40CB-8077-2B5CE816F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0E04-6272-4425-B5DD-589D23E638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зобретение телефон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ицын Владим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лександр Бел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Picture 15" descr="bell"/>
          <p:cNvPicPr/>
          <p:nvPr/>
        </p:nvPicPr>
        <p:blipFill>
          <a:blip r:embed="rId1"/>
          <a:stretch/>
        </p:blipFill>
        <p:spPr>
          <a:xfrm>
            <a:off x="2484360" y="981000"/>
            <a:ext cx="415152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вая телефонная ли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Picture 7" descr="2044_82b"/>
          <p:cNvPicPr/>
          <p:nvPr/>
        </p:nvPicPr>
        <p:blipFill>
          <a:blip r:embed="rId1"/>
          <a:stretch/>
        </p:blipFill>
        <p:spPr>
          <a:xfrm>
            <a:off x="2916360" y="1484280"/>
            <a:ext cx="3262320" cy="518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лассический 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Picture 7" descr="682017"/>
          <p:cNvPicPr/>
          <p:nvPr/>
        </p:nvPicPr>
        <p:blipFill>
          <a:blip r:embed="rId1"/>
          <a:stretch/>
        </p:blipFill>
        <p:spPr>
          <a:xfrm>
            <a:off x="2771640" y="1268280"/>
            <a:ext cx="360072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лефон-автома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5" descr="673030"/>
          <p:cNvPicPr/>
          <p:nvPr/>
        </p:nvPicPr>
        <p:blipFill>
          <a:blip r:embed="rId1"/>
          <a:stretch/>
        </p:blipFill>
        <p:spPr>
          <a:xfrm>
            <a:off x="2771640" y="1268280"/>
            <a:ext cx="358308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нопочный 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5" descr="682082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адио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Picture 5" descr="mobile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60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вые сотовые телефо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6" descr="b_640"/>
          <p:cNvPicPr/>
          <p:nvPr/>
        </p:nvPicPr>
        <p:blipFill>
          <a:blip r:embed="rId1"/>
          <a:stretch/>
        </p:blipFill>
        <p:spPr>
          <a:xfrm>
            <a:off x="2700360" y="1773360"/>
            <a:ext cx="3682800" cy="3743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b_7110"/>
          <p:cNvPicPr/>
          <p:nvPr/>
        </p:nvPicPr>
        <p:blipFill>
          <a:blip r:embed="rId2"/>
          <a:stretch/>
        </p:blipFill>
        <p:spPr>
          <a:xfrm>
            <a:off x="5460840" y="1773360"/>
            <a:ext cx="3683160" cy="3743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b_8310"/>
          <p:cNvPicPr/>
          <p:nvPr/>
        </p:nvPicPr>
        <p:blipFill>
          <a:blip r:embed="rId3"/>
          <a:stretch/>
        </p:blipFill>
        <p:spPr>
          <a:xfrm>
            <a:off x="0" y="1773360"/>
            <a:ext cx="35607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овременные сотовые телеф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0" descr="b_E61"/>
          <p:cNvPicPr/>
          <p:nvPr/>
        </p:nvPicPr>
        <p:blipFill>
          <a:blip r:embed="rId1"/>
          <a:stretch/>
        </p:blipFill>
        <p:spPr>
          <a:xfrm>
            <a:off x="3348000" y="1700280"/>
            <a:ext cx="2286000" cy="3682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b_7710"/>
          <p:cNvPicPr/>
          <p:nvPr/>
        </p:nvPicPr>
        <p:blipFill>
          <a:blip r:embed="rId2"/>
          <a:stretch/>
        </p:blipFill>
        <p:spPr>
          <a:xfrm>
            <a:off x="5580000" y="1700280"/>
            <a:ext cx="3564000" cy="3682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b_9300"/>
          <p:cNvPicPr/>
          <p:nvPr/>
        </p:nvPicPr>
        <p:blipFill>
          <a:blip r:embed="rId3"/>
          <a:stretch/>
        </p:blipFill>
        <p:spPr>
          <a:xfrm>
            <a:off x="0" y="1700280"/>
            <a:ext cx="3348000" cy="368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7:09:07Z</dcterms:created>
  <dc:creator>Лисицына</dc:creator>
  <dc:description/>
  <dc:language>en-US</dc:language>
  <cp:lastModifiedBy>Коля</cp:lastModifiedBy>
  <dcterms:modified xsi:type="dcterms:W3CDTF">2013-07-19T10:56:49Z</dcterms:modified>
  <cp:revision>4</cp:revision>
  <dc:subject/>
  <dc:title>Изобретение телефона</dc:title>
</cp:coreProperties>
</file>