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8F88-C219-450C-A496-B32A97EB6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4F92-3E60-4A31-BE2D-74DEBAE5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909E-FDD7-4D91-B3A3-18D2D700F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CC16-7D08-4BA9-9DED-39C8A91A7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F6CD-F14F-450C-914F-ADF52698C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A259-C2E7-4B90-A9EC-EBB46E2E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D151D-0AC4-4068-A0F4-ED730A3D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D4FD-CBFA-4F46-AE30-3CA340A0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E4DD-11C6-4ECC-AAF7-1821D689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9430-EC97-414C-AFFA-89C80AEE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A1DF-4A5C-41C8-95F5-C1F313D2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4EFB-D43D-4BBB-BEE6-10E300E4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D366-9D20-4A34-A49C-8E4B5886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18B4-8DC3-42A1-BAEE-C49D6BD3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EACF-4141-4717-A939-AD759F03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27CF-7ACC-4DC8-A676-54D8D6FA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0CA7-3130-4926-9225-571AE1678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5B20-D3E0-49FB-B331-81AB518C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A8B1-1301-475E-A650-00263049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D25A-A3D5-45FE-9D1B-26D1B6F5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12FF-EE24-4D39-ACC4-1F438B63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60CE-34AA-4963-B4AA-2D9913B8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31FA-6FB1-4B9D-867F-09295146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0B08-70C3-4742-822E-B78AEBD1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706D-0C6D-49DA-AB92-454BEDDD2A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F232-1499-4F9C-B893-FFAB861FC3A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ldmoscow.com/tovar/tovr30rus.htmhttp://www.radilov.ru/libr/galoch38.shtml" TargetMode="External"/><Relationship Id="rId2" Type="http://schemas.openxmlformats.org/officeDocument/2006/relationships/hyperlink" Target="http://www.samarasuvenir.ru/products_pictures/lapti_sred.jpg" TargetMode="External"/><Relationship Id="rId3" Type="http://schemas.openxmlformats.org/officeDocument/2006/relationships/hyperlink" Target="http://tellovka.narod.ru/archiv/2003/01-06/img/lapti.jpg" TargetMode="External"/><Relationship Id="rId4" Type="http://schemas.openxmlformats.org/officeDocument/2006/relationships/hyperlink" Target="http://tellovka.narod.ru/archiv/2003/01-06/img/lapti.jpg" TargetMode="External"/><Relationship Id="rId5" Type="http://schemas.openxmlformats.org/officeDocument/2006/relationships/hyperlink" Target="http://tellovka.narod.ru/archiv/2003/01-06/img/lapti.jpg" TargetMode="External"/><Relationship Id="rId6" Type="http://schemas.openxmlformats.org/officeDocument/2006/relationships/hyperlink" Target="http://tellovka.narod.ru/archiv/2003/01-06/img/lapti.jpg" TargetMode="External"/><Relationship Id="rId7" Type="http://schemas.openxmlformats.org/officeDocument/2006/relationships/hyperlink" Target="http://tellovka.narod.ru/archiv/2003/01-06/img/lapti.jpg" TargetMode="External"/><Relationship Id="rId8" Type="http://schemas.openxmlformats.org/officeDocument/2006/relationships/hyperlink" Target="http://tellovka.narod.ru/archiv/2003/01-06/img/lapti.jpg" TargetMode="External"/><Relationship Id="rId9" Type="http://schemas.openxmlformats.org/officeDocument/2006/relationships/hyperlink" Target="http://tellovka.narod.ru/archiv/2003/01-06/img/lapti.jpg" TargetMode="External"/><Relationship Id="rId10" Type="http://schemas.openxmlformats.org/officeDocument/2006/relationships/hyperlink" Target="http://tellovka.narod.ru/archiv/2003/01-06/img/lapti.jpg" TargetMode="External"/><Relationship Id="rId11" Type="http://schemas.openxmlformats.org/officeDocument/2006/relationships/hyperlink" Target="http://tellovka.narod.ru/archiv/2003/01-06/img/lapti.jpg" TargetMode="External"/><Relationship Id="rId12" Type="http://schemas.openxmlformats.org/officeDocument/2006/relationships/hyperlink" Target="http://tellovka.narod.ru/archiv/2003/01-06/img/lapti.jpg" TargetMode="Externa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8"/>
          <p:cNvSpPr/>
          <p:nvPr/>
        </p:nvSpPr>
        <p:spPr>
          <a:xfrm>
            <a:off x="250920" y="255600"/>
            <a:ext cx="8569080" cy="6213600"/>
          </a:xfrm>
          <a:prstGeom prst="flowChartMultidocumen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50560" y="4844520"/>
            <a:ext cx="331308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Автор проек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учитель исто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Поперечная С. 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 rot="16200000">
            <a:off x="6439680" y="2094840"/>
            <a:ext cx="4319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Спасский район, с. Спасское, 2007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900000" y="820800"/>
            <a:ext cx="41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а учебного проек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WordArt 10"/>
          <p:cNvSpPr txBox="1"/>
          <p:nvPr/>
        </p:nvSpPr>
        <p:spPr>
          <a:xfrm>
            <a:off x="539640" y="1596960"/>
            <a:ext cx="6505560" cy="14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селение Дальнего Востока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конце XIX - начале XX вв.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9"/>
          <p:cNvSpPr/>
          <p:nvPr/>
        </p:nvSpPr>
        <p:spPr>
          <a:xfrm>
            <a:off x="468360" y="620640"/>
            <a:ext cx="3672000" cy="863640"/>
          </a:xfrm>
          <a:prstGeom prst="rec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Учебный предмет: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5148360" y="2565360"/>
            <a:ext cx="2952720" cy="1152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Проект дл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11"/>
          <p:cNvSpPr/>
          <p:nvPr/>
        </p:nvSpPr>
        <p:spPr>
          <a:xfrm>
            <a:off x="324000" y="1773360"/>
            <a:ext cx="3887640" cy="475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Исто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Росс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Истор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Российск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Приморь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(региональ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компонен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12"/>
          <p:cNvSpPr/>
          <p:nvPr/>
        </p:nvSpPr>
        <p:spPr>
          <a:xfrm>
            <a:off x="4716360" y="4005360"/>
            <a:ext cx="4032360" cy="1584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чащихс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8 – 9 класс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4"/>
          <p:cNvSpPr/>
          <p:nvPr/>
        </p:nvSpPr>
        <p:spPr>
          <a:xfrm>
            <a:off x="324000" y="549360"/>
            <a:ext cx="4356000" cy="3095640"/>
          </a:xfrm>
          <a:prstGeom prst="flowChartExtra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Наследники истор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ее творц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4643280" y="3573360"/>
            <a:ext cx="4500720" cy="2808360"/>
          </a:xfrm>
          <a:prstGeom prst="flowChartMerg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 чем особенности колониз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Дальнего Востока Росс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аковы историческ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«следы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ереселенцев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3995640" y="62064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сновополагающий вопр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979640" y="566100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блемные вопро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Творческое название проекта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Picture 10" descr="34 рында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113" name="WordArt 13"/>
          <p:cNvSpPr txBox="1"/>
          <p:nvPr/>
        </p:nvSpPr>
        <p:spPr>
          <a:xfrm>
            <a:off x="684360" y="2492280"/>
            <a:ext cx="7775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то нашей истории строки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Цели        и       задачи 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оекта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осво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чащимися основных знаний об особенностях русской колонизац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овладение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кольниками умением проводить исследовательскую работ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воспитание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увства патриотизма, гордости за своих земляков,   за свою малую родин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получить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едения об артефактах конца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Χ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І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Χ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– начала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ΧΧ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ве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  <a:ea typeface="Arial"/>
              </a:rPr>
              <a:t>сдела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выводы об особенностях русской колонизации на территории с. Спасског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  <a:ea typeface="Arial"/>
              </a:rPr>
              <a:t>использовать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нформационные технологии для представления результатов исследов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  <a:ea typeface="Arial"/>
              </a:rPr>
              <a:t>использовать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олученные сведения на уроках истории по теме «Заселение Дальнего Восток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Аннотация проекта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56144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нный проект предназначен для формирования этнологической и краеведческой компетентностей у учащихся 8-9 клас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ект позволяет использовать артефакты и сведения о них на уроках  истории при изучении тем о заселении и освоении Дальнего Востока в конце </a:t>
            </a:r>
            <a:r>
              <a:rPr b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Χ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І</a:t>
            </a:r>
            <a:r>
              <a:rPr b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Χ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– начале </a:t>
            </a:r>
            <a:r>
              <a:rPr b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ΧΧ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века  (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гиональный компонент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хранение исторического наследия, памяти о своих корнях, о своей большой и малой Родине – качества культурного цивилизованного человека.  Исследовательская деятельность воспитывает у  учащихся эти каче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риалы проекта являются дополнительными, фактическими и наглядными сведениями к урокам истории (региональный компонент). В ходе исследовательской деятельности учащимися собираются экспонаты для школьного музе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933360"/>
            <a:ext cx="838512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Результаты исследований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920" y="4652640"/>
            <a:ext cx="7777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зентац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уклеты; Каталог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тоальбо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дактические материал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спонаты для музе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32"/>
          <p:cNvSpPr/>
          <p:nvPr/>
        </p:nvSpPr>
        <p:spPr>
          <a:xfrm>
            <a:off x="900000" y="476280"/>
            <a:ext cx="66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Темы исследований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33"/>
          <p:cNvSpPr/>
          <p:nvPr/>
        </p:nvSpPr>
        <p:spPr>
          <a:xfrm>
            <a:off x="468360" y="1773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34"/>
          <p:cNvSpPr/>
          <p:nvPr/>
        </p:nvSpPr>
        <p:spPr>
          <a:xfrm>
            <a:off x="826920" y="1125360"/>
            <a:ext cx="79930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рия нашего се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е свое ношу с соб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Этапы и сроки проведения проекта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00000" y="1905120"/>
          <a:ext cx="7344000" cy="4572000"/>
        </p:xfrm>
        <a:graphic>
          <a:graphicData uri="http://schemas.openxmlformats.org/drawingml/2006/table">
            <a:tbl>
              <a:tblPr/>
              <a:tblGrid>
                <a:gridCol w="4124520"/>
                <a:gridCol w="2211480"/>
                <a:gridCol w="1008000"/>
              </a:tblGrid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бор темы проекта, вопроса для исследования, выдвижение гипотез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b7"/>
                          </a:solidFill>
                          <a:latin typeface="Arial"/>
                        </a:rPr>
                        <a:t>январь 2006 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3-я недел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эта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здание рабочей группы, распределение обязаннос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b7"/>
                          </a:solidFill>
                          <a:latin typeface="Arial"/>
                        </a:rPr>
                        <a:t>январь 2006 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4-я недел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эта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бор и систематизация материала, осуществление исследовательской 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b7"/>
                          </a:solidFill>
                          <a:latin typeface="Arial"/>
                        </a:rPr>
                        <a:t>февраль 2006 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весь месяц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эта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формление результатов исслед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b7"/>
                          </a:solidFill>
                          <a:latin typeface="Arial"/>
                        </a:rPr>
                        <a:t>март 2006 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-я – 2-я недел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эта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щита прое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b7"/>
                          </a:solidFill>
                          <a:latin typeface="Arial"/>
                        </a:rPr>
                        <a:t>март 2006 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3-я недел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эта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Информационные ресурсы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5215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тлас народов России. История. Обычаи. Территории / Авт.-сост. Ботякова О.А. – СПб.; М., 200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ачурин, А. М. Спасская энциклопедия / А. М. Бачурин. – Спасск-Дальний, 2005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орбачева, Н. К. Памятники и памятные места города Спасска-Дальнего / Н. К. Горбачева. – Спасск-Дальний, 1999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стория Дальнего Востока СССР в эпоху феодализма и капитализма (</a:t>
            </a:r>
            <a:r>
              <a:rPr b="1" lang="el-GR" sz="1400" spc="-1" strike="noStrike">
                <a:solidFill>
                  <a:srgbClr val="ffffff"/>
                </a:solidFill>
                <a:latin typeface="Arial"/>
                <a:ea typeface="Arial"/>
              </a:rPr>
              <a:t>Χ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VII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– февраль 1917 г.) – М.,1990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аеведение / Под ред. А.В. Даринского. – М., 1987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узееведение. Музеи исторического профиля / Под ред. К. Г. Левыкина, В. Херста. – М., 1938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дток А.А., Тригуб Ф.П. Древнейшая история Спасского района.—Спасск-Дальний, 1999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роды европейской части СССР. Т. І / Под ред. В. А. Александрова. – М., 1964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мятники истории и культуры Приморского края ( Материалы к Своду) / Под общ. ред. А. И. Крушанова. – Владивосток, 1991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ff66"/>
                </a:solidFill>
                <a:latin typeface="Arial"/>
              </a:rPr>
              <a:t>История Российского Приморья:мультимедийная хрестоматия. Владивосток, 200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.goldmoscow.com/tovar/tovr30rus.htmhttp://www.radilov.ru/libr/galoch38.s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http://www.samarasuvenir.ru/products_pictures/lapti_sred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ru-RU" sz="14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://</a:t>
            </a:r>
            <a:r>
              <a:rPr b="0" lang="en-US" sz="14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tellovka</a:t>
            </a:r>
            <a:r>
              <a:rPr b="0" lang="ru-RU" sz="14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14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narod</a:t>
            </a:r>
            <a:r>
              <a:rPr b="0" lang="ru-RU" sz="14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.</a:t>
            </a:r>
            <a:r>
              <a:rPr b="0" lang="en-US" sz="1400" spc="-1" strike="noStrike" u="sng">
                <a:solidFill>
                  <a:srgbClr val="99ff66"/>
                </a:solidFill>
                <a:uFillTx/>
                <a:latin typeface="Arial"/>
                <a:hlinkClick r:id="rId8"/>
              </a:rPr>
              <a:t>ru</a:t>
            </a:r>
            <a:r>
              <a:rPr b="0" lang="ru-RU" sz="1400" spc="-1" strike="noStrike" u="sng">
                <a:solidFill>
                  <a:srgbClr val="99ff66"/>
                </a:solidFill>
                <a:uFillTx/>
                <a:latin typeface="Arial"/>
                <a:hlinkClick r:id="rId9"/>
              </a:rPr>
              <a:t>/</a:t>
            </a:r>
            <a:r>
              <a:rPr b="0" lang="en-US" sz="1400" spc="-1" strike="noStrike" u="sng">
                <a:solidFill>
                  <a:srgbClr val="99ff66"/>
                </a:solidFill>
                <a:uFillTx/>
                <a:latin typeface="Arial"/>
                <a:hlinkClick r:id="rId10"/>
              </a:rPr>
              <a:t>archiv</a:t>
            </a:r>
            <a:r>
              <a:rPr b="0" lang="ru-RU" sz="1400" spc="-1" strike="noStrike" u="sng">
                <a:solidFill>
                  <a:srgbClr val="99ff66"/>
                </a:solidFill>
                <a:uFillTx/>
                <a:latin typeface="Arial"/>
                <a:hlinkClick r:id="rId11"/>
              </a:rPr>
              <a:t>/2003/01-06/</a:t>
            </a:r>
            <a:r>
              <a:rPr b="0" lang="en-US" sz="1400" spc="-1" strike="noStrike" u="sng">
                <a:solidFill>
                  <a:srgbClr val="99ff66"/>
                </a:solidFill>
                <a:uFillTx/>
                <a:latin typeface="Arial"/>
                <a:hlinkClick r:id="rId12"/>
              </a:rPr>
              <a:t>img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apti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jpg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http://slavcostum.narod.ru/14shouse1.html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09:00:22Z</dcterms:created>
  <dc:creator>Поперечные</dc:creator>
  <dc:description/>
  <dc:language>en-US</dc:language>
  <cp:lastModifiedBy>Коля</cp:lastModifiedBy>
  <dcterms:modified xsi:type="dcterms:W3CDTF">2013-07-05T11:27:09Z</dcterms:modified>
  <cp:revision>25</cp:revision>
  <dc:subject/>
  <dc:title>Слайд 1</dc:title>
</cp:coreProperties>
</file>