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A1B-DDE2-4105-8B37-C2633686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A92-EC47-479E-BC63-415F6BC5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8B2-CB31-4B2E-A9DD-BF68943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4D5-834B-4654-B2AD-22FCCA58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15AA-012C-4D81-B809-89083405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1354-D400-4C99-A6A6-F406372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5F9E-7EE3-4F4C-AE07-81E2A82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21AA-8C98-48E6-9D45-02BBCF25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EB7F-C6EA-4E03-A093-29C4CF98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3F9-4C62-426A-83B4-1790DC0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E8B-D2EE-46E6-9A7A-E8CD1B2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46A-9E4C-4A90-9571-A0654D8F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8F4A-86B6-4823-B9EA-3678047E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E211-85F2-4E3E-A214-B198469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1834-9138-49B1-B626-80DD7462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7C3F-7D1E-4931-A878-4A3C0022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A068-9AEE-4187-A5C5-DC739CB4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DC4-D016-475E-9C89-4A8C2DA2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BB2-DDED-495D-B6D0-7742F86C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235-FF1A-4007-810F-9F875A91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CD2-ED24-42E1-9537-172CD14B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4EA-04B0-449B-8C4B-1800621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8A02-B599-4A8C-9EA6-412AC61A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43D-83CB-4CF7-B928-7B6746C0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E022-EE3A-4D2D-A0B9-7E1B5896C1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8ED-E4C8-42A1-BBB0-59AA7CF43C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ldmoscow.com/tovar/tovr30rus.htmhttp://www.radilov.ru/libr/galoch38.shtml" TargetMode="External"/><Relationship Id="rId2" Type="http://schemas.openxmlformats.org/officeDocument/2006/relationships/hyperlink" Target="http://www.samarasuvenir.ru/products_pictures/lapti_sred.jpg" TargetMode="External"/><Relationship Id="rId3" Type="http://schemas.openxmlformats.org/officeDocument/2006/relationships/hyperlink" Target="http://tellovka.narod.ru/archiv/2003/01-06/img/lapti.jpg" TargetMode="External"/><Relationship Id="rId4" Type="http://schemas.openxmlformats.org/officeDocument/2006/relationships/hyperlink" Target="http://tellovka.narod.ru/archiv/2003/01-06/img/lapti.jpg" TargetMode="External"/><Relationship Id="rId5" Type="http://schemas.openxmlformats.org/officeDocument/2006/relationships/hyperlink" Target="http://tellovka.narod.ru/archiv/2003/01-06/img/lapti.jpg" TargetMode="External"/><Relationship Id="rId6" Type="http://schemas.openxmlformats.org/officeDocument/2006/relationships/hyperlink" Target="http://tellovka.narod.ru/archiv/2003/01-06/img/lapti.jpg" TargetMode="External"/><Relationship Id="rId7" Type="http://schemas.openxmlformats.org/officeDocument/2006/relationships/hyperlink" Target="http://tellovka.narod.ru/archiv/2003/01-06/img/lapti.jpg" TargetMode="External"/><Relationship Id="rId8" Type="http://schemas.openxmlformats.org/officeDocument/2006/relationships/hyperlink" Target="http://tellovka.narod.ru/archiv/2003/01-06/img/lapti.jpg" TargetMode="External"/><Relationship Id="rId9" Type="http://schemas.openxmlformats.org/officeDocument/2006/relationships/hyperlink" Target="http://tellovka.narod.ru/archiv/2003/01-06/img/lapti.jpg" TargetMode="External"/><Relationship Id="rId10" Type="http://schemas.openxmlformats.org/officeDocument/2006/relationships/hyperlink" Target="http://tellovka.narod.ru/archiv/2003/01-06/img/lapti.jpg" TargetMode="External"/><Relationship Id="rId11" Type="http://schemas.openxmlformats.org/officeDocument/2006/relationships/hyperlink" Target="http://tellovka.narod.ru/archiv/2003/01-06/img/lapti.jpg" TargetMode="External"/><Relationship Id="rId12" Type="http://schemas.openxmlformats.org/officeDocument/2006/relationships/hyperlink" Target="http://tellovka.narod.ru/archiv/2003/01-06/img/lapti.jpg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8"/>
          <p:cNvSpPr/>
          <p:nvPr/>
        </p:nvSpPr>
        <p:spPr>
          <a:xfrm>
            <a:off x="250920" y="255600"/>
            <a:ext cx="8569080" cy="62136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0560" y="4844520"/>
            <a:ext cx="331308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Автор проек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перечная С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 rot="16200000">
            <a:off x="6439680" y="2094840"/>
            <a:ext cx="43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Arial"/>
              </a:rPr>
              <a:t>Спасский район, с. Спасское, 2007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82080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учеб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539640" y="1596960"/>
            <a:ext cx="650556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селение Дальнего Восток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нце XIX - начале XX вв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468360" y="620640"/>
            <a:ext cx="3672000" cy="86364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Учебный предмет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148360" y="2565360"/>
            <a:ext cx="2952720" cy="1152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роект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324000" y="1773360"/>
            <a:ext cx="3887640" cy="475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оссий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риморь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(регион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омпоне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4716360" y="4005360"/>
            <a:ext cx="4032360" cy="1584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чащих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8 – 9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324000" y="549360"/>
            <a:ext cx="4356000" cy="3095640"/>
          </a:xfrm>
          <a:prstGeom prst="flowChartExtra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следники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ее творц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643280" y="3573360"/>
            <a:ext cx="4500720" cy="2808360"/>
          </a:xfrm>
          <a:prstGeom prst="flowChartMerg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 чем особенности коло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альнего Востока Ро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вы истор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сле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реселенце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99564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сновополагающий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979640" y="5661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облемные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ворческое название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0" descr="34 рында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3"/>
          <p:cNvSpPr txBox="1"/>
          <p:nvPr/>
        </p:nvSpPr>
        <p:spPr>
          <a:xfrm>
            <a:off x="684360" y="2492280"/>
            <a:ext cx="777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 нашей истории строк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и        и       задачи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сво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мися основных знаний об особенностях русской колониз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овладе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ьниками умением проводить исследовательскую рабо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оспитание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а патриотизма, гордости за своих земляков,   за свою малую ро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лучи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дения об артефактах конца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І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ачала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Χ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е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сдел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ыводы об особенностях русской колонизации на территории с. Спасского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использова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онные технологии для представления результатов иссле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  <a:ea typeface="Arial"/>
              </a:rPr>
              <a:t>использовать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лученные сведения на уроках истории по теме «Заселение Дальнего Восто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Аннотация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561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ный проект предназначен для формирования этнологической и краеведческой компетентностей у учащихся 8-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ект позволяет использовать артефакты и сведения о них на уроках  истории при изучении тем о заселении и освоении Дальнего Востока в конце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І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начале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ΧΧ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века  (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гиональный компонент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хранение исторического наследия, памяти о своих корнях, о своей большой и малой Родине – качества культурного цивилизованного человека.  Исследовательская деятельность воспитывает у  учащихся эти ка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ы проекта являются дополнительными, фактическими и наглядными сведениями к урокам истории (региональный компонент). В ходе исследовательской деятельности учащимися собираются экспонаты для школьного муз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933360"/>
            <a:ext cx="83851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Результаты исследований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465264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зент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клеты; Катало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тоальб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е материал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онаты для музе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900000" y="47628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емы исследований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68360" y="177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26920" y="1125360"/>
            <a:ext cx="79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нашего с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свое ношу с соб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апы и сроки проведения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905120"/>
          <a:ext cx="7344000" cy="4572000"/>
        </p:xfrm>
        <a:graphic>
          <a:graphicData uri="http://schemas.openxmlformats.org/drawingml/2006/table">
            <a:tbl>
              <a:tblPr/>
              <a:tblGrid>
                <a:gridCol w="4124520"/>
                <a:gridCol w="2211480"/>
                <a:gridCol w="1008000"/>
              </a:tblGrid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бор темы проекта, вопроса для исследования, выдвижение гипотез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январ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рабочей группы, распредел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январ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бор и систематизация материала, осуществление исследовательской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февраль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весь меся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ление результатов исслед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март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-я – 2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щита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b7"/>
                          </a:solidFill>
                          <a:latin typeface="Arial"/>
                        </a:rPr>
                        <a:t>март 2006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-я недел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эта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нформационные ресурс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5215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тлас народов России. История. Обычаи. Территории / Авт.-сост. Ботякова О.А. – СПб.; М., 200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ачурин, А. М. Спасская энциклопедия / А. М. Бачурин. – Спасск-Дальний, 200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бачева, Н. К. Памятники и памятные места города Спасска-Дальнего / Н. К. Горбачева. – Спасск-Дальний, 1999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тория Дальнего Востока СССР в эпоху феодализма и капитализма (</a:t>
            </a:r>
            <a:r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Χ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II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– февраль 1917 г.) – М.,199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еведение / Под ред. А.В. Даринского. – М., 1987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зееведение. Музеи исторического профиля / Под ред. К. Г. Левыкина, В. Херста. – М., 1938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дток А.А., Тригуб Ф.П. Древнейшая история Спасского района.—Спасск-Дальний, 1999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роды европейской части СССР. Т. І / Под ред. В. А. Александрова. – М., 1964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мятники истории и культуры Приморского края ( Материалы к Своду) / Под общ. ред. А. И. Крушанова. – Владивосток, 1991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ff66"/>
                </a:solidFill>
                <a:latin typeface="Arial"/>
              </a:rPr>
              <a:t>История Российского Приморья:мультимедийная хрестоматия. Владивосток, 200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goldmoscow.com/tovar/tovr30rus.htmhttp://www.radilov.ru/libr/galoch38.s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samarasuvenir.ru/products_pictures/lapti_sred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tellovka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narod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ru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archiv</a:t>
            </a:r>
            <a:r>
              <a:rPr b="0" lang="ru-RU" sz="14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/2003/01-06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img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apti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pg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http://slavcostum.narod.ru/14shouse1.html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9:00:22Z</dcterms:created>
  <dc:creator>Поперечные</dc:creator>
  <dc:description/>
  <dc:language>en-US</dc:language>
  <cp:lastModifiedBy>Коля</cp:lastModifiedBy>
  <dcterms:modified xsi:type="dcterms:W3CDTF">2013-07-05T11:27:09Z</dcterms:modified>
  <cp:revision>25</cp:revision>
  <dc:subject/>
  <dc:title>Слайд 1</dc:title>
</cp:coreProperties>
</file>