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46888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BD3-3139-499C-91E6-918CB2DD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137-EEB5-4850-9412-9C9DFE7C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BC4-5E10-4AEC-AA83-E90417A0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506-45F7-4B09-AB70-17F324B0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B65-7679-4B6F-B43E-2A09D555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1F9-3A92-4CFF-94D4-C27E9BA9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593-56A9-4F7A-B729-4867FB68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C3D-34B3-4353-BAEB-E83CC404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003-1A9E-4BEA-9B32-50EA34A0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000-110B-4AC7-B0F2-7A7C1B3A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722-BE14-4248-A8ED-18896751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761-45F1-4D98-ABB6-C269FD95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1425-C43F-48F1-9834-78F79FA68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Порядок монтажа бал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Геодезическая проверка отметок и положения опорных площад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Нанесение рисок на балк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Такелажная оснаст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Строповка с помощью траверсы или захва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Подъем и наводка на мест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Вывер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Постоянное закрепление (сварк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Расстропов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Конвейерная сборка и крупноблочный монтаж покрытий промзд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4864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– схема конвейера укрупнительной сборки и монтажа блоков покрыт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 – конструкция блока покрыт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– расположение блока на тележ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 – подъем и размещение блока на установщи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 – подача блоков к заданному мес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8600" y="1143000"/>
          <a:ext cx="52578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43000"/>
                    <a:ext cx="5257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Оболочки со сложной криволинейной поверхность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04920" y="289548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595800" y="5375160"/>
            <a:ext cx="47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особы монтаж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борка на уровне зем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борка на проектных отмет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хема монтажа оболочки 18Х18 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– травер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– оболоч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– кра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– кружала для сборки оболоч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– подм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70000" y="1219320"/>
          <a:ext cx="50641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1219320"/>
                    <a:ext cx="5064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сборно - монолитной оболоч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600200"/>
          <a:ext cx="85341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5341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Схемы усиления, демонтажа и монтажа конструкций при реконстру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089000"/>
          <a:ext cx="8229600" cy="57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89000"/>
                    <a:ext cx="8229600" cy="57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Характеристики сверхлегких констру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Сверхлегкие конструкции подразделяются н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духоопор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невмокаркас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нтовые конструкции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Область приме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ернохранилища, теплицы, павильоны, укрытия, опалубки оболочек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Достоин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сокая технологичнос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изкая стоимос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Недостаток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граниченный срок исполь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057400"/>
            <a:ext cx="3886200" cy="4343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057400"/>
            <a:ext cx="3886200" cy="4343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Общий вид воздухоопорных, пневмокаркасных и тентовых конструк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2206800"/>
          <a:ext cx="4495680" cy="43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6800"/>
                    <a:ext cx="4495680" cy="43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648320" y="2209680"/>
          <a:ext cx="4495680" cy="395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09680"/>
                    <a:ext cx="449568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Особенности технологии монтажа сверхлегких покры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Воздухоопорные и пневмокаркасны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кладка свернутой оболоч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епление бор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енное закрепление оттяже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здание избыточного давления;подтягивание и постоянное закрепление оттяж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Тентовые покрыт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ведение карка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нятие оболочки и растягивание ее в проектное положе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крепление оттяжек или оболочки по периметр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828800"/>
            <a:ext cx="8305560" cy="47242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Особенности монтажа конструкций в зимних услов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нтаж фундаментов производить на не замерзшем основа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отвратить образование наледи на конструкци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кладировать конструкции на высоких подкладка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ние для заделки стыков прочного бето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грев сты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Прогрев бетона в стыке с помощью металлической опалуб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4200" y="1981080"/>
          <a:ext cx="3673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1981080"/>
                    <a:ext cx="3673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005440" y="1981080"/>
          <a:ext cx="309564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5440" y="1981080"/>
                    <a:ext cx="3095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96880" y="61372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огрев стыка колон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41720" y="617220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огрев стыка колонны с риге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троповка бал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62120" y="609480"/>
          <a:ext cx="800100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Особенности монтажных работ в условиях жаркого клим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рывы в середине дня для сохранения производительности труда монтажни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ительные перерывы в течении полусме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ход за бетоно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рытие стальных конструкций светоотражающими материал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железобетонных ферм и балок покры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До монтаж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верка правильности установки всех нижележащих  конструкций каркас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несены риски на опорных частях ферм и бал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Монтаж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троповка фермы или балк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нятие и установка ферм или балок в проектное положени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ременное закрепление ферм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сстропов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стоянное закреп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железобетонных фер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95280" y="1523880"/>
          <a:ext cx="6924960" cy="50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924960" cy="50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плит покры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Укладка 1-й плиты в середине проле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Закрепление плиты сваривание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Установка последующей пли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Окончательное закрепление пли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Заделка стыков между плита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троповка плит покры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2971800"/>
          <a:ext cx="7467480" cy="19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1800"/>
                    <a:ext cx="746748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Монтаж стеновых пан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1627200"/>
          <a:ext cx="769644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27200"/>
                    <a:ext cx="769644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Особенности монтажа металлических констру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щита от поврежд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крупн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ременное и постоянное закрепл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ние автоматических захватов для большепролетных конструкц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нтаж высотных конструкций способа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оро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ращива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ращива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хемы захвата металлических констру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14400" y="2259000"/>
          <a:ext cx="769608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59000"/>
                    <a:ext cx="769608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3-09-19T15:20:33Z</dcterms:modified>
  <cp:revision>31</cp:revision>
  <dc:subject/>
  <dc:title>Порядок монтажа подкрановых балок</dc:title>
</cp:coreProperties>
</file>