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468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ED8-7B45-440A-B750-46AA1941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A82-20D9-4D6D-9FD2-0A5AC1F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D07-A5F8-4820-AD37-9B237FD9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2EE-82C4-4C95-8F47-573FD418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250-3542-47E3-9348-600ECAF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138-63CA-469E-92D6-8C3D75A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0F8-F9BD-4631-AC4D-839A78BC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BD4-4142-4D9F-A75B-A0EAF4F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06A-0D1F-4FCA-A1C7-85F2DDCB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4A2-8D2E-44B4-9758-7D3D17D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E5B-8A58-4D77-85BE-2617D0F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5B3-561A-44B1-9641-C411B769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2E5-AA70-4522-BE20-46A6FB88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орядок монтаж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Геодезическая проверка отметок и положения опорных площад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Нанесение рисок на бал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Такелажная оснаст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Строповка с помощью траверсы или захв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дъем и наводка на мест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Вывер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стоянное закрепление (сварк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Расстроп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Конвейерная сборка и крупноблочный монтаж покрытий промзд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– схема конвейера укрупнительной сборки и монтажа блоков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 – конструкция блока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– расположение блока на тележ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 – подъем и размещение блока на установщи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 – подача блоков к заданному ме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143000"/>
          <a:ext cx="52578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525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болочки со сложной криволинейной поверхно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289548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95800" y="537516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ы монтаж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уровне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проектных отмет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а монтажа оболочки 18Х18 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 травер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– оболоч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– кра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– кружала для сборки оболоч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– под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70000" y="1219320"/>
          <a:ext cx="50641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19320"/>
                    <a:ext cx="506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борно - монолитной оболоч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600200"/>
          <a:ext cx="85341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хемы усиления, демонтажа и монтажа конструкций при реконстру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089000"/>
          <a:ext cx="82296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89000"/>
                    <a:ext cx="82296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Характеристики сверхлег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Сверхлегкие конструкции подразделяю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ухоопор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невмокаркас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нтовые конструкции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Область приме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рнохранилища, теплицы, павильоны, укрытия, опалубки оболочек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сокая технологич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зкая стоим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Недостаток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ный срок исполь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бщий вид воздухоопорных, пневмокаркасных и тентовых конструк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206800"/>
          <a:ext cx="449568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6800"/>
                    <a:ext cx="449568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2209680"/>
          <a:ext cx="4495680" cy="395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4956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технологии монтажа сверхлегки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Воздухоопорные и пневмокарк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кладка свернутой оболоч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бор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ное закрепление оттяже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избыточного давления;подтягивание и постоянное закрепление оттяж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Тентовые покрыт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ведение карка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нятие оболочки и растягивание ее в проектное поло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оттяжек или оболочки по перимет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305560" cy="4724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а конструкций в зимни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фундаментов производить на не замерзшем основа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отвратить образование наледи на конструкц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ладировать конструкции на высоких подкладк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для заделки стыков прочного бето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ев сты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огрев бетона в стыке с помощью металлической опалуб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4200" y="1981080"/>
          <a:ext cx="3673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981080"/>
                    <a:ext cx="3673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005440" y="1981080"/>
          <a:ext cx="309564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1981080"/>
                    <a:ext cx="309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96880" y="61372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41720" y="617220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ы с риг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609480"/>
          <a:ext cx="8001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ных работ в условиях жаркого клим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ывы в середине дня для сохранения производительности труда монтаж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ерерывы в течении полус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од за бетон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ие стальных конструкций светоотражающими материа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 и балок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До монтаж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ерка правильности установки всех нижележащих  конструкций карка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несены риски на опорных частях ферм и бал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Монтаж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повка фермы или бал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нятие и установка ферм или балок в проектное полож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еменное закрепление фе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стропов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оянное за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95280" y="1523880"/>
          <a:ext cx="692496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92496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плит покр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кладка 1-й плиты в середине прол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крепление плиты сваривани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становка последующей пли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Окончательное закрепление пли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делка стыков между плит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плит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971800"/>
          <a:ext cx="74674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4674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теновых пан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1627200"/>
          <a:ext cx="769644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27200"/>
                    <a:ext cx="769644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собенности монтаж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ита от поврежд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руп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еменное и постоянное закрепл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автоматических захватов для большепролетных конструк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высотных конструкций способ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о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ащива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ращива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ы захват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2259000"/>
          <a:ext cx="769608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59000"/>
                    <a:ext cx="76960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9-19T15:20:33Z</dcterms:modified>
  <cp:revision>31</cp:revision>
  <dc:subject/>
  <dc:title>Порядок монтажа подкрановых балок</dc:title>
</cp:coreProperties>
</file>