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468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E3C-CAFF-4D75-935A-1B8E6506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E14-87EA-4574-9CE3-836A9A1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26F-3117-478F-AA52-B003B31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A4C-1ED2-4971-89D4-67F3BC6B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923-463E-4CCF-B8A5-76F707B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F0D-C3D6-4022-8001-B0C85FD0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AE4-D0D6-4866-875F-23A40D0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438-8D3C-4251-A722-3B510E5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C79-6700-4EAA-8757-76639477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9D2-73EB-4FFE-A75E-8E3C9E13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86C-E6C5-42CE-9F80-E061ECC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B88-627C-4A7C-8F3F-33917A2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9D78-26EA-401D-B410-C18459C5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орядок монтажа ба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Геодезическая проверка отметок и положения опорных площад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Нанесение рисок на бал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Такелажная оснаст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Строповка с помощью траверсы или захва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Подъем и наводка на мест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Вывер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Постоянное закрепление (сварк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Расстропо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Конвейерная сборка и крупноблочный монтаж покрытий промзд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– схема конвейера укрупнительной сборки и монтажа блоков покры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 – конструкция блока покры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– расположение блока на тележ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 – подъем и размещение блока на установщи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 – подача блоков к заданному мес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143000"/>
          <a:ext cx="52578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525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Оболочки со сложной криволинейной поверхно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289548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95800" y="537516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ы монтаж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орка на уровне зем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орка на проектных отмет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хема монтажа оболочки 18Х18 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– травер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– оболоч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– кра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– кружала для сборки оболоч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– подм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70000" y="1219320"/>
          <a:ext cx="50641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19320"/>
                    <a:ext cx="506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сборно - монолитной оболоч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600200"/>
          <a:ext cx="85341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хемы усиления, демонтажа и монтажа конструкций при реконстру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089000"/>
          <a:ext cx="82296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89000"/>
                    <a:ext cx="82296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Характеристики сверхлег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Сверхлегкие конструкции подразделяю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ухоопор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невмокаркас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нтовые конструкции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Область приме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рнохранилища, теплицы, павильоны, укрытия, опалубки оболочек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сокая технологич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зкая стоим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Недостаток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ченный срок исполь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057400"/>
            <a:ext cx="3886200" cy="4343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057400"/>
            <a:ext cx="3886200" cy="4343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Общий вид воздухоопорных, пневмокаркасных и тентовых конструк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2206800"/>
          <a:ext cx="449568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6800"/>
                    <a:ext cx="449568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2209680"/>
          <a:ext cx="4495680" cy="395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09680"/>
                    <a:ext cx="44956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технологии монтажа сверхлегки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Воздухоопорные и пневмокарк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кладка свернутой оболоч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ление бор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ное закрепление оттяже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избыточного давления;подтягивание и постоянное закрепление оттяж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Тентовые покрыт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ведение карка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нятие оболочки и растягивание ее в проектное поло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ление оттяжек или оболочки по перимет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305560" cy="4724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монтажа конструкций в зимни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нтаж фундаментов производить на не замерзшем основа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отвратить образование наледи на конструкц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ладировать конструкции на высоких подкладк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для заделки стыков прочного бето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ев сты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огрев бетона в стыке с помощью металлической опалуб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4200" y="1981080"/>
          <a:ext cx="3673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981080"/>
                    <a:ext cx="3673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005440" y="1981080"/>
          <a:ext cx="309564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1981080"/>
                    <a:ext cx="309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96880" y="61372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огрев стыка коло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41720" y="617220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огрев стыка колонны с риг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троповка ба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609480"/>
          <a:ext cx="80010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монтажных работ в условиях жаркого клим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ывы в середине дня для сохранения производительности труда монтаж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перерывы в течении полус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ход за бетон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ие стальных конструкций светоотражающими материа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железобетонных ферм и балок покры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До монтаж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ерка правильности установки всех нижележащих  конструкций карка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несены риски на опорных частях ферм и бал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Монтаж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повка фермы или бал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нятие и установка ферм или балок в проектное полож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еменное закрепление фер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стропов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оянное закреп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железобетонных фер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95280" y="1523880"/>
          <a:ext cx="692496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92496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плит покр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Укладка 1-й плиты в середине прол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крепление плиты сваривание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Установка последующей пли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Окончательное закрепление пли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делка стыков между плит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троповка плит покры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2971800"/>
          <a:ext cx="746748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4674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стеновых пан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1627200"/>
          <a:ext cx="769644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27200"/>
                    <a:ext cx="769644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Особенности монтажа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щита от поврежд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руп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еменное и постоянное закрепл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автоматических захватов для большепролетных конструк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нтаж высотных конструкций способ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о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ащива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ращива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хемы захвата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2259000"/>
          <a:ext cx="769608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59000"/>
                    <a:ext cx="76960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9-19T15:20:33Z</dcterms:modified>
  <cp:revision>31</cp:revision>
  <dc:subject/>
  <dc:title>Порядок монтажа подкрановых балок</dc:title>
</cp:coreProperties>
</file>