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44E-5C30-4E2B-BB2B-EF7D7364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9EA-C605-4A68-B5C8-EB89C073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7CF0-187B-4427-8C81-C33E2D6A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B224-6602-4E76-940D-A9FFDC55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0B8F-36F4-4572-BF3D-E50E92AF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91CA-89E3-4E0F-AF11-B176D38E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DEE4-6527-4259-BA99-83654A73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6B32-C5C2-455B-A878-14654E4B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784F-8801-4786-8542-A97B9073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F749-7924-4D0D-AC9F-2B34EC2D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789A-EFAB-4C46-8702-EDD30420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CAA1-8F3F-4AAF-9D96-BC058B40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058F-BB1A-4FA7-A5F0-507AC7F3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8798-93CA-47F0-92B9-38C7C3CD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8F51-3930-4831-9F73-317E49E2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5BB6-7B56-4582-B378-480B5617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5073-700A-4AA2-A962-4D1C5285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0F28-3009-44E0-AC06-DE6B42F2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1E4B-2733-4DB2-8F26-EC03E62A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0F7-EB6F-4571-8A03-B0FF0777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DE89-D237-4409-B11F-0FEA0B09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5DD8-7B70-4075-B327-44DBAD9A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597-0E68-44C0-9335-18ACA8A9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005-A789-47F0-B3AA-9977C083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F465-2F57-453B-A941-0C43EF6A81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1012-2A05-44C3-AAC3-A391035634D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51800" cy="645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Педагогический совет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f7d47d"/>
                </a:solidFill>
                <a:latin typeface="Arial"/>
              </a:rPr>
              <a:t>«Творчество учителя»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Определение уровня сформированности творческой деятельности в МОУ  Заковряшинская сош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-396720" y="2565360"/>
          <a:ext cx="80676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2565360"/>
                    <a:ext cx="80676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аповеди творческой личност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650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.Будь хозяином своей судьбы.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2.Достигни успеха в том, что ты любишь.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3.Внеси свой вклад в конструктивное дел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4.Строй свои отношения с людьми на доверии.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5.Развивай свои творческие способности.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6.Культивируй  в себе смелость.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7.Заботься о своем здоровье.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8.Не теряй веру в себ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бочая группа по подготовке педагогического сове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Шептуля Т. Н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утакова Л.Н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ковряшина Н.Н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Федосеева Л.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765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родный учитель – ваятель духовного мира юной личности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оверенное лицо общества, которому оно вверяет самое дорогое, самое ценное – детей, свою надежду, свое будуще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з «Основных направлений реформы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бщеобразовательной школы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вестка педсове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творчество учителя,  его слагаемы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работа творческих групп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 тренинг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результаты школьного исследова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выступление педагогов-участников конкурс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итоги педсовет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ворчество-создание новых по замыслу культурных или материальных ценносте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ворчество-это научно обоснованный выбор лучшего из возможног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637400" cy="6858000"/>
          </a:xfrm>
          <a:prstGeom prst="rect">
            <a:avLst/>
          </a:prstGeom>
          <a:noFill/>
          <a:ln w="9360">
            <a:solidFill>
              <a:srgbClr val="f7d4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Главные признаки творчеств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                                          </a:t>
            </a: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(М.Поташник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Создание нового или существенное усовершенствование известног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 Оригинальность, неповторимость продукта деятельности, ее результато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. Взаимосвязь творчества и самотворчества, самосозидание, то есть творческий человек постоянно работает над собой, над созданием новог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творческие группы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группа «источники творчества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 группа «условия для творчества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 группа «формы творчества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4 группа «уровни творчеств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сточники творчества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нализ учебно-воспитательного процесс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зучение опыта колле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ение научной литератур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учащихся, собранные учителе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истема перспектив в работ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Условия творчест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равственно-психологический климат коллектив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тимулирование к нестандартным решения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учная организация тру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спользование потребности учителя в самовыражен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атериальная баз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Уровни творчест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владение новыми знаниями, прием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ереосмысление собственной работы в свете новых знан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зработка новых методов, приемов и фор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мение эффективно использовать передовой опы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ысший уровень-создание новой системы обуче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7:28:09Z</dcterms:created>
  <dc:creator>USER4</dc:creator>
  <dc:description/>
  <dc:language>en-US</dc:language>
  <cp:lastModifiedBy>Коля</cp:lastModifiedBy>
  <dcterms:modified xsi:type="dcterms:W3CDTF">2013-04-16T16:54:17Z</dcterms:modified>
  <cp:revision>8</cp:revision>
  <dc:subject/>
  <dc:title>Педагогический совет        «Творчество учителя»</dc:title>
</cp:coreProperties>
</file>