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C03-789F-4D77-9D27-1EB38759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B66-207E-44D9-AAA9-7FAB655F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54C-FC30-4D80-A9C4-CBF9E1DA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11B-EB91-4BE3-AAAE-1D0FB22C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79A-BEF0-47B5-8AD7-7DBB1C9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C26-96E0-49D0-B0C8-656621D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D33D-3F0A-4B37-8A49-F47EB112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27D5-D760-42FD-90BD-FCC928A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9728-A42F-4B21-B7AD-B8F627CF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4D15-07E8-4C1B-9C47-D9A6AA7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009-2E05-480F-8046-4C9DFCC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34F-6303-4093-911E-FEDFB70B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9FD0-EF3C-433E-9DE6-09491E4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C49-D362-44F5-A3A8-F03E561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E76E-337B-416B-B212-1AD85E4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944-CDBB-4DC5-8AED-CFA86AA4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D3A-B372-4A5E-BFDB-220DA0AC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349-B2E0-4E83-AEF4-FC60CDB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F03-C0AA-41D1-BB5E-8B068AF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8CD-17C3-4C88-A548-A4EFD86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713-EB7B-48B3-AB39-CFECBC21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906-16BD-4FEA-8059-DE8FE61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E7E-EADF-4E82-A81B-130D6AF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983-4DA8-417A-8F66-A623280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6A2-BCF5-4C67-898F-5D038B3DF8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C26-4F5E-4FE2-A774-139F68F5F3E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51800" cy="64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едагогический сове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7d47d"/>
                </a:solidFill>
                <a:latin typeface="Arial"/>
              </a:rPr>
              <a:t>«Творчество учителя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пределение уровня сформированности творческой деятельности в МОУ  Заковряшинская сош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-396720" y="2565360"/>
          <a:ext cx="80676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565360"/>
                    <a:ext cx="8067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поведи творческой лич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Будь хозяином своей судьбы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Достигни успеха в том, что ты любиш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Внеси свой вклад в конструктивное дел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Строй свои отношения с людьми на довери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Развивай свои творческие способност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6.Культивируй  в себе смелост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7.Заботься о своем здоровье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8.Не теряй веру в себ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чая группа по подготовке педагогического со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ептуля Т. 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утакова Л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вряшина Н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едосеева Л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родный учитель – ваятель духовного мира юной личност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веренное лицо общества, которому оно вверяет самое дорогое, самое ценное – детей, свою надежду, свое будущ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«Основных направлений реформы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школы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вестка педсове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творчество учителя,  его слагаем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абота творческих групп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тренин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езультаты школьного исследо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выступление педагогов-участников конкур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тоги педсове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создание новых по замыслу культурных или материальных ценност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это научно обоснованный выбор лучшего из возмож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637400" cy="685800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Главные признаки творче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(М.Поташник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Создание нового или существенное усовершенствование извест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Оригинальность, неповторимость продукта деятельности, ее результа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Взаимосвязь творчества и самотворчества, самосозидание, то есть творческий человек постоянно работает над собой, над созданием нов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е групп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группа «источники творчеств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 группа «условия для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группа «формы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 группа «уровни твор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чники творчеств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учебно-воспитательного проце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учение опыта колле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ение научной литератур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учащихся, собранные учител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стема перспектив в рабо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словия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равственно-психологический климат коллекти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имулирование к нестандартным решени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ая организация тру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пользование потребности учителя в самовыражен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атериальная баз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ровни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владение новыми знаниями, прием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осмысление собственной работы в свете новых зна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работка новых методов, приемов и фор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ие эффективно использовать передовой опы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сший уровень-создание новой системы обуч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7:28:09Z</dcterms:created>
  <dc:creator>USER4</dc:creator>
  <dc:description/>
  <dc:language>en-US</dc:language>
  <cp:lastModifiedBy>Коля</cp:lastModifiedBy>
  <dcterms:modified xsi:type="dcterms:W3CDTF">2013-04-16T16:54:17Z</dcterms:modified>
  <cp:revision>8</cp:revision>
  <dc:subject/>
  <dc:title>Педагогический совет        «Творчество учителя»</dc:title>
</cp:coreProperties>
</file>