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381B6-8581-4162-86C1-C499E19AB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29A43-9EEA-4CE3-879C-EDE8064E2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8DFAA-693C-4E27-8DBA-B41F86B94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F1ECC-8C8C-4221-8D57-458109DC7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35621-5285-44B9-B8E6-4C0733E4A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CBDEA-23FA-4907-A6AA-303328C03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BA1C7-D6E9-4DF7-8644-DFAB312B7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1DEF3-D863-4FC9-B769-EC04CD076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D1EFE-A058-45A6-AC3E-962D31C8E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9EB70-95F9-4AF9-8B5D-FA2C1B660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B49C5-7100-4395-B7A7-995F00908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1DC37-B316-4527-A2BC-94D228E2C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F64A3-1983-4174-8ABE-FBF9A9367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28F08-C7AA-4BA5-885A-D89EA0684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CBC2A-9DDB-4B2E-99E8-2FE8F334D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042BD-0EF8-4BD7-A712-8053D6EB7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4C2D6-C8A5-4A4B-B95E-033FFE1DD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FA068-F89C-4B95-860A-316370806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7FAD9-B038-4863-AC82-FF9FD770C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B8FC7-3870-4A67-B9D8-A794B8D41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ADAAF-E5A7-4285-8D87-E734BAA97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C05AE-A26B-445A-80A9-A049E6D05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8D123-5B6D-4668-B319-C7C73CC8E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BDE99-B67B-42AD-A25F-B4420F709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6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6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7720" y="70560"/>
                    <a:ext cx="4284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endParaRPr b="0" lang="en-US" sz="16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8640" y="57960"/>
                    <a:ext cx="64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16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8120" y="108000"/>
                    <a:ext cx="23760" cy="6192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120" bIns="15120" anchor="ctr">
                    <a:noAutofit/>
                  </a:bodyPr>
                  <a:p>
                    <a:endParaRPr b="0" lang="en-US" sz="16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16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16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6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AE1D9-46ED-459B-B415-B2F8F599ECA1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-360"/>
            <a:ext cx="9159840" cy="6870960"/>
            <a:chOff x="0" y="-360"/>
            <a:chExt cx="9159840" cy="687096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-360"/>
              <a:ext cx="1295280" cy="6310800"/>
              <a:chOff x="7848720" y="-360"/>
              <a:chExt cx="1295280" cy="631080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-360"/>
                <a:ext cx="762120" cy="2271960"/>
                <a:chOff x="8381880" y="-360"/>
                <a:chExt cx="762120" cy="227196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07320" y="-360"/>
                  <a:ext cx="279360" cy="276120"/>
                  <a:chOff x="8707320" y="-360"/>
                  <a:chExt cx="279360" cy="27612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07320" y="-360"/>
                    <a:ext cx="279360" cy="276120"/>
                    <a:chOff x="8707320" y="-360"/>
                    <a:chExt cx="279360" cy="27612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46200" y="-39240"/>
                      <a:ext cx="20160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6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55560" y="92520"/>
                      <a:ext cx="141120" cy="22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6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2684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60600" y="70200"/>
                    <a:ext cx="4284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endParaRPr b="0" lang="en-US" sz="16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31520" y="57600"/>
                    <a:ext cx="64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16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901000" y="107640"/>
                    <a:ext cx="23760" cy="6192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120" bIns="15120" anchor="ctr">
                    <a:noAutofit/>
                  </a:bodyPr>
                  <a:p>
                    <a:endParaRPr b="0" lang="en-US" sz="16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26840" y="191160"/>
                    <a:ext cx="6336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16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75360" y="166320"/>
                    <a:ext cx="3780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16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6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1184F-3D83-4278-9014-D98A51549BFF}" type="slidenum">
              <a:rPr b="0" lang="ru-RU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651800" cy="645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7d47d"/>
                </a:solidFill>
                <a:latin typeface="Arial"/>
              </a:rPr>
              <a:t>Педагогический совет</a:t>
            </a: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 </a:t>
            </a:r>
            <a:r>
              <a:rPr b="1" i="1" lang="ru-RU" sz="4800" spc="-1" strike="noStrike">
                <a:solidFill>
                  <a:srgbClr val="f7d47d"/>
                </a:solidFill>
                <a:latin typeface="Arial"/>
              </a:rPr>
              <a:t>«Творчество учителя»</a:t>
            </a:r>
            <a:endParaRPr b="0" lang="en-US" sz="4800" spc="-1" strike="noStrike">
              <a:solidFill>
                <a:srgbClr val="f7d47d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7d47d"/>
                </a:solidFill>
                <a:latin typeface="Arial"/>
              </a:rPr>
              <a:t>Определение уровня сформированности творческой деятельности в МОУ  Заковряшинская сош</a:t>
            </a: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50920" y="2060280"/>
            <a:ext cx="73864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graphicFrame>
        <p:nvGraphicFramePr>
          <p:cNvPr id="209" name="Object 4"/>
          <p:cNvGraphicFramePr/>
          <p:nvPr/>
        </p:nvGraphicFramePr>
        <p:xfrm>
          <a:off x="-396720" y="2565360"/>
          <a:ext cx="8067600" cy="327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96720" y="2565360"/>
                    <a:ext cx="8067600" cy="32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Заповеди творческой личности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0" y="1598760"/>
            <a:ext cx="765000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1.Будь хозяином своей судьбы. 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2.Достигни успеха в том, что ты любишь. 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3.Внеси свой вклад в конструктивное дело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4.Строй свои отношения с людьми на доверии. 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5.Развивай свои творческие способности. 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6.Культивируй  в себе смелость. 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7.Заботься о своем здоровье. 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8.Не теряй веру в себя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21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2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2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2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2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2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2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Рабочая группа по подготовке педагогического совета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Шептуля Т. Н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Бутакова Л.Н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Заковряшина Н.Н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Федосеева Л.В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0" y="0"/>
            <a:ext cx="7650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Народный учитель – ваятель духовного мира юной личности,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доверенное лицо общества, которому оно вверяет самое дорогое, самое ценное – детей, свою надежду, свое будущее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Из «Основных направлений реформы    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                                              </a:t>
            </a: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общеобразовательной школы»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         </a:t>
            </a: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Повестка педсовета: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-творчество учителя,  его слагаемые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-работа творческих групп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- тренинг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-результаты школьного исследования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-выступление педагогов-участников конкурсов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-итоги педсовета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Творчество-создание новых по замыслу культурных или материальных ценностей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Творчество-это научно обоснованный выбор лучшего из возможного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-360" y="0"/>
            <a:ext cx="7637400" cy="6858000"/>
          </a:xfrm>
          <a:prstGeom prst="rect">
            <a:avLst/>
          </a:prstGeom>
          <a:noFill/>
          <a:ln w="9360">
            <a:solidFill>
              <a:srgbClr val="f7d47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7d47d"/>
                </a:solidFill>
                <a:latin typeface="Arial"/>
              </a:rPr>
              <a:t>Главные признаки творчества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7d47d"/>
                </a:solidFill>
                <a:latin typeface="Arial"/>
              </a:rPr>
              <a:t>                                          </a:t>
            </a:r>
            <a:r>
              <a:rPr b="0" lang="ru-RU" sz="3200" spc="-1" strike="noStrike">
                <a:solidFill>
                  <a:srgbClr val="f7d47d"/>
                </a:solidFill>
                <a:latin typeface="Arial"/>
              </a:rPr>
              <a:t>(М.Поташник)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     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1. Создание нового или существенное усовершенствование известного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2. Оригинальность, неповторимость продукта деятельности, ее результатов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3. Взаимосвязь творчества и самотворчества, самосозидание, то есть творческий человек постоянно работает над собой, над созданием нового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           </a:t>
            </a: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творческие группы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1группа «источники творчества»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2 группа «условия для творчества 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                   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учителя»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3 группа «формы творчества 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                  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учителя»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4 группа «уровни творчества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                  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учителя»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        </a:t>
            </a: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Источники творчества</a:t>
            </a:r>
            <a:br>
              <a:rPr sz="3600"/>
            </a:b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Анализ учебно-воспитательного процесса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Изучение опыта коллег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Чтение научной литературы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Вопросы учащихся, собранные учителем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Система перспектив в работе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         </a:t>
            </a: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Условия творчества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Нравственно-психологический климат коллектива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Стимулирование к нестандартным решениям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Научная организация труда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Использование потребности учителя в самовыражении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Материальная база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Уровни творчества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Овладение новыми знаниями, приемами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Переосмысление собственной работы в свете новых знаний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Разработка новых методов, приемов и форм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Умение эффективно использовать передовой опыт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Высший уровень-создание новой системы обучения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07:28:09Z</dcterms:created>
  <dc:creator>USER4</dc:creator>
  <dc:description/>
  <dc:language>en-US</dc:language>
  <cp:lastModifiedBy>Коля</cp:lastModifiedBy>
  <dcterms:modified xsi:type="dcterms:W3CDTF">2013-04-16T16:54:17Z</dcterms:modified>
  <cp:revision>8</cp:revision>
  <dc:subject/>
  <dc:title>Педагогический совет        «Творчество учителя»</dc:title>
</cp:coreProperties>
</file>