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D40E6-4707-4676-851E-80DE15738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5E5E4-459C-4161-AA0D-BCCD51BE4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BE261-5F60-4BB8-B4B2-99BC1AD16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8A295-C0F1-405F-92F3-61C22D9A3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2E830-CC75-471C-9AAC-3BCDB78DF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0338B-A76E-4958-A6B7-81BC21189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55E03-5EC3-4D98-8883-3A59980C9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D3475-F86A-4327-8B86-0D3AFAF10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5D7A0-D079-4351-9F23-3708A4C7E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BF573-8056-4C88-AB56-1DC4E335F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12E65-A7FC-4057-AD9A-2FC81DF1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1A613-860A-47EC-8198-6C784F214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1452A-1879-4CF6-A7B7-B6D9C3938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D4DFD-DA94-4A9A-809A-0DE47667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A525D-0779-4E75-980A-2505E805D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2F913-7424-46FF-91E5-A3C93FD56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55DE7-C92B-41D2-AEF5-9FC45D6C2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148DD-7497-4B94-8A6F-2B747D37F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A5140-8668-41E8-8778-BDF82C821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D29ED-7F2C-440C-9B4D-3448CD035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038F8-7E5E-42D8-A390-2780616D4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E4A87-2E41-431D-B12F-D7D19AA5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C2FF1-9E09-4327-93D7-2B5ABDDD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87AF5-7032-4ED3-8B51-E0CF909D0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355AB-19A5-480F-97E4-20225F2B53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057BF-8D23-4F7A-90ED-4257CDB42D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258920" y="1052640"/>
            <a:ext cx="626436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ЧТО  ТАКОЕ  ФУНКЦИЯ?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611280" y="404640"/>
            <a:ext cx="79405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6633"/>
                </a:solidFill>
                <a:latin typeface="Arial"/>
              </a:rPr>
              <a:t>Функцию можно задать</a:t>
            </a:r>
            <a:r>
              <a:rPr b="1" lang="en-US" sz="2800" spc="-1" strike="noStrike">
                <a:solidFill>
                  <a:srgbClr val="996633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ru-RU" sz="2800" spc="-1" strike="noStrike">
                <a:solidFill>
                  <a:srgbClr val="ff9900"/>
                </a:solidFill>
                <a:latin typeface="Arial"/>
              </a:rPr>
              <a:t>таблиц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9900"/>
                </a:solidFill>
                <a:latin typeface="Arial"/>
              </a:rPr>
              <a:t>                    </a:t>
            </a:r>
            <a:r>
              <a:rPr b="1" i="1" lang="ru-RU" sz="2800" spc="-1" strike="noStrike">
                <a:solidFill>
                  <a:srgbClr val="ff9900"/>
                </a:solidFill>
                <a:latin typeface="Arial"/>
              </a:rPr>
              <a:t>описа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9900"/>
                </a:solidFill>
                <a:latin typeface="Arial"/>
              </a:rPr>
              <a:t>                    </a:t>
            </a:r>
            <a:r>
              <a:rPr b="1" i="1" lang="ru-RU" sz="2800" spc="-1" strike="noStrike">
                <a:solidFill>
                  <a:srgbClr val="ff9900"/>
                </a:solidFill>
                <a:latin typeface="Arial"/>
              </a:rPr>
              <a:t>графи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9900"/>
                </a:solidFill>
                <a:latin typeface="Arial"/>
              </a:rPr>
              <a:t>                    </a:t>
            </a:r>
            <a:r>
              <a:rPr b="1" i="1" lang="ru-RU" sz="2800" spc="-1" strike="noStrike">
                <a:solidFill>
                  <a:srgbClr val="ff9900"/>
                </a:solidFill>
                <a:latin typeface="Arial"/>
              </a:rPr>
              <a:t>формул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6633"/>
                </a:solidFill>
                <a:uFillTx/>
                <a:latin typeface="Arial"/>
              </a:rPr>
              <a:t>Рассмотрим графический способ</a:t>
            </a:r>
            <a:r>
              <a:rPr b="1" lang="ru-RU" sz="2800" spc="-1" strike="noStrike">
                <a:solidFill>
                  <a:srgbClr val="996633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258920" y="4292640"/>
            <a:ext cx="6481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акие из ниже приведенных картинок являются графиками некоторых функций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=f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(x)?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2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2" dur="20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5" dur="2000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8" dur="200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1" dur="2000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2000"/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1" dur="2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ace9a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"/>
          <p:cNvGrpSpPr/>
          <p:nvPr/>
        </p:nvGrpSpPr>
        <p:grpSpPr>
          <a:xfrm>
            <a:off x="912600" y="949680"/>
            <a:ext cx="2857680" cy="2400840"/>
            <a:chOff x="912600" y="949680"/>
            <a:chExt cx="2857680" cy="2400840"/>
          </a:xfrm>
        </p:grpSpPr>
        <p:sp>
          <p:nvSpPr>
            <p:cNvPr id="278" name=""/>
            <p:cNvSpPr/>
            <p:nvPr/>
          </p:nvSpPr>
          <p:spPr>
            <a:xfrm flipV="1">
              <a:off x="1369440" y="949680"/>
              <a:ext cx="0" cy="2400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27080" y="2665440"/>
              <a:ext cx="2628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389600" y="2093760"/>
              <a:ext cx="457920" cy="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900800" y="2093760"/>
              <a:ext cx="360" cy="571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1149120" y="1637280"/>
              <a:ext cx="1142640" cy="1257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912600" y="950760"/>
              <a:ext cx="34272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427560" y="2779560"/>
              <a:ext cx="342720" cy="22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912600" y="1979640"/>
              <a:ext cx="34272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484280" y="2779560"/>
              <a:ext cx="799920" cy="22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        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5160600" y="949680"/>
            <a:ext cx="2857680" cy="2400840"/>
            <a:chOff x="5160600" y="949680"/>
            <a:chExt cx="2857680" cy="2400840"/>
          </a:xfrm>
        </p:grpSpPr>
        <p:sp>
          <p:nvSpPr>
            <p:cNvPr id="288" name=""/>
            <p:cNvSpPr/>
            <p:nvPr/>
          </p:nvSpPr>
          <p:spPr>
            <a:xfrm flipV="1">
              <a:off x="5617440" y="949680"/>
              <a:ext cx="0" cy="2400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275080" y="2665440"/>
              <a:ext cx="262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618160" y="1636560"/>
              <a:ext cx="571320" cy="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189480" y="1636560"/>
              <a:ext cx="720" cy="1028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160600" y="950760"/>
              <a:ext cx="34272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675560" y="2779560"/>
              <a:ext cx="342720" cy="22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160600" y="1522440"/>
              <a:ext cx="34272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732280" y="2779560"/>
              <a:ext cx="799920" cy="22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        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6189480" y="1064880"/>
              <a:ext cx="914400" cy="5713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189480" y="1636560"/>
              <a:ext cx="914400" cy="457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4859280" y="3716280"/>
            <a:ext cx="3314880" cy="2629080"/>
            <a:chOff x="4859280" y="3716280"/>
            <a:chExt cx="3314880" cy="2629080"/>
          </a:xfrm>
        </p:grpSpPr>
        <p:sp>
          <p:nvSpPr>
            <p:cNvPr id="299" name=""/>
            <p:cNvSpPr txBox="1"/>
            <p:nvPr/>
          </p:nvSpPr>
          <p:spPr>
            <a:xfrm>
              <a:off x="4859280" y="3716280"/>
              <a:ext cx="3314880" cy="2629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5544360" y="3829680"/>
              <a:ext cx="0" cy="2401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202000" y="5545080"/>
              <a:ext cx="262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545080" y="4287600"/>
              <a:ext cx="1257480" cy="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802560" y="4287600"/>
              <a:ext cx="360" cy="1257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087520" y="3830400"/>
              <a:ext cx="34272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602480" y="5659560"/>
              <a:ext cx="342720" cy="22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087520" y="4173480"/>
              <a:ext cx="34272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659200" y="5659560"/>
              <a:ext cx="1257120" cy="22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                    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6230520" y="4287600"/>
              <a:ext cx="571320" cy="799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802560" y="4287600"/>
              <a:ext cx="571320" cy="799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826920" y="3484440"/>
            <a:ext cx="3657600" cy="2514600"/>
            <a:chOff x="826920" y="3484440"/>
            <a:chExt cx="3657600" cy="2514600"/>
          </a:xfrm>
        </p:grpSpPr>
        <p:sp>
          <p:nvSpPr>
            <p:cNvPr id="311" name=""/>
            <p:cNvSpPr/>
            <p:nvPr/>
          </p:nvSpPr>
          <p:spPr>
            <a:xfrm>
              <a:off x="1398240" y="3598200"/>
              <a:ext cx="0" cy="2400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169640" y="5542560"/>
              <a:ext cx="320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405800" y="4155840"/>
              <a:ext cx="1371600" cy="137088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26920" y="3484440"/>
              <a:ext cx="34272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027320" y="5656320"/>
              <a:ext cx="45720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941040" y="5656320"/>
              <a:ext cx="34272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2124000" y="40464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372360" y="333360"/>
            <a:ext cx="84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979640" y="34290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516720" y="350028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7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1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5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9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e6"/>
            </a:gs>
            <a:gs pos="100000">
              <a:srgbClr val="f1f1f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266760" y="260280"/>
            <a:ext cx="8553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6633"/>
                </a:solidFill>
                <a:uFillTx/>
                <a:latin typeface="Arial"/>
              </a:rPr>
              <a:t>Рассмотрим табличный спосо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ff9900"/>
                </a:solidFill>
                <a:uFillTx/>
                <a:latin typeface="Arial"/>
              </a:rPr>
              <a:t>Какие из приведенных таблиц задают функцию у</a:t>
            </a:r>
            <a:r>
              <a:rPr b="0" i="1" lang="en-US" sz="2400" spc="-1" strike="noStrike" u="sng">
                <a:solidFill>
                  <a:srgbClr val="ff9900"/>
                </a:solidFill>
                <a:uFillTx/>
                <a:latin typeface="Arial"/>
              </a:rPr>
              <a:t>=f (x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11280" y="1413000"/>
          <a:ext cx="2665440" cy="1035000"/>
        </p:xfrm>
        <a:graphic>
          <a:graphicData uri="http://schemas.openxmlformats.org/drawingml/2006/table">
            <a:tbl>
              <a:tblPr/>
              <a:tblGrid>
                <a:gridCol w="490320"/>
                <a:gridCol w="490680"/>
                <a:gridCol w="603360"/>
                <a:gridCol w="588960"/>
                <a:gridCol w="492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cc"/>
                          </a:solidFill>
                          <a:latin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cc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cc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cc"/>
                          </a:solidFill>
                          <a:latin typeface="Arial"/>
                        </a:rPr>
                        <a:t>-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cc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cc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cc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cc"/>
                          </a:solidFill>
                          <a:latin typeface="Arial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cc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cc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3" name=""/>
          <p:cNvSpPr/>
          <p:nvPr/>
        </p:nvSpPr>
        <p:spPr>
          <a:xfrm>
            <a:off x="-57240" y="1557360"/>
            <a:ext cx="525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-3240" y="1557360"/>
            <a:ext cx="67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611280" y="2637000"/>
          <a:ext cx="1944720" cy="1093680"/>
        </p:xfrm>
        <a:graphic>
          <a:graphicData uri="http://schemas.openxmlformats.org/drawingml/2006/table">
            <a:tbl>
              <a:tblPr/>
              <a:tblGrid>
                <a:gridCol w="504720"/>
                <a:gridCol w="503280"/>
                <a:gridCol w="431640"/>
                <a:gridCol w="505080"/>
              </a:tblGrid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6" name=""/>
          <p:cNvSpPr/>
          <p:nvPr/>
        </p:nvSpPr>
        <p:spPr>
          <a:xfrm>
            <a:off x="0" y="2997360"/>
            <a:ext cx="50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611280" y="3933720"/>
          <a:ext cx="2448000" cy="1150920"/>
        </p:xfrm>
        <a:graphic>
          <a:graphicData uri="http://schemas.openxmlformats.org/drawingml/2006/table">
            <a:tbl>
              <a:tblPr/>
              <a:tblGrid>
                <a:gridCol w="504720"/>
                <a:gridCol w="503280"/>
                <a:gridCol w="431640"/>
                <a:gridCol w="505080"/>
                <a:gridCol w="503280"/>
              </a:tblGrid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6699"/>
                          </a:solidFill>
                          <a:latin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6699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6699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6699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6699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6699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6699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6699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6699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6699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8" name=""/>
          <p:cNvSpPr/>
          <p:nvPr/>
        </p:nvSpPr>
        <p:spPr>
          <a:xfrm>
            <a:off x="0" y="4076640"/>
            <a:ext cx="56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611280" y="5229360"/>
          <a:ext cx="1871640" cy="1044360"/>
        </p:xfrm>
        <a:graphic>
          <a:graphicData uri="http://schemas.openxmlformats.org/drawingml/2006/table">
            <a:tbl>
              <a:tblPr/>
              <a:tblGrid>
                <a:gridCol w="431640"/>
                <a:gridCol w="503280"/>
                <a:gridCol w="431640"/>
                <a:gridCol w="505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0" name=""/>
          <p:cNvSpPr/>
          <p:nvPr/>
        </p:nvSpPr>
        <p:spPr>
          <a:xfrm>
            <a:off x="-38160" y="5373720"/>
            <a:ext cx="50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-252360" y="5300640"/>
            <a:ext cx="811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5219640" y="1413000"/>
          <a:ext cx="3552840" cy="1035000"/>
        </p:xfrm>
        <a:graphic>
          <a:graphicData uri="http://schemas.openxmlformats.org/drawingml/2006/table">
            <a:tbl>
              <a:tblPr/>
              <a:tblGrid>
                <a:gridCol w="592200"/>
                <a:gridCol w="592200"/>
                <a:gridCol w="544320"/>
                <a:gridCol w="639720"/>
                <a:gridCol w="592200"/>
                <a:gridCol w="592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cc"/>
                          </a:solidFill>
                          <a:latin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cc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cc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cc"/>
                          </a:solidFill>
                          <a:latin typeface="Arial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cc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cc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cc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cc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cc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cc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cc"/>
                          </a:solidFill>
                          <a:latin typeface="Arial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cc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3" name=""/>
          <p:cNvSpPr/>
          <p:nvPr/>
        </p:nvSpPr>
        <p:spPr>
          <a:xfrm>
            <a:off x="4572000" y="1557360"/>
            <a:ext cx="56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5219640" y="2637000"/>
          <a:ext cx="2952720" cy="1093680"/>
        </p:xfrm>
        <a:graphic>
          <a:graphicData uri="http://schemas.openxmlformats.org/drawingml/2006/table">
            <a:tbl>
              <a:tblPr/>
              <a:tblGrid>
                <a:gridCol w="576360"/>
                <a:gridCol w="611280"/>
                <a:gridCol w="576000"/>
                <a:gridCol w="613080"/>
                <a:gridCol w="576000"/>
              </a:tblGrid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5" name=""/>
          <p:cNvSpPr/>
          <p:nvPr/>
        </p:nvSpPr>
        <p:spPr>
          <a:xfrm>
            <a:off x="4572000" y="263700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5219640" y="3933720"/>
          <a:ext cx="3529080" cy="1094040"/>
        </p:xfrm>
        <a:graphic>
          <a:graphicData uri="http://schemas.openxmlformats.org/drawingml/2006/table">
            <a:tbl>
              <a:tblPr/>
              <a:tblGrid>
                <a:gridCol w="576360"/>
                <a:gridCol w="576360"/>
                <a:gridCol w="576000"/>
                <a:gridCol w="648000"/>
                <a:gridCol w="576000"/>
                <a:gridCol w="576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6699"/>
                          </a:solidFill>
                          <a:latin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6699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6699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6699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6699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6699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6699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6699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6699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6699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6699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6699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7" name=""/>
          <p:cNvSpPr/>
          <p:nvPr/>
        </p:nvSpPr>
        <p:spPr>
          <a:xfrm>
            <a:off x="4572000" y="41497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5219640" y="5229360"/>
          <a:ext cx="1368360" cy="1035000"/>
        </p:xfrm>
        <a:graphic>
          <a:graphicData uri="http://schemas.openxmlformats.org/drawingml/2006/table">
            <a:tbl>
              <a:tblPr/>
              <a:tblGrid>
                <a:gridCol w="576360"/>
                <a:gridCol w="792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9" name=""/>
          <p:cNvSpPr/>
          <p:nvPr/>
        </p:nvSpPr>
        <p:spPr>
          <a:xfrm>
            <a:off x="4572000" y="537372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2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20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e6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79280" y="404640"/>
            <a:ext cx="8785440" cy="61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6633"/>
                </a:solidFill>
                <a:uFillTx/>
                <a:latin typeface="Arial"/>
              </a:rPr>
              <a:t>Рассмотрим словесный способ </a:t>
            </a:r>
            <a:r>
              <a:rPr b="1" lang="en-US" sz="2800" spc="-1" strike="noStrike" u="sng">
                <a:solidFill>
                  <a:srgbClr val="996633"/>
                </a:solidFill>
                <a:uFillTx/>
                <a:latin typeface="Arial"/>
              </a:rPr>
              <a:t>(</a:t>
            </a:r>
            <a:r>
              <a:rPr b="1" lang="ru-RU" sz="2800" spc="-1" strike="noStrike" u="sng">
                <a:solidFill>
                  <a:srgbClr val="996633"/>
                </a:solidFill>
                <a:uFillTx/>
                <a:latin typeface="Arial"/>
              </a:rPr>
              <a:t>описание</a:t>
            </a:r>
            <a:r>
              <a:rPr b="1" lang="en-US" sz="2800" spc="-1" strike="noStrike" u="sng">
                <a:solidFill>
                  <a:srgbClr val="996633"/>
                </a:solidFill>
                <a:uFillTx/>
                <a:latin typeface="Arial"/>
              </a:rPr>
              <a:t>)</a:t>
            </a:r>
            <a:r>
              <a:rPr b="1" lang="ru-RU" sz="2800" spc="-1" strike="noStrike" u="sng">
                <a:solidFill>
                  <a:srgbClr val="996633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Какие из следующих описаний задают функци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Каждому четному натуральному числу ставится в соответствие 1,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нечетному -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Каждому простому числу ставится в соответствие 1, а четному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Каждому числу ставится в соответствие его моду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Каждому числу ставится в соответствие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ff9900"/>
                </a:solidFill>
                <a:latin typeface="Arial"/>
              </a:rPr>
              <a:t>Каждому числу ставится в соответствие оно сам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ff00ff"/>
                </a:solidFill>
                <a:latin typeface="Arial"/>
              </a:rPr>
              <a:t>Числам ,меньшим 3,ставится в соответствие число 5,а числам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ff"/>
                </a:solidFill>
                <a:latin typeface="Arial"/>
              </a:rPr>
              <a:t>большим 2,ставится в соответствие число 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9900ff"/>
                </a:solidFill>
                <a:latin typeface="Arial"/>
              </a:rPr>
              <a:t>Каждому неотрицательному числу ставится в соответствие число 1, 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9900ff"/>
                </a:solidFill>
                <a:latin typeface="Arial"/>
              </a:rPr>
              <a:t>каждому неположительному – число -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20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5" dur="300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8" dur="3000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1" dur="3000"/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4" dur="3000"/>
                                        <p:tgtEl>
                                          <p:spTgt spid="3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7" dur="3000"/>
                                        <p:tgtEl>
                                          <p:spTgt spid="3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0" dur="3000"/>
                                        <p:tgtEl>
                                          <p:spTgt spid="3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3" dur="3000"/>
                                        <p:tgtEl>
                                          <p:spTgt spid="34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6" dur="3000"/>
                                        <p:tgtEl>
                                          <p:spTgt spid="34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e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0" y="260280"/>
            <a:ext cx="8893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Функциональную  зависимость  между  двумя  множеств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легко установить, если  опираться  на опред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функ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50920" y="2276640"/>
            <a:ext cx="8675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УНКЦ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ЭТО   СООТВЕТСТВ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МЕЖДУ  ДВУМЯ  МНОЖЕСТВАМИ 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и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Y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ПРИ  КОТОРОМ  КАЖДОМУ  ЭЛЕМЕНТУ  И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МНОЖЕСТВА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СООТВЕТСТВУЕТ  ЕДИНСТВЕННЫЙ  ЭЛЕМЕНТ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ИЗ МНОЖЕСТВ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Y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50920" y="5589720"/>
            <a:ext cx="842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ДОМАШНЕЕ  ЗАДАНИЕ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9966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996600"/>
                </a:solidFill>
                <a:latin typeface="Arial"/>
              </a:rPr>
              <a:t>) </a:t>
            </a:r>
            <a:r>
              <a:rPr b="0" lang="ru-RU" sz="2000" spc="-1" strike="noStrike">
                <a:solidFill>
                  <a:srgbClr val="996600"/>
                </a:solidFill>
                <a:latin typeface="Arial"/>
              </a:rPr>
              <a:t>описать 1,2,3 функции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00"/>
                </a:solidFill>
                <a:latin typeface="Arial"/>
              </a:rPr>
              <a:t>                                             </a:t>
            </a:r>
            <a:r>
              <a:rPr b="0" lang="ru-RU" sz="2000" spc="-1" strike="noStrike">
                <a:solidFill>
                  <a:srgbClr val="9966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996600"/>
                </a:solidFill>
                <a:latin typeface="Arial"/>
              </a:rPr>
              <a:t>) </a:t>
            </a:r>
            <a:r>
              <a:rPr b="0" lang="ru-RU" sz="2000" spc="-1" strike="noStrike">
                <a:solidFill>
                  <a:srgbClr val="996600"/>
                </a:solidFill>
                <a:latin typeface="Arial"/>
              </a:rPr>
              <a:t>выполнить 1,2,3 иллюстра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996600"/>
                </a:solidFill>
                <a:latin typeface="Arial"/>
              </a:rPr>
              <a:t>к понятию «функци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3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3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cccc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755640" y="692280"/>
            <a:ext cx="7486560" cy="21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ЦЕЛЬ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дать представление о функции с помощью понятия «множество», показать связь между математикой и окружающим мир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411280" y="3141720"/>
            <a:ext cx="3167280" cy="31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cccce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763640" y="40464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ЧТО ТАКОЕ ФУНКЦИ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9640" y="1628640"/>
            <a:ext cx="8013960" cy="37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ункцией в общем понимании называется любой закон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ил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по которому каждому объекту из некоторого множества ставится в соответствие некоторый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динственны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ъект из другого множ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546"/>
            </a:gs>
            <a:gs pos="100000">
              <a:srgbClr val="99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851280" y="1268280"/>
            <a:ext cx="1657080" cy="4032000"/>
            <a:chOff x="3851280" y="1268280"/>
            <a:chExt cx="1657080" cy="4032000"/>
          </a:xfrm>
        </p:grpSpPr>
        <p:sp>
          <p:nvSpPr>
            <p:cNvPr id="113" name=""/>
            <p:cNvSpPr/>
            <p:nvPr/>
          </p:nvSpPr>
          <p:spPr>
            <a:xfrm>
              <a:off x="3851280" y="1268280"/>
              <a:ext cx="1657080" cy="31395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 txBox="1"/>
            <p:nvPr/>
          </p:nvSpPr>
          <p:spPr>
            <a:xfrm>
              <a:off x="4311720" y="4587840"/>
              <a:ext cx="553680" cy="712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У</a:t>
              </a:r>
              <a:endPara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250920" y="1197000"/>
            <a:ext cx="1584000" cy="3960360"/>
            <a:chOff x="250920" y="1197000"/>
            <a:chExt cx="1584000" cy="3960360"/>
          </a:xfrm>
        </p:grpSpPr>
        <p:sp>
          <p:nvSpPr>
            <p:cNvPr id="116" name=""/>
            <p:cNvSpPr/>
            <p:nvPr/>
          </p:nvSpPr>
          <p:spPr>
            <a:xfrm>
              <a:off x="250920" y="1197000"/>
              <a:ext cx="1584000" cy="324468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 txBox="1"/>
            <p:nvPr/>
          </p:nvSpPr>
          <p:spPr>
            <a:xfrm>
              <a:off x="645480" y="4533480"/>
              <a:ext cx="792000" cy="623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3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X</a:t>
              </a:r>
              <a:endPara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179280" y="0"/>
            <a:ext cx="87138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Рассмотрим прим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Обозначим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X-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пассажиры, У- места в автобус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36600" y="5734080"/>
            <a:ext cx="879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Каждому пассажиру соответствует одно крес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Следовательно, данное соответствие- </a:t>
            </a:r>
            <a:r>
              <a:rPr b="1" lang="en-US" sz="2800" spc="-1" strike="noStrike" u="sng">
                <a:solidFill>
                  <a:srgbClr val="996633"/>
                </a:solidFill>
                <a:uFillTx/>
                <a:latin typeface="Arial"/>
              </a:rPr>
              <a:t>функция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03280" y="2349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87280" y="2278080"/>
            <a:ext cx="36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01800" y="4095720"/>
            <a:ext cx="36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837440" y="4724280"/>
            <a:ext cx="21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функ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00720" y="3429000"/>
            <a:ext cx="451800" cy="520560"/>
            <a:chOff x="4500720" y="3429000"/>
            <a:chExt cx="451800" cy="520560"/>
          </a:xfrm>
        </p:grpSpPr>
        <p:sp>
          <p:nvSpPr>
            <p:cNvPr id="125" name=""/>
            <p:cNvSpPr/>
            <p:nvPr/>
          </p:nvSpPr>
          <p:spPr>
            <a:xfrm>
              <a:off x="4573800" y="34290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500720" y="3644640"/>
              <a:ext cx="71280" cy="71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4932360" y="2997360"/>
            <a:ext cx="596520" cy="520560"/>
            <a:chOff x="4932360" y="2997360"/>
            <a:chExt cx="596520" cy="520560"/>
          </a:xfrm>
        </p:grpSpPr>
        <p:sp>
          <p:nvSpPr>
            <p:cNvPr id="128" name=""/>
            <p:cNvSpPr/>
            <p:nvPr/>
          </p:nvSpPr>
          <p:spPr>
            <a:xfrm>
              <a:off x="4932360" y="328464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50160" y="29973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4572000" y="1916280"/>
            <a:ext cx="360360" cy="426960"/>
            <a:chOff x="4572000" y="1916280"/>
            <a:chExt cx="360360" cy="426960"/>
          </a:xfrm>
        </p:grpSpPr>
        <p:sp>
          <p:nvSpPr>
            <p:cNvPr id="131" name=""/>
            <p:cNvSpPr/>
            <p:nvPr/>
          </p:nvSpPr>
          <p:spPr>
            <a:xfrm>
              <a:off x="4716360" y="1916280"/>
              <a:ext cx="2160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4572000" y="2133000"/>
              <a:ext cx="712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572000" y="2421000"/>
            <a:ext cx="343080" cy="426960"/>
            <a:chOff x="4572000" y="2421000"/>
            <a:chExt cx="343080" cy="426960"/>
          </a:xfrm>
        </p:grpSpPr>
        <p:sp>
          <p:nvSpPr>
            <p:cNvPr id="134" name=""/>
            <p:cNvSpPr/>
            <p:nvPr/>
          </p:nvSpPr>
          <p:spPr>
            <a:xfrm>
              <a:off x="4716360" y="2421000"/>
              <a:ext cx="198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572000" y="256356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572000" y="1413000"/>
            <a:ext cx="451800" cy="520560"/>
            <a:chOff x="4572000" y="1413000"/>
            <a:chExt cx="451800" cy="520560"/>
          </a:xfrm>
        </p:grpSpPr>
        <p:sp>
          <p:nvSpPr>
            <p:cNvPr id="137" name=""/>
            <p:cNvSpPr/>
            <p:nvPr/>
          </p:nvSpPr>
          <p:spPr>
            <a:xfrm>
              <a:off x="4645080" y="14130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4572000" y="1627920"/>
              <a:ext cx="71280" cy="71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4500720" y="2997360"/>
            <a:ext cx="341280" cy="426960"/>
            <a:chOff x="4500720" y="2997360"/>
            <a:chExt cx="341280" cy="426960"/>
          </a:xfrm>
        </p:grpSpPr>
        <p:sp>
          <p:nvSpPr>
            <p:cNvPr id="140" name=""/>
            <p:cNvSpPr/>
            <p:nvPr/>
          </p:nvSpPr>
          <p:spPr>
            <a:xfrm>
              <a:off x="4643280" y="2997360"/>
              <a:ext cx="198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4500720" y="321336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84360" y="1341360"/>
            <a:ext cx="574560" cy="520560"/>
            <a:chOff x="684360" y="1341360"/>
            <a:chExt cx="574560" cy="520560"/>
          </a:xfrm>
        </p:grpSpPr>
        <p:sp>
          <p:nvSpPr>
            <p:cNvPr id="143" name=""/>
            <p:cNvSpPr/>
            <p:nvPr/>
          </p:nvSpPr>
          <p:spPr>
            <a:xfrm>
              <a:off x="684360" y="1341360"/>
              <a:ext cx="48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187280" y="1628640"/>
              <a:ext cx="71640" cy="71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684360" y="1989000"/>
            <a:ext cx="502920" cy="520560"/>
            <a:chOff x="684360" y="1989000"/>
            <a:chExt cx="502920" cy="520560"/>
          </a:xfrm>
        </p:grpSpPr>
        <p:sp>
          <p:nvSpPr>
            <p:cNvPr id="146" name=""/>
            <p:cNvSpPr/>
            <p:nvPr/>
          </p:nvSpPr>
          <p:spPr>
            <a:xfrm>
              <a:off x="684360" y="1989000"/>
              <a:ext cx="382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116000" y="227664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84360" y="2565360"/>
            <a:ext cx="502920" cy="520560"/>
            <a:chOff x="684360" y="2565360"/>
            <a:chExt cx="502920" cy="520560"/>
          </a:xfrm>
        </p:grpSpPr>
        <p:sp>
          <p:nvSpPr>
            <p:cNvPr id="149" name=""/>
            <p:cNvSpPr/>
            <p:nvPr/>
          </p:nvSpPr>
          <p:spPr>
            <a:xfrm>
              <a:off x="684360" y="2565360"/>
              <a:ext cx="36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16000" y="2852640"/>
              <a:ext cx="71280" cy="71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684360" y="3141720"/>
            <a:ext cx="574560" cy="520560"/>
            <a:chOff x="684360" y="3141720"/>
            <a:chExt cx="574560" cy="520560"/>
          </a:xfrm>
        </p:grpSpPr>
        <p:sp>
          <p:nvSpPr>
            <p:cNvPr id="152" name=""/>
            <p:cNvSpPr/>
            <p:nvPr/>
          </p:nvSpPr>
          <p:spPr>
            <a:xfrm>
              <a:off x="684360" y="314172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187280" y="3429000"/>
              <a:ext cx="7164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684360" y="3716280"/>
            <a:ext cx="502920" cy="520560"/>
            <a:chOff x="684360" y="3716280"/>
            <a:chExt cx="502920" cy="520560"/>
          </a:xfrm>
        </p:grpSpPr>
        <p:sp>
          <p:nvSpPr>
            <p:cNvPr id="155" name=""/>
            <p:cNvSpPr/>
            <p:nvPr/>
          </p:nvSpPr>
          <p:spPr>
            <a:xfrm>
              <a:off x="684360" y="3716280"/>
              <a:ext cx="28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116000" y="3933720"/>
              <a:ext cx="71280" cy="71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6591600" y="1341360"/>
            <a:ext cx="147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372360" y="1844640"/>
            <a:ext cx="2160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бен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590160" y="2421000"/>
            <a:ext cx="137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90160" y="2997360"/>
            <a:ext cx="149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 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яд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589800" y="3645000"/>
            <a:ext cx="121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тет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1258920" y="1628280"/>
            <a:ext cx="3313080" cy="7164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1187280" y="2204640"/>
            <a:ext cx="3384720" cy="144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1187280" y="2636640"/>
            <a:ext cx="3384720" cy="21564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187280" y="3284280"/>
            <a:ext cx="3313440" cy="21564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1187280" y="3716280"/>
            <a:ext cx="3313440" cy="21744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9840" y="5057640"/>
            <a:ext cx="9074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6633"/>
                </a:solidFill>
                <a:latin typeface="Arial"/>
              </a:rPr>
              <a:t>Два пассажира </a:t>
            </a:r>
            <a:r>
              <a:rPr b="1" lang="en-US" sz="2800" spc="-1" strike="noStrike">
                <a:solidFill>
                  <a:srgbClr val="996633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996633"/>
                </a:solidFill>
                <a:latin typeface="Arial"/>
              </a:rPr>
              <a:t>мать с ребенком</a:t>
            </a:r>
            <a:r>
              <a:rPr b="1" lang="en-US" sz="2800" spc="-1" strike="noStrike">
                <a:solidFill>
                  <a:srgbClr val="996633"/>
                </a:solidFill>
                <a:latin typeface="Arial"/>
              </a:rPr>
              <a:t>) c</a:t>
            </a:r>
            <a:r>
              <a:rPr b="1" lang="ru-RU" sz="2800" spc="-1" strike="noStrike">
                <a:solidFill>
                  <a:srgbClr val="996633"/>
                </a:solidFill>
                <a:latin typeface="Arial"/>
              </a:rPr>
              <a:t>идят в одном кресле. Но каждому пассажиру по-прежнему соответствует одно кресло. Следовательно, данное соответствие- </a:t>
            </a: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функц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617840" y="476280"/>
            <a:ext cx="5351040" cy="4176360"/>
            <a:chOff x="1617840" y="476280"/>
            <a:chExt cx="5351040" cy="4176360"/>
          </a:xfrm>
        </p:grpSpPr>
        <p:grpSp>
          <p:nvGrpSpPr>
            <p:cNvPr id="169" name=""/>
            <p:cNvGrpSpPr/>
            <p:nvPr/>
          </p:nvGrpSpPr>
          <p:grpSpPr>
            <a:xfrm>
              <a:off x="1617840" y="476280"/>
              <a:ext cx="1583640" cy="3960360"/>
              <a:chOff x="1617840" y="476280"/>
              <a:chExt cx="1583640" cy="3960360"/>
            </a:xfrm>
          </p:grpSpPr>
          <p:sp>
            <p:nvSpPr>
              <p:cNvPr id="170" name=""/>
              <p:cNvSpPr/>
              <p:nvPr/>
            </p:nvSpPr>
            <p:spPr>
              <a:xfrm>
                <a:off x="1617840" y="476280"/>
                <a:ext cx="1583640" cy="324468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 txBox="1"/>
              <p:nvPr/>
            </p:nvSpPr>
            <p:spPr>
              <a:xfrm>
                <a:off x="2012400" y="3812760"/>
                <a:ext cx="791640" cy="6238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blipFill rotWithShape="0">
                      <a:blip r:embed="rId2"/>
                      <a:srcRect/>
                      <a:stretch/>
                    </a:blip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X</a:t>
                </a:r>
                <a:endParaRPr b="0" lang="en-US" sz="1800" spc="1" strike="noStrike">
                  <a:ln w="0">
                    <a:noFill/>
                  </a:ln>
                  <a:blipFill rotWithShape="0">
                    <a:blip r:embed="rId3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5291280" y="620640"/>
              <a:ext cx="1656720" cy="4032000"/>
              <a:chOff x="5291280" y="620640"/>
              <a:chExt cx="1656720" cy="4032000"/>
            </a:xfrm>
          </p:grpSpPr>
          <p:sp>
            <p:nvSpPr>
              <p:cNvPr id="173" name=""/>
              <p:cNvSpPr/>
              <p:nvPr/>
            </p:nvSpPr>
            <p:spPr>
              <a:xfrm>
                <a:off x="5291280" y="620640"/>
                <a:ext cx="1656720" cy="313956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 txBox="1"/>
              <p:nvPr/>
            </p:nvSpPr>
            <p:spPr>
              <a:xfrm>
                <a:off x="5751360" y="3940200"/>
                <a:ext cx="553680" cy="7124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blipFill rotWithShape="0">
                      <a:blip r:embed="rId4"/>
                      <a:srcRect/>
                      <a:stretch/>
                    </a:blip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У</a:t>
                </a:r>
                <a:endParaRPr b="0" lang="en-US" sz="1800" spc="1" strike="noStrike">
                  <a:ln w="0">
                    <a:noFill/>
                  </a:ln>
                  <a:blipFill rotWithShape="0">
                    <a:blip r:embed="rId5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2843280" y="17017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627280" y="1630440"/>
              <a:ext cx="3603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" name=""/>
            <p:cNvGrpSpPr/>
            <p:nvPr/>
          </p:nvGrpSpPr>
          <p:grpSpPr>
            <a:xfrm>
              <a:off x="5940360" y="2781360"/>
              <a:ext cx="451800" cy="520560"/>
              <a:chOff x="5940360" y="2781360"/>
              <a:chExt cx="451800" cy="520560"/>
            </a:xfrm>
          </p:grpSpPr>
          <p:sp>
            <p:nvSpPr>
              <p:cNvPr id="178" name=""/>
              <p:cNvSpPr/>
              <p:nvPr/>
            </p:nvSpPr>
            <p:spPr>
              <a:xfrm>
                <a:off x="6013440" y="278136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940360" y="2997000"/>
                <a:ext cx="71280" cy="7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6372360" y="2349360"/>
              <a:ext cx="596520" cy="520560"/>
              <a:chOff x="6372360" y="2349360"/>
              <a:chExt cx="596520" cy="520560"/>
            </a:xfrm>
          </p:grpSpPr>
          <p:sp>
            <p:nvSpPr>
              <p:cNvPr id="181" name=""/>
              <p:cNvSpPr/>
              <p:nvPr/>
            </p:nvSpPr>
            <p:spPr>
              <a:xfrm>
                <a:off x="6372360" y="2636640"/>
                <a:ext cx="7128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590160" y="234936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6012000" y="1268280"/>
              <a:ext cx="360360" cy="426960"/>
              <a:chOff x="6012000" y="1268280"/>
              <a:chExt cx="360360" cy="426960"/>
            </a:xfrm>
          </p:grpSpPr>
          <p:sp>
            <p:nvSpPr>
              <p:cNvPr id="184" name=""/>
              <p:cNvSpPr/>
              <p:nvPr/>
            </p:nvSpPr>
            <p:spPr>
              <a:xfrm>
                <a:off x="6156360" y="1268280"/>
                <a:ext cx="21600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V="1">
                <a:off x="6012000" y="1485000"/>
                <a:ext cx="7128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6012000" y="1773360"/>
              <a:ext cx="343080" cy="426960"/>
              <a:chOff x="6012000" y="1773360"/>
              <a:chExt cx="343080" cy="426960"/>
            </a:xfrm>
          </p:grpSpPr>
          <p:sp>
            <p:nvSpPr>
              <p:cNvPr id="187" name=""/>
              <p:cNvSpPr/>
              <p:nvPr/>
            </p:nvSpPr>
            <p:spPr>
              <a:xfrm>
                <a:off x="6156360" y="1773360"/>
                <a:ext cx="1987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012000" y="1915920"/>
                <a:ext cx="7128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6012000" y="765000"/>
              <a:ext cx="451800" cy="520560"/>
              <a:chOff x="6012000" y="765000"/>
              <a:chExt cx="451800" cy="520560"/>
            </a:xfrm>
          </p:grpSpPr>
          <p:sp>
            <p:nvSpPr>
              <p:cNvPr id="190" name=""/>
              <p:cNvSpPr/>
              <p:nvPr/>
            </p:nvSpPr>
            <p:spPr>
              <a:xfrm>
                <a:off x="6085080" y="76500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V="1">
                <a:off x="6012000" y="979920"/>
                <a:ext cx="71280" cy="7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5940360" y="2349360"/>
              <a:ext cx="341280" cy="426960"/>
              <a:chOff x="5940360" y="2349360"/>
              <a:chExt cx="341280" cy="426960"/>
            </a:xfrm>
          </p:grpSpPr>
          <p:sp>
            <p:nvSpPr>
              <p:cNvPr id="193" name=""/>
              <p:cNvSpPr/>
              <p:nvPr/>
            </p:nvSpPr>
            <p:spPr>
              <a:xfrm>
                <a:off x="6082920" y="2349360"/>
                <a:ext cx="1987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>
                <a:off x="5940360" y="2565360"/>
                <a:ext cx="7128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2124000" y="693720"/>
              <a:ext cx="574560" cy="520560"/>
              <a:chOff x="2124000" y="693720"/>
              <a:chExt cx="574560" cy="520560"/>
            </a:xfrm>
          </p:grpSpPr>
          <p:sp>
            <p:nvSpPr>
              <p:cNvPr id="196" name=""/>
              <p:cNvSpPr/>
              <p:nvPr/>
            </p:nvSpPr>
            <p:spPr>
              <a:xfrm>
                <a:off x="2124000" y="693720"/>
                <a:ext cx="480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626920" y="981000"/>
                <a:ext cx="71640" cy="7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2124000" y="1341360"/>
              <a:ext cx="502920" cy="520560"/>
              <a:chOff x="2124000" y="1341360"/>
              <a:chExt cx="502920" cy="520560"/>
            </a:xfrm>
          </p:grpSpPr>
          <p:sp>
            <p:nvSpPr>
              <p:cNvPr id="199" name=""/>
              <p:cNvSpPr/>
              <p:nvPr/>
            </p:nvSpPr>
            <p:spPr>
              <a:xfrm>
                <a:off x="2124000" y="1341360"/>
                <a:ext cx="382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555640" y="1629000"/>
                <a:ext cx="7128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2124000" y="1917720"/>
              <a:ext cx="502920" cy="520560"/>
              <a:chOff x="2124000" y="1917720"/>
              <a:chExt cx="502920" cy="520560"/>
            </a:xfrm>
          </p:grpSpPr>
          <p:sp>
            <p:nvSpPr>
              <p:cNvPr id="202" name=""/>
              <p:cNvSpPr/>
              <p:nvPr/>
            </p:nvSpPr>
            <p:spPr>
              <a:xfrm>
                <a:off x="2124000" y="1917720"/>
                <a:ext cx="36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555640" y="2205000"/>
                <a:ext cx="71280" cy="7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" name=""/>
            <p:cNvGrpSpPr/>
            <p:nvPr/>
          </p:nvGrpSpPr>
          <p:grpSpPr>
            <a:xfrm>
              <a:off x="2124000" y="2494080"/>
              <a:ext cx="574560" cy="520560"/>
              <a:chOff x="2124000" y="2494080"/>
              <a:chExt cx="574560" cy="520560"/>
            </a:xfrm>
          </p:grpSpPr>
          <p:sp>
            <p:nvSpPr>
              <p:cNvPr id="205" name=""/>
              <p:cNvSpPr/>
              <p:nvPr/>
            </p:nvSpPr>
            <p:spPr>
              <a:xfrm>
                <a:off x="2124000" y="2494080"/>
                <a:ext cx="431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626920" y="2781360"/>
                <a:ext cx="7164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2124000" y="3068640"/>
              <a:ext cx="502920" cy="520560"/>
              <a:chOff x="2124000" y="3068640"/>
              <a:chExt cx="502920" cy="520560"/>
            </a:xfrm>
          </p:grpSpPr>
          <p:sp>
            <p:nvSpPr>
              <p:cNvPr id="208" name=""/>
              <p:cNvSpPr/>
              <p:nvPr/>
            </p:nvSpPr>
            <p:spPr>
              <a:xfrm>
                <a:off x="2124000" y="3068640"/>
                <a:ext cx="287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555640" y="3286080"/>
                <a:ext cx="71280" cy="7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 flipV="1">
              <a:off x="2698920" y="980640"/>
              <a:ext cx="3313080" cy="716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2627280" y="981000"/>
              <a:ext cx="3457440" cy="7207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2627280" y="1989000"/>
              <a:ext cx="3384720" cy="2160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2627280" y="2636640"/>
              <a:ext cx="3313080" cy="2156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2627280" y="3068640"/>
              <a:ext cx="3313080" cy="217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54520" y="3664080"/>
              <a:ext cx="366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2989800" y="4292640"/>
            <a:ext cx="21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функ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3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e6"/>
            </a:gs>
            <a:gs pos="100000">
              <a:srgbClr val="f1f1f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39840" y="4797360"/>
            <a:ext cx="8624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Крутой дядя» занял один два кресл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№4 и №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Соответствие в этом случае функцией не явля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468360" y="404640"/>
            <a:ext cx="7272000" cy="4119840"/>
            <a:chOff x="468360" y="404640"/>
            <a:chExt cx="7272000" cy="4119840"/>
          </a:xfrm>
        </p:grpSpPr>
        <p:sp>
          <p:nvSpPr>
            <p:cNvPr id="219" name=""/>
            <p:cNvSpPr/>
            <p:nvPr/>
          </p:nvSpPr>
          <p:spPr>
            <a:xfrm>
              <a:off x="6227640" y="4005360"/>
              <a:ext cx="633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6083280" y="476280"/>
              <a:ext cx="1657080" cy="4032000"/>
              <a:chOff x="6083280" y="476280"/>
              <a:chExt cx="1657080" cy="4032000"/>
            </a:xfrm>
          </p:grpSpPr>
          <p:sp>
            <p:nvSpPr>
              <p:cNvPr id="221" name=""/>
              <p:cNvSpPr/>
              <p:nvPr/>
            </p:nvSpPr>
            <p:spPr>
              <a:xfrm>
                <a:off x="6083280" y="476280"/>
                <a:ext cx="1657080" cy="313956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 txBox="1"/>
              <p:nvPr/>
            </p:nvSpPr>
            <p:spPr>
              <a:xfrm>
                <a:off x="6543720" y="3795840"/>
                <a:ext cx="553680" cy="7124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blipFill rotWithShape="0">
                      <a:blip r:embed="rId1"/>
                      <a:srcRect/>
                      <a:stretch/>
                    </a:blip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У</a:t>
                </a:r>
                <a:endParaRPr b="0" lang="en-US" sz="1800" spc="1" strike="noStrike">
                  <a:ln w="0">
                    <a:noFill/>
                  </a:ln>
                  <a:blipFill rotWithShape="0">
                    <a:blip r:embed="rId2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468360" y="404640"/>
              <a:ext cx="1584000" cy="3960360"/>
              <a:chOff x="468360" y="404640"/>
              <a:chExt cx="1584000" cy="3960360"/>
            </a:xfrm>
          </p:grpSpPr>
          <p:sp>
            <p:nvSpPr>
              <p:cNvPr id="224" name=""/>
              <p:cNvSpPr/>
              <p:nvPr/>
            </p:nvSpPr>
            <p:spPr>
              <a:xfrm>
                <a:off x="468360" y="404640"/>
                <a:ext cx="1584000" cy="324504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 txBox="1"/>
              <p:nvPr/>
            </p:nvSpPr>
            <p:spPr>
              <a:xfrm>
                <a:off x="862920" y="3741120"/>
                <a:ext cx="792000" cy="6238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blipFill rotWithShape="0">
                      <a:blip r:embed="rId3"/>
                      <a:srcRect/>
                      <a:stretch/>
                    </a:blip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X</a:t>
                </a:r>
                <a:endParaRPr b="0" lang="en-US" sz="1800" spc="1" strike="noStrike">
                  <a:ln w="0">
                    <a:noFill/>
                  </a:ln>
                  <a:blipFill rotWithShape="0">
                    <a:blip r:embed="rId4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>
              <a:off x="1620720" y="15573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405080" y="1486080"/>
              <a:ext cx="3603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486880" y="3860640"/>
              <a:ext cx="2847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Arial"/>
                </a:rPr>
                <a:t>не функци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6661080" y="2924280"/>
              <a:ext cx="451800" cy="520560"/>
              <a:chOff x="6661080" y="2924280"/>
              <a:chExt cx="451800" cy="520560"/>
            </a:xfrm>
          </p:grpSpPr>
          <p:sp>
            <p:nvSpPr>
              <p:cNvPr id="230" name=""/>
              <p:cNvSpPr/>
              <p:nvPr/>
            </p:nvSpPr>
            <p:spPr>
              <a:xfrm>
                <a:off x="6734160" y="292428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661080" y="3139920"/>
                <a:ext cx="71280" cy="7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7020000" y="2421000"/>
              <a:ext cx="596520" cy="520560"/>
              <a:chOff x="7020000" y="2421000"/>
              <a:chExt cx="596520" cy="520560"/>
            </a:xfrm>
          </p:grpSpPr>
          <p:sp>
            <p:nvSpPr>
              <p:cNvPr id="233" name=""/>
              <p:cNvSpPr/>
              <p:nvPr/>
            </p:nvSpPr>
            <p:spPr>
              <a:xfrm>
                <a:off x="7020000" y="2708280"/>
                <a:ext cx="7128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237800" y="242100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6804000" y="1123920"/>
              <a:ext cx="360360" cy="426960"/>
              <a:chOff x="6804000" y="1123920"/>
              <a:chExt cx="360360" cy="426960"/>
            </a:xfrm>
          </p:grpSpPr>
          <p:sp>
            <p:nvSpPr>
              <p:cNvPr id="236" name=""/>
              <p:cNvSpPr/>
              <p:nvPr/>
            </p:nvSpPr>
            <p:spPr>
              <a:xfrm>
                <a:off x="6948360" y="1123920"/>
                <a:ext cx="21600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V="1">
                <a:off x="6804000" y="1340640"/>
                <a:ext cx="7128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6804000" y="1628640"/>
              <a:ext cx="343080" cy="426960"/>
              <a:chOff x="6804000" y="1628640"/>
              <a:chExt cx="343080" cy="426960"/>
            </a:xfrm>
          </p:grpSpPr>
          <p:sp>
            <p:nvSpPr>
              <p:cNvPr id="239" name=""/>
              <p:cNvSpPr/>
              <p:nvPr/>
            </p:nvSpPr>
            <p:spPr>
              <a:xfrm>
                <a:off x="6948360" y="1628640"/>
                <a:ext cx="1987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804000" y="1771560"/>
                <a:ext cx="71280" cy="7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6804000" y="620640"/>
              <a:ext cx="451800" cy="520560"/>
              <a:chOff x="6804000" y="620640"/>
              <a:chExt cx="451800" cy="520560"/>
            </a:xfrm>
          </p:grpSpPr>
          <p:sp>
            <p:nvSpPr>
              <p:cNvPr id="242" name=""/>
              <p:cNvSpPr/>
              <p:nvPr/>
            </p:nvSpPr>
            <p:spPr>
              <a:xfrm>
                <a:off x="6877080" y="62064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V="1">
                <a:off x="6804000" y="835560"/>
                <a:ext cx="71280" cy="7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6732720" y="2205000"/>
              <a:ext cx="341280" cy="426960"/>
              <a:chOff x="6732720" y="2205000"/>
              <a:chExt cx="341280" cy="426960"/>
            </a:xfrm>
          </p:grpSpPr>
          <p:sp>
            <p:nvSpPr>
              <p:cNvPr id="245" name=""/>
              <p:cNvSpPr/>
              <p:nvPr/>
            </p:nvSpPr>
            <p:spPr>
              <a:xfrm>
                <a:off x="6875280" y="2205000"/>
                <a:ext cx="1987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6732720" y="2421000"/>
                <a:ext cx="7128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901800" y="549360"/>
              <a:ext cx="574560" cy="520560"/>
              <a:chOff x="901800" y="549360"/>
              <a:chExt cx="574560" cy="520560"/>
            </a:xfrm>
          </p:grpSpPr>
          <p:sp>
            <p:nvSpPr>
              <p:cNvPr id="248" name=""/>
              <p:cNvSpPr/>
              <p:nvPr/>
            </p:nvSpPr>
            <p:spPr>
              <a:xfrm>
                <a:off x="901800" y="549360"/>
                <a:ext cx="480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404720" y="836640"/>
                <a:ext cx="71640" cy="7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901800" y="1197000"/>
              <a:ext cx="502920" cy="520560"/>
              <a:chOff x="901800" y="1197000"/>
              <a:chExt cx="502920" cy="520560"/>
            </a:xfrm>
          </p:grpSpPr>
          <p:sp>
            <p:nvSpPr>
              <p:cNvPr id="251" name=""/>
              <p:cNvSpPr/>
              <p:nvPr/>
            </p:nvSpPr>
            <p:spPr>
              <a:xfrm>
                <a:off x="901800" y="1197000"/>
                <a:ext cx="382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333440" y="1484640"/>
                <a:ext cx="7128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901800" y="1773360"/>
              <a:ext cx="502920" cy="520560"/>
              <a:chOff x="901800" y="1773360"/>
              <a:chExt cx="502920" cy="520560"/>
            </a:xfrm>
          </p:grpSpPr>
          <p:sp>
            <p:nvSpPr>
              <p:cNvPr id="254" name=""/>
              <p:cNvSpPr/>
              <p:nvPr/>
            </p:nvSpPr>
            <p:spPr>
              <a:xfrm>
                <a:off x="901800" y="1773360"/>
                <a:ext cx="36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333440" y="2060640"/>
                <a:ext cx="71280" cy="7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901800" y="2349360"/>
              <a:ext cx="574560" cy="520560"/>
              <a:chOff x="901800" y="2349360"/>
              <a:chExt cx="574560" cy="520560"/>
            </a:xfrm>
          </p:grpSpPr>
          <p:sp>
            <p:nvSpPr>
              <p:cNvPr id="257" name=""/>
              <p:cNvSpPr/>
              <p:nvPr/>
            </p:nvSpPr>
            <p:spPr>
              <a:xfrm>
                <a:off x="901800" y="2349360"/>
                <a:ext cx="431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404720" y="2636640"/>
                <a:ext cx="7164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901800" y="2924280"/>
              <a:ext cx="502920" cy="520560"/>
              <a:chOff x="901800" y="2924280"/>
              <a:chExt cx="502920" cy="520560"/>
            </a:xfrm>
          </p:grpSpPr>
          <p:sp>
            <p:nvSpPr>
              <p:cNvPr id="260" name=""/>
              <p:cNvSpPr/>
              <p:nvPr/>
            </p:nvSpPr>
            <p:spPr>
              <a:xfrm>
                <a:off x="901800" y="2924280"/>
                <a:ext cx="287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333440" y="3141720"/>
                <a:ext cx="71280" cy="7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1476360" y="907920"/>
              <a:ext cx="532764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1403280" y="1412640"/>
              <a:ext cx="5400720" cy="14292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1403280" y="1844640"/>
              <a:ext cx="5400720" cy="2872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1476360" y="2421000"/>
              <a:ext cx="5256360" cy="2160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476360" y="2637000"/>
              <a:ext cx="5543640" cy="1425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403280" y="3139920"/>
              <a:ext cx="525780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e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574560" y="404640"/>
            <a:ext cx="856944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С функцией мы встречаемся каждый де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Пришли в магазин, покупаем конфеты. Пусть их цена 100 рублей. Сколько денег мы отдаем за 2кг? За 3кг? Говорят, что стоимость покупки есть функция от количества конфе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05000" y="3500280"/>
            <a:ext cx="82227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Ежедневная температура на улице е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функция от време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В одно и то же время температура не мож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принимать более одного значения и бы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одновременно +3 и -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20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20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" dur="2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7" dur="20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20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3" dur="20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6" dur="20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cce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339840" y="260280"/>
            <a:ext cx="8480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представлен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астролог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функциональн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зависим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межд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натуральным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числами(с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до7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) 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и цветом радуги выглядит та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439560" y="1844640"/>
          <a:ext cx="8309160" cy="4680000"/>
        </p:xfrm>
        <a:graphic>
          <a:graphicData uri="http://schemas.openxmlformats.org/drawingml/2006/table">
            <a:tbl>
              <a:tblPr/>
              <a:tblGrid>
                <a:gridCol w="1224000"/>
                <a:gridCol w="1665360"/>
                <a:gridCol w="1231920"/>
                <a:gridCol w="418788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Чис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Цв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Но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Что означа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Крас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д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Энергия, бодр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Оранжевы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р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Раскрепощение, освобожд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Желт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Гармоничное отношение к жиз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6699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6699"/>
                          </a:solidFill>
                          <a:latin typeface="Arial"/>
                        </a:rPr>
                        <a:t>Зеле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6699"/>
                          </a:solidFill>
                          <a:latin typeface="Arial"/>
                        </a:rPr>
                        <a:t>ф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6699"/>
                          </a:solidFill>
                          <a:latin typeface="Arial"/>
                        </a:rPr>
                        <a:t>Цвет природы, мирозд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ff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ff"/>
                          </a:solidFill>
                          <a:latin typeface="Arial"/>
                        </a:rPr>
                        <a:t>Голубо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ff"/>
                          </a:solidFill>
                          <a:latin typeface="Arial"/>
                        </a:rPr>
                        <a:t>со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ff"/>
                          </a:solidFill>
                          <a:latin typeface="Arial"/>
                        </a:rPr>
                        <a:t>Духовность ,глубина ,чувст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Сини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л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росветляет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</a:t>
                      </a: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если светлый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)</a:t>
                      </a: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,давит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</a:t>
                      </a: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если темный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Фиолетов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с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Космическая энергия, интеллект,философ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3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 flipV="1">
            <a:off x="266760" y="1045800"/>
            <a:ext cx="8553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2360" y="765000"/>
            <a:ext cx="864072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чиная с числа </a:t>
            </a:r>
            <a:r>
              <a:rPr b="1" lang="ru-RU" sz="2800" spc="-1" strike="noStrike">
                <a:solidFill>
                  <a:srgbClr val="996600"/>
                </a:solidFill>
                <a:latin typeface="Arial"/>
              </a:rPr>
              <a:t>8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цветовое соответствие повторяется. Как определить какого цвета число </a:t>
            </a:r>
            <a:r>
              <a:rPr b="1" lang="ru-RU" sz="2800" spc="-1" strike="noStrike">
                <a:solidFill>
                  <a:srgbClr val="996600"/>
                </a:solidFill>
                <a:latin typeface="Arial"/>
              </a:rPr>
              <a:t>2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до найти остаток от деления </a:t>
            </a:r>
            <a:r>
              <a:rPr b="1" lang="ru-RU" sz="2800" spc="-1" strike="noStrike">
                <a:solidFill>
                  <a:srgbClr val="996600"/>
                </a:solidFill>
                <a:latin typeface="Arial"/>
              </a:rPr>
              <a:t>29</a:t>
            </a:r>
            <a:r>
              <a:rPr b="0" lang="ru-RU" sz="2800" spc="-1" strike="noStrike">
                <a:solidFill>
                  <a:srgbClr val="9966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lang="ru-RU" sz="2800" spc="-1" strike="noStrike">
                <a:solidFill>
                  <a:srgbClr val="996600"/>
                </a:solidFill>
                <a:latin typeface="Arial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!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будет </a:t>
            </a:r>
            <a:r>
              <a:rPr b="1" lang="ru-RU" sz="2800" spc="-1" strike="noStrike">
                <a:solidFill>
                  <a:srgbClr val="9966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Значит,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29-красного цвет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т. 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какого цвета </a:t>
            </a:r>
            <a:r>
              <a:rPr b="1" lang="ru-RU" sz="2800" spc="-1" strike="noStrike">
                <a:solidFill>
                  <a:srgbClr val="996600"/>
                </a:solidFill>
                <a:latin typeface="Arial"/>
              </a:rPr>
              <a:t>миллио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аш день рожден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А как </a:t>
            </a:r>
            <a:r>
              <a:rPr b="1" lang="ru-RU" sz="2800" spc="-1" strike="noStrike">
                <a:solidFill>
                  <a:srgbClr val="996600"/>
                </a:solidFill>
                <a:latin typeface="Arial"/>
              </a:rPr>
              <a:t>звучи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6600"/>
                </a:solidFill>
                <a:latin typeface="Arial"/>
              </a:rPr>
              <a:t>ваш день рожден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вуковое соответствие выстраивается по аналогичному алгоритму и согласно вышеприведенной таблиц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50920" y="4797360"/>
            <a:ext cx="840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ратимся к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таблице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еще р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5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4T07:52:45Z</dcterms:created>
  <dc:creator>user-03</dc:creator>
  <dc:description/>
  <dc:language>en-US</dc:language>
  <cp:lastModifiedBy>Харитонова Н.Н.</cp:lastModifiedBy>
  <dcterms:modified xsi:type="dcterms:W3CDTF">2008-11-10T10:27:27Z</dcterms:modified>
  <cp:revision>19</cp:revision>
  <dc:subject/>
  <dc:title>Слайд 1</dc:title>
</cp:coreProperties>
</file>