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970A-21CA-4D61-9C63-DB82F1A8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0E42-505F-4616-B485-BEC3025A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BD296-4A08-485E-AAA9-AB9A2525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15F52-1E73-4064-A948-E0499BBD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6B13-A3DD-4A58-86ED-2B088D57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31EC-57C6-4DD8-8FFC-78F20D6B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781A-D432-40C2-BEC4-BD0514CA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80C7-F4BF-48D2-AF7D-320627F2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4389-CE0A-441F-9005-3BD41E07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2C66-A65D-4EF2-AB8A-06892619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C1D4-7474-4ECF-B375-3A7EFDAA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4B810-E564-41AF-ADE7-373DC157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676C-D54B-4251-9780-8098A4CF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9497-D3CC-4B2E-8990-A689D1BB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555D-178C-4AD2-A6B3-BE507297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FB06-F21F-45F0-A4D1-C9A1DCA2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32F3-2D50-4CB1-BCC9-167ABECC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1AE23-9F53-4892-A38D-955DA16A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D2D7-E1D8-436A-B691-8944CB5D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A7EB1-D55F-42FC-A6E8-F0FD9C73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C6C6F-F93A-4CCE-AFB9-42B835B6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6AF0D-DDCF-48D0-99F3-E63A81CE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A9704-DD24-4263-BE32-A041870D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01239-AEAC-4935-82F6-C9307ECF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3A9C-91F1-4926-9902-0AA5E7EFD3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ED59-E700-4A25-8B24-C97313500F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258920" y="1052640"/>
            <a:ext cx="6264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ТО  ТАКОЕ  ФУНКЦИЯ?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11280" y="404640"/>
            <a:ext cx="7940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Функцию можно задать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таб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опис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граф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форму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6633"/>
                </a:solidFill>
                <a:uFillTx/>
                <a:latin typeface="Arial"/>
              </a:rPr>
              <a:t>Рассмотрим графический способ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58920" y="4292640"/>
            <a:ext cx="64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из ниже приведенных картинок являются графиками некоторых функций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x)?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ace9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912600" y="949680"/>
            <a:ext cx="2857680" cy="2400840"/>
            <a:chOff x="912600" y="949680"/>
            <a:chExt cx="2857680" cy="2400840"/>
          </a:xfrm>
        </p:grpSpPr>
        <p:sp>
          <p:nvSpPr>
            <p:cNvPr id="278" name=""/>
            <p:cNvSpPr/>
            <p:nvPr/>
          </p:nvSpPr>
          <p:spPr>
            <a:xfrm flipV="1">
              <a:off x="1369440" y="949680"/>
              <a:ext cx="0" cy="240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27080" y="2665440"/>
              <a:ext cx="26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89600" y="2093760"/>
              <a:ext cx="45792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00800" y="2093760"/>
              <a:ext cx="360" cy="571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1149120" y="1637280"/>
              <a:ext cx="1142640" cy="125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12600" y="95076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27560" y="277956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12600" y="197964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84280" y="2779560"/>
              <a:ext cx="799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       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160600" y="949680"/>
            <a:ext cx="2857680" cy="2400840"/>
            <a:chOff x="5160600" y="949680"/>
            <a:chExt cx="2857680" cy="2400840"/>
          </a:xfrm>
        </p:grpSpPr>
        <p:sp>
          <p:nvSpPr>
            <p:cNvPr id="288" name=""/>
            <p:cNvSpPr/>
            <p:nvPr/>
          </p:nvSpPr>
          <p:spPr>
            <a:xfrm flipV="1">
              <a:off x="5617440" y="949680"/>
              <a:ext cx="0" cy="240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75080" y="2665440"/>
              <a:ext cx="26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18160" y="1636560"/>
              <a:ext cx="57132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89480" y="1636560"/>
              <a:ext cx="720" cy="1028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60600" y="95076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75560" y="277956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60600" y="152244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32280" y="2779560"/>
              <a:ext cx="799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       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189480" y="1064880"/>
              <a:ext cx="914400" cy="571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89480" y="1636560"/>
              <a:ext cx="91440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859280" y="3716280"/>
            <a:ext cx="3314880" cy="2629080"/>
            <a:chOff x="4859280" y="3716280"/>
            <a:chExt cx="3314880" cy="2629080"/>
          </a:xfrm>
        </p:grpSpPr>
        <p:sp>
          <p:nvSpPr>
            <p:cNvPr id="299" name=""/>
            <p:cNvSpPr txBox="1"/>
            <p:nvPr/>
          </p:nvSpPr>
          <p:spPr>
            <a:xfrm>
              <a:off x="4859280" y="3716280"/>
              <a:ext cx="3314880" cy="262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544360" y="3829680"/>
              <a:ext cx="0" cy="240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02000" y="5545080"/>
              <a:ext cx="26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45080" y="4287600"/>
              <a:ext cx="125748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02560" y="4287600"/>
              <a:ext cx="360" cy="125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87520" y="383040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02480" y="565956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87520" y="4173480"/>
              <a:ext cx="3427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59200" y="5659560"/>
              <a:ext cx="12571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                   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6230520" y="4287600"/>
              <a:ext cx="571320" cy="799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02560" y="4287600"/>
              <a:ext cx="571320" cy="799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826920" y="3484440"/>
            <a:ext cx="3657600" cy="2514600"/>
            <a:chOff x="826920" y="3484440"/>
            <a:chExt cx="3657600" cy="2514600"/>
          </a:xfrm>
        </p:grpSpPr>
        <p:sp>
          <p:nvSpPr>
            <p:cNvPr id="311" name=""/>
            <p:cNvSpPr/>
            <p:nvPr/>
          </p:nvSpPr>
          <p:spPr>
            <a:xfrm>
              <a:off x="1398240" y="3598200"/>
              <a:ext cx="0" cy="240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69640" y="55425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05800" y="4155840"/>
              <a:ext cx="1371600" cy="1370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6920" y="348444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27320" y="5656320"/>
              <a:ext cx="4572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41040" y="565632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124000" y="404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72360" y="333360"/>
            <a:ext cx="8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79640" y="342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516720" y="3500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1f1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66760" y="260280"/>
            <a:ext cx="855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6633"/>
                </a:solidFill>
                <a:uFillTx/>
                <a:latin typeface="Arial"/>
              </a:rPr>
              <a:t>Рассмотрим табличный спос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9900"/>
                </a:solidFill>
                <a:uFillTx/>
                <a:latin typeface="Arial"/>
              </a:rPr>
              <a:t>Какие из приведенных таблиц задают функцию у</a:t>
            </a:r>
            <a:r>
              <a:rPr b="0" i="1" lang="en-US" sz="2400" spc="-1" strike="noStrike" u="sng">
                <a:solidFill>
                  <a:srgbClr val="ff9900"/>
                </a:solidFill>
                <a:uFillTx/>
                <a:latin typeface="Arial"/>
              </a:rPr>
              <a:t>=f (x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11280" y="1413000"/>
          <a:ext cx="2665440" cy="1035000"/>
        </p:xfrm>
        <a:graphic>
          <a:graphicData uri="http://schemas.openxmlformats.org/drawingml/2006/table">
            <a:tbl>
              <a:tblPr/>
              <a:tblGrid>
                <a:gridCol w="490320"/>
                <a:gridCol w="490680"/>
                <a:gridCol w="603360"/>
                <a:gridCol w="588960"/>
                <a:gridCol w="49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"/>
          <p:cNvSpPr/>
          <p:nvPr/>
        </p:nvSpPr>
        <p:spPr>
          <a:xfrm>
            <a:off x="-57240" y="1557360"/>
            <a:ext cx="52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-3240" y="155736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611280" y="2637000"/>
          <a:ext cx="1944720" cy="109368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431640"/>
                <a:gridCol w="50508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"/>
          <p:cNvSpPr/>
          <p:nvPr/>
        </p:nvSpPr>
        <p:spPr>
          <a:xfrm>
            <a:off x="0" y="2997360"/>
            <a:ext cx="5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11280" y="3933720"/>
          <a:ext cx="2448000" cy="115092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431640"/>
                <a:gridCol w="505080"/>
                <a:gridCol w="50328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0" y="4076640"/>
            <a:ext cx="5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11280" y="5229360"/>
          <a:ext cx="1871640" cy="1044360"/>
        </p:xfrm>
        <a:graphic>
          <a:graphicData uri="http://schemas.openxmlformats.org/drawingml/2006/table">
            <a:tbl>
              <a:tblPr/>
              <a:tblGrid>
                <a:gridCol w="431640"/>
                <a:gridCol w="503280"/>
                <a:gridCol w="431640"/>
                <a:gridCol w="505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-38160" y="5373720"/>
            <a:ext cx="5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252360" y="5300640"/>
            <a:ext cx="81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219640" y="1413000"/>
          <a:ext cx="3552840" cy="1035000"/>
        </p:xfrm>
        <a:graphic>
          <a:graphicData uri="http://schemas.openxmlformats.org/drawingml/2006/table">
            <a:tbl>
              <a:tblPr/>
              <a:tblGrid>
                <a:gridCol w="592200"/>
                <a:gridCol w="592200"/>
                <a:gridCol w="544320"/>
                <a:gridCol w="639720"/>
                <a:gridCol w="592200"/>
                <a:gridCol w="59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4572000" y="1557360"/>
            <a:ext cx="5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5219640" y="2637000"/>
          <a:ext cx="2952720" cy="1093680"/>
        </p:xfrm>
        <a:graphic>
          <a:graphicData uri="http://schemas.openxmlformats.org/drawingml/2006/table">
            <a:tbl>
              <a:tblPr/>
              <a:tblGrid>
                <a:gridCol w="576360"/>
                <a:gridCol w="611280"/>
                <a:gridCol w="576000"/>
                <a:gridCol w="613080"/>
                <a:gridCol w="57600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4572000" y="2637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219640" y="3933720"/>
          <a:ext cx="3529080" cy="109404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  <a:gridCol w="576000"/>
                <a:gridCol w="648000"/>
                <a:gridCol w="57600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4572000" y="4149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5219640" y="5229360"/>
          <a:ext cx="1368360" cy="1035000"/>
        </p:xfrm>
        <a:graphic>
          <a:graphicData uri="http://schemas.openxmlformats.org/drawingml/2006/table">
            <a:tbl>
              <a:tblPr/>
              <a:tblGrid>
                <a:gridCol w="576360"/>
                <a:gridCol w="79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>
            <a:off x="4572000" y="5373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79280" y="404640"/>
            <a:ext cx="878544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6633"/>
                </a:solidFill>
                <a:uFillTx/>
                <a:latin typeface="Arial"/>
              </a:rPr>
              <a:t>Рассмотрим словесный способ </a:t>
            </a:r>
            <a:r>
              <a:rPr b="1" lang="en-US" sz="2800" spc="-1" strike="noStrike" u="sng">
                <a:solidFill>
                  <a:srgbClr val="996633"/>
                </a:solidFill>
                <a:uFillTx/>
                <a:latin typeface="Arial"/>
              </a:rPr>
              <a:t>(</a:t>
            </a:r>
            <a:r>
              <a:rPr b="1" lang="ru-RU" sz="2800" spc="-1" strike="noStrike" u="sng">
                <a:solidFill>
                  <a:srgbClr val="996633"/>
                </a:solidFill>
                <a:uFillTx/>
                <a:latin typeface="Arial"/>
              </a:rPr>
              <a:t>описание</a:t>
            </a:r>
            <a:r>
              <a:rPr b="1" lang="en-US" sz="2800" spc="-1" strike="noStrike" u="sng">
                <a:solidFill>
                  <a:srgbClr val="996633"/>
                </a:solidFill>
                <a:uFillTx/>
                <a:latin typeface="Arial"/>
              </a:rPr>
              <a:t>)</a:t>
            </a:r>
            <a:r>
              <a:rPr b="1" lang="ru-RU" sz="2800" spc="-1" strike="noStrike" u="sng">
                <a:solidFill>
                  <a:srgbClr val="996633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Какие из следующих описаний задают функ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аждому четному натуральному числу ставится в соответствие 1,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ечетному -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аждому простому числу ставится в соответствие 1, а четному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Каждому числу ставится в соответствие его моду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Каждому числу ставится в соответствие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Каждому числу ставится в соответствие оно са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Числам ,меньшим 3,ставится в соответствие число 5,а числам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большим 2,ставится в соответствие число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Каждому неотрицательному числу ставится в соответствие число 1, 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каждому неположительному – число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3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3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30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30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3000"/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3000"/>
                                        <p:tgtEl>
                                          <p:spTgt spid="3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3000"/>
                                        <p:tgtEl>
                                          <p:spTgt spid="3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3000"/>
                                        <p:tgtEl>
                                          <p:spTgt spid="3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260280"/>
            <a:ext cx="889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Функциональную  зависимость  между  двумя  множе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легко установить, если  опираться  на 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фун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2276640"/>
            <a:ext cx="86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ЭТО  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МЕЖДУ  ДВУМЯ  МНОЖЕСТВАМИ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Y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ПРИ  КОТОРОМ  КАЖДОМУ  ЭЛЕМЕНТУ 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МНОЖЕСТВА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СООТВЕТСТВУЕТ  ЕДИНСТВЕННЫЙ  ЭЛЕМЕНТ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З МНОЖЕСТ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Y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558972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ДОМАШНЕЕ  ЗАДАН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описать 1,2,3 функции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выполнить 1,2,3 иллюст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к понятию «функц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5640" y="692280"/>
            <a:ext cx="748656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ЦЕЛЬ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дать представление о функции с помощью понятия «множество», показать связь между математикой и окружающим ми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11280" y="3141720"/>
            <a:ext cx="316728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63640" y="40464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ЧТО ТАКОЕ ФУНКЦ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628640"/>
            <a:ext cx="801396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ей в общем понимании называется любой зако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 которому каждому объекту из некоторого множества ставится в соответствие некотор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 из друго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46"/>
            </a:gs>
            <a:gs pos="100000">
              <a:srgbClr val="99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851280" y="1268280"/>
            <a:ext cx="1657080" cy="4032000"/>
            <a:chOff x="3851280" y="1268280"/>
            <a:chExt cx="1657080" cy="4032000"/>
          </a:xfrm>
        </p:grpSpPr>
        <p:sp>
          <p:nvSpPr>
            <p:cNvPr id="113" name=""/>
            <p:cNvSpPr/>
            <p:nvPr/>
          </p:nvSpPr>
          <p:spPr>
            <a:xfrm>
              <a:off x="3851280" y="1268280"/>
              <a:ext cx="1657080" cy="31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4311720" y="4587840"/>
              <a:ext cx="553680" cy="71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У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0920" y="1197000"/>
            <a:ext cx="1584000" cy="3960360"/>
            <a:chOff x="250920" y="1197000"/>
            <a:chExt cx="1584000" cy="3960360"/>
          </a:xfrm>
        </p:grpSpPr>
        <p:sp>
          <p:nvSpPr>
            <p:cNvPr id="116" name=""/>
            <p:cNvSpPr/>
            <p:nvPr/>
          </p:nvSpPr>
          <p:spPr>
            <a:xfrm>
              <a:off x="250920" y="1197000"/>
              <a:ext cx="1584000" cy="32446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645480" y="4533480"/>
              <a:ext cx="792000" cy="62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X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79280" y="0"/>
            <a:ext cx="8713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Рассмотрим при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бозначим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X-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пассажиры, У- места в автобу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6600" y="5734080"/>
            <a:ext cx="87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Каждому пассажиру соответствует одно кре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ледовательно, данное соответствие- </a:t>
            </a:r>
            <a:r>
              <a:rPr b="1" lang="en-US" sz="2800" spc="-1" strike="noStrike" u="sng">
                <a:solidFill>
                  <a:srgbClr val="996633"/>
                </a:solidFill>
                <a:uFillTx/>
                <a:latin typeface="Arial"/>
              </a:rPr>
              <a:t>функция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3280" y="234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2278080"/>
            <a:ext cx="36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1800" y="409572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37440" y="472428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фун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00720" y="3429000"/>
            <a:ext cx="451800" cy="520560"/>
            <a:chOff x="4500720" y="3429000"/>
            <a:chExt cx="451800" cy="520560"/>
          </a:xfrm>
        </p:grpSpPr>
        <p:sp>
          <p:nvSpPr>
            <p:cNvPr id="125" name=""/>
            <p:cNvSpPr/>
            <p:nvPr/>
          </p:nvSpPr>
          <p:spPr>
            <a:xfrm>
              <a:off x="4573800" y="3429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00720" y="364464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932360" y="2997360"/>
            <a:ext cx="596520" cy="520560"/>
            <a:chOff x="4932360" y="2997360"/>
            <a:chExt cx="596520" cy="520560"/>
          </a:xfrm>
        </p:grpSpPr>
        <p:sp>
          <p:nvSpPr>
            <p:cNvPr id="128" name=""/>
            <p:cNvSpPr/>
            <p:nvPr/>
          </p:nvSpPr>
          <p:spPr>
            <a:xfrm>
              <a:off x="4932360" y="32846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50160" y="2997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72000" y="1916280"/>
            <a:ext cx="360360" cy="426960"/>
            <a:chOff x="4572000" y="1916280"/>
            <a:chExt cx="360360" cy="426960"/>
          </a:xfrm>
        </p:grpSpPr>
        <p:sp>
          <p:nvSpPr>
            <p:cNvPr id="131" name=""/>
            <p:cNvSpPr/>
            <p:nvPr/>
          </p:nvSpPr>
          <p:spPr>
            <a:xfrm>
              <a:off x="4716360" y="1916280"/>
              <a:ext cx="216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0" y="213300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0" y="2421000"/>
            <a:ext cx="343080" cy="426960"/>
            <a:chOff x="4572000" y="2421000"/>
            <a:chExt cx="343080" cy="426960"/>
          </a:xfrm>
        </p:grpSpPr>
        <p:sp>
          <p:nvSpPr>
            <p:cNvPr id="134" name=""/>
            <p:cNvSpPr/>
            <p:nvPr/>
          </p:nvSpPr>
          <p:spPr>
            <a:xfrm>
              <a:off x="4716360" y="242100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0" y="256356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572000" y="1413000"/>
            <a:ext cx="451800" cy="520560"/>
            <a:chOff x="4572000" y="1413000"/>
            <a:chExt cx="451800" cy="520560"/>
          </a:xfrm>
        </p:grpSpPr>
        <p:sp>
          <p:nvSpPr>
            <p:cNvPr id="137" name=""/>
            <p:cNvSpPr/>
            <p:nvPr/>
          </p:nvSpPr>
          <p:spPr>
            <a:xfrm>
              <a:off x="4645080" y="1413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572000" y="162792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500720" y="2997360"/>
            <a:ext cx="341280" cy="426960"/>
            <a:chOff x="4500720" y="2997360"/>
            <a:chExt cx="341280" cy="426960"/>
          </a:xfrm>
        </p:grpSpPr>
        <p:sp>
          <p:nvSpPr>
            <p:cNvPr id="140" name=""/>
            <p:cNvSpPr/>
            <p:nvPr/>
          </p:nvSpPr>
          <p:spPr>
            <a:xfrm>
              <a:off x="4643280" y="299736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500720" y="321336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84360" y="1341360"/>
            <a:ext cx="574560" cy="520560"/>
            <a:chOff x="684360" y="1341360"/>
            <a:chExt cx="574560" cy="520560"/>
          </a:xfrm>
        </p:grpSpPr>
        <p:sp>
          <p:nvSpPr>
            <p:cNvPr id="143" name=""/>
            <p:cNvSpPr/>
            <p:nvPr/>
          </p:nvSpPr>
          <p:spPr>
            <a:xfrm>
              <a:off x="684360" y="134136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87280" y="162864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84360" y="1989000"/>
            <a:ext cx="502920" cy="520560"/>
            <a:chOff x="684360" y="1989000"/>
            <a:chExt cx="502920" cy="520560"/>
          </a:xfrm>
        </p:grpSpPr>
        <p:sp>
          <p:nvSpPr>
            <p:cNvPr id="146" name=""/>
            <p:cNvSpPr/>
            <p:nvPr/>
          </p:nvSpPr>
          <p:spPr>
            <a:xfrm>
              <a:off x="684360" y="1989000"/>
              <a:ext cx="38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16000" y="22766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84360" y="2565360"/>
            <a:ext cx="502920" cy="520560"/>
            <a:chOff x="684360" y="2565360"/>
            <a:chExt cx="502920" cy="520560"/>
          </a:xfrm>
        </p:grpSpPr>
        <p:sp>
          <p:nvSpPr>
            <p:cNvPr id="149" name=""/>
            <p:cNvSpPr/>
            <p:nvPr/>
          </p:nvSpPr>
          <p:spPr>
            <a:xfrm>
              <a:off x="684360" y="25653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16000" y="285264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4360" y="3141720"/>
            <a:ext cx="574560" cy="520560"/>
            <a:chOff x="684360" y="3141720"/>
            <a:chExt cx="574560" cy="520560"/>
          </a:xfrm>
        </p:grpSpPr>
        <p:sp>
          <p:nvSpPr>
            <p:cNvPr id="152" name=""/>
            <p:cNvSpPr/>
            <p:nvPr/>
          </p:nvSpPr>
          <p:spPr>
            <a:xfrm>
              <a:off x="684360" y="31417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87280" y="342900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4360" y="3716280"/>
            <a:ext cx="502920" cy="520560"/>
            <a:chOff x="684360" y="3716280"/>
            <a:chExt cx="502920" cy="520560"/>
          </a:xfrm>
        </p:grpSpPr>
        <p:sp>
          <p:nvSpPr>
            <p:cNvPr id="155" name=""/>
            <p:cNvSpPr/>
            <p:nvPr/>
          </p:nvSpPr>
          <p:spPr>
            <a:xfrm>
              <a:off x="684360" y="371628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16000" y="393372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591600" y="1341360"/>
            <a:ext cx="14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2360" y="1844640"/>
            <a:ext cx="216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90160" y="2421000"/>
            <a:ext cx="13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90160" y="2997360"/>
            <a:ext cx="14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я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89800" y="364500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тет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258920" y="1628280"/>
            <a:ext cx="3313080" cy="71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187280" y="2204640"/>
            <a:ext cx="338472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187280" y="2636640"/>
            <a:ext cx="3384720" cy="215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187280" y="3284280"/>
            <a:ext cx="3313440" cy="215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187280" y="3716280"/>
            <a:ext cx="3313440" cy="217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9840" y="5057640"/>
            <a:ext cx="907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Два пассажира 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мать с ребенком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) c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идят в одном кресле. Но каждому пассажиру по-прежнему соответствует одно кресло. Следовательно, данное соответствие-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функ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617840" y="476280"/>
            <a:ext cx="5351040" cy="4176360"/>
            <a:chOff x="1617840" y="476280"/>
            <a:chExt cx="5351040" cy="4176360"/>
          </a:xfrm>
        </p:grpSpPr>
        <p:grpSp>
          <p:nvGrpSpPr>
            <p:cNvPr id="169" name=""/>
            <p:cNvGrpSpPr/>
            <p:nvPr/>
          </p:nvGrpSpPr>
          <p:grpSpPr>
            <a:xfrm>
              <a:off x="1617840" y="476280"/>
              <a:ext cx="1583640" cy="3960360"/>
              <a:chOff x="1617840" y="476280"/>
              <a:chExt cx="1583640" cy="3960360"/>
            </a:xfrm>
          </p:grpSpPr>
          <p:sp>
            <p:nvSpPr>
              <p:cNvPr id="170" name=""/>
              <p:cNvSpPr/>
              <p:nvPr/>
            </p:nvSpPr>
            <p:spPr>
              <a:xfrm>
                <a:off x="1617840" y="476280"/>
                <a:ext cx="1583640" cy="324468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2012400" y="3812760"/>
                <a:ext cx="791640" cy="62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blipFill rotWithShape="0">
                      <a:blip r:embed="rId2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X</a:t>
                </a:r>
                <a:endPara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5291280" y="620640"/>
              <a:ext cx="1656720" cy="4032000"/>
              <a:chOff x="5291280" y="620640"/>
              <a:chExt cx="1656720" cy="4032000"/>
            </a:xfrm>
          </p:grpSpPr>
          <p:sp>
            <p:nvSpPr>
              <p:cNvPr id="173" name=""/>
              <p:cNvSpPr/>
              <p:nvPr/>
            </p:nvSpPr>
            <p:spPr>
              <a:xfrm>
                <a:off x="5291280" y="620640"/>
                <a:ext cx="1656720" cy="313956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5751360" y="3940200"/>
                <a:ext cx="553680" cy="712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blipFill rotWithShape="0">
                      <a:blip r:embed="rId4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У</a:t>
                </a:r>
                <a:endParaRPr b="0" lang="en-US" sz="18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843280" y="1701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27280" y="1630440"/>
              <a:ext cx="360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5940360" y="2781360"/>
              <a:ext cx="451800" cy="520560"/>
              <a:chOff x="5940360" y="2781360"/>
              <a:chExt cx="451800" cy="520560"/>
            </a:xfrm>
          </p:grpSpPr>
          <p:sp>
            <p:nvSpPr>
              <p:cNvPr id="178" name=""/>
              <p:cNvSpPr/>
              <p:nvPr/>
            </p:nvSpPr>
            <p:spPr>
              <a:xfrm>
                <a:off x="6013440" y="27813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40360" y="299700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372360" y="2349360"/>
              <a:ext cx="596520" cy="520560"/>
              <a:chOff x="6372360" y="2349360"/>
              <a:chExt cx="596520" cy="520560"/>
            </a:xfrm>
          </p:grpSpPr>
          <p:sp>
            <p:nvSpPr>
              <p:cNvPr id="181" name=""/>
              <p:cNvSpPr/>
              <p:nvPr/>
            </p:nvSpPr>
            <p:spPr>
              <a:xfrm>
                <a:off x="6372360" y="2636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90160" y="23493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6012000" y="1268280"/>
              <a:ext cx="360360" cy="426960"/>
              <a:chOff x="6012000" y="1268280"/>
              <a:chExt cx="360360" cy="426960"/>
            </a:xfrm>
          </p:grpSpPr>
          <p:sp>
            <p:nvSpPr>
              <p:cNvPr id="184" name=""/>
              <p:cNvSpPr/>
              <p:nvPr/>
            </p:nvSpPr>
            <p:spPr>
              <a:xfrm>
                <a:off x="6156360" y="1268280"/>
                <a:ext cx="216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6012000" y="1485000"/>
                <a:ext cx="712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012000" y="1773360"/>
              <a:ext cx="343080" cy="426960"/>
              <a:chOff x="6012000" y="1773360"/>
              <a:chExt cx="343080" cy="426960"/>
            </a:xfrm>
          </p:grpSpPr>
          <p:sp>
            <p:nvSpPr>
              <p:cNvPr id="187" name=""/>
              <p:cNvSpPr/>
              <p:nvPr/>
            </p:nvSpPr>
            <p:spPr>
              <a:xfrm>
                <a:off x="6156360" y="1773360"/>
                <a:ext cx="19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012000" y="1915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012000" y="765000"/>
              <a:ext cx="451800" cy="520560"/>
              <a:chOff x="6012000" y="765000"/>
              <a:chExt cx="451800" cy="520560"/>
            </a:xfrm>
          </p:grpSpPr>
          <p:sp>
            <p:nvSpPr>
              <p:cNvPr id="190" name=""/>
              <p:cNvSpPr/>
              <p:nvPr/>
            </p:nvSpPr>
            <p:spPr>
              <a:xfrm>
                <a:off x="6085080" y="765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6012000" y="97992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940360" y="2349360"/>
              <a:ext cx="341280" cy="426960"/>
              <a:chOff x="5940360" y="2349360"/>
              <a:chExt cx="341280" cy="426960"/>
            </a:xfrm>
          </p:grpSpPr>
          <p:sp>
            <p:nvSpPr>
              <p:cNvPr id="193" name=""/>
              <p:cNvSpPr/>
              <p:nvPr/>
            </p:nvSpPr>
            <p:spPr>
              <a:xfrm>
                <a:off x="6082920" y="2349360"/>
                <a:ext cx="19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5940360" y="256536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124000" y="693720"/>
              <a:ext cx="574560" cy="520560"/>
              <a:chOff x="2124000" y="693720"/>
              <a:chExt cx="574560" cy="520560"/>
            </a:xfrm>
          </p:grpSpPr>
          <p:sp>
            <p:nvSpPr>
              <p:cNvPr id="196" name=""/>
              <p:cNvSpPr/>
              <p:nvPr/>
            </p:nvSpPr>
            <p:spPr>
              <a:xfrm>
                <a:off x="2124000" y="693720"/>
                <a:ext cx="48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626920" y="981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124000" y="1341360"/>
              <a:ext cx="502920" cy="520560"/>
              <a:chOff x="2124000" y="1341360"/>
              <a:chExt cx="502920" cy="520560"/>
            </a:xfrm>
          </p:grpSpPr>
          <p:sp>
            <p:nvSpPr>
              <p:cNvPr id="199" name=""/>
              <p:cNvSpPr/>
              <p:nvPr/>
            </p:nvSpPr>
            <p:spPr>
              <a:xfrm>
                <a:off x="2124000" y="1341360"/>
                <a:ext cx="38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55640" y="162900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124000" y="1917720"/>
              <a:ext cx="502920" cy="520560"/>
              <a:chOff x="2124000" y="1917720"/>
              <a:chExt cx="502920" cy="520560"/>
            </a:xfrm>
          </p:grpSpPr>
          <p:sp>
            <p:nvSpPr>
              <p:cNvPr id="202" name=""/>
              <p:cNvSpPr/>
              <p:nvPr/>
            </p:nvSpPr>
            <p:spPr>
              <a:xfrm>
                <a:off x="2124000" y="191772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55640" y="220500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2124000" y="2494080"/>
              <a:ext cx="574560" cy="520560"/>
              <a:chOff x="2124000" y="2494080"/>
              <a:chExt cx="574560" cy="520560"/>
            </a:xfrm>
          </p:grpSpPr>
          <p:sp>
            <p:nvSpPr>
              <p:cNvPr id="205" name=""/>
              <p:cNvSpPr/>
              <p:nvPr/>
            </p:nvSpPr>
            <p:spPr>
              <a:xfrm>
                <a:off x="2124000" y="249408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626920" y="2781360"/>
                <a:ext cx="7164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2124000" y="3068640"/>
              <a:ext cx="502920" cy="520560"/>
              <a:chOff x="2124000" y="3068640"/>
              <a:chExt cx="502920" cy="520560"/>
            </a:xfrm>
          </p:grpSpPr>
          <p:sp>
            <p:nvSpPr>
              <p:cNvPr id="208" name=""/>
              <p:cNvSpPr/>
              <p:nvPr/>
            </p:nvSpPr>
            <p:spPr>
              <a:xfrm>
                <a:off x="2124000" y="3068640"/>
                <a:ext cx="28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55640" y="32860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V="1">
              <a:off x="2698920" y="980640"/>
              <a:ext cx="3313080" cy="71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627280" y="981000"/>
              <a:ext cx="3457440" cy="720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627280" y="1989000"/>
              <a:ext cx="338472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627280" y="2636640"/>
              <a:ext cx="331308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627280" y="3068640"/>
              <a:ext cx="3313080" cy="217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54520" y="366408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989800" y="429264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фун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1f1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39840" y="4797360"/>
            <a:ext cx="86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Крутой дядя» занял один два кресл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№4 и №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Соответствие в этом случае функцией не явл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68360" y="404640"/>
            <a:ext cx="7272000" cy="4119840"/>
            <a:chOff x="468360" y="404640"/>
            <a:chExt cx="7272000" cy="4119840"/>
          </a:xfrm>
        </p:grpSpPr>
        <p:sp>
          <p:nvSpPr>
            <p:cNvPr id="219" name=""/>
            <p:cNvSpPr/>
            <p:nvPr/>
          </p:nvSpPr>
          <p:spPr>
            <a:xfrm>
              <a:off x="6227640" y="4005360"/>
              <a:ext cx="63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6083280" y="476280"/>
              <a:ext cx="1657080" cy="4032000"/>
              <a:chOff x="6083280" y="476280"/>
              <a:chExt cx="1657080" cy="4032000"/>
            </a:xfrm>
          </p:grpSpPr>
          <p:sp>
            <p:nvSpPr>
              <p:cNvPr id="221" name=""/>
              <p:cNvSpPr/>
              <p:nvPr/>
            </p:nvSpPr>
            <p:spPr>
              <a:xfrm>
                <a:off x="6083280" y="476280"/>
                <a:ext cx="1657080" cy="313956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6543720" y="3795840"/>
                <a:ext cx="553680" cy="712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У</a:t>
                </a:r>
                <a:endParaRPr b="0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468360" y="404640"/>
              <a:ext cx="1584000" cy="3960360"/>
              <a:chOff x="468360" y="404640"/>
              <a:chExt cx="1584000" cy="3960360"/>
            </a:xfrm>
          </p:grpSpPr>
          <p:sp>
            <p:nvSpPr>
              <p:cNvPr id="224" name=""/>
              <p:cNvSpPr/>
              <p:nvPr/>
            </p:nvSpPr>
            <p:spPr>
              <a:xfrm>
                <a:off x="468360" y="404640"/>
                <a:ext cx="1584000" cy="324504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862920" y="3741120"/>
                <a:ext cx="792000" cy="62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blipFill rotWithShape="0">
                      <a:blip r:embed="rId3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X</a:t>
                </a:r>
                <a:endParaRPr b="0" lang="en-US" sz="1800" spc="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1620720" y="1557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05080" y="1486080"/>
              <a:ext cx="3603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86880" y="3860640"/>
              <a:ext cx="284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не функц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6661080" y="2924280"/>
              <a:ext cx="451800" cy="520560"/>
              <a:chOff x="6661080" y="2924280"/>
              <a:chExt cx="451800" cy="520560"/>
            </a:xfrm>
          </p:grpSpPr>
          <p:sp>
            <p:nvSpPr>
              <p:cNvPr id="230" name=""/>
              <p:cNvSpPr/>
              <p:nvPr/>
            </p:nvSpPr>
            <p:spPr>
              <a:xfrm>
                <a:off x="6734160" y="29242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61080" y="313992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020000" y="2421000"/>
              <a:ext cx="596520" cy="520560"/>
              <a:chOff x="7020000" y="2421000"/>
              <a:chExt cx="596520" cy="520560"/>
            </a:xfrm>
          </p:grpSpPr>
          <p:sp>
            <p:nvSpPr>
              <p:cNvPr id="233" name=""/>
              <p:cNvSpPr/>
              <p:nvPr/>
            </p:nvSpPr>
            <p:spPr>
              <a:xfrm>
                <a:off x="7020000" y="2708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237800" y="2421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6804000" y="1123920"/>
              <a:ext cx="360360" cy="426960"/>
              <a:chOff x="6804000" y="1123920"/>
              <a:chExt cx="360360" cy="426960"/>
            </a:xfrm>
          </p:grpSpPr>
          <p:sp>
            <p:nvSpPr>
              <p:cNvPr id="236" name=""/>
              <p:cNvSpPr/>
              <p:nvPr/>
            </p:nvSpPr>
            <p:spPr>
              <a:xfrm>
                <a:off x="6948360" y="1123920"/>
                <a:ext cx="216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6804000" y="1340640"/>
                <a:ext cx="712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804000" y="1628640"/>
              <a:ext cx="343080" cy="426960"/>
              <a:chOff x="6804000" y="1628640"/>
              <a:chExt cx="343080" cy="426960"/>
            </a:xfrm>
          </p:grpSpPr>
          <p:sp>
            <p:nvSpPr>
              <p:cNvPr id="239" name=""/>
              <p:cNvSpPr/>
              <p:nvPr/>
            </p:nvSpPr>
            <p:spPr>
              <a:xfrm>
                <a:off x="6948360" y="1628640"/>
                <a:ext cx="19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04000" y="177156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6804000" y="620640"/>
              <a:ext cx="451800" cy="520560"/>
              <a:chOff x="6804000" y="620640"/>
              <a:chExt cx="451800" cy="520560"/>
            </a:xfrm>
          </p:grpSpPr>
          <p:sp>
            <p:nvSpPr>
              <p:cNvPr id="242" name=""/>
              <p:cNvSpPr/>
              <p:nvPr/>
            </p:nvSpPr>
            <p:spPr>
              <a:xfrm>
                <a:off x="6877080" y="6206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6804000" y="83556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6732720" y="2205000"/>
              <a:ext cx="341280" cy="426960"/>
              <a:chOff x="6732720" y="2205000"/>
              <a:chExt cx="341280" cy="426960"/>
            </a:xfrm>
          </p:grpSpPr>
          <p:sp>
            <p:nvSpPr>
              <p:cNvPr id="245" name=""/>
              <p:cNvSpPr/>
              <p:nvPr/>
            </p:nvSpPr>
            <p:spPr>
              <a:xfrm>
                <a:off x="6875280" y="2205000"/>
                <a:ext cx="19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732720" y="242100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901800" y="549360"/>
              <a:ext cx="574560" cy="520560"/>
              <a:chOff x="901800" y="549360"/>
              <a:chExt cx="574560" cy="520560"/>
            </a:xfrm>
          </p:grpSpPr>
          <p:sp>
            <p:nvSpPr>
              <p:cNvPr id="248" name=""/>
              <p:cNvSpPr/>
              <p:nvPr/>
            </p:nvSpPr>
            <p:spPr>
              <a:xfrm>
                <a:off x="901800" y="549360"/>
                <a:ext cx="48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404720" y="83664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901800" y="1197000"/>
              <a:ext cx="502920" cy="520560"/>
              <a:chOff x="901800" y="1197000"/>
              <a:chExt cx="502920" cy="520560"/>
            </a:xfrm>
          </p:grpSpPr>
          <p:sp>
            <p:nvSpPr>
              <p:cNvPr id="251" name=""/>
              <p:cNvSpPr/>
              <p:nvPr/>
            </p:nvSpPr>
            <p:spPr>
              <a:xfrm>
                <a:off x="901800" y="1197000"/>
                <a:ext cx="38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333440" y="1484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901800" y="1773360"/>
              <a:ext cx="502920" cy="520560"/>
              <a:chOff x="901800" y="1773360"/>
              <a:chExt cx="502920" cy="520560"/>
            </a:xfrm>
          </p:grpSpPr>
          <p:sp>
            <p:nvSpPr>
              <p:cNvPr id="254" name=""/>
              <p:cNvSpPr/>
              <p:nvPr/>
            </p:nvSpPr>
            <p:spPr>
              <a:xfrm>
                <a:off x="901800" y="177336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333440" y="206064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901800" y="2349360"/>
              <a:ext cx="574560" cy="520560"/>
              <a:chOff x="901800" y="2349360"/>
              <a:chExt cx="574560" cy="520560"/>
            </a:xfrm>
          </p:grpSpPr>
          <p:sp>
            <p:nvSpPr>
              <p:cNvPr id="257" name=""/>
              <p:cNvSpPr/>
              <p:nvPr/>
            </p:nvSpPr>
            <p:spPr>
              <a:xfrm>
                <a:off x="901800" y="234936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04720" y="2636640"/>
                <a:ext cx="7164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901800" y="2924280"/>
              <a:ext cx="502920" cy="520560"/>
              <a:chOff x="901800" y="2924280"/>
              <a:chExt cx="502920" cy="520560"/>
            </a:xfrm>
          </p:grpSpPr>
          <p:sp>
            <p:nvSpPr>
              <p:cNvPr id="260" name=""/>
              <p:cNvSpPr/>
              <p:nvPr/>
            </p:nvSpPr>
            <p:spPr>
              <a:xfrm>
                <a:off x="901800" y="2924280"/>
                <a:ext cx="28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333440" y="314172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1476360" y="907920"/>
              <a:ext cx="53276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403280" y="1412640"/>
              <a:ext cx="5400720" cy="142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403280" y="1844640"/>
              <a:ext cx="5400720" cy="287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476360" y="2421000"/>
              <a:ext cx="5256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76360" y="2637000"/>
              <a:ext cx="5543640" cy="1425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3280" y="3139920"/>
              <a:ext cx="52578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74560" y="404640"/>
            <a:ext cx="85694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 функцией мы встречаемся каждый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ришли в магазин, покупаем конфеты. Пусть их цена 100 рублей. Сколько денег мы отдаем за 2кг? За 3кг? Говорят, что стоимость покупки есть функция от количества конфе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5000" y="3500280"/>
            <a:ext cx="8222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Ежедневная температура на улице 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ункция от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 одно и то же время температура не 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ринимать более одного значения и бы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дновременно +3 и -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39840" y="260280"/>
            <a:ext cx="848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представле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астролог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функциона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зависим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межд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натураль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числами(с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до7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 цветом радуги выглядит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39560" y="1844640"/>
          <a:ext cx="8309160" cy="4680000"/>
        </p:xfrm>
        <a:graphic>
          <a:graphicData uri="http://schemas.openxmlformats.org/drawingml/2006/table">
            <a:tbl>
              <a:tblPr/>
              <a:tblGrid>
                <a:gridCol w="1224000"/>
                <a:gridCol w="1665360"/>
                <a:gridCol w="1231920"/>
                <a:gridCol w="41878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ис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то означа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Крас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Энергия, бодр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ранжев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Раскрепощение, освобо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Желт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армоничное отношение к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Зеле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ф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Цвет природы, мироз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Голуб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с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Духовность ,глубина ,чув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и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осветляет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сли светлый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,давит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сли темный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Фиолето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с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Космическая энергия, интеллект,философ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 flipV="1">
            <a:off x="266760" y="1045800"/>
            <a:ext cx="855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2360" y="765000"/>
            <a:ext cx="8640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иная с числа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цветовое соответствие повторяется. Как определить какого цвета число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о найти остаток от деления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29</a:t>
            </a:r>
            <a:r>
              <a:rPr b="0" lang="ru-RU" sz="2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будет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Значит,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9-красного цв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какого цвета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миллио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аш день рожд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 как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звуч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ваш день рожд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ковое соответствие выстраивается по аналогичному алгоритму и согласно вышеприведенной таблиц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4797360"/>
            <a:ext cx="84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тимся к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таблице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еще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7:52:45Z</dcterms:created>
  <dc:creator>user-03</dc:creator>
  <dc:description/>
  <dc:language>en-US</dc:language>
  <cp:lastModifiedBy>Харитонова Н.Н.</cp:lastModifiedBy>
  <dcterms:modified xsi:type="dcterms:W3CDTF">2008-11-10T10:27:27Z</dcterms:modified>
  <cp:revision>19</cp:revision>
  <dc:subject/>
  <dc:title>Слайд 1</dc:title>
</cp:coreProperties>
</file>